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392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064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8756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392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064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91880" y="583920"/>
            <a:ext cx="7095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960" cy="6146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804160" y="6095880"/>
            <a:ext cx="33984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1d2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buClr>
                <a:srgbClr val="151e94"/>
              </a:buClr>
              <a:buSzPct val="11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9000"/>
              </a:lnSpc>
              <a:spcBef>
                <a:spcPts val="751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151e94"/>
              </a:buClr>
              <a:buFont typeface="Arial"/>
              <a:buChar char="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9000"/>
              </a:lnSpc>
              <a:spcBef>
                <a:spcPts val="751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9000"/>
              </a:lnSpc>
              <a:spcBef>
                <a:spcPts val="751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59720" y="6705720"/>
            <a:ext cx="571680" cy="1396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80" y="3301920"/>
            <a:ext cx="82440" cy="28260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482760" y="762120"/>
            <a:ext cx="546120" cy="7365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4344840" y="6598440"/>
            <a:ext cx="414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1997, Ascend Communications, Inc. / NAVISACCESS PROMOTION  - 11/04/97 - Page </a:t>
            </a:r>
            <a:fld id="{3CDED354-8576-422B-A16F-8A8DF443A43B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3035160" cy="558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15400" y="0"/>
            <a:ext cx="216000" cy="66168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1828800"/>
            <a:ext cx="5375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5760" y="851040"/>
            <a:ext cx="9828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97600" y="831960"/>
            <a:ext cx="22208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960" y="5769000"/>
            <a:ext cx="711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486400"/>
            <a:ext cx="2666880" cy="838080"/>
          </a:xfrm>
          <a:prstGeom prst="rect">
            <a:avLst/>
          </a:prstGeom>
          <a:solidFill>
            <a:srgbClr val="99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486400"/>
            <a:ext cx="2514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29c5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29c5"/>
                </a:solidFill>
                <a:latin typeface="Arial"/>
              </a:rPr>
              <a:t>International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7880" y="5410080"/>
            <a:ext cx="20052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0" y="5427720"/>
            <a:ext cx="20174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091880" cy="41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191440" y="5880240"/>
            <a:ext cx="546120" cy="73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228600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1e94"/>
                </a:solidFill>
                <a:latin typeface="Arial"/>
              </a:rPr>
              <a:t>NavisAccess </a:t>
            </a:r>
            <a:br>
              <a:rPr sz="4000"/>
            </a:br>
            <a:r>
              <a:rPr b="0" lang="en-US" sz="4000" spc="-1" strike="noStrike">
                <a:solidFill>
                  <a:srgbClr val="151e94"/>
                </a:solidFill>
                <a:latin typeface="Arial"/>
              </a:rPr>
              <a:t>Promotion</a:t>
            </a:r>
            <a:endParaRPr b="1" lang="en-US" sz="40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e94"/>
                </a:solidFill>
                <a:latin typeface="Arial"/>
              </a:rPr>
              <a:t>WWW.ASCEND.COM/ACCELE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LK TO YOUR CUSTOMER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1e94"/>
                </a:solidFill>
                <a:latin typeface="Arial"/>
              </a:rPr>
              <a:t>NavisAccess Management</a:t>
            </a:r>
            <a:endParaRPr b="1" lang="en-US" sz="44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Navis Family, formerly NetC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tform to manage Asce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vices in ISPs and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cend’s answer to customers requests for a management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NAVISACCESS Provides Unparalleled Managemen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371600"/>
          <a:ext cx="804240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424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019920" y="274320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GRF 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4419720"/>
            <a:ext cx="12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avisAcc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onsole,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54720" y="4373640"/>
            <a:ext cx="137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avisAcc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ons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600200"/>
            <a:ext cx="1463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AX 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4114800"/>
            <a:ext cx="146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800600"/>
            <a:ext cx="1920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ulti-vendor routers</a:t>
            </a:r>
            <a:br>
              <a:rPr sz="1200"/>
            </a:b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avisAccess: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32080" y="3916440"/>
            <a:ext cx="155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AX 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1905120"/>
            <a:ext cx="10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AX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733920"/>
            <a:ext cx="1371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65480" y="5487840"/>
            <a:ext cx="6444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sAccess Suite - Console, Trend and IP 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sAccess Software Option - advanced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1f94"/>
                </a:solidFill>
                <a:latin typeface="Arial"/>
              </a:rPr>
              <a:t>How Do You Profit?</a:t>
            </a:r>
            <a:endParaRPr b="1" lang="en-US" sz="4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 the Navis Access Suites at a Special End User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cend provides the advanced agents for F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precendented saving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 agents for future MAX, TNT and GRF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ize customer suppor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1f94"/>
                </a:solidFill>
                <a:latin typeface="Arial"/>
              </a:rPr>
              <a:t>What Are The Details?</a:t>
            </a:r>
            <a:endParaRPr b="1" lang="en-US" sz="4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isAccess Suites End User prices 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 Pr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User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,9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1,9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is stand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1,9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4,3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OV on Sol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3,9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,7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UX standal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1,9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4,3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OV on HPU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3,9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4,3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Available NOW until May 31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1f94"/>
                </a:solidFill>
                <a:latin typeface="Arial"/>
              </a:rPr>
              <a:t>Details - NavisAccess Software Options</a:t>
            </a:r>
            <a:endParaRPr b="1" lang="en-US" sz="40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759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151e94"/>
              </a:buClr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s for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7060d"/>
                </a:solidFill>
                <a:latin typeface="Arial"/>
              </a:rPr>
              <a:t>Promo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200P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$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18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$0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2000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$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4000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9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$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T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,9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$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4,9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$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or Products shipped on or before May 31, 19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How the Customers Save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1143000"/>
          <a:ext cx="804240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0424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867280" y="251460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GRF 4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F-4-SO-A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114800"/>
            <a:ext cx="12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avisAccess Suite for Sol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4114800"/>
            <a:ext cx="13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avisAccess Suite for Sol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1371600"/>
            <a:ext cx="1463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2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000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XHP-SO-A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886200"/>
            <a:ext cx="146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 MAX TNT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NT-SO-A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038480"/>
            <a:ext cx="1920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ulti-vendor router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avisAccess: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79440" y="3687840"/>
            <a:ext cx="155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 MAX TNT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NT-SO-A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94640" y="1584360"/>
            <a:ext cx="36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94640" y="2408400"/>
            <a:ext cx="27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447920"/>
            <a:ext cx="109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0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00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X20-SO-A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66840" y="1558800"/>
            <a:ext cx="36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079720"/>
            <a:ext cx="54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08240" y="2819520"/>
            <a:ext cx="10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 Remote Us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4572000"/>
          <a:ext cx="6681960" cy="20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572000"/>
                    <a:ext cx="668196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1f94"/>
                </a:solidFill>
                <a:latin typeface="Arial"/>
              </a:rPr>
              <a:t>Device Software Level</a:t>
            </a:r>
            <a:endParaRPr b="1" lang="en-US" sz="4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151e94"/>
              </a:buClr>
              <a:buFont typeface="Arial"/>
              <a:buChar char="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Fami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. 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151e94"/>
              </a:buClr>
              <a:buFont typeface="Arial"/>
              <a:buChar char="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T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.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151e94"/>
              </a:buClr>
              <a:buFont typeface="Arial"/>
              <a:buChar char="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. 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151e94"/>
              </a:buClr>
              <a:buFont typeface="Arial"/>
              <a:buChar char="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. 5.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1880" y="583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Fulfillmen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2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151e94"/>
              </a:buClr>
              <a:buSzPct val="11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list of serial numbers from custo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151e94"/>
              </a:buClr>
              <a:buSzPct val="11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VIS suites shipped with special URL access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151e94"/>
              </a:buClr>
              <a:buSzPct val="11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L code for web-based hashcode gen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8T10:41:04Z</dcterms:created>
  <dc:creator/>
  <dc:description/>
  <dc:language>en-US</dc:language>
  <cp:lastModifiedBy>Ascend Authorized User</cp:lastModifiedBy>
  <cp:lastPrinted>1997-05-22T15:03:13Z</cp:lastPrinted>
  <dcterms:modified xsi:type="dcterms:W3CDTF">1998-03-30T20:11:26Z</dcterms:modified>
  <cp:revision>1</cp:revision>
  <dc:subject/>
  <dc:title>GRF 400 Sales Presentation post europe</dc:title>
</cp:coreProperties>
</file>