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0" y="6987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68960"/>
            <a:ext cx="548604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in may 1997 Amethyst was the 1st release to allow direct cell trunk between 500s and 9000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service continues with IP Navigator in Emerald, first on the BSTDX with trunking support on the 500.  MPTs supported right away on th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he introduction of Jade in Q1 98; multiservice hits the CBX 500.  FR and IP interfaces will be released.  Other extensions of Jade will include Channelized 3/1 FR and 3/1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bout IP capabilities of 10/100 and 6 pt. D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hara will begin their voice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voice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k and 32 k voice compression (from 64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ence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ho canc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R support for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in may 1997 Amethyst was the 1st release to allow direct cell trunk between 500s and 9000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ervice continues with IP Navigator in Emerald, first on the BSTDX with trunking support on the 500.  MPTs supported right away on th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ntroduction of Jade in Q1 98; multiservice hits the CBX 500.  FR and IP interfaces will be released.  Other extensions of Jade will include Channelized 3/1 FR and 3/1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about IP capabilities of 10/100 and 6 pt. D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hara will begin their voice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oice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k and 32 k voice compression (from 64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o canc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 support for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in may 1997 Amethyst was the 1st release to allow direct cell trunk between 500s and 9000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ervice continues with IP Navigator in Emerald, first on the BSTDX with trunking support on the 500.  MPTs supported right away on th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ntroduction of Jade in Q1 98; multiservice hits the CBX 500.  FR and IP interfaces will be released.  Other extensions of Jade will include Channelized 3/1 FR and 3/1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about IP capabilities of 10/100 and 6 pt. D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hara will begin their voice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oice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k and 32 k voice compression (from 64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o canc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 support for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in may 1997 Amethyst was the 1st release to allow direct cell trunk between 500s and 9000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ervice continues with IP Navigator in Emerald, first on the BSTDX with trunking support on the 500.  MPTs supported right away on th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introduction of Jade in Q1 98; multiservice hits the CBX 500.  FR and IP interfaces will be released.  Other extensions of Jade will include Channelized 3/1 FR and 3/1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about IP capabilities of 10/100 and 6 pt. D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hara will begin their voice strate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oice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k and 32 k voice compression (from 64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ence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ho cance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 support for 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441-2029-432B-9DC7-C01DB10D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7BA4-812D-426D-9BD1-862B0D46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8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DDD-70E6-42E9-868A-08CABDFD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3120" y="17524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8160" y="17524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3120" y="39020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8160" y="39020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FFD-2BC7-48EF-9A08-9FB19D03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ED0-F373-4592-86A4-5C82DB60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48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48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63120" y="17524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888160" y="175248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63120" y="39020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888160" y="3902040"/>
            <a:ext cx="240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B8C-66A5-474D-9BC2-D36ED714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93A-7731-405B-878D-EE7F6F55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1DA4-D651-44B9-9BB5-5B645E24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30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89F-7BA9-4600-974F-8E272AC5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D28-CF15-4475-9C51-F367A78F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880" y="390204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CEC-8142-4075-9966-FDDB0471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480"/>
            <a:ext cx="36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467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4158-107F-4727-A385-4B9C4BA0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9360" cy="6134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817120" y="6108840"/>
            <a:ext cx="326880" cy="74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767329-ED2F-48B1-BDD2-82E3DBAF4F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52280" y="0"/>
            <a:ext cx="8699760" cy="76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901440" cy="2919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482760" y="514440"/>
            <a:ext cx="533160" cy="72396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0"/>
            <a:ext cx="88920" cy="3289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3301920"/>
            <a:ext cx="82440" cy="2826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867280" y="6633720"/>
            <a:ext cx="26211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©1998, Ascend Communications, In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72680" y="6718320"/>
            <a:ext cx="571320" cy="13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9000" y="19047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067680" cy="152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05920" y="0"/>
            <a:ext cx="76176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10560" y="851040"/>
            <a:ext cx="1033200" cy="0"/>
          </a:xfrm>
          <a:prstGeom prst="line">
            <a:avLst/>
          </a:prstGeom>
          <a:ln w="5076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91480" y="831960"/>
            <a:ext cx="223344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83560" y="368280"/>
            <a:ext cx="1091880" cy="419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299440" y="0"/>
            <a:ext cx="762120" cy="1523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28000" y="0"/>
            <a:ext cx="216000" cy="6616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185320" y="5880240"/>
            <a:ext cx="533160" cy="723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0" y="952560"/>
            <a:ext cx="3022560" cy="5575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44480" y="5762520"/>
            <a:ext cx="723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Part #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457960"/>
            <a:ext cx="312444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0" y="5427720"/>
            <a:ext cx="2030400" cy="0"/>
          </a:xfrm>
          <a:prstGeom prst="line">
            <a:avLst/>
          </a:prstGeom>
          <a:ln w="12600">
            <a:solidFill>
              <a:srgbClr val="ebb1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52320" y="2666880"/>
            <a:ext cx="54104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Multiservice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BX 500 &amp; GX 550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638680"/>
            <a:ext cx="3124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Product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316f7"/>
                </a:solidFill>
                <a:latin typeface="Arial"/>
              </a:rPr>
              <a:t>Core Switching 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 flipV="1">
            <a:off x="4743360" y="2533320"/>
            <a:ext cx="302904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3448080" y="2057400"/>
            <a:ext cx="1599480" cy="2819160"/>
            <a:chOff x="3448080" y="2057400"/>
            <a:chExt cx="1599480" cy="2819160"/>
          </a:xfrm>
        </p:grpSpPr>
        <p:sp>
          <p:nvSpPr>
            <p:cNvPr id="1172" name=""/>
            <p:cNvSpPr/>
            <p:nvPr/>
          </p:nvSpPr>
          <p:spPr>
            <a:xfrm>
              <a:off x="3448080" y="2057400"/>
              <a:ext cx="1551240" cy="2803320"/>
            </a:xfrm>
            <a:custGeom>
              <a:avLst/>
              <a:gdLst/>
              <a:ahLst/>
              <a:rect l="l" t="t" r="r" b="b"/>
              <a:pathLst>
                <a:path w="546" h="927">
                  <a:moveTo>
                    <a:pt x="0" y="0"/>
                  </a:moveTo>
                  <a:lnTo>
                    <a:pt x="0" y="926"/>
                  </a:lnTo>
                  <a:lnTo>
                    <a:pt x="545" y="926"/>
                  </a:lnTo>
                  <a:lnTo>
                    <a:pt x="545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999320" y="2057400"/>
              <a:ext cx="48240" cy="2819160"/>
            </a:xfrm>
            <a:custGeom>
              <a:avLst/>
              <a:gdLst/>
              <a:ahLst/>
              <a:rect l="l" t="t" r="r" b="b"/>
              <a:pathLst>
                <a:path w="17" h="932">
                  <a:moveTo>
                    <a:pt x="0" y="0"/>
                  </a:moveTo>
                  <a:lnTo>
                    <a:pt x="0" y="931"/>
                  </a:lnTo>
                  <a:lnTo>
                    <a:pt x="16" y="840"/>
                  </a:lnTo>
                  <a:lnTo>
                    <a:pt x="16" y="54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4" name=""/>
            <p:cNvGrpSpPr/>
            <p:nvPr/>
          </p:nvGrpSpPr>
          <p:grpSpPr>
            <a:xfrm>
              <a:off x="3479400" y="4340520"/>
              <a:ext cx="1473840" cy="483840"/>
              <a:chOff x="3479400" y="4340520"/>
              <a:chExt cx="1473840" cy="483840"/>
            </a:xfrm>
          </p:grpSpPr>
          <p:sp>
            <p:nvSpPr>
              <p:cNvPr id="1175" name=""/>
              <p:cNvSpPr/>
              <p:nvPr/>
            </p:nvSpPr>
            <p:spPr>
              <a:xfrm>
                <a:off x="3479400" y="4340520"/>
                <a:ext cx="1473840" cy="483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501720" y="4358160"/>
                <a:ext cx="1431360" cy="444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3490560" y="2701440"/>
              <a:ext cx="1460520" cy="15850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498840" y="2701440"/>
              <a:ext cx="1426320" cy="1585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493800" y="2918880"/>
              <a:ext cx="1428840" cy="33480"/>
            </a:xfrm>
            <a:prstGeom prst="rect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947760" y="2698560"/>
              <a:ext cx="0" cy="159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092840" y="268884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37920" y="268884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530240" y="2692440"/>
              <a:ext cx="0" cy="159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12120" y="2694960"/>
              <a:ext cx="0" cy="159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672800" y="2692440"/>
              <a:ext cx="0" cy="159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388760" y="2698560"/>
              <a:ext cx="0" cy="159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786120" y="2701440"/>
              <a:ext cx="0" cy="158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629520" y="2701440"/>
              <a:ext cx="0" cy="158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3575520" y="4425120"/>
              <a:ext cx="1278360" cy="335520"/>
              <a:chOff x="3575520" y="4425120"/>
              <a:chExt cx="1278360" cy="335520"/>
            </a:xfrm>
          </p:grpSpPr>
          <p:sp>
            <p:nvSpPr>
              <p:cNvPr id="1190" name=""/>
              <p:cNvSpPr/>
              <p:nvPr/>
            </p:nvSpPr>
            <p:spPr>
              <a:xfrm>
                <a:off x="3575520" y="4425120"/>
                <a:ext cx="127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575520" y="4491360"/>
                <a:ext cx="127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575520" y="4557960"/>
                <a:ext cx="127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75520" y="4624560"/>
                <a:ext cx="127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575520" y="4694040"/>
                <a:ext cx="127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75520" y="4760640"/>
                <a:ext cx="1278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6" name=""/>
            <p:cNvGrpSpPr/>
            <p:nvPr/>
          </p:nvGrpSpPr>
          <p:grpSpPr>
            <a:xfrm>
              <a:off x="3479400" y="2081160"/>
              <a:ext cx="1473840" cy="586080"/>
              <a:chOff x="3479400" y="2081160"/>
              <a:chExt cx="1473840" cy="586080"/>
            </a:xfrm>
          </p:grpSpPr>
          <p:sp>
            <p:nvSpPr>
              <p:cNvPr id="1197" name=""/>
              <p:cNvSpPr/>
              <p:nvPr/>
            </p:nvSpPr>
            <p:spPr>
              <a:xfrm>
                <a:off x="3479400" y="2081160"/>
                <a:ext cx="1473840" cy="586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501720" y="2102040"/>
                <a:ext cx="1431360" cy="540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3584520" y="2480400"/>
              <a:ext cx="1278000" cy="135360"/>
              <a:chOff x="3584520" y="2480400"/>
              <a:chExt cx="1278000" cy="135360"/>
            </a:xfrm>
          </p:grpSpPr>
          <p:sp>
            <p:nvSpPr>
              <p:cNvPr id="1200" name=""/>
              <p:cNvSpPr/>
              <p:nvPr/>
            </p:nvSpPr>
            <p:spPr>
              <a:xfrm>
                <a:off x="3584520" y="2480400"/>
                <a:ext cx="127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584520" y="2546640"/>
                <a:ext cx="127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584520" y="2615760"/>
                <a:ext cx="1278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4504680" y="2132640"/>
              <a:ext cx="278640" cy="253080"/>
              <a:chOff x="4504680" y="2132640"/>
              <a:chExt cx="278640" cy="253080"/>
            </a:xfrm>
          </p:grpSpPr>
          <p:sp>
            <p:nvSpPr>
              <p:cNvPr id="1204" name=""/>
              <p:cNvSpPr/>
              <p:nvPr/>
            </p:nvSpPr>
            <p:spPr>
              <a:xfrm>
                <a:off x="4504680" y="2132640"/>
                <a:ext cx="27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504680" y="2385720"/>
                <a:ext cx="278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655160" y="2138760"/>
                <a:ext cx="37080" cy="234360"/>
              </a:xfrm>
              <a:prstGeom prst="rect">
                <a:avLst/>
              </a:prstGeom>
              <a:solidFill>
                <a:srgbClr val="00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7" name=""/>
          <p:cNvGrpSpPr/>
          <p:nvPr/>
        </p:nvGrpSpPr>
        <p:grpSpPr>
          <a:xfrm>
            <a:off x="3584520" y="2057400"/>
            <a:ext cx="272880" cy="434520"/>
            <a:chOff x="3584520" y="2057400"/>
            <a:chExt cx="272880" cy="434520"/>
          </a:xfrm>
        </p:grpSpPr>
        <p:sp>
          <p:nvSpPr>
            <p:cNvPr id="1208" name=""/>
            <p:cNvSpPr/>
            <p:nvPr/>
          </p:nvSpPr>
          <p:spPr>
            <a:xfrm>
              <a:off x="3655080" y="2221200"/>
              <a:ext cx="132120" cy="152640"/>
            </a:xfrm>
            <a:custGeom>
              <a:avLst/>
              <a:gdLst/>
              <a:ahLst/>
              <a:rect l="l" t="t" r="r" b="b"/>
              <a:pathLst>
                <a:path w="202" h="201">
                  <a:moveTo>
                    <a:pt x="100" y="200"/>
                  </a:moveTo>
                  <a:lnTo>
                    <a:pt x="110" y="200"/>
                  </a:lnTo>
                  <a:lnTo>
                    <a:pt x="120" y="197"/>
                  </a:lnTo>
                  <a:lnTo>
                    <a:pt x="130" y="195"/>
                  </a:lnTo>
                  <a:lnTo>
                    <a:pt x="139" y="191"/>
                  </a:lnTo>
                  <a:lnTo>
                    <a:pt x="148" y="187"/>
                  </a:lnTo>
                  <a:lnTo>
                    <a:pt x="156" y="182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7" y="164"/>
                  </a:lnTo>
                  <a:lnTo>
                    <a:pt x="183" y="156"/>
                  </a:lnTo>
                  <a:lnTo>
                    <a:pt x="188" y="148"/>
                  </a:lnTo>
                  <a:lnTo>
                    <a:pt x="192" y="139"/>
                  </a:lnTo>
                  <a:lnTo>
                    <a:pt x="196" y="130"/>
                  </a:lnTo>
                  <a:lnTo>
                    <a:pt x="197" y="120"/>
                  </a:lnTo>
                  <a:lnTo>
                    <a:pt x="200" y="110"/>
                  </a:lnTo>
                  <a:lnTo>
                    <a:pt x="201" y="101"/>
                  </a:lnTo>
                  <a:lnTo>
                    <a:pt x="200" y="90"/>
                  </a:lnTo>
                  <a:lnTo>
                    <a:pt x="197" y="80"/>
                  </a:lnTo>
                  <a:lnTo>
                    <a:pt x="196" y="69"/>
                  </a:lnTo>
                  <a:lnTo>
                    <a:pt x="192" y="61"/>
                  </a:lnTo>
                  <a:lnTo>
                    <a:pt x="188" y="51"/>
                  </a:lnTo>
                  <a:lnTo>
                    <a:pt x="183" y="44"/>
                  </a:lnTo>
                  <a:lnTo>
                    <a:pt x="177" y="35"/>
                  </a:lnTo>
                  <a:lnTo>
                    <a:pt x="171" y="29"/>
                  </a:lnTo>
                  <a:lnTo>
                    <a:pt x="163" y="22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1" y="8"/>
                  </a:lnTo>
                  <a:lnTo>
                    <a:pt x="52" y="12"/>
                  </a:lnTo>
                  <a:lnTo>
                    <a:pt x="43" y="17"/>
                  </a:lnTo>
                  <a:lnTo>
                    <a:pt x="36" y="22"/>
                  </a:lnTo>
                  <a:lnTo>
                    <a:pt x="29" y="29"/>
                  </a:lnTo>
                  <a:lnTo>
                    <a:pt x="22" y="35"/>
                  </a:lnTo>
                  <a:lnTo>
                    <a:pt x="17" y="44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4" y="69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4" y="130"/>
                  </a:lnTo>
                  <a:lnTo>
                    <a:pt x="8" y="139"/>
                  </a:lnTo>
                  <a:lnTo>
                    <a:pt x="11" y="148"/>
                  </a:lnTo>
                  <a:lnTo>
                    <a:pt x="17" y="156"/>
                  </a:lnTo>
                  <a:lnTo>
                    <a:pt x="22" y="164"/>
                  </a:lnTo>
                  <a:lnTo>
                    <a:pt x="29" y="170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52" y="187"/>
                  </a:lnTo>
                  <a:lnTo>
                    <a:pt x="61" y="191"/>
                  </a:lnTo>
                  <a:lnTo>
                    <a:pt x="69" y="195"/>
                  </a:lnTo>
                  <a:lnTo>
                    <a:pt x="79" y="197"/>
                  </a:lnTo>
                  <a:lnTo>
                    <a:pt x="89" y="200"/>
                  </a:lnTo>
                  <a:lnTo>
                    <a:pt x="100" y="20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584880" y="2057400"/>
              <a:ext cx="135360" cy="316440"/>
            </a:xfrm>
            <a:custGeom>
              <a:avLst/>
              <a:gdLst/>
              <a:ahLst/>
              <a:rect l="l" t="t" r="r" b="b"/>
              <a:pathLst>
                <a:path w="207" h="417">
                  <a:moveTo>
                    <a:pt x="206" y="0"/>
                  </a:moveTo>
                  <a:lnTo>
                    <a:pt x="0" y="0"/>
                  </a:lnTo>
                  <a:lnTo>
                    <a:pt x="0" y="416"/>
                  </a:lnTo>
                  <a:lnTo>
                    <a:pt x="20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719880" y="2057400"/>
              <a:ext cx="137160" cy="316440"/>
            </a:xfrm>
            <a:custGeom>
              <a:avLst/>
              <a:gdLst/>
              <a:ahLst/>
              <a:rect l="l" t="t" r="r" b="b"/>
              <a:pathLst>
                <a:path w="210" h="417">
                  <a:moveTo>
                    <a:pt x="209" y="416"/>
                  </a:moveTo>
                  <a:lnTo>
                    <a:pt x="209" y="0"/>
                  </a:lnTo>
                  <a:lnTo>
                    <a:pt x="0" y="0"/>
                  </a:lnTo>
                  <a:lnTo>
                    <a:pt x="209" y="416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1" name=""/>
            <p:cNvGrpSpPr/>
            <p:nvPr/>
          </p:nvGrpSpPr>
          <p:grpSpPr>
            <a:xfrm>
              <a:off x="3584520" y="2395080"/>
              <a:ext cx="272880" cy="96840"/>
              <a:chOff x="3584520" y="2395080"/>
              <a:chExt cx="272880" cy="96840"/>
            </a:xfrm>
          </p:grpSpPr>
          <p:sp>
            <p:nvSpPr>
              <p:cNvPr id="1212" name=""/>
              <p:cNvSpPr/>
              <p:nvPr/>
            </p:nvSpPr>
            <p:spPr>
              <a:xfrm>
                <a:off x="3685680" y="2395080"/>
                <a:ext cx="24120" cy="96840"/>
              </a:xfrm>
              <a:custGeom>
                <a:avLst/>
                <a:gdLst/>
                <a:ahLst/>
                <a:rect l="l" t="t" r="r" b="b"/>
                <a:pathLst>
                  <a:path w="37" h="128">
                    <a:moveTo>
                      <a:pt x="20" y="43"/>
                    </a:moveTo>
                    <a:lnTo>
                      <a:pt x="20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108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0" y="109"/>
                    </a:lnTo>
                    <a:lnTo>
                      <a:pt x="20" y="108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20" y="105"/>
                    </a:lnTo>
                    <a:lnTo>
                      <a:pt x="20" y="103"/>
                    </a:lnTo>
                    <a:lnTo>
                      <a:pt x="20" y="76"/>
                    </a:lnTo>
                    <a:lnTo>
                      <a:pt x="36" y="76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2"/>
                    </a:lnTo>
                    <a:lnTo>
                      <a:pt x="35" y="114"/>
                    </a:lnTo>
                    <a:lnTo>
                      <a:pt x="34" y="117"/>
                    </a:lnTo>
                    <a:lnTo>
                      <a:pt x="32" y="118"/>
                    </a:lnTo>
                    <a:lnTo>
                      <a:pt x="32" y="120"/>
                    </a:lnTo>
                    <a:lnTo>
                      <a:pt x="31" y="122"/>
                    </a:lnTo>
                    <a:lnTo>
                      <a:pt x="30" y="123"/>
                    </a:lnTo>
                    <a:lnTo>
                      <a:pt x="28" y="124"/>
                    </a:lnTo>
                    <a:lnTo>
                      <a:pt x="27" y="125"/>
                    </a:lnTo>
                    <a:lnTo>
                      <a:pt x="25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0" y="126"/>
                    </a:lnTo>
                    <a:lnTo>
                      <a:pt x="19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4" y="126"/>
                    </a:lnTo>
                    <a:lnTo>
                      <a:pt x="12" y="126"/>
                    </a:lnTo>
                    <a:lnTo>
                      <a:pt x="10" y="126"/>
                    </a:lnTo>
                    <a:lnTo>
                      <a:pt x="9" y="125"/>
                    </a:lnTo>
                    <a:lnTo>
                      <a:pt x="8" y="125"/>
                    </a:lnTo>
                    <a:lnTo>
                      <a:pt x="6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2" y="120"/>
                    </a:lnTo>
                    <a:lnTo>
                      <a:pt x="1" y="118"/>
                    </a:lnTo>
                    <a:lnTo>
                      <a:pt x="0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7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6" y="43"/>
                    </a:lnTo>
                    <a:lnTo>
                      <a:pt x="20" y="4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735360" y="2395440"/>
                <a:ext cx="21240" cy="9540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0" y="125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52"/>
                    </a:lnTo>
                    <a:lnTo>
                      <a:pt x="31" y="52"/>
                    </a:lnTo>
                    <a:lnTo>
                      <a:pt x="31" y="67"/>
                    </a:lnTo>
                    <a:lnTo>
                      <a:pt x="15" y="72"/>
                    </a:lnTo>
                    <a:lnTo>
                      <a:pt x="15" y="108"/>
                    </a:lnTo>
                    <a:lnTo>
                      <a:pt x="32" y="108"/>
                    </a:lnTo>
                    <a:lnTo>
                      <a:pt x="32" y="125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780720" y="2395440"/>
                <a:ext cx="27360" cy="95400"/>
              </a:xfrm>
              <a:custGeom>
                <a:avLst/>
                <a:gdLst/>
                <a:ahLst/>
                <a:rect l="l" t="t" r="r" b="b"/>
                <a:pathLst>
                  <a:path w="42" h="126">
                    <a:moveTo>
                      <a:pt x="28" y="80"/>
                    </a:moveTo>
                    <a:lnTo>
                      <a:pt x="28" y="0"/>
                    </a:lnTo>
                    <a:lnTo>
                      <a:pt x="41" y="0"/>
                    </a:lnTo>
                    <a:lnTo>
                      <a:pt x="41" y="125"/>
                    </a:lnTo>
                    <a:lnTo>
                      <a:pt x="24" y="125"/>
                    </a:lnTo>
                    <a:lnTo>
                      <a:pt x="10" y="36"/>
                    </a:lnTo>
                    <a:lnTo>
                      <a:pt x="10" y="125"/>
                    </a:lnTo>
                    <a:lnTo>
                      <a:pt x="0" y="12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8" y="8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636720" y="2395080"/>
                <a:ext cx="24480" cy="96840"/>
              </a:xfrm>
              <a:custGeom>
                <a:avLst/>
                <a:gdLst/>
                <a:ahLst/>
                <a:rect l="l" t="t" r="r" b="b"/>
                <a:pathLst>
                  <a:path w="38" h="128">
                    <a:moveTo>
                      <a:pt x="15" y="103"/>
                    </a:move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7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9"/>
                    </a:lnTo>
                    <a:lnTo>
                      <a:pt x="15" y="109"/>
                    </a:lnTo>
                    <a:lnTo>
                      <a:pt x="15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1" y="108"/>
                    </a:lnTo>
                    <a:lnTo>
                      <a:pt x="21" y="108"/>
                    </a:lnTo>
                    <a:lnTo>
                      <a:pt x="21" y="107"/>
                    </a:lnTo>
                    <a:lnTo>
                      <a:pt x="21" y="106"/>
                    </a:lnTo>
                    <a:lnTo>
                      <a:pt x="21" y="105"/>
                    </a:lnTo>
                    <a:lnTo>
                      <a:pt x="21" y="103"/>
                    </a:lnTo>
                    <a:lnTo>
                      <a:pt x="21" y="84"/>
                    </a:lnTo>
                    <a:lnTo>
                      <a:pt x="21" y="83"/>
                    </a:lnTo>
                    <a:lnTo>
                      <a:pt x="20" y="79"/>
                    </a:lnTo>
                    <a:lnTo>
                      <a:pt x="20" y="77"/>
                    </a:lnTo>
                    <a:lnTo>
                      <a:pt x="19" y="75"/>
                    </a:lnTo>
                    <a:lnTo>
                      <a:pt x="16" y="72"/>
                    </a:lnTo>
                    <a:lnTo>
                      <a:pt x="15" y="70"/>
                    </a:lnTo>
                    <a:lnTo>
                      <a:pt x="13" y="68"/>
                    </a:lnTo>
                    <a:lnTo>
                      <a:pt x="11" y="65"/>
                    </a:lnTo>
                    <a:lnTo>
                      <a:pt x="9" y="64"/>
                    </a:lnTo>
                    <a:lnTo>
                      <a:pt x="8" y="61"/>
                    </a:lnTo>
                    <a:lnTo>
                      <a:pt x="5" y="59"/>
                    </a:lnTo>
                    <a:lnTo>
                      <a:pt x="4" y="56"/>
                    </a:lnTo>
                    <a:lnTo>
                      <a:pt x="3" y="53"/>
                    </a:lnTo>
                    <a:lnTo>
                      <a:pt x="2" y="51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9"/>
                    </a:lnTo>
                    <a:lnTo>
                      <a:pt x="36" y="12"/>
                    </a:lnTo>
                    <a:lnTo>
                      <a:pt x="37" y="14"/>
                    </a:lnTo>
                    <a:lnTo>
                      <a:pt x="37" y="17"/>
                    </a:lnTo>
                    <a:lnTo>
                      <a:pt x="37" y="20"/>
                    </a:lnTo>
                    <a:lnTo>
                      <a:pt x="37" y="42"/>
                    </a:lnTo>
                    <a:lnTo>
                      <a:pt x="22" y="42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39"/>
                    </a:lnTo>
                    <a:lnTo>
                      <a:pt x="16" y="41"/>
                    </a:lnTo>
                    <a:lnTo>
                      <a:pt x="16" y="42"/>
                    </a:lnTo>
                    <a:lnTo>
                      <a:pt x="17" y="44"/>
                    </a:lnTo>
                    <a:lnTo>
                      <a:pt x="19" y="47"/>
                    </a:lnTo>
                    <a:lnTo>
                      <a:pt x="20" y="48"/>
                    </a:lnTo>
                    <a:lnTo>
                      <a:pt x="22" y="50"/>
                    </a:lnTo>
                    <a:lnTo>
                      <a:pt x="24" y="52"/>
                    </a:lnTo>
                    <a:lnTo>
                      <a:pt x="26" y="54"/>
                    </a:lnTo>
                    <a:lnTo>
                      <a:pt x="28" y="56"/>
                    </a:lnTo>
                    <a:lnTo>
                      <a:pt x="30" y="59"/>
                    </a:lnTo>
                    <a:lnTo>
                      <a:pt x="32" y="61"/>
                    </a:lnTo>
                    <a:lnTo>
                      <a:pt x="32" y="62"/>
                    </a:lnTo>
                    <a:lnTo>
                      <a:pt x="34" y="65"/>
                    </a:lnTo>
                    <a:lnTo>
                      <a:pt x="36" y="67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7" y="106"/>
                    </a:lnTo>
                    <a:lnTo>
                      <a:pt x="37" y="108"/>
                    </a:lnTo>
                    <a:lnTo>
                      <a:pt x="36" y="112"/>
                    </a:lnTo>
                    <a:lnTo>
                      <a:pt x="36" y="114"/>
                    </a:lnTo>
                    <a:lnTo>
                      <a:pt x="34" y="117"/>
                    </a:lnTo>
                    <a:lnTo>
                      <a:pt x="33" y="118"/>
                    </a:lnTo>
                    <a:lnTo>
                      <a:pt x="32" y="120"/>
                    </a:lnTo>
                    <a:lnTo>
                      <a:pt x="32" y="122"/>
                    </a:lnTo>
                    <a:lnTo>
                      <a:pt x="31" y="123"/>
                    </a:lnTo>
                    <a:lnTo>
                      <a:pt x="28" y="124"/>
                    </a:lnTo>
                    <a:lnTo>
                      <a:pt x="28" y="125"/>
                    </a:lnTo>
                    <a:lnTo>
                      <a:pt x="26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1" y="126"/>
                    </a:lnTo>
                    <a:lnTo>
                      <a:pt x="20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5" y="126"/>
                    </a:lnTo>
                    <a:lnTo>
                      <a:pt x="13" y="126"/>
                    </a:lnTo>
                    <a:lnTo>
                      <a:pt x="12" y="126"/>
                    </a:lnTo>
                    <a:lnTo>
                      <a:pt x="10" y="125"/>
                    </a:lnTo>
                    <a:lnTo>
                      <a:pt x="8" y="125"/>
                    </a:lnTo>
                    <a:lnTo>
                      <a:pt x="8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4" y="120"/>
                    </a:lnTo>
                    <a:lnTo>
                      <a:pt x="3" y="118"/>
                    </a:lnTo>
                    <a:lnTo>
                      <a:pt x="2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76"/>
                    </a:lnTo>
                    <a:lnTo>
                      <a:pt x="15" y="76"/>
                    </a:lnTo>
                    <a:lnTo>
                      <a:pt x="15" y="10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584520" y="2395440"/>
                <a:ext cx="28440" cy="9540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9" y="0"/>
                    </a:moveTo>
                    <a:lnTo>
                      <a:pt x="33" y="0"/>
                    </a:lnTo>
                    <a:lnTo>
                      <a:pt x="43" y="125"/>
                    </a:lnTo>
                    <a:lnTo>
                      <a:pt x="27" y="125"/>
                    </a:lnTo>
                    <a:lnTo>
                      <a:pt x="25" y="93"/>
                    </a:lnTo>
                    <a:lnTo>
                      <a:pt x="24" y="78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4" y="78"/>
                    </a:lnTo>
                    <a:lnTo>
                      <a:pt x="24" y="78"/>
                    </a:lnTo>
                    <a:lnTo>
                      <a:pt x="25" y="93"/>
                    </a:lnTo>
                    <a:lnTo>
                      <a:pt x="14" y="93"/>
                    </a:lnTo>
                    <a:lnTo>
                      <a:pt x="12" y="125"/>
                    </a:lnTo>
                    <a:lnTo>
                      <a:pt x="0" y="12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832200" y="2395440"/>
                <a:ext cx="25200" cy="95400"/>
              </a:xfrm>
              <a:custGeom>
                <a:avLst/>
                <a:gdLst/>
                <a:ahLst/>
                <a:rect l="l" t="t" r="r" b="b"/>
                <a:pathLst>
                  <a:path w="39" h="126">
                    <a:moveTo>
                      <a:pt x="0" y="0"/>
                    </a:move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0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102"/>
                    </a:lnTo>
                    <a:lnTo>
                      <a:pt x="38" y="104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1"/>
                    </a:lnTo>
                    <a:lnTo>
                      <a:pt x="35" y="113"/>
                    </a:lnTo>
                    <a:lnTo>
                      <a:pt x="34" y="114"/>
                    </a:lnTo>
                    <a:lnTo>
                      <a:pt x="33" y="115"/>
                    </a:lnTo>
                    <a:lnTo>
                      <a:pt x="33" y="118"/>
                    </a:lnTo>
                    <a:lnTo>
                      <a:pt x="32" y="119"/>
                    </a:lnTo>
                    <a:lnTo>
                      <a:pt x="30" y="120"/>
                    </a:lnTo>
                    <a:lnTo>
                      <a:pt x="28" y="121"/>
                    </a:lnTo>
                    <a:lnTo>
                      <a:pt x="28" y="123"/>
                    </a:lnTo>
                    <a:lnTo>
                      <a:pt x="26" y="124"/>
                    </a:lnTo>
                    <a:lnTo>
                      <a:pt x="23" y="124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15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1" y="111"/>
                    </a:lnTo>
                    <a:lnTo>
                      <a:pt x="21" y="109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2" y="108"/>
                    </a:lnTo>
                    <a:lnTo>
                      <a:pt x="22" y="107"/>
                    </a:lnTo>
                    <a:lnTo>
                      <a:pt x="22" y="106"/>
                    </a:lnTo>
                    <a:lnTo>
                      <a:pt x="22" y="105"/>
                    </a:lnTo>
                    <a:lnTo>
                      <a:pt x="22" y="104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5" y="112"/>
                    </a:lnTo>
                    <a:lnTo>
                      <a:pt x="20" y="125"/>
                    </a:lnTo>
                    <a:lnTo>
                      <a:pt x="0" y="1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aising the Bar on Network Availability</a:t>
            </a:r>
            <a:br>
              <a:rPr sz="3200"/>
            </a:br>
            <a:r>
              <a:rPr b="1" i="1" lang="en-US" sz="2400" spc="-1" strike="noStrike">
                <a:solidFill>
                  <a:srgbClr val="660066"/>
                </a:solidFill>
                <a:latin typeface="Arial"/>
              </a:rPr>
              <a:t>Delivering on Service Level Agreements</a:t>
            </a:r>
            <a:endParaRPr b="1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7688160" y="2176560"/>
            <a:ext cx="689040" cy="540360"/>
            <a:chOff x="7688160" y="2176560"/>
            <a:chExt cx="689040" cy="540360"/>
          </a:xfrm>
        </p:grpSpPr>
        <p:grpSp>
          <p:nvGrpSpPr>
            <p:cNvPr id="1220" name=""/>
            <p:cNvGrpSpPr/>
            <p:nvPr/>
          </p:nvGrpSpPr>
          <p:grpSpPr>
            <a:xfrm>
              <a:off x="7821360" y="2462040"/>
              <a:ext cx="452520" cy="164520"/>
              <a:chOff x="7821360" y="2462040"/>
              <a:chExt cx="452520" cy="164520"/>
            </a:xfrm>
          </p:grpSpPr>
          <p:grpSp>
            <p:nvGrpSpPr>
              <p:cNvPr id="1221" name=""/>
              <p:cNvGrpSpPr/>
              <p:nvPr/>
            </p:nvGrpSpPr>
            <p:grpSpPr>
              <a:xfrm>
                <a:off x="7821360" y="2462040"/>
                <a:ext cx="452520" cy="164520"/>
                <a:chOff x="7821360" y="2462040"/>
                <a:chExt cx="452520" cy="164520"/>
              </a:xfrm>
            </p:grpSpPr>
            <p:grpSp>
              <p:nvGrpSpPr>
                <p:cNvPr id="1222" name=""/>
                <p:cNvGrpSpPr/>
                <p:nvPr/>
              </p:nvGrpSpPr>
              <p:grpSpPr>
                <a:xfrm>
                  <a:off x="7821360" y="2462040"/>
                  <a:ext cx="452520" cy="164520"/>
                  <a:chOff x="7821360" y="2462040"/>
                  <a:chExt cx="452520" cy="164520"/>
                </a:xfrm>
              </p:grpSpPr>
              <p:grpSp>
                <p:nvGrpSpPr>
                  <p:cNvPr id="1223" name=""/>
                  <p:cNvGrpSpPr/>
                  <p:nvPr/>
                </p:nvGrpSpPr>
                <p:grpSpPr>
                  <a:xfrm>
                    <a:off x="7821360" y="2462040"/>
                    <a:ext cx="438120" cy="162720"/>
                    <a:chOff x="7821360" y="2462040"/>
                    <a:chExt cx="438120" cy="162720"/>
                  </a:xfrm>
                </p:grpSpPr>
                <p:grpSp>
                  <p:nvGrpSpPr>
                    <p:cNvPr id="1224" name=""/>
                    <p:cNvGrpSpPr/>
                    <p:nvPr/>
                  </p:nvGrpSpPr>
                  <p:grpSpPr>
                    <a:xfrm>
                      <a:off x="7821360" y="2462040"/>
                      <a:ext cx="438120" cy="162720"/>
                      <a:chOff x="7821360" y="2462040"/>
                      <a:chExt cx="438120" cy="162720"/>
                    </a:xfrm>
                  </p:grpSpPr>
                  <p:sp>
                    <p:nvSpPr>
                      <p:cNvPr id="1225" name=""/>
                      <p:cNvSpPr/>
                      <p:nvPr/>
                    </p:nvSpPr>
                    <p:spPr>
                      <a:xfrm>
                        <a:off x="7826040" y="2507760"/>
                        <a:ext cx="424080" cy="1170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6" name=""/>
                      <p:cNvSpPr/>
                      <p:nvPr/>
                    </p:nvSpPr>
                    <p:spPr>
                      <a:xfrm>
                        <a:off x="7821360" y="2462040"/>
                        <a:ext cx="438120" cy="4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6" h="26">
                            <a:moveTo>
                              <a:pt x="0" y="25"/>
                            </a:moveTo>
                            <a:lnTo>
                              <a:pt x="275" y="25"/>
                            </a:lnTo>
                            <a:lnTo>
                              <a:pt x="249" y="0"/>
                            </a:lnTo>
                            <a:lnTo>
                              <a:pt x="29" y="0"/>
                            </a:lnTo>
                            <a:lnTo>
                              <a:pt x="0" y="25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760" bIns="-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27" name=""/>
                    <p:cNvSpPr/>
                    <p:nvPr/>
                  </p:nvSpPr>
                  <p:spPr>
                    <a:xfrm>
                      <a:off x="7829280" y="2495160"/>
                      <a:ext cx="42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8" name=""/>
                  <p:cNvGrpSpPr/>
                  <p:nvPr/>
                </p:nvGrpSpPr>
                <p:grpSpPr>
                  <a:xfrm>
                    <a:off x="7839000" y="2599920"/>
                    <a:ext cx="434880" cy="26640"/>
                    <a:chOff x="7839000" y="2599920"/>
                    <a:chExt cx="434880" cy="26640"/>
                  </a:xfrm>
                </p:grpSpPr>
                <p:grpSp>
                  <p:nvGrpSpPr>
                    <p:cNvPr id="1229" name=""/>
                    <p:cNvGrpSpPr/>
                    <p:nvPr/>
                  </p:nvGrpSpPr>
                  <p:grpSpPr>
                    <a:xfrm>
                      <a:off x="7839000" y="2599920"/>
                      <a:ext cx="220680" cy="26640"/>
                      <a:chOff x="7839000" y="2599920"/>
                      <a:chExt cx="220680" cy="26640"/>
                    </a:xfrm>
                  </p:grpSpPr>
                  <p:grpSp>
                    <p:nvGrpSpPr>
                      <p:cNvPr id="1230" name=""/>
                      <p:cNvGrpSpPr/>
                      <p:nvPr/>
                    </p:nvGrpSpPr>
                    <p:grpSpPr>
                      <a:xfrm>
                        <a:off x="7839000" y="2599920"/>
                        <a:ext cx="110880" cy="26640"/>
                        <a:chOff x="7839000" y="2599920"/>
                        <a:chExt cx="110880" cy="26640"/>
                      </a:xfrm>
                    </p:grpSpPr>
                    <p:grpSp>
                      <p:nvGrpSpPr>
                        <p:cNvPr id="1231" name=""/>
                        <p:cNvGrpSpPr/>
                        <p:nvPr/>
                      </p:nvGrpSpPr>
                      <p:grpSpPr>
                        <a:xfrm>
                          <a:off x="7839000" y="2599920"/>
                          <a:ext cx="52200" cy="26640"/>
                          <a:chOff x="7839000" y="2599920"/>
                          <a:chExt cx="52200" cy="26640"/>
                        </a:xfrm>
                      </p:grpSpPr>
                      <p:grpSp>
                        <p:nvGrpSpPr>
                          <p:cNvPr id="1232" name=""/>
                          <p:cNvGrpSpPr/>
                          <p:nvPr/>
                        </p:nvGrpSpPr>
                        <p:grpSpPr>
                          <a:xfrm>
                            <a:off x="7839000" y="2599920"/>
                            <a:ext cx="39600" cy="26640"/>
                            <a:chOff x="7839000" y="2599920"/>
                            <a:chExt cx="39600" cy="26640"/>
                          </a:xfrm>
                        </p:grpSpPr>
                        <p:grpSp>
                          <p:nvGrpSpPr>
                            <p:cNvPr id="1233" name=""/>
                            <p:cNvGrpSpPr/>
                            <p:nvPr/>
                          </p:nvGrpSpPr>
                          <p:grpSpPr>
                            <a:xfrm>
                              <a:off x="7839000" y="2599920"/>
                              <a:ext cx="7920" cy="26640"/>
                              <a:chOff x="7839000" y="2599920"/>
                              <a:chExt cx="7920" cy="26640"/>
                            </a:xfrm>
                          </p:grpSpPr>
                          <p:sp>
                            <p:nvSpPr>
                              <p:cNvPr id="1234" name=""/>
                              <p:cNvSpPr/>
                              <p:nvPr/>
                            </p:nvSpPr>
                            <p:spPr>
                              <a:xfrm>
                                <a:off x="783900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5" name=""/>
                              <p:cNvSpPr/>
                              <p:nvPr/>
                            </p:nvSpPr>
                            <p:spPr>
                              <a:xfrm>
                                <a:off x="784512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36" name=""/>
                            <p:cNvGrpSpPr/>
                            <p:nvPr/>
                          </p:nvGrpSpPr>
                          <p:grpSpPr>
                            <a:xfrm>
                              <a:off x="7851600" y="2599920"/>
                              <a:ext cx="27000" cy="26640"/>
                              <a:chOff x="7851600" y="2599920"/>
                              <a:chExt cx="27000" cy="26640"/>
                            </a:xfrm>
                          </p:grpSpPr>
                          <p:sp>
                            <p:nvSpPr>
                              <p:cNvPr id="1237" name=""/>
                              <p:cNvSpPr/>
                              <p:nvPr/>
                            </p:nvSpPr>
                            <p:spPr>
                              <a:xfrm>
                                <a:off x="785160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38" name=""/>
                              <p:cNvSpPr/>
                              <p:nvPr/>
                            </p:nvSpPr>
                            <p:spPr>
                              <a:xfrm>
                                <a:off x="78580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239" name=""/>
                          <p:cNvGrpSpPr/>
                          <p:nvPr/>
                        </p:nvGrpSpPr>
                        <p:grpSpPr>
                          <a:xfrm>
                            <a:off x="7864200" y="2599920"/>
                            <a:ext cx="27000" cy="26640"/>
                            <a:chOff x="7864200" y="2599920"/>
                            <a:chExt cx="27000" cy="26640"/>
                          </a:xfrm>
                        </p:grpSpPr>
                        <p:grpSp>
                          <p:nvGrpSpPr>
                            <p:cNvPr id="1240" name=""/>
                            <p:cNvGrpSpPr/>
                            <p:nvPr/>
                          </p:nvGrpSpPr>
                          <p:grpSpPr>
                            <a:xfrm>
                              <a:off x="7864200" y="2599920"/>
                              <a:ext cx="27000" cy="26640"/>
                              <a:chOff x="7864200" y="2599920"/>
                              <a:chExt cx="27000" cy="26640"/>
                            </a:xfrm>
                          </p:grpSpPr>
                          <p:sp>
                            <p:nvSpPr>
                              <p:cNvPr id="1241" name=""/>
                              <p:cNvSpPr/>
                              <p:nvPr/>
                            </p:nvSpPr>
                            <p:spPr>
                              <a:xfrm>
                                <a:off x="786420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42" name=""/>
                              <p:cNvSpPr/>
                              <p:nvPr/>
                            </p:nvSpPr>
                            <p:spPr>
                              <a:xfrm>
                                <a:off x="78706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43" name=""/>
                            <p:cNvGrpSpPr/>
                            <p:nvPr/>
                          </p:nvGrpSpPr>
                          <p:grpSpPr>
                            <a:xfrm>
                              <a:off x="7876800" y="2599920"/>
                              <a:ext cx="9720" cy="26640"/>
                              <a:chOff x="7876800" y="2599920"/>
                              <a:chExt cx="9720" cy="26640"/>
                            </a:xfrm>
                          </p:grpSpPr>
                          <p:sp>
                            <p:nvSpPr>
                              <p:cNvPr id="1244" name=""/>
                              <p:cNvSpPr/>
                              <p:nvPr/>
                            </p:nvSpPr>
                            <p:spPr>
                              <a:xfrm>
                                <a:off x="787680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45" name=""/>
                              <p:cNvSpPr/>
                              <p:nvPr/>
                            </p:nvSpPr>
                            <p:spPr>
                              <a:xfrm>
                                <a:off x="78850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246" name=""/>
                        <p:cNvGrpSpPr/>
                        <p:nvPr/>
                      </p:nvGrpSpPr>
                      <p:grpSpPr>
                        <a:xfrm>
                          <a:off x="7891200" y="2599920"/>
                          <a:ext cx="58680" cy="26640"/>
                          <a:chOff x="7891200" y="2599920"/>
                          <a:chExt cx="58680" cy="26640"/>
                        </a:xfrm>
                      </p:grpSpPr>
                      <p:grpSp>
                        <p:nvGrpSpPr>
                          <p:cNvPr id="1247" name=""/>
                          <p:cNvGrpSpPr/>
                          <p:nvPr/>
                        </p:nvGrpSpPr>
                        <p:grpSpPr>
                          <a:xfrm>
                            <a:off x="7891200" y="2599920"/>
                            <a:ext cx="39600" cy="26640"/>
                            <a:chOff x="7891200" y="2599920"/>
                            <a:chExt cx="39600" cy="26640"/>
                          </a:xfrm>
                        </p:grpSpPr>
                        <p:grpSp>
                          <p:nvGrpSpPr>
                            <p:cNvPr id="1248" name=""/>
                            <p:cNvGrpSpPr/>
                            <p:nvPr/>
                          </p:nvGrpSpPr>
                          <p:grpSpPr>
                            <a:xfrm>
                              <a:off x="7891200" y="2599920"/>
                              <a:ext cx="33480" cy="26640"/>
                              <a:chOff x="7891200" y="2599920"/>
                              <a:chExt cx="33480" cy="26640"/>
                            </a:xfrm>
                          </p:grpSpPr>
                          <p:sp>
                            <p:nvSpPr>
                              <p:cNvPr id="1249" name=""/>
                              <p:cNvSpPr/>
                              <p:nvPr/>
                            </p:nvSpPr>
                            <p:spPr>
                              <a:xfrm>
                                <a:off x="789120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50" name=""/>
                              <p:cNvSpPr/>
                              <p:nvPr/>
                            </p:nvSpPr>
                            <p:spPr>
                              <a:xfrm>
                                <a:off x="789768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51" name=""/>
                            <p:cNvGrpSpPr/>
                            <p:nvPr/>
                          </p:nvGrpSpPr>
                          <p:grpSpPr>
                            <a:xfrm>
                              <a:off x="7903800" y="2599920"/>
                              <a:ext cx="27000" cy="26640"/>
                              <a:chOff x="7903800" y="2599920"/>
                              <a:chExt cx="27000" cy="26640"/>
                            </a:xfrm>
                          </p:grpSpPr>
                          <p:sp>
                            <p:nvSpPr>
                              <p:cNvPr id="1252" name=""/>
                              <p:cNvSpPr/>
                              <p:nvPr/>
                            </p:nvSpPr>
                            <p:spPr>
                              <a:xfrm>
                                <a:off x="790380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53" name=""/>
                              <p:cNvSpPr/>
                              <p:nvPr/>
                            </p:nvSpPr>
                            <p:spPr>
                              <a:xfrm>
                                <a:off x="79102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254" name=""/>
                          <p:cNvGrpSpPr/>
                          <p:nvPr/>
                        </p:nvGrpSpPr>
                        <p:grpSpPr>
                          <a:xfrm>
                            <a:off x="7916760" y="2599920"/>
                            <a:ext cx="33120" cy="26640"/>
                            <a:chOff x="7916760" y="2599920"/>
                            <a:chExt cx="33120" cy="26640"/>
                          </a:xfrm>
                        </p:grpSpPr>
                        <p:grpSp>
                          <p:nvGrpSpPr>
                            <p:cNvPr id="1255" name=""/>
                            <p:cNvGrpSpPr/>
                            <p:nvPr/>
                          </p:nvGrpSpPr>
                          <p:grpSpPr>
                            <a:xfrm>
                              <a:off x="7916760" y="2599920"/>
                              <a:ext cx="33120" cy="26640"/>
                              <a:chOff x="7916760" y="2599920"/>
                              <a:chExt cx="33120" cy="26640"/>
                            </a:xfrm>
                          </p:grpSpPr>
                          <p:sp>
                            <p:nvSpPr>
                              <p:cNvPr id="1256" name=""/>
                              <p:cNvSpPr/>
                              <p:nvPr/>
                            </p:nvSpPr>
                            <p:spPr>
                              <a:xfrm>
                                <a:off x="791676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57" name=""/>
                              <p:cNvSpPr/>
                              <p:nvPr/>
                            </p:nvSpPr>
                            <p:spPr>
                              <a:xfrm>
                                <a:off x="792288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58" name=""/>
                            <p:cNvGrpSpPr/>
                            <p:nvPr/>
                          </p:nvGrpSpPr>
                          <p:grpSpPr>
                            <a:xfrm>
                              <a:off x="7929360" y="2599920"/>
                              <a:ext cx="7920" cy="26640"/>
                              <a:chOff x="7929360" y="2599920"/>
                              <a:chExt cx="7920" cy="26640"/>
                            </a:xfrm>
                          </p:grpSpPr>
                          <p:sp>
                            <p:nvSpPr>
                              <p:cNvPr id="1259" name=""/>
                              <p:cNvSpPr/>
                              <p:nvPr/>
                            </p:nvSpPr>
                            <p:spPr>
                              <a:xfrm>
                                <a:off x="792936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0" name=""/>
                              <p:cNvSpPr/>
                              <p:nvPr/>
                            </p:nvSpPr>
                            <p:spPr>
                              <a:xfrm>
                                <a:off x="793584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261" name=""/>
                      <p:cNvGrpSpPr/>
                      <p:nvPr/>
                    </p:nvGrpSpPr>
                    <p:grpSpPr>
                      <a:xfrm>
                        <a:off x="7941960" y="2599920"/>
                        <a:ext cx="117720" cy="26640"/>
                        <a:chOff x="7941960" y="2599920"/>
                        <a:chExt cx="117720" cy="26640"/>
                      </a:xfrm>
                    </p:grpSpPr>
                    <p:grpSp>
                      <p:nvGrpSpPr>
                        <p:cNvPr id="1262" name=""/>
                        <p:cNvGrpSpPr/>
                        <p:nvPr/>
                      </p:nvGrpSpPr>
                      <p:grpSpPr>
                        <a:xfrm>
                          <a:off x="7941960" y="2599920"/>
                          <a:ext cx="73080" cy="26640"/>
                          <a:chOff x="7941960" y="2599920"/>
                          <a:chExt cx="73080" cy="26640"/>
                        </a:xfrm>
                      </p:grpSpPr>
                      <p:grpSp>
                        <p:nvGrpSpPr>
                          <p:cNvPr id="1263" name=""/>
                          <p:cNvGrpSpPr/>
                          <p:nvPr/>
                        </p:nvGrpSpPr>
                        <p:grpSpPr>
                          <a:xfrm>
                            <a:off x="7941960" y="2599920"/>
                            <a:ext cx="33480" cy="26640"/>
                            <a:chOff x="7941960" y="2599920"/>
                            <a:chExt cx="33480" cy="26640"/>
                          </a:xfrm>
                        </p:grpSpPr>
                        <p:grpSp>
                          <p:nvGrpSpPr>
                            <p:cNvPr id="1264" name=""/>
                            <p:cNvGrpSpPr/>
                            <p:nvPr/>
                          </p:nvGrpSpPr>
                          <p:grpSpPr>
                            <a:xfrm>
                              <a:off x="7941960" y="2599920"/>
                              <a:ext cx="33480" cy="26640"/>
                              <a:chOff x="7941960" y="2599920"/>
                              <a:chExt cx="33480" cy="26640"/>
                            </a:xfrm>
                          </p:grpSpPr>
                          <p:sp>
                            <p:nvSpPr>
                              <p:cNvPr id="1265" name=""/>
                              <p:cNvSpPr/>
                              <p:nvPr/>
                            </p:nvSpPr>
                            <p:spPr>
                              <a:xfrm>
                                <a:off x="794196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6" name=""/>
                              <p:cNvSpPr/>
                              <p:nvPr/>
                            </p:nvSpPr>
                            <p:spPr>
                              <a:xfrm>
                                <a:off x="794844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67" name=""/>
                            <p:cNvGrpSpPr/>
                            <p:nvPr/>
                          </p:nvGrpSpPr>
                          <p:grpSpPr>
                            <a:xfrm>
                              <a:off x="7954920" y="2599920"/>
                              <a:ext cx="7920" cy="26640"/>
                              <a:chOff x="7954920" y="2599920"/>
                              <a:chExt cx="7920" cy="26640"/>
                            </a:xfrm>
                          </p:grpSpPr>
                          <p:sp>
                            <p:nvSpPr>
                              <p:cNvPr id="1268" name=""/>
                              <p:cNvSpPr/>
                              <p:nvPr/>
                            </p:nvSpPr>
                            <p:spPr>
                              <a:xfrm>
                                <a:off x="795492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69" name=""/>
                              <p:cNvSpPr/>
                              <p:nvPr/>
                            </p:nvSpPr>
                            <p:spPr>
                              <a:xfrm>
                                <a:off x="796104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270" name=""/>
                          <p:cNvGrpSpPr/>
                          <p:nvPr/>
                        </p:nvGrpSpPr>
                        <p:grpSpPr>
                          <a:xfrm>
                            <a:off x="7968960" y="2599920"/>
                            <a:ext cx="46080" cy="26640"/>
                            <a:chOff x="7968960" y="2599920"/>
                            <a:chExt cx="46080" cy="26640"/>
                          </a:xfrm>
                        </p:grpSpPr>
                        <p:grpSp>
                          <p:nvGrpSpPr>
                            <p:cNvPr id="1271" name=""/>
                            <p:cNvGrpSpPr/>
                            <p:nvPr/>
                          </p:nvGrpSpPr>
                          <p:grpSpPr>
                            <a:xfrm>
                              <a:off x="7968960" y="2599920"/>
                              <a:ext cx="7920" cy="26640"/>
                              <a:chOff x="7968960" y="2599920"/>
                              <a:chExt cx="7920" cy="26640"/>
                            </a:xfrm>
                          </p:grpSpPr>
                          <p:sp>
                            <p:nvSpPr>
                              <p:cNvPr id="1272" name=""/>
                              <p:cNvSpPr/>
                              <p:nvPr/>
                            </p:nvSpPr>
                            <p:spPr>
                              <a:xfrm>
                                <a:off x="796896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3" name=""/>
                              <p:cNvSpPr/>
                              <p:nvPr/>
                            </p:nvSpPr>
                            <p:spPr>
                              <a:xfrm>
                                <a:off x="797544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74" name=""/>
                            <p:cNvGrpSpPr/>
                            <p:nvPr/>
                          </p:nvGrpSpPr>
                          <p:grpSpPr>
                            <a:xfrm>
                              <a:off x="7981560" y="2599920"/>
                              <a:ext cx="33480" cy="26640"/>
                              <a:chOff x="7981560" y="2599920"/>
                              <a:chExt cx="33480" cy="26640"/>
                            </a:xfrm>
                          </p:grpSpPr>
                          <p:sp>
                            <p:nvSpPr>
                              <p:cNvPr id="1275" name=""/>
                              <p:cNvSpPr/>
                              <p:nvPr/>
                            </p:nvSpPr>
                            <p:spPr>
                              <a:xfrm>
                                <a:off x="798156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76" name=""/>
                              <p:cNvSpPr/>
                              <p:nvPr/>
                            </p:nvSpPr>
                            <p:spPr>
                              <a:xfrm>
                                <a:off x="798804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277" name=""/>
                        <p:cNvGrpSpPr/>
                        <p:nvPr/>
                      </p:nvGrpSpPr>
                      <p:grpSpPr>
                        <a:xfrm>
                          <a:off x="7994520" y="2599920"/>
                          <a:ext cx="65160" cy="26640"/>
                          <a:chOff x="7994520" y="2599920"/>
                          <a:chExt cx="65160" cy="26640"/>
                        </a:xfrm>
                      </p:grpSpPr>
                      <p:grpSp>
                        <p:nvGrpSpPr>
                          <p:cNvPr id="1278" name=""/>
                          <p:cNvGrpSpPr/>
                          <p:nvPr/>
                        </p:nvGrpSpPr>
                        <p:grpSpPr>
                          <a:xfrm>
                            <a:off x="7994520" y="2599920"/>
                            <a:ext cx="20520" cy="26640"/>
                            <a:chOff x="7994520" y="2599920"/>
                            <a:chExt cx="20520" cy="26640"/>
                          </a:xfrm>
                        </p:grpSpPr>
                        <p:grpSp>
                          <p:nvGrpSpPr>
                            <p:cNvPr id="1279" name=""/>
                            <p:cNvGrpSpPr/>
                            <p:nvPr/>
                          </p:nvGrpSpPr>
                          <p:grpSpPr>
                            <a:xfrm>
                              <a:off x="7994520" y="2599920"/>
                              <a:ext cx="7920" cy="26640"/>
                              <a:chOff x="7994520" y="2599920"/>
                              <a:chExt cx="7920" cy="26640"/>
                            </a:xfrm>
                          </p:grpSpPr>
                          <p:sp>
                            <p:nvSpPr>
                              <p:cNvPr id="1280" name=""/>
                              <p:cNvSpPr/>
                              <p:nvPr/>
                            </p:nvSpPr>
                            <p:spPr>
                              <a:xfrm>
                                <a:off x="799452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1" name=""/>
                              <p:cNvSpPr/>
                              <p:nvPr/>
                            </p:nvSpPr>
                            <p:spPr>
                              <a:xfrm>
                                <a:off x="800064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82" name=""/>
                            <p:cNvGrpSpPr/>
                            <p:nvPr/>
                          </p:nvGrpSpPr>
                          <p:grpSpPr>
                            <a:xfrm>
                              <a:off x="8007120" y="2599920"/>
                              <a:ext cx="7920" cy="26640"/>
                              <a:chOff x="8007120" y="2599920"/>
                              <a:chExt cx="7920" cy="26640"/>
                            </a:xfrm>
                          </p:grpSpPr>
                          <p:sp>
                            <p:nvSpPr>
                              <p:cNvPr id="1283" name=""/>
                              <p:cNvSpPr/>
                              <p:nvPr/>
                            </p:nvSpPr>
                            <p:spPr>
                              <a:xfrm>
                                <a:off x="800712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4" name=""/>
                              <p:cNvSpPr/>
                              <p:nvPr/>
                            </p:nvSpPr>
                            <p:spPr>
                              <a:xfrm>
                                <a:off x="801360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285" name=""/>
                          <p:cNvGrpSpPr/>
                          <p:nvPr/>
                        </p:nvGrpSpPr>
                        <p:grpSpPr>
                          <a:xfrm>
                            <a:off x="8019720" y="2599920"/>
                            <a:ext cx="39960" cy="26640"/>
                            <a:chOff x="8019720" y="2599920"/>
                            <a:chExt cx="39960" cy="26640"/>
                          </a:xfrm>
                        </p:grpSpPr>
                        <p:grpSp>
                          <p:nvGrpSpPr>
                            <p:cNvPr id="1286" name=""/>
                            <p:cNvGrpSpPr/>
                            <p:nvPr/>
                          </p:nvGrpSpPr>
                          <p:grpSpPr>
                            <a:xfrm>
                              <a:off x="8019720" y="2599920"/>
                              <a:ext cx="33480" cy="26640"/>
                              <a:chOff x="8019720" y="2599920"/>
                              <a:chExt cx="33480" cy="26640"/>
                            </a:xfrm>
                          </p:grpSpPr>
                          <p:sp>
                            <p:nvSpPr>
                              <p:cNvPr id="1287" name=""/>
                              <p:cNvSpPr/>
                              <p:nvPr/>
                            </p:nvSpPr>
                            <p:spPr>
                              <a:xfrm>
                                <a:off x="801972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88" name=""/>
                              <p:cNvSpPr/>
                              <p:nvPr/>
                            </p:nvSpPr>
                            <p:spPr>
                              <a:xfrm>
                                <a:off x="802620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89" name=""/>
                            <p:cNvGrpSpPr/>
                            <p:nvPr/>
                          </p:nvGrpSpPr>
                          <p:grpSpPr>
                            <a:xfrm>
                              <a:off x="8032680" y="2599920"/>
                              <a:ext cx="27000" cy="26640"/>
                              <a:chOff x="8032680" y="2599920"/>
                              <a:chExt cx="27000" cy="26640"/>
                            </a:xfrm>
                          </p:grpSpPr>
                          <p:sp>
                            <p:nvSpPr>
                              <p:cNvPr id="1290" name=""/>
                              <p:cNvSpPr/>
                              <p:nvPr/>
                            </p:nvSpPr>
                            <p:spPr>
                              <a:xfrm>
                                <a:off x="803268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1" name=""/>
                              <p:cNvSpPr/>
                              <p:nvPr/>
                            </p:nvSpPr>
                            <p:spPr>
                              <a:xfrm>
                                <a:off x="803880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292" name=""/>
                    <p:cNvGrpSpPr/>
                    <p:nvPr/>
                  </p:nvGrpSpPr>
                  <p:grpSpPr>
                    <a:xfrm>
                      <a:off x="8045280" y="2599920"/>
                      <a:ext cx="228600" cy="26640"/>
                      <a:chOff x="8045280" y="2599920"/>
                      <a:chExt cx="228600" cy="26640"/>
                    </a:xfrm>
                  </p:grpSpPr>
                  <p:grpSp>
                    <p:nvGrpSpPr>
                      <p:cNvPr id="1293" name=""/>
                      <p:cNvGrpSpPr/>
                      <p:nvPr/>
                    </p:nvGrpSpPr>
                    <p:grpSpPr>
                      <a:xfrm>
                        <a:off x="8045280" y="2599920"/>
                        <a:ext cx="123840" cy="26640"/>
                        <a:chOff x="8045280" y="2599920"/>
                        <a:chExt cx="123840" cy="26640"/>
                      </a:xfrm>
                    </p:grpSpPr>
                    <p:grpSp>
                      <p:nvGrpSpPr>
                        <p:cNvPr id="1294" name=""/>
                        <p:cNvGrpSpPr/>
                        <p:nvPr/>
                      </p:nvGrpSpPr>
                      <p:grpSpPr>
                        <a:xfrm>
                          <a:off x="8045280" y="2599920"/>
                          <a:ext cx="60120" cy="26640"/>
                          <a:chOff x="8045280" y="2599920"/>
                          <a:chExt cx="60120" cy="26640"/>
                        </a:xfrm>
                      </p:grpSpPr>
                      <p:grpSp>
                        <p:nvGrpSpPr>
                          <p:cNvPr id="1295" name=""/>
                          <p:cNvGrpSpPr/>
                          <p:nvPr/>
                        </p:nvGrpSpPr>
                        <p:grpSpPr>
                          <a:xfrm>
                            <a:off x="8045280" y="2599920"/>
                            <a:ext cx="22320" cy="26640"/>
                            <a:chOff x="8045280" y="2599920"/>
                            <a:chExt cx="22320" cy="26640"/>
                          </a:xfrm>
                        </p:grpSpPr>
                        <p:grpSp>
                          <p:nvGrpSpPr>
                            <p:cNvPr id="1296" name=""/>
                            <p:cNvGrpSpPr/>
                            <p:nvPr/>
                          </p:nvGrpSpPr>
                          <p:grpSpPr>
                            <a:xfrm>
                              <a:off x="8045280" y="2599920"/>
                              <a:ext cx="7920" cy="26640"/>
                              <a:chOff x="8045280" y="2599920"/>
                              <a:chExt cx="7920" cy="26640"/>
                            </a:xfrm>
                          </p:grpSpPr>
                          <p:sp>
                            <p:nvSpPr>
                              <p:cNvPr id="1297" name=""/>
                              <p:cNvSpPr/>
                              <p:nvPr/>
                            </p:nvSpPr>
                            <p:spPr>
                              <a:xfrm>
                                <a:off x="80452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98" name=""/>
                              <p:cNvSpPr/>
                              <p:nvPr/>
                            </p:nvSpPr>
                            <p:spPr>
                              <a:xfrm>
                                <a:off x="805176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299" name=""/>
                            <p:cNvGrpSpPr/>
                            <p:nvPr/>
                          </p:nvGrpSpPr>
                          <p:grpSpPr>
                            <a:xfrm>
                              <a:off x="8059680" y="2599920"/>
                              <a:ext cx="7920" cy="26640"/>
                              <a:chOff x="8059680" y="2599920"/>
                              <a:chExt cx="7920" cy="26640"/>
                            </a:xfrm>
                          </p:grpSpPr>
                          <p:sp>
                            <p:nvSpPr>
                              <p:cNvPr id="1300" name=""/>
                              <p:cNvSpPr/>
                              <p:nvPr/>
                            </p:nvSpPr>
                            <p:spPr>
                              <a:xfrm>
                                <a:off x="80596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1" name=""/>
                              <p:cNvSpPr/>
                              <p:nvPr/>
                            </p:nvSpPr>
                            <p:spPr>
                              <a:xfrm>
                                <a:off x="806580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02" name=""/>
                          <p:cNvGrpSpPr/>
                          <p:nvPr/>
                        </p:nvGrpSpPr>
                        <p:grpSpPr>
                          <a:xfrm>
                            <a:off x="8072280" y="2599920"/>
                            <a:ext cx="33120" cy="26640"/>
                            <a:chOff x="8072280" y="2599920"/>
                            <a:chExt cx="33120" cy="26640"/>
                          </a:xfrm>
                        </p:grpSpPr>
                        <p:grpSp>
                          <p:nvGrpSpPr>
                            <p:cNvPr id="1303" name=""/>
                            <p:cNvGrpSpPr/>
                            <p:nvPr/>
                          </p:nvGrpSpPr>
                          <p:grpSpPr>
                            <a:xfrm>
                              <a:off x="8072280" y="2599920"/>
                              <a:ext cx="33120" cy="26640"/>
                              <a:chOff x="8072280" y="2599920"/>
                              <a:chExt cx="33120" cy="26640"/>
                            </a:xfrm>
                          </p:grpSpPr>
                          <p:sp>
                            <p:nvSpPr>
                              <p:cNvPr id="1304" name=""/>
                              <p:cNvSpPr/>
                              <p:nvPr/>
                            </p:nvSpPr>
                            <p:spPr>
                              <a:xfrm>
                                <a:off x="80722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5" name=""/>
                              <p:cNvSpPr/>
                              <p:nvPr/>
                            </p:nvSpPr>
                            <p:spPr>
                              <a:xfrm>
                                <a:off x="807840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06" name=""/>
                            <p:cNvGrpSpPr/>
                            <p:nvPr/>
                          </p:nvGrpSpPr>
                          <p:grpSpPr>
                            <a:xfrm>
                              <a:off x="8084880" y="2599920"/>
                              <a:ext cx="7920" cy="26640"/>
                              <a:chOff x="8084880" y="2599920"/>
                              <a:chExt cx="7920" cy="26640"/>
                            </a:xfrm>
                          </p:grpSpPr>
                          <p:sp>
                            <p:nvSpPr>
                              <p:cNvPr id="1307" name=""/>
                              <p:cNvSpPr/>
                              <p:nvPr/>
                            </p:nvSpPr>
                            <p:spPr>
                              <a:xfrm>
                                <a:off x="808488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08" name=""/>
                              <p:cNvSpPr/>
                              <p:nvPr/>
                            </p:nvSpPr>
                            <p:spPr>
                              <a:xfrm>
                                <a:off x="809136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09" name=""/>
                        <p:cNvGrpSpPr/>
                        <p:nvPr/>
                      </p:nvGrpSpPr>
                      <p:grpSpPr>
                        <a:xfrm>
                          <a:off x="8097480" y="2599920"/>
                          <a:ext cx="71640" cy="26640"/>
                          <a:chOff x="8097480" y="2599920"/>
                          <a:chExt cx="71640" cy="26640"/>
                        </a:xfrm>
                      </p:grpSpPr>
                      <p:grpSp>
                        <p:nvGrpSpPr>
                          <p:cNvPr id="1310" name=""/>
                          <p:cNvGrpSpPr/>
                          <p:nvPr/>
                        </p:nvGrpSpPr>
                        <p:grpSpPr>
                          <a:xfrm>
                            <a:off x="8097480" y="2599920"/>
                            <a:ext cx="33480" cy="26640"/>
                            <a:chOff x="8097480" y="2599920"/>
                            <a:chExt cx="33480" cy="26640"/>
                          </a:xfrm>
                        </p:grpSpPr>
                        <p:grpSp>
                          <p:nvGrpSpPr>
                            <p:cNvPr id="1311" name=""/>
                            <p:cNvGrpSpPr/>
                            <p:nvPr/>
                          </p:nvGrpSpPr>
                          <p:grpSpPr>
                            <a:xfrm>
                              <a:off x="8097480" y="2599920"/>
                              <a:ext cx="33480" cy="26640"/>
                              <a:chOff x="8097480" y="2599920"/>
                              <a:chExt cx="33480" cy="26640"/>
                            </a:xfrm>
                          </p:grpSpPr>
                          <p:sp>
                            <p:nvSpPr>
                              <p:cNvPr id="1312" name=""/>
                              <p:cNvSpPr/>
                              <p:nvPr/>
                            </p:nvSpPr>
                            <p:spPr>
                              <a:xfrm>
                                <a:off x="809748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3" name=""/>
                              <p:cNvSpPr/>
                              <p:nvPr/>
                            </p:nvSpPr>
                            <p:spPr>
                              <a:xfrm>
                                <a:off x="810396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14" name=""/>
                            <p:cNvGrpSpPr/>
                            <p:nvPr/>
                          </p:nvGrpSpPr>
                          <p:grpSpPr>
                            <a:xfrm>
                              <a:off x="8110440" y="2599920"/>
                              <a:ext cx="7920" cy="26640"/>
                              <a:chOff x="8110440" y="2599920"/>
                              <a:chExt cx="7920" cy="26640"/>
                            </a:xfrm>
                          </p:grpSpPr>
                          <p:sp>
                            <p:nvSpPr>
                              <p:cNvPr id="1315" name=""/>
                              <p:cNvSpPr/>
                              <p:nvPr/>
                            </p:nvSpPr>
                            <p:spPr>
                              <a:xfrm>
                                <a:off x="811044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16" name=""/>
                              <p:cNvSpPr/>
                              <p:nvPr/>
                            </p:nvSpPr>
                            <p:spPr>
                              <a:xfrm>
                                <a:off x="811656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17" name=""/>
                          <p:cNvGrpSpPr/>
                          <p:nvPr/>
                        </p:nvGrpSpPr>
                        <p:grpSpPr>
                          <a:xfrm>
                            <a:off x="8123040" y="2599920"/>
                            <a:ext cx="46080" cy="26640"/>
                            <a:chOff x="8123040" y="2599920"/>
                            <a:chExt cx="46080" cy="26640"/>
                          </a:xfrm>
                        </p:grpSpPr>
                        <p:grpSp>
                          <p:nvGrpSpPr>
                            <p:cNvPr id="1318" name=""/>
                            <p:cNvGrpSpPr/>
                            <p:nvPr/>
                          </p:nvGrpSpPr>
                          <p:grpSpPr>
                            <a:xfrm>
                              <a:off x="8123040" y="2599920"/>
                              <a:ext cx="27000" cy="26640"/>
                              <a:chOff x="8123040" y="2599920"/>
                              <a:chExt cx="27000" cy="26640"/>
                            </a:xfrm>
                          </p:grpSpPr>
                          <p:sp>
                            <p:nvSpPr>
                              <p:cNvPr id="1319" name=""/>
                              <p:cNvSpPr/>
                              <p:nvPr/>
                            </p:nvSpPr>
                            <p:spPr>
                              <a:xfrm>
                                <a:off x="812304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0" name=""/>
                              <p:cNvSpPr/>
                              <p:nvPr/>
                            </p:nvSpPr>
                            <p:spPr>
                              <a:xfrm>
                                <a:off x="812952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21" name=""/>
                            <p:cNvGrpSpPr/>
                            <p:nvPr/>
                          </p:nvGrpSpPr>
                          <p:grpSpPr>
                            <a:xfrm>
                              <a:off x="8135640" y="2599920"/>
                              <a:ext cx="33480" cy="26640"/>
                              <a:chOff x="8135640" y="2599920"/>
                              <a:chExt cx="33480" cy="26640"/>
                            </a:xfrm>
                          </p:grpSpPr>
                          <p:sp>
                            <p:nvSpPr>
                              <p:cNvPr id="1322" name=""/>
                              <p:cNvSpPr/>
                              <p:nvPr/>
                            </p:nvSpPr>
                            <p:spPr>
                              <a:xfrm>
                                <a:off x="813564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3" name=""/>
                              <p:cNvSpPr/>
                              <p:nvPr/>
                            </p:nvSpPr>
                            <p:spPr>
                              <a:xfrm>
                                <a:off x="814212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1324" name=""/>
                      <p:cNvGrpSpPr/>
                      <p:nvPr/>
                    </p:nvGrpSpPr>
                    <p:grpSpPr>
                      <a:xfrm>
                        <a:off x="8150040" y="2599920"/>
                        <a:ext cx="123840" cy="26640"/>
                        <a:chOff x="8150040" y="2599920"/>
                        <a:chExt cx="123840" cy="26640"/>
                      </a:xfrm>
                    </p:grpSpPr>
                    <p:grpSp>
                      <p:nvGrpSpPr>
                        <p:cNvPr id="1325" name=""/>
                        <p:cNvGrpSpPr/>
                        <p:nvPr/>
                      </p:nvGrpSpPr>
                      <p:grpSpPr>
                        <a:xfrm>
                          <a:off x="8150040" y="2599920"/>
                          <a:ext cx="65160" cy="26640"/>
                          <a:chOff x="8150040" y="2599920"/>
                          <a:chExt cx="65160" cy="26640"/>
                        </a:xfrm>
                      </p:grpSpPr>
                      <p:grpSp>
                        <p:nvGrpSpPr>
                          <p:cNvPr id="1326" name=""/>
                          <p:cNvGrpSpPr/>
                          <p:nvPr/>
                        </p:nvGrpSpPr>
                        <p:grpSpPr>
                          <a:xfrm>
                            <a:off x="8150040" y="2599920"/>
                            <a:ext cx="39600" cy="26640"/>
                            <a:chOff x="8150040" y="2599920"/>
                            <a:chExt cx="39600" cy="26640"/>
                          </a:xfrm>
                        </p:grpSpPr>
                        <p:grpSp>
                          <p:nvGrpSpPr>
                            <p:cNvPr id="1327" name=""/>
                            <p:cNvGrpSpPr/>
                            <p:nvPr/>
                          </p:nvGrpSpPr>
                          <p:grpSpPr>
                            <a:xfrm>
                              <a:off x="8150040" y="2599920"/>
                              <a:ext cx="31680" cy="26640"/>
                              <a:chOff x="8150040" y="2599920"/>
                              <a:chExt cx="31680" cy="26640"/>
                            </a:xfrm>
                          </p:grpSpPr>
                          <p:sp>
                            <p:nvSpPr>
                              <p:cNvPr id="1328" name=""/>
                              <p:cNvSpPr/>
                              <p:nvPr/>
                            </p:nvSpPr>
                            <p:spPr>
                              <a:xfrm>
                                <a:off x="815004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29" name=""/>
                              <p:cNvSpPr/>
                              <p:nvPr/>
                            </p:nvSpPr>
                            <p:spPr>
                              <a:xfrm>
                                <a:off x="815472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30" name=""/>
                            <p:cNvGrpSpPr/>
                            <p:nvPr/>
                          </p:nvGrpSpPr>
                          <p:grpSpPr>
                            <a:xfrm>
                              <a:off x="8162640" y="2599920"/>
                              <a:ext cx="27000" cy="26640"/>
                              <a:chOff x="8162640" y="2599920"/>
                              <a:chExt cx="27000" cy="26640"/>
                            </a:xfrm>
                          </p:grpSpPr>
                          <p:sp>
                            <p:nvSpPr>
                              <p:cNvPr id="1331" name=""/>
                              <p:cNvSpPr/>
                              <p:nvPr/>
                            </p:nvSpPr>
                            <p:spPr>
                              <a:xfrm>
                                <a:off x="816264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2" name=""/>
                              <p:cNvSpPr/>
                              <p:nvPr/>
                            </p:nvSpPr>
                            <p:spPr>
                              <a:xfrm>
                                <a:off x="816912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33" name=""/>
                          <p:cNvGrpSpPr/>
                          <p:nvPr/>
                        </p:nvGrpSpPr>
                        <p:grpSpPr>
                          <a:xfrm>
                            <a:off x="8175240" y="2599920"/>
                            <a:ext cx="39960" cy="26640"/>
                            <a:chOff x="8175240" y="2599920"/>
                            <a:chExt cx="39960" cy="26640"/>
                          </a:xfrm>
                        </p:grpSpPr>
                        <p:grpSp>
                          <p:nvGrpSpPr>
                            <p:cNvPr id="1334" name=""/>
                            <p:cNvGrpSpPr/>
                            <p:nvPr/>
                          </p:nvGrpSpPr>
                          <p:grpSpPr>
                            <a:xfrm>
                              <a:off x="8175240" y="2599920"/>
                              <a:ext cx="33480" cy="26640"/>
                              <a:chOff x="8175240" y="2599920"/>
                              <a:chExt cx="33480" cy="26640"/>
                            </a:xfrm>
                          </p:grpSpPr>
                          <p:sp>
                            <p:nvSpPr>
                              <p:cNvPr id="1335" name=""/>
                              <p:cNvSpPr/>
                              <p:nvPr/>
                            </p:nvSpPr>
                            <p:spPr>
                              <a:xfrm>
                                <a:off x="817524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6" name=""/>
                              <p:cNvSpPr/>
                              <p:nvPr/>
                            </p:nvSpPr>
                            <p:spPr>
                              <a:xfrm>
                                <a:off x="818172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37" name=""/>
                            <p:cNvGrpSpPr/>
                            <p:nvPr/>
                          </p:nvGrpSpPr>
                          <p:grpSpPr>
                            <a:xfrm>
                              <a:off x="8188200" y="2599920"/>
                              <a:ext cx="27000" cy="26640"/>
                              <a:chOff x="8188200" y="2599920"/>
                              <a:chExt cx="27000" cy="26640"/>
                            </a:xfrm>
                          </p:grpSpPr>
                          <p:sp>
                            <p:nvSpPr>
                              <p:cNvPr id="1338" name=""/>
                              <p:cNvSpPr/>
                              <p:nvPr/>
                            </p:nvSpPr>
                            <p:spPr>
                              <a:xfrm>
                                <a:off x="818820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39" name=""/>
                              <p:cNvSpPr/>
                              <p:nvPr/>
                            </p:nvSpPr>
                            <p:spPr>
                              <a:xfrm>
                                <a:off x="819432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340" name=""/>
                        <p:cNvGrpSpPr/>
                        <p:nvPr/>
                      </p:nvGrpSpPr>
                      <p:grpSpPr>
                        <a:xfrm>
                          <a:off x="8200800" y="2599920"/>
                          <a:ext cx="73080" cy="26640"/>
                          <a:chOff x="8200800" y="2599920"/>
                          <a:chExt cx="73080" cy="26640"/>
                        </a:xfrm>
                      </p:grpSpPr>
                      <p:grpSp>
                        <p:nvGrpSpPr>
                          <p:cNvPr id="1341" name=""/>
                          <p:cNvGrpSpPr/>
                          <p:nvPr/>
                        </p:nvGrpSpPr>
                        <p:grpSpPr>
                          <a:xfrm>
                            <a:off x="8200800" y="2599920"/>
                            <a:ext cx="20520" cy="26640"/>
                            <a:chOff x="8200800" y="2599920"/>
                            <a:chExt cx="20520" cy="26640"/>
                          </a:xfrm>
                        </p:grpSpPr>
                        <p:grpSp>
                          <p:nvGrpSpPr>
                            <p:cNvPr id="1342" name=""/>
                            <p:cNvGrpSpPr/>
                            <p:nvPr/>
                          </p:nvGrpSpPr>
                          <p:grpSpPr>
                            <a:xfrm>
                              <a:off x="8200800" y="2599920"/>
                              <a:ext cx="7920" cy="26640"/>
                              <a:chOff x="8200800" y="2599920"/>
                              <a:chExt cx="7920" cy="26640"/>
                            </a:xfrm>
                          </p:grpSpPr>
                          <p:sp>
                            <p:nvSpPr>
                              <p:cNvPr id="1343" name=""/>
                              <p:cNvSpPr/>
                              <p:nvPr/>
                            </p:nvSpPr>
                            <p:spPr>
                              <a:xfrm>
                                <a:off x="820080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4" name=""/>
                              <p:cNvSpPr/>
                              <p:nvPr/>
                            </p:nvSpPr>
                            <p:spPr>
                              <a:xfrm>
                                <a:off x="82072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45" name=""/>
                            <p:cNvGrpSpPr/>
                            <p:nvPr/>
                          </p:nvGrpSpPr>
                          <p:grpSpPr>
                            <a:xfrm>
                              <a:off x="8213400" y="2599920"/>
                              <a:ext cx="7920" cy="26640"/>
                              <a:chOff x="8213400" y="2599920"/>
                              <a:chExt cx="7920" cy="26640"/>
                            </a:xfrm>
                          </p:grpSpPr>
                          <p:sp>
                            <p:nvSpPr>
                              <p:cNvPr id="1346" name=""/>
                              <p:cNvSpPr/>
                              <p:nvPr/>
                            </p:nvSpPr>
                            <p:spPr>
                              <a:xfrm>
                                <a:off x="8213400" y="2599920"/>
                                <a:ext cx="18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47" name=""/>
                              <p:cNvSpPr/>
                              <p:nvPr/>
                            </p:nvSpPr>
                            <p:spPr>
                              <a:xfrm>
                                <a:off x="82198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1348" name=""/>
                          <p:cNvGrpSpPr/>
                          <p:nvPr/>
                        </p:nvGrpSpPr>
                        <p:grpSpPr>
                          <a:xfrm>
                            <a:off x="8226360" y="2599920"/>
                            <a:ext cx="47520" cy="26640"/>
                            <a:chOff x="8226360" y="2599920"/>
                            <a:chExt cx="47520" cy="26640"/>
                          </a:xfrm>
                        </p:grpSpPr>
                        <p:grpSp>
                          <p:nvGrpSpPr>
                            <p:cNvPr id="1349" name=""/>
                            <p:cNvGrpSpPr/>
                            <p:nvPr/>
                          </p:nvGrpSpPr>
                          <p:grpSpPr>
                            <a:xfrm>
                              <a:off x="8226360" y="2599920"/>
                              <a:ext cx="27000" cy="26640"/>
                              <a:chOff x="8226360" y="2599920"/>
                              <a:chExt cx="27000" cy="26640"/>
                            </a:xfrm>
                          </p:grpSpPr>
                          <p:sp>
                            <p:nvSpPr>
                              <p:cNvPr id="1350" name=""/>
                              <p:cNvSpPr/>
                              <p:nvPr/>
                            </p:nvSpPr>
                            <p:spPr>
                              <a:xfrm>
                                <a:off x="822636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1" name=""/>
                              <p:cNvSpPr/>
                              <p:nvPr/>
                            </p:nvSpPr>
                            <p:spPr>
                              <a:xfrm>
                                <a:off x="8234280" y="2599920"/>
                                <a:ext cx="144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17">
                                    <a:moveTo>
                                      <a:pt x="0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352" name=""/>
                            <p:cNvGrpSpPr/>
                            <p:nvPr/>
                          </p:nvGrpSpPr>
                          <p:grpSpPr>
                            <a:xfrm>
                              <a:off x="8238960" y="2599920"/>
                              <a:ext cx="34920" cy="26640"/>
                              <a:chOff x="8238960" y="2599920"/>
                              <a:chExt cx="34920" cy="26640"/>
                            </a:xfrm>
                          </p:grpSpPr>
                          <p:sp>
                            <p:nvSpPr>
                              <p:cNvPr id="1353" name=""/>
                              <p:cNvSpPr/>
                              <p:nvPr/>
                            </p:nvSpPr>
                            <p:spPr>
                              <a:xfrm>
                                <a:off x="823896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0" y="0"/>
                                    </a:moveTo>
                                    <a:lnTo>
                                      <a:pt x="16" y="0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354" name=""/>
                              <p:cNvSpPr/>
                              <p:nvPr/>
                            </p:nvSpPr>
                            <p:spPr>
                              <a:xfrm>
                                <a:off x="8246880" y="2599920"/>
                                <a:ext cx="2700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" h="17">
                                    <a:moveTo>
                                      <a:pt x="16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16"/>
                                    </a:lnTo>
                                    <a:lnTo>
                                      <a:pt x="16" y="16"/>
                                    </a:lnTo>
                                    <a:lnTo>
                                      <a:pt x="16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1355" name=""/>
                <p:cNvGrpSpPr/>
                <p:nvPr/>
              </p:nvGrpSpPr>
              <p:grpSpPr>
                <a:xfrm>
                  <a:off x="7837200" y="2517120"/>
                  <a:ext cx="401760" cy="53640"/>
                  <a:chOff x="7837200" y="2517120"/>
                  <a:chExt cx="401760" cy="5364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>
                    <a:off x="7837200" y="2517120"/>
                    <a:ext cx="77760" cy="536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7927920" y="2517120"/>
                    <a:ext cx="114120" cy="536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8054640" y="2517120"/>
                    <a:ext cx="125640" cy="536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8192880" y="2517120"/>
                    <a:ext cx="46080" cy="536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0" name=""/>
              <p:cNvGrpSpPr/>
              <p:nvPr/>
            </p:nvGrpSpPr>
            <p:grpSpPr>
              <a:xfrm>
                <a:off x="8199360" y="2525040"/>
                <a:ext cx="33120" cy="33840"/>
                <a:chOff x="8199360" y="2525040"/>
                <a:chExt cx="33120" cy="3384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8218440" y="2525040"/>
                  <a:ext cx="12600" cy="187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8219880" y="2534400"/>
                  <a:ext cx="12600" cy="12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8199360" y="2527920"/>
                  <a:ext cx="12600" cy="30960"/>
                  <a:chOff x="8199360" y="2527920"/>
                  <a:chExt cx="12600" cy="3096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8199360" y="2527920"/>
                    <a:ext cx="12600" cy="12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8199360" y="2546640"/>
                    <a:ext cx="12600" cy="1224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6" name=""/>
              <p:cNvGrpSpPr/>
              <p:nvPr/>
            </p:nvGrpSpPr>
            <p:grpSpPr>
              <a:xfrm>
                <a:off x="7930800" y="2526840"/>
                <a:ext cx="109800" cy="45360"/>
                <a:chOff x="7930800" y="2526840"/>
                <a:chExt cx="109800" cy="45360"/>
              </a:xfrm>
            </p:grpSpPr>
            <p:grpSp>
              <p:nvGrpSpPr>
                <p:cNvPr id="1367" name=""/>
                <p:cNvGrpSpPr/>
                <p:nvPr/>
              </p:nvGrpSpPr>
              <p:grpSpPr>
                <a:xfrm>
                  <a:off x="7930800" y="2526840"/>
                  <a:ext cx="109800" cy="30960"/>
                  <a:chOff x="7930800" y="2526840"/>
                  <a:chExt cx="109800" cy="3096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>
                    <a:off x="7970760" y="2526840"/>
                    <a:ext cx="29880" cy="122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7970760" y="2537640"/>
                    <a:ext cx="29880" cy="1224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7930800" y="2532600"/>
                    <a:ext cx="109800" cy="252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71" name=""/>
                <p:cNvSpPr/>
                <p:nvPr/>
              </p:nvSpPr>
              <p:spPr>
                <a:xfrm>
                  <a:off x="7932600" y="2527920"/>
                  <a:ext cx="12600" cy="122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8026200" y="2559600"/>
                  <a:ext cx="12600" cy="126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7839000" y="2559960"/>
                <a:ext cx="99720" cy="26640"/>
                <a:chOff x="7839000" y="2559960"/>
                <a:chExt cx="99720" cy="26640"/>
              </a:xfrm>
            </p:grpSpPr>
            <p:grpSp>
              <p:nvGrpSpPr>
                <p:cNvPr id="1374" name=""/>
                <p:cNvGrpSpPr/>
                <p:nvPr/>
              </p:nvGrpSpPr>
              <p:grpSpPr>
                <a:xfrm>
                  <a:off x="7839000" y="2559960"/>
                  <a:ext cx="61920" cy="26640"/>
                  <a:chOff x="7839000" y="2559960"/>
                  <a:chExt cx="61920" cy="26640"/>
                </a:xfrm>
              </p:grpSpPr>
              <p:grpSp>
                <p:nvGrpSpPr>
                  <p:cNvPr id="1375" name=""/>
                  <p:cNvGrpSpPr/>
                  <p:nvPr/>
                </p:nvGrpSpPr>
                <p:grpSpPr>
                  <a:xfrm>
                    <a:off x="7839000" y="2559960"/>
                    <a:ext cx="42840" cy="26640"/>
                    <a:chOff x="7839000" y="2559960"/>
                    <a:chExt cx="42840" cy="26640"/>
                  </a:xfrm>
                </p:grpSpPr>
                <p:grpSp>
                  <p:nvGrpSpPr>
                    <p:cNvPr id="1376" name=""/>
                    <p:cNvGrpSpPr/>
                    <p:nvPr/>
                  </p:nvGrpSpPr>
                  <p:grpSpPr>
                    <a:xfrm>
                      <a:off x="7839000" y="2559960"/>
                      <a:ext cx="31680" cy="26640"/>
                      <a:chOff x="7839000" y="2559960"/>
                      <a:chExt cx="31680" cy="26640"/>
                    </a:xfrm>
                  </p:grpSpPr>
                  <p:sp>
                    <p:nvSpPr>
                      <p:cNvPr id="1377" name=""/>
                      <p:cNvSpPr/>
                      <p:nvPr/>
                    </p:nvSpPr>
                    <p:spPr>
                      <a:xfrm>
                        <a:off x="783900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8" name=""/>
                      <p:cNvSpPr/>
                      <p:nvPr/>
                    </p:nvSpPr>
                    <p:spPr>
                      <a:xfrm>
                        <a:off x="784368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79" name=""/>
                    <p:cNvGrpSpPr/>
                    <p:nvPr/>
                  </p:nvGrpSpPr>
                  <p:grpSpPr>
                    <a:xfrm>
                      <a:off x="7848360" y="2559960"/>
                      <a:ext cx="33480" cy="26640"/>
                      <a:chOff x="7848360" y="2559960"/>
                      <a:chExt cx="33480" cy="26640"/>
                    </a:xfrm>
                  </p:grpSpPr>
                  <p:sp>
                    <p:nvSpPr>
                      <p:cNvPr id="1380" name=""/>
                      <p:cNvSpPr/>
                      <p:nvPr/>
                    </p:nvSpPr>
                    <p:spPr>
                      <a:xfrm>
                        <a:off x="784836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1" name=""/>
                      <p:cNvSpPr/>
                      <p:nvPr/>
                    </p:nvSpPr>
                    <p:spPr>
                      <a:xfrm>
                        <a:off x="785484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7859520" y="2559960"/>
                    <a:ext cx="41400" cy="26640"/>
                    <a:chOff x="7859520" y="2559960"/>
                    <a:chExt cx="41400" cy="26640"/>
                  </a:xfrm>
                </p:grpSpPr>
                <p:grpSp>
                  <p:nvGrpSpPr>
                    <p:cNvPr id="1383" name=""/>
                    <p:cNvGrpSpPr/>
                    <p:nvPr/>
                  </p:nvGrpSpPr>
                  <p:grpSpPr>
                    <a:xfrm>
                      <a:off x="7859520" y="2559960"/>
                      <a:ext cx="31680" cy="26640"/>
                      <a:chOff x="7859520" y="2559960"/>
                      <a:chExt cx="31680" cy="26640"/>
                    </a:xfrm>
                  </p:grpSpPr>
                  <p:sp>
                    <p:nvSpPr>
                      <p:cNvPr id="1384" name=""/>
                      <p:cNvSpPr/>
                      <p:nvPr/>
                    </p:nvSpPr>
                    <p:spPr>
                      <a:xfrm>
                        <a:off x="785952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5" name=""/>
                      <p:cNvSpPr/>
                      <p:nvPr/>
                    </p:nvSpPr>
                    <p:spPr>
                      <a:xfrm>
                        <a:off x="786420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86" name=""/>
                    <p:cNvGrpSpPr/>
                    <p:nvPr/>
                  </p:nvGrpSpPr>
                  <p:grpSpPr>
                    <a:xfrm>
                      <a:off x="7868880" y="2559960"/>
                      <a:ext cx="32040" cy="26640"/>
                      <a:chOff x="7868880" y="2559960"/>
                      <a:chExt cx="32040" cy="26640"/>
                    </a:xfrm>
                  </p:grpSpPr>
                  <p:sp>
                    <p:nvSpPr>
                      <p:cNvPr id="1387" name=""/>
                      <p:cNvSpPr/>
                      <p:nvPr/>
                    </p:nvSpPr>
                    <p:spPr>
                      <a:xfrm>
                        <a:off x="786888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8" name=""/>
                      <p:cNvSpPr/>
                      <p:nvPr/>
                    </p:nvSpPr>
                    <p:spPr>
                      <a:xfrm>
                        <a:off x="787392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389" name=""/>
                <p:cNvGrpSpPr/>
                <p:nvPr/>
              </p:nvGrpSpPr>
              <p:grpSpPr>
                <a:xfrm>
                  <a:off x="7878600" y="2559960"/>
                  <a:ext cx="60120" cy="26640"/>
                  <a:chOff x="7878600" y="2559960"/>
                  <a:chExt cx="60120" cy="26640"/>
                </a:xfrm>
              </p:grpSpPr>
              <p:grpSp>
                <p:nvGrpSpPr>
                  <p:cNvPr id="1390" name=""/>
                  <p:cNvGrpSpPr/>
                  <p:nvPr/>
                </p:nvGrpSpPr>
                <p:grpSpPr>
                  <a:xfrm>
                    <a:off x="7878600" y="2559960"/>
                    <a:ext cx="41400" cy="26640"/>
                    <a:chOff x="7878600" y="2559960"/>
                    <a:chExt cx="41400" cy="26640"/>
                  </a:xfrm>
                </p:grpSpPr>
                <p:grpSp>
                  <p:nvGrpSpPr>
                    <p:cNvPr id="1391" name=""/>
                    <p:cNvGrpSpPr/>
                    <p:nvPr/>
                  </p:nvGrpSpPr>
                  <p:grpSpPr>
                    <a:xfrm>
                      <a:off x="7878600" y="2559960"/>
                      <a:ext cx="31680" cy="26640"/>
                      <a:chOff x="7878600" y="2559960"/>
                      <a:chExt cx="31680" cy="26640"/>
                    </a:xfrm>
                  </p:grpSpPr>
                  <p:sp>
                    <p:nvSpPr>
                      <p:cNvPr id="1392" name=""/>
                      <p:cNvSpPr/>
                      <p:nvPr/>
                    </p:nvSpPr>
                    <p:spPr>
                      <a:xfrm>
                        <a:off x="787860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3" name=""/>
                      <p:cNvSpPr/>
                      <p:nvPr/>
                    </p:nvSpPr>
                    <p:spPr>
                      <a:xfrm>
                        <a:off x="788328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94" name=""/>
                    <p:cNvGrpSpPr/>
                    <p:nvPr/>
                  </p:nvGrpSpPr>
                  <p:grpSpPr>
                    <a:xfrm>
                      <a:off x="7887960" y="2559960"/>
                      <a:ext cx="32040" cy="26640"/>
                      <a:chOff x="7887960" y="2559960"/>
                      <a:chExt cx="32040" cy="26640"/>
                    </a:xfrm>
                  </p:grpSpPr>
                  <p:sp>
                    <p:nvSpPr>
                      <p:cNvPr id="1395" name=""/>
                      <p:cNvSpPr/>
                      <p:nvPr/>
                    </p:nvSpPr>
                    <p:spPr>
                      <a:xfrm>
                        <a:off x="788796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6" name=""/>
                      <p:cNvSpPr/>
                      <p:nvPr/>
                    </p:nvSpPr>
                    <p:spPr>
                      <a:xfrm>
                        <a:off x="789300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397" name=""/>
                  <p:cNvGrpSpPr/>
                  <p:nvPr/>
                </p:nvGrpSpPr>
                <p:grpSpPr>
                  <a:xfrm>
                    <a:off x="7897680" y="2559960"/>
                    <a:ext cx="41040" cy="26640"/>
                    <a:chOff x="7897680" y="2559960"/>
                    <a:chExt cx="41040" cy="26640"/>
                  </a:xfrm>
                </p:grpSpPr>
                <p:grpSp>
                  <p:nvGrpSpPr>
                    <p:cNvPr id="1398" name=""/>
                    <p:cNvGrpSpPr/>
                    <p:nvPr/>
                  </p:nvGrpSpPr>
                  <p:grpSpPr>
                    <a:xfrm>
                      <a:off x="7897680" y="2559960"/>
                      <a:ext cx="31680" cy="26640"/>
                      <a:chOff x="7897680" y="2559960"/>
                      <a:chExt cx="31680" cy="26640"/>
                    </a:xfrm>
                  </p:grpSpPr>
                  <p:sp>
                    <p:nvSpPr>
                      <p:cNvPr id="1399" name=""/>
                      <p:cNvSpPr/>
                      <p:nvPr/>
                    </p:nvSpPr>
                    <p:spPr>
                      <a:xfrm>
                        <a:off x="789768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0" name=""/>
                      <p:cNvSpPr/>
                      <p:nvPr/>
                    </p:nvSpPr>
                    <p:spPr>
                      <a:xfrm>
                        <a:off x="790236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401" name=""/>
                    <p:cNvGrpSpPr/>
                    <p:nvPr/>
                  </p:nvGrpSpPr>
                  <p:grpSpPr>
                    <a:xfrm>
                      <a:off x="7908840" y="2559960"/>
                      <a:ext cx="29880" cy="26640"/>
                      <a:chOff x="7908840" y="2559960"/>
                      <a:chExt cx="29880" cy="26640"/>
                    </a:xfrm>
                  </p:grpSpPr>
                  <p:sp>
                    <p:nvSpPr>
                      <p:cNvPr id="1402" name=""/>
                      <p:cNvSpPr/>
                      <p:nvPr/>
                    </p:nvSpPr>
                    <p:spPr>
                      <a:xfrm>
                        <a:off x="790884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3" name=""/>
                      <p:cNvSpPr/>
                      <p:nvPr/>
                    </p:nvSpPr>
                    <p:spPr>
                      <a:xfrm>
                        <a:off x="7911720" y="2559960"/>
                        <a:ext cx="270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16" y="16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1404" name=""/>
              <p:cNvSpPr/>
              <p:nvPr/>
            </p:nvSpPr>
            <p:spPr>
              <a:xfrm>
                <a:off x="7832520" y="2549160"/>
                <a:ext cx="417600" cy="26280"/>
              </a:xfrm>
              <a:custGeom>
                <a:avLst/>
                <a:gdLst/>
                <a:ahLst/>
                <a:rect l="l" t="t" r="r" b="b"/>
                <a:pathLst>
                  <a:path w="263" h="17">
                    <a:moveTo>
                      <a:pt x="0" y="11"/>
                    </a:moveTo>
                    <a:lnTo>
                      <a:pt x="115" y="11"/>
                    </a:lnTo>
                    <a:lnTo>
                      <a:pt x="115" y="0"/>
                    </a:lnTo>
                    <a:lnTo>
                      <a:pt x="133" y="0"/>
                    </a:lnTo>
                    <a:lnTo>
                      <a:pt x="133" y="16"/>
                    </a:lnTo>
                    <a:lnTo>
                      <a:pt x="262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7688160" y="2624040"/>
              <a:ext cx="689040" cy="92880"/>
              <a:chOff x="7688160" y="2624040"/>
              <a:chExt cx="689040" cy="92880"/>
            </a:xfrm>
          </p:grpSpPr>
          <p:grpSp>
            <p:nvGrpSpPr>
              <p:cNvPr id="1406" name=""/>
              <p:cNvGrpSpPr/>
              <p:nvPr/>
            </p:nvGrpSpPr>
            <p:grpSpPr>
              <a:xfrm>
                <a:off x="7688160" y="2624040"/>
                <a:ext cx="689040" cy="92880"/>
                <a:chOff x="7688160" y="2624040"/>
                <a:chExt cx="689040" cy="92880"/>
              </a:xfrm>
            </p:grpSpPr>
            <p:sp>
              <p:nvSpPr>
                <p:cNvPr id="1407" name=""/>
                <p:cNvSpPr/>
                <p:nvPr/>
              </p:nvSpPr>
              <p:spPr>
                <a:xfrm>
                  <a:off x="7694280" y="2704680"/>
                  <a:ext cx="673200" cy="12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688160" y="2624040"/>
                  <a:ext cx="689040" cy="77400"/>
                </a:xfrm>
                <a:custGeom>
                  <a:avLst/>
                  <a:gdLst/>
                  <a:ahLst/>
                  <a:rect l="l" t="t" r="r" b="b"/>
                  <a:pathLst>
                    <a:path w="434" h="49">
                      <a:moveTo>
                        <a:pt x="0" y="48"/>
                      </a:moveTo>
                      <a:lnTo>
                        <a:pt x="433" y="48"/>
                      </a:lnTo>
                      <a:lnTo>
                        <a:pt x="407" y="0"/>
                      </a:lnTo>
                      <a:lnTo>
                        <a:pt x="31" y="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7708680" y="2629800"/>
                  <a:ext cx="644400" cy="60120"/>
                </a:xfrm>
                <a:custGeom>
                  <a:avLst/>
                  <a:gdLst/>
                  <a:ahLst/>
                  <a:rect l="l" t="t" r="r" b="b"/>
                  <a:pathLst>
                    <a:path w="406" h="38">
                      <a:moveTo>
                        <a:pt x="23" y="0"/>
                      </a:moveTo>
                      <a:lnTo>
                        <a:pt x="0" y="37"/>
                      </a:lnTo>
                      <a:lnTo>
                        <a:pt x="405" y="37"/>
                      </a:lnTo>
                      <a:lnTo>
                        <a:pt x="386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7764120" y="2628360"/>
                <a:ext cx="542880" cy="35640"/>
                <a:chOff x="7764120" y="2628360"/>
                <a:chExt cx="542880" cy="3564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7764120" y="2628360"/>
                  <a:ext cx="27000" cy="2664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4" y="0"/>
                      </a:moveTo>
                      <a:lnTo>
                        <a:pt x="16" y="0"/>
                      </a:lnTo>
                      <a:lnTo>
                        <a:pt x="11" y="16"/>
                      </a:lnTo>
                      <a:lnTo>
                        <a:pt x="0" y="16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7816680" y="2628360"/>
                  <a:ext cx="87120" cy="26640"/>
                </a:xfrm>
                <a:custGeom>
                  <a:avLst/>
                  <a:gdLst/>
                  <a:ahLst/>
                  <a:rect l="l" t="t" r="r" b="b"/>
                  <a:pathLst>
                    <a:path w="55" h="17">
                      <a:moveTo>
                        <a:pt x="2" y="0"/>
                      </a:moveTo>
                      <a:lnTo>
                        <a:pt x="54" y="0"/>
                      </a:lnTo>
                      <a:lnTo>
                        <a:pt x="51" y="16"/>
                      </a:lnTo>
                      <a:lnTo>
                        <a:pt x="0" y="16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926120" y="2628360"/>
                  <a:ext cx="82440" cy="26640"/>
                </a:xfrm>
                <a:custGeom>
                  <a:avLst/>
                  <a:gdLst/>
                  <a:ahLst/>
                  <a:rect l="l" t="t" r="r" b="b"/>
                  <a:pathLst>
                    <a:path w="52" h="17">
                      <a:moveTo>
                        <a:pt x="1" y="0"/>
                      </a:moveTo>
                      <a:lnTo>
                        <a:pt x="51" y="0"/>
                      </a:lnTo>
                      <a:lnTo>
                        <a:pt x="50" y="16"/>
                      </a:lnTo>
                      <a:lnTo>
                        <a:pt x="0" y="16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8024760" y="2628360"/>
                  <a:ext cx="83880" cy="26640"/>
                </a:xfrm>
                <a:custGeom>
                  <a:avLst/>
                  <a:gdLst/>
                  <a:ahLst/>
                  <a:rect l="l" t="t" r="r" b="b"/>
                  <a:pathLst>
                    <a:path w="53" h="17">
                      <a:moveTo>
                        <a:pt x="0" y="0"/>
                      </a:moveTo>
                      <a:lnTo>
                        <a:pt x="52" y="0"/>
                      </a:lnTo>
                      <a:lnTo>
                        <a:pt x="52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8124480" y="2629440"/>
                  <a:ext cx="74880" cy="26640"/>
                </a:xfrm>
                <a:custGeom>
                  <a:avLst/>
                  <a:gdLst/>
                  <a:ahLst/>
                  <a:rect l="l" t="t" r="r" b="b"/>
                  <a:pathLst>
                    <a:path w="47" h="17">
                      <a:moveTo>
                        <a:pt x="0" y="0"/>
                      </a:moveTo>
                      <a:lnTo>
                        <a:pt x="44" y="0"/>
                      </a:lnTo>
                      <a:lnTo>
                        <a:pt x="46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215200" y="2637360"/>
                  <a:ext cx="91800" cy="26640"/>
                </a:xfrm>
                <a:custGeom>
                  <a:avLst/>
                  <a:gdLst/>
                  <a:ahLst/>
                  <a:rect l="l" t="t" r="r" b="b"/>
                  <a:pathLst>
                    <a:path w="58" h="17">
                      <a:moveTo>
                        <a:pt x="0" y="0"/>
                      </a:moveTo>
                      <a:lnTo>
                        <a:pt x="51" y="0"/>
                      </a:lnTo>
                      <a:lnTo>
                        <a:pt x="57" y="16"/>
                      </a:lnTo>
                      <a:lnTo>
                        <a:pt x="2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7743600" y="2650680"/>
                <a:ext cx="568440" cy="30960"/>
                <a:chOff x="7743600" y="2650680"/>
                <a:chExt cx="568440" cy="30960"/>
              </a:xfrm>
            </p:grpSpPr>
            <p:grpSp>
              <p:nvGrpSpPr>
                <p:cNvPr id="1418" name=""/>
                <p:cNvGrpSpPr/>
                <p:nvPr/>
              </p:nvGrpSpPr>
              <p:grpSpPr>
                <a:xfrm>
                  <a:off x="7792920" y="2651760"/>
                  <a:ext cx="280800" cy="26640"/>
                  <a:chOff x="7792920" y="2651760"/>
                  <a:chExt cx="280800" cy="26640"/>
                </a:xfrm>
              </p:grpSpPr>
              <p:sp>
                <p:nvSpPr>
                  <p:cNvPr id="1419" name=""/>
                  <p:cNvSpPr/>
                  <p:nvPr/>
                </p:nvSpPr>
                <p:spPr>
                  <a:xfrm>
                    <a:off x="7792920" y="2651760"/>
                    <a:ext cx="2667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>
                    <a:off x="7804080" y="2661120"/>
                    <a:ext cx="269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>
                    <a:off x="7806960" y="2669040"/>
                    <a:ext cx="235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7812000" y="2678400"/>
                    <a:ext cx="31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3" name=""/>
                <p:cNvGrpSpPr/>
                <p:nvPr/>
              </p:nvGrpSpPr>
              <p:grpSpPr>
                <a:xfrm>
                  <a:off x="7743600" y="2655000"/>
                  <a:ext cx="46080" cy="16920"/>
                  <a:chOff x="7743600" y="2655000"/>
                  <a:chExt cx="46080" cy="16920"/>
                </a:xfrm>
              </p:grpSpPr>
              <p:sp>
                <p:nvSpPr>
                  <p:cNvPr id="1424" name=""/>
                  <p:cNvSpPr/>
                  <p:nvPr/>
                </p:nvSpPr>
                <p:spPr>
                  <a:xfrm>
                    <a:off x="7754760" y="2655000"/>
                    <a:ext cx="27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7750080" y="2664000"/>
                    <a:ext cx="25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7743600" y="2671920"/>
                    <a:ext cx="460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7" name=""/>
                <p:cNvGrpSpPr/>
                <p:nvPr/>
              </p:nvGrpSpPr>
              <p:grpSpPr>
                <a:xfrm>
                  <a:off x="7853040" y="2650680"/>
                  <a:ext cx="257400" cy="28080"/>
                  <a:chOff x="7853040" y="2650680"/>
                  <a:chExt cx="257400" cy="2808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7853040" y="2678760"/>
                    <a:ext cx="160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8072280" y="265068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8081640" y="2661480"/>
                    <a:ext cx="28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8061120" y="2669400"/>
                    <a:ext cx="49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>
                    <a:off x="8019720" y="2678760"/>
                    <a:ext cx="25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>
                    <a:off x="8053200" y="2678760"/>
                    <a:ext cx="5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4" name=""/>
                <p:cNvGrpSpPr/>
                <p:nvPr/>
              </p:nvGrpSpPr>
              <p:grpSpPr>
                <a:xfrm>
                  <a:off x="8123040" y="2655000"/>
                  <a:ext cx="81000" cy="25200"/>
                  <a:chOff x="8123040" y="2655000"/>
                  <a:chExt cx="81000" cy="25200"/>
                </a:xfrm>
              </p:grpSpPr>
              <p:sp>
                <p:nvSpPr>
                  <p:cNvPr id="1435" name=""/>
                  <p:cNvSpPr/>
                  <p:nvPr/>
                </p:nvSpPr>
                <p:spPr>
                  <a:xfrm>
                    <a:off x="8123040" y="2655000"/>
                    <a:ext cx="7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8134200" y="2665800"/>
                    <a:ext cx="66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8135640" y="268020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8216640" y="2655000"/>
                  <a:ext cx="95400" cy="26640"/>
                  <a:chOff x="8216640" y="2655000"/>
                  <a:chExt cx="95400" cy="266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8224560" y="2655000"/>
                    <a:ext cx="71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8216640" y="2664000"/>
                    <a:ext cx="58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8224560" y="2671920"/>
                    <a:ext cx="54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8221320" y="268164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8288280" y="2665800"/>
                    <a:ext cx="18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8294400" y="2676960"/>
                    <a:ext cx="1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445" name=""/>
            <p:cNvGrpSpPr/>
            <p:nvPr/>
          </p:nvGrpSpPr>
          <p:grpSpPr>
            <a:xfrm>
              <a:off x="7891200" y="2428560"/>
              <a:ext cx="300240" cy="59400"/>
              <a:chOff x="7891200" y="2428560"/>
              <a:chExt cx="300240" cy="59400"/>
            </a:xfrm>
          </p:grpSpPr>
          <p:grpSp>
            <p:nvGrpSpPr>
              <p:cNvPr id="1446" name=""/>
              <p:cNvGrpSpPr/>
              <p:nvPr/>
            </p:nvGrpSpPr>
            <p:grpSpPr>
              <a:xfrm>
                <a:off x="7891200" y="2449080"/>
                <a:ext cx="300240" cy="38880"/>
                <a:chOff x="7891200" y="2449080"/>
                <a:chExt cx="300240" cy="38880"/>
              </a:xfrm>
            </p:grpSpPr>
            <p:sp>
              <p:nvSpPr>
                <p:cNvPr id="1447" name=""/>
                <p:cNvSpPr/>
                <p:nvPr/>
              </p:nvSpPr>
              <p:spPr>
                <a:xfrm>
                  <a:off x="7891200" y="2449080"/>
                  <a:ext cx="300240" cy="26640"/>
                </a:xfrm>
                <a:custGeom>
                  <a:avLst/>
                  <a:gdLst/>
                  <a:ahLst/>
                  <a:rect l="l" t="t" r="r" b="b"/>
                  <a:pathLst>
                    <a:path w="189" h="17">
                      <a:moveTo>
                        <a:pt x="0" y="16"/>
                      </a:moveTo>
                      <a:lnTo>
                        <a:pt x="188" y="16"/>
                      </a:lnTo>
                      <a:lnTo>
                        <a:pt x="177" y="0"/>
                      </a:lnTo>
                      <a:lnTo>
                        <a:pt x="11" y="0"/>
                      </a:lnTo>
                      <a:lnTo>
                        <a:pt x="0" y="16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895880" y="2475720"/>
                  <a:ext cx="284400" cy="1224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9" name=""/>
              <p:cNvSpPr/>
              <p:nvPr/>
            </p:nvSpPr>
            <p:spPr>
              <a:xfrm>
                <a:off x="7959600" y="2428560"/>
                <a:ext cx="160200" cy="41040"/>
              </a:xfrm>
              <a:custGeom>
                <a:avLst/>
                <a:gdLst/>
                <a:ahLst/>
                <a:rect l="l" t="t" r="r" b="b"/>
                <a:pathLst>
                  <a:path w="101" h="26">
                    <a:moveTo>
                      <a:pt x="0" y="14"/>
                    </a:moveTo>
                    <a:lnTo>
                      <a:pt x="0" y="0"/>
                    </a:lnTo>
                    <a:lnTo>
                      <a:pt x="100" y="0"/>
                    </a:lnTo>
                    <a:lnTo>
                      <a:pt x="100" y="14"/>
                    </a:lnTo>
                    <a:lnTo>
                      <a:pt x="99" y="15"/>
                    </a:lnTo>
                    <a:lnTo>
                      <a:pt x="98" y="16"/>
                    </a:lnTo>
                    <a:lnTo>
                      <a:pt x="96" y="18"/>
                    </a:lnTo>
                    <a:lnTo>
                      <a:pt x="94" y="19"/>
                    </a:lnTo>
                    <a:lnTo>
                      <a:pt x="91" y="20"/>
                    </a:lnTo>
                    <a:lnTo>
                      <a:pt x="89" y="21"/>
                    </a:lnTo>
                    <a:lnTo>
                      <a:pt x="85" y="21"/>
                    </a:lnTo>
                    <a:lnTo>
                      <a:pt x="82" y="22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69" y="24"/>
                    </a:lnTo>
                    <a:lnTo>
                      <a:pt x="64" y="24"/>
                    </a:lnTo>
                    <a:lnTo>
                      <a:pt x="60" y="24"/>
                    </a:lnTo>
                    <a:lnTo>
                      <a:pt x="54" y="25"/>
                    </a:lnTo>
                    <a:lnTo>
                      <a:pt x="47" y="25"/>
                    </a:lnTo>
                    <a:lnTo>
                      <a:pt x="40" y="24"/>
                    </a:lnTo>
                    <a:lnTo>
                      <a:pt x="34" y="24"/>
                    </a:lnTo>
                    <a:lnTo>
                      <a:pt x="29" y="24"/>
                    </a:lnTo>
                    <a:lnTo>
                      <a:pt x="24" y="23"/>
                    </a:lnTo>
                    <a:lnTo>
                      <a:pt x="21" y="23"/>
                    </a:lnTo>
                    <a:lnTo>
                      <a:pt x="16" y="22"/>
                    </a:lnTo>
                    <a:lnTo>
                      <a:pt x="12" y="21"/>
                    </a:lnTo>
                    <a:lnTo>
                      <a:pt x="9" y="20"/>
                    </a:lnTo>
                    <a:lnTo>
                      <a:pt x="6" y="19"/>
                    </a:lnTo>
                    <a:lnTo>
                      <a:pt x="4" y="18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0" name=""/>
            <p:cNvSpPr/>
            <p:nvPr/>
          </p:nvSpPr>
          <p:spPr>
            <a:xfrm>
              <a:off x="7859520" y="2176560"/>
              <a:ext cx="357120" cy="25380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900920" y="2206440"/>
              <a:ext cx="274320" cy="19476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16760" y="2217600"/>
              <a:ext cx="242640" cy="171000"/>
            </a:xfrm>
            <a:prstGeom prst="roundRect">
              <a:avLst>
                <a:gd name="adj" fmla="val 12231"/>
              </a:avLst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169120" y="2428560"/>
              <a:ext cx="12600" cy="12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4" name=""/>
          <p:cNvSpPr/>
          <p:nvPr/>
        </p:nvSpPr>
        <p:spPr>
          <a:xfrm>
            <a:off x="7010280" y="1371600"/>
            <a:ext cx="1874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 Line and Circuit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of of SLA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739960" y="1420920"/>
            <a:ext cx="29494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less Fabric Switch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 data loss even during fail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873680" y="3909960"/>
            <a:ext cx="536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721400" y="4214880"/>
            <a:ext cx="688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854600" y="3878280"/>
            <a:ext cx="63360" cy="63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702320" y="4183200"/>
            <a:ext cx="63360" cy="63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105520" y="3801960"/>
            <a:ext cx="3809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Protection Switching (APS) Across C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covery from fiber cuts in less than 10 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257800" y="3909960"/>
            <a:ext cx="0" cy="304920"/>
          </a:xfrm>
          <a:prstGeom prst="line">
            <a:avLst/>
          </a:prstGeom>
          <a:ln w="12600">
            <a:solidFill>
              <a:srgbClr val="af4d31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65240" y="601992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vailability means more than redundant power supplies and cooling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2779920" y="2783880"/>
            <a:ext cx="775080" cy="2148480"/>
            <a:chOff x="2779920" y="2783880"/>
            <a:chExt cx="775080" cy="2148480"/>
          </a:xfrm>
        </p:grpSpPr>
        <p:sp>
          <p:nvSpPr>
            <p:cNvPr id="1464" name=""/>
            <p:cNvSpPr/>
            <p:nvPr/>
          </p:nvSpPr>
          <p:spPr>
            <a:xfrm flipH="1" rot="16200000">
              <a:off x="2017800" y="3573360"/>
              <a:ext cx="2120760" cy="596880"/>
            </a:xfrm>
            <a:prstGeom prst="parallelogram">
              <a:avLst>
                <a:gd name="adj" fmla="val 8881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rot="16200000">
              <a:off x="2190600" y="3562200"/>
              <a:ext cx="2120760" cy="596880"/>
            </a:xfrm>
            <a:prstGeom prst="parallelogram">
              <a:avLst>
                <a:gd name="adj" fmla="val 8881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 rot="16200000">
              <a:off x="2816640" y="4297320"/>
              <a:ext cx="635040" cy="215640"/>
            </a:xfrm>
            <a:prstGeom prst="parallelogram">
              <a:avLst>
                <a:gd name="adj" fmla="val 86561"/>
              </a:avLst>
            </a:prstGeom>
            <a:solidFill>
              <a:srgbClr val="00df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799000" y="3344760"/>
              <a:ext cx="139680" cy="1587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rot="19260000">
              <a:off x="2738160" y="3048120"/>
              <a:ext cx="879480" cy="111600"/>
            </a:xfrm>
            <a:prstGeom prst="parallelogram">
              <a:avLst>
                <a:gd name="adj" fmla="val 8504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285840" y="3676680"/>
            <a:ext cx="2514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Signa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liminates a single point of fail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85840" y="2185920"/>
            <a:ext cx="3162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Software Upgr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inimizes disruption of user data during software re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1" name=""/>
          <p:cNvGrpSpPr/>
          <p:nvPr/>
        </p:nvGrpSpPr>
        <p:grpSpPr>
          <a:xfrm>
            <a:off x="5029200" y="2244600"/>
            <a:ext cx="2952720" cy="1671840"/>
            <a:chOff x="5029200" y="2244600"/>
            <a:chExt cx="2952720" cy="1671840"/>
          </a:xfrm>
        </p:grpSpPr>
        <p:sp>
          <p:nvSpPr>
            <p:cNvPr id="1472" name=""/>
            <p:cNvSpPr/>
            <p:nvPr/>
          </p:nvSpPr>
          <p:spPr>
            <a:xfrm>
              <a:off x="5029200" y="2587680"/>
              <a:ext cx="2952720" cy="9860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5403240" y="2244600"/>
              <a:ext cx="2203200" cy="1671840"/>
              <a:chOff x="5403240" y="2244600"/>
              <a:chExt cx="2203200" cy="1671840"/>
            </a:xfrm>
          </p:grpSpPr>
          <p:sp>
            <p:nvSpPr>
              <p:cNvPr id="1474" name=""/>
              <p:cNvSpPr/>
              <p:nvPr/>
            </p:nvSpPr>
            <p:spPr>
              <a:xfrm>
                <a:off x="5971680" y="2244600"/>
                <a:ext cx="1066320" cy="1671840"/>
              </a:xfrm>
              <a:prstGeom prst="ellips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5" name=""/>
              <p:cNvGrpSpPr/>
              <p:nvPr/>
            </p:nvGrpSpPr>
            <p:grpSpPr>
              <a:xfrm>
                <a:off x="5403240" y="2452680"/>
                <a:ext cx="2203200" cy="1255320"/>
                <a:chOff x="5403240" y="2452680"/>
                <a:chExt cx="2203200" cy="12553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5403240" y="2452680"/>
                  <a:ext cx="1233360" cy="1255320"/>
                </a:xfrm>
                <a:prstGeom prst="ellipse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373080" y="2452680"/>
                  <a:ext cx="1233360" cy="1255320"/>
                </a:xfrm>
                <a:prstGeom prst="ellipse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78" name=""/>
          <p:cNvSpPr/>
          <p:nvPr/>
        </p:nvSpPr>
        <p:spPr>
          <a:xfrm>
            <a:off x="4991040" y="2795760"/>
            <a:ext cx="3048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Traffic Priorit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ritical statistics are delivered even under heavy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03400" y="5060880"/>
            <a:ext cx="45910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routing and Priority Rero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outes around failures for uninterrupted service deli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Universal Line Card Design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63680" y="4197240"/>
            <a:ext cx="1130040" cy="1435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143000" y="3733920"/>
            <a:ext cx="915840" cy="2363760"/>
          </a:xfrm>
          <a:custGeom>
            <a:avLst/>
            <a:gdLst/>
            <a:ahLst/>
            <a:rect l="l" t="t" r="r" b="b"/>
            <a:pathLst>
              <a:path w="577" h="1489">
                <a:moveTo>
                  <a:pt x="0" y="576"/>
                </a:moveTo>
                <a:lnTo>
                  <a:pt x="0" y="1488"/>
                </a:lnTo>
                <a:lnTo>
                  <a:pt x="576" y="912"/>
                </a:lnTo>
                <a:lnTo>
                  <a:pt x="576" y="0"/>
                </a:lnTo>
                <a:lnTo>
                  <a:pt x="0" y="576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456480" y="4267080"/>
            <a:ext cx="93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.5 Gb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606680" y="4197240"/>
            <a:ext cx="520560" cy="143532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569960" y="4335480"/>
            <a:ext cx="634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-48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-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3680" y="1911240"/>
            <a:ext cx="1130040" cy="14353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143000" y="1447920"/>
            <a:ext cx="915840" cy="2363760"/>
          </a:xfrm>
          <a:custGeom>
            <a:avLst/>
            <a:gdLst/>
            <a:ahLst/>
            <a:rect l="l" t="t" r="r" b="b"/>
            <a:pathLst>
              <a:path w="577" h="1489">
                <a:moveTo>
                  <a:pt x="0" y="576"/>
                </a:moveTo>
                <a:lnTo>
                  <a:pt x="0" y="1488"/>
                </a:lnTo>
                <a:lnTo>
                  <a:pt x="576" y="912"/>
                </a:lnTo>
                <a:lnTo>
                  <a:pt x="576" y="0"/>
                </a:lnTo>
                <a:lnTo>
                  <a:pt x="0" y="576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758960" y="2521080"/>
            <a:ext cx="444600" cy="6728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758960" y="1758960"/>
            <a:ext cx="44460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56480" y="1905120"/>
            <a:ext cx="931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.5 Gb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976040" y="29638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976040" y="220176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54040" y="2063880"/>
            <a:ext cx="444600" cy="67284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54040" y="2825640"/>
            <a:ext cx="444600" cy="6732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366920" y="2049480"/>
            <a:ext cx="597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u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71120" y="326880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671120" y="2506680"/>
            <a:ext cx="255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315200" y="1527120"/>
            <a:ext cx="17524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819520" y="1527120"/>
            <a:ext cx="632448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4520" indent="-344520">
              <a:lnSpc>
                <a:spcPct val="95000"/>
              </a:lnSpc>
              <a:spcBef>
                <a:spcPts val="1687"/>
              </a:spcBef>
              <a:buClr>
                <a:srgbClr val="660066"/>
              </a:buClr>
              <a:buSzPct val="80000"/>
              <a:buFont typeface="ZapfDingba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-plane architect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880" indent="-219240">
              <a:lnSpc>
                <a:spcPct val="95000"/>
              </a:lnSpc>
              <a:spcBef>
                <a:spcPts val="1774"/>
              </a:spcBef>
              <a:buClr>
                <a:srgbClr val="660066"/>
              </a:buClr>
              <a:buSzPct val="80000"/>
              <a:buFont typeface="ZapfDingbats" charset="2"/>
              <a:buChar char="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parates ATM cell processing, SVC processing, and VC routing from SONET/SDH framing and connect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880" indent="-219240">
              <a:lnSpc>
                <a:spcPct val="95000"/>
              </a:lnSpc>
              <a:spcBef>
                <a:spcPts val="1774"/>
              </a:spcBef>
              <a:buClr>
                <a:srgbClr val="660066"/>
              </a:buClr>
              <a:buSzPct val="80000"/>
              <a:buFont typeface="ZapfDingbats" charset="2"/>
              <a:buChar char="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xternal cabling is untouch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5000"/>
              </a:lnSpc>
              <a:spcBef>
                <a:spcPts val="1874"/>
              </a:spcBef>
              <a:buClr>
                <a:srgbClr val="660066"/>
              </a:buClr>
              <a:buSzPct val="80000"/>
              <a:buFont typeface="ZapfDingba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 I/O is PHY-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880" indent="-219240">
              <a:lnSpc>
                <a:spcPct val="95000"/>
              </a:lnSpc>
              <a:spcBef>
                <a:spcPts val="1774"/>
              </a:spcBef>
              <a:buClr>
                <a:srgbClr val="660066"/>
              </a:buClr>
              <a:buSzPct val="80000"/>
              <a:buFont typeface="ZapfDingbats" charset="2"/>
              <a:buChar char="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upports any mix of OC-3/STM-1, OC-12/STM-4, and OC-48/STM-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lnSpc>
                <a:spcPct val="95000"/>
              </a:lnSpc>
              <a:spcBef>
                <a:spcPts val="1874"/>
              </a:spcBef>
              <a:buClr>
                <a:srgbClr val="660066"/>
              </a:buClr>
              <a:buSzPct val="80000"/>
              <a:buFont typeface="ZapfDingbats" charset="2"/>
              <a:buChar char="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al port architect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7880" indent="-219240">
              <a:lnSpc>
                <a:spcPct val="95000"/>
              </a:lnSpc>
              <a:spcBef>
                <a:spcPts val="1774"/>
              </a:spcBef>
              <a:buClr>
                <a:srgbClr val="660066"/>
              </a:buClr>
              <a:buSzPct val="80000"/>
              <a:buFont typeface="ZapfDingbats" charset="2"/>
              <a:buChar char=""/>
              <a:tabLst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vides software independent per-port configuration (UNI, BICI, PNNI, etc.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/>
          <p:nvPr/>
        </p:nvSpPr>
        <p:spPr>
          <a:xfrm rot="20579400">
            <a:off x="1143000" y="3266640"/>
            <a:ext cx="137160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X 550 New Application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M In The Infra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048280" y="2944800"/>
            <a:ext cx="109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5791320" y="1825560"/>
            <a:ext cx="3154320" cy="2270160"/>
          </a:xfrm>
          <a:custGeom>
            <a:avLst/>
            <a:gdLst/>
            <a:ahLst/>
            <a:rect l="l" t="t" r="r" b="b"/>
            <a:pathLst>
              <a:path w="5025" h="3103">
                <a:moveTo>
                  <a:pt x="737" y="2301"/>
                </a:moveTo>
                <a:lnTo>
                  <a:pt x="798" y="2429"/>
                </a:lnTo>
                <a:lnTo>
                  <a:pt x="866" y="2548"/>
                </a:lnTo>
                <a:lnTo>
                  <a:pt x="942" y="2659"/>
                </a:lnTo>
                <a:lnTo>
                  <a:pt x="1032" y="2758"/>
                </a:lnTo>
                <a:lnTo>
                  <a:pt x="1124" y="2847"/>
                </a:lnTo>
                <a:lnTo>
                  <a:pt x="1223" y="2924"/>
                </a:lnTo>
                <a:lnTo>
                  <a:pt x="1322" y="2984"/>
                </a:lnTo>
                <a:lnTo>
                  <a:pt x="1433" y="3033"/>
                </a:lnTo>
                <a:lnTo>
                  <a:pt x="1545" y="3072"/>
                </a:lnTo>
                <a:lnTo>
                  <a:pt x="1653" y="3091"/>
                </a:lnTo>
                <a:lnTo>
                  <a:pt x="1766" y="3102"/>
                </a:lnTo>
                <a:lnTo>
                  <a:pt x="1884" y="3091"/>
                </a:lnTo>
                <a:lnTo>
                  <a:pt x="1995" y="3072"/>
                </a:lnTo>
                <a:lnTo>
                  <a:pt x="2110" y="3039"/>
                </a:lnTo>
                <a:lnTo>
                  <a:pt x="2214" y="2988"/>
                </a:lnTo>
                <a:lnTo>
                  <a:pt x="2315" y="2924"/>
                </a:lnTo>
                <a:lnTo>
                  <a:pt x="2421" y="2847"/>
                </a:lnTo>
                <a:lnTo>
                  <a:pt x="2509" y="2762"/>
                </a:lnTo>
                <a:lnTo>
                  <a:pt x="2601" y="2847"/>
                </a:lnTo>
                <a:lnTo>
                  <a:pt x="2700" y="2924"/>
                </a:lnTo>
                <a:lnTo>
                  <a:pt x="2806" y="2988"/>
                </a:lnTo>
                <a:lnTo>
                  <a:pt x="2912" y="3039"/>
                </a:lnTo>
                <a:lnTo>
                  <a:pt x="3022" y="3072"/>
                </a:lnTo>
                <a:lnTo>
                  <a:pt x="3137" y="3091"/>
                </a:lnTo>
                <a:lnTo>
                  <a:pt x="3249" y="3102"/>
                </a:lnTo>
                <a:lnTo>
                  <a:pt x="3364" y="3091"/>
                </a:lnTo>
                <a:lnTo>
                  <a:pt x="3477" y="3072"/>
                </a:lnTo>
                <a:lnTo>
                  <a:pt x="3587" y="3033"/>
                </a:lnTo>
                <a:lnTo>
                  <a:pt x="3695" y="2984"/>
                </a:lnTo>
                <a:lnTo>
                  <a:pt x="3799" y="2924"/>
                </a:lnTo>
                <a:lnTo>
                  <a:pt x="3897" y="2847"/>
                </a:lnTo>
                <a:lnTo>
                  <a:pt x="3989" y="2758"/>
                </a:lnTo>
                <a:lnTo>
                  <a:pt x="4073" y="2659"/>
                </a:lnTo>
                <a:lnTo>
                  <a:pt x="4152" y="2548"/>
                </a:lnTo>
                <a:lnTo>
                  <a:pt x="4224" y="2429"/>
                </a:lnTo>
                <a:lnTo>
                  <a:pt x="4280" y="2301"/>
                </a:lnTo>
                <a:lnTo>
                  <a:pt x="4356" y="2320"/>
                </a:lnTo>
                <a:lnTo>
                  <a:pt x="4438" y="2326"/>
                </a:lnTo>
                <a:lnTo>
                  <a:pt x="4516" y="2315"/>
                </a:lnTo>
                <a:lnTo>
                  <a:pt x="4586" y="2297"/>
                </a:lnTo>
                <a:lnTo>
                  <a:pt x="4658" y="2264"/>
                </a:lnTo>
                <a:lnTo>
                  <a:pt x="4728" y="2217"/>
                </a:lnTo>
                <a:lnTo>
                  <a:pt x="4793" y="2164"/>
                </a:lnTo>
                <a:lnTo>
                  <a:pt x="4850" y="2093"/>
                </a:lnTo>
                <a:lnTo>
                  <a:pt x="4904" y="2021"/>
                </a:lnTo>
                <a:lnTo>
                  <a:pt x="4946" y="1938"/>
                </a:lnTo>
                <a:lnTo>
                  <a:pt x="4975" y="1843"/>
                </a:lnTo>
                <a:lnTo>
                  <a:pt x="5003" y="1749"/>
                </a:lnTo>
                <a:lnTo>
                  <a:pt x="5017" y="1649"/>
                </a:lnTo>
                <a:lnTo>
                  <a:pt x="5024" y="1548"/>
                </a:lnTo>
                <a:lnTo>
                  <a:pt x="5017" y="1451"/>
                </a:lnTo>
                <a:lnTo>
                  <a:pt x="5003" y="1351"/>
                </a:lnTo>
                <a:lnTo>
                  <a:pt x="4975" y="1254"/>
                </a:lnTo>
                <a:lnTo>
                  <a:pt x="4946" y="1160"/>
                </a:lnTo>
                <a:lnTo>
                  <a:pt x="4904" y="1077"/>
                </a:lnTo>
                <a:lnTo>
                  <a:pt x="4850" y="1004"/>
                </a:lnTo>
                <a:lnTo>
                  <a:pt x="4793" y="935"/>
                </a:lnTo>
                <a:lnTo>
                  <a:pt x="4728" y="878"/>
                </a:lnTo>
                <a:lnTo>
                  <a:pt x="4658" y="835"/>
                </a:lnTo>
                <a:lnTo>
                  <a:pt x="4586" y="801"/>
                </a:lnTo>
                <a:lnTo>
                  <a:pt x="4516" y="782"/>
                </a:lnTo>
                <a:lnTo>
                  <a:pt x="4438" y="775"/>
                </a:lnTo>
                <a:lnTo>
                  <a:pt x="4356" y="776"/>
                </a:lnTo>
                <a:lnTo>
                  <a:pt x="4280" y="797"/>
                </a:lnTo>
                <a:lnTo>
                  <a:pt x="4224" y="669"/>
                </a:lnTo>
                <a:lnTo>
                  <a:pt x="4152" y="551"/>
                </a:lnTo>
                <a:lnTo>
                  <a:pt x="4073" y="441"/>
                </a:lnTo>
                <a:lnTo>
                  <a:pt x="3989" y="339"/>
                </a:lnTo>
                <a:lnTo>
                  <a:pt x="3897" y="251"/>
                </a:lnTo>
                <a:lnTo>
                  <a:pt x="3799" y="176"/>
                </a:lnTo>
                <a:lnTo>
                  <a:pt x="3695" y="113"/>
                </a:lnTo>
                <a:lnTo>
                  <a:pt x="3587" y="63"/>
                </a:lnTo>
                <a:lnTo>
                  <a:pt x="3477" y="25"/>
                </a:lnTo>
                <a:lnTo>
                  <a:pt x="3364" y="4"/>
                </a:lnTo>
                <a:lnTo>
                  <a:pt x="3249" y="0"/>
                </a:lnTo>
                <a:lnTo>
                  <a:pt x="3137" y="4"/>
                </a:lnTo>
                <a:lnTo>
                  <a:pt x="3022" y="25"/>
                </a:lnTo>
                <a:lnTo>
                  <a:pt x="2912" y="59"/>
                </a:lnTo>
                <a:lnTo>
                  <a:pt x="2806" y="108"/>
                </a:lnTo>
                <a:lnTo>
                  <a:pt x="2700" y="176"/>
                </a:lnTo>
                <a:lnTo>
                  <a:pt x="2601" y="250"/>
                </a:lnTo>
                <a:lnTo>
                  <a:pt x="2509" y="338"/>
                </a:lnTo>
                <a:lnTo>
                  <a:pt x="2421" y="250"/>
                </a:lnTo>
                <a:lnTo>
                  <a:pt x="2315" y="176"/>
                </a:lnTo>
                <a:lnTo>
                  <a:pt x="2214" y="108"/>
                </a:lnTo>
                <a:lnTo>
                  <a:pt x="2110" y="59"/>
                </a:lnTo>
                <a:lnTo>
                  <a:pt x="1995" y="25"/>
                </a:lnTo>
                <a:lnTo>
                  <a:pt x="1884" y="4"/>
                </a:lnTo>
                <a:lnTo>
                  <a:pt x="1766" y="0"/>
                </a:lnTo>
                <a:lnTo>
                  <a:pt x="1653" y="4"/>
                </a:lnTo>
                <a:lnTo>
                  <a:pt x="1545" y="25"/>
                </a:lnTo>
                <a:lnTo>
                  <a:pt x="1433" y="63"/>
                </a:lnTo>
                <a:lnTo>
                  <a:pt x="1322" y="113"/>
                </a:lnTo>
                <a:lnTo>
                  <a:pt x="1223" y="176"/>
                </a:lnTo>
                <a:lnTo>
                  <a:pt x="1124" y="251"/>
                </a:lnTo>
                <a:lnTo>
                  <a:pt x="1032" y="339"/>
                </a:lnTo>
                <a:lnTo>
                  <a:pt x="942" y="441"/>
                </a:lnTo>
                <a:lnTo>
                  <a:pt x="866" y="551"/>
                </a:lnTo>
                <a:lnTo>
                  <a:pt x="798" y="669"/>
                </a:lnTo>
                <a:lnTo>
                  <a:pt x="737" y="797"/>
                </a:lnTo>
                <a:lnTo>
                  <a:pt x="665" y="776"/>
                </a:lnTo>
                <a:lnTo>
                  <a:pt x="586" y="775"/>
                </a:lnTo>
                <a:lnTo>
                  <a:pt x="510" y="782"/>
                </a:lnTo>
                <a:lnTo>
                  <a:pt x="435" y="801"/>
                </a:lnTo>
                <a:lnTo>
                  <a:pt x="364" y="835"/>
                </a:lnTo>
                <a:lnTo>
                  <a:pt x="292" y="878"/>
                </a:lnTo>
                <a:lnTo>
                  <a:pt x="228" y="935"/>
                </a:lnTo>
                <a:lnTo>
                  <a:pt x="172" y="1004"/>
                </a:lnTo>
                <a:lnTo>
                  <a:pt x="118" y="1077"/>
                </a:lnTo>
                <a:lnTo>
                  <a:pt x="75" y="1160"/>
                </a:lnTo>
                <a:lnTo>
                  <a:pt x="42" y="1254"/>
                </a:lnTo>
                <a:lnTo>
                  <a:pt x="19" y="1351"/>
                </a:lnTo>
                <a:lnTo>
                  <a:pt x="5" y="1451"/>
                </a:lnTo>
                <a:lnTo>
                  <a:pt x="0" y="1548"/>
                </a:lnTo>
                <a:lnTo>
                  <a:pt x="5" y="1649"/>
                </a:lnTo>
                <a:lnTo>
                  <a:pt x="19" y="1749"/>
                </a:lnTo>
                <a:lnTo>
                  <a:pt x="42" y="1843"/>
                </a:lnTo>
                <a:lnTo>
                  <a:pt x="75" y="1938"/>
                </a:lnTo>
                <a:lnTo>
                  <a:pt x="118" y="2021"/>
                </a:lnTo>
                <a:lnTo>
                  <a:pt x="172" y="2093"/>
                </a:lnTo>
                <a:lnTo>
                  <a:pt x="228" y="2164"/>
                </a:lnTo>
                <a:lnTo>
                  <a:pt x="292" y="2217"/>
                </a:lnTo>
                <a:lnTo>
                  <a:pt x="364" y="2264"/>
                </a:lnTo>
                <a:lnTo>
                  <a:pt x="435" y="2297"/>
                </a:lnTo>
                <a:lnTo>
                  <a:pt x="510" y="2315"/>
                </a:lnTo>
                <a:lnTo>
                  <a:pt x="586" y="2326"/>
                </a:lnTo>
                <a:lnTo>
                  <a:pt x="665" y="2320"/>
                </a:lnTo>
                <a:lnTo>
                  <a:pt x="737" y="2301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133720" y="1863720"/>
            <a:ext cx="3154320" cy="2270160"/>
          </a:xfrm>
          <a:custGeom>
            <a:avLst/>
            <a:gdLst/>
            <a:ahLst/>
            <a:rect l="l" t="t" r="r" b="b"/>
            <a:pathLst>
              <a:path w="5025" h="3103">
                <a:moveTo>
                  <a:pt x="737" y="2301"/>
                </a:moveTo>
                <a:lnTo>
                  <a:pt x="798" y="2429"/>
                </a:lnTo>
                <a:lnTo>
                  <a:pt x="866" y="2548"/>
                </a:lnTo>
                <a:lnTo>
                  <a:pt x="942" y="2659"/>
                </a:lnTo>
                <a:lnTo>
                  <a:pt x="1032" y="2758"/>
                </a:lnTo>
                <a:lnTo>
                  <a:pt x="1124" y="2847"/>
                </a:lnTo>
                <a:lnTo>
                  <a:pt x="1223" y="2924"/>
                </a:lnTo>
                <a:lnTo>
                  <a:pt x="1322" y="2984"/>
                </a:lnTo>
                <a:lnTo>
                  <a:pt x="1433" y="3033"/>
                </a:lnTo>
                <a:lnTo>
                  <a:pt x="1545" y="3072"/>
                </a:lnTo>
                <a:lnTo>
                  <a:pt x="1653" y="3091"/>
                </a:lnTo>
                <a:lnTo>
                  <a:pt x="1766" y="3102"/>
                </a:lnTo>
                <a:lnTo>
                  <a:pt x="1884" y="3091"/>
                </a:lnTo>
                <a:lnTo>
                  <a:pt x="1995" y="3072"/>
                </a:lnTo>
                <a:lnTo>
                  <a:pt x="2110" y="3039"/>
                </a:lnTo>
                <a:lnTo>
                  <a:pt x="2214" y="2988"/>
                </a:lnTo>
                <a:lnTo>
                  <a:pt x="2315" y="2924"/>
                </a:lnTo>
                <a:lnTo>
                  <a:pt x="2421" y="2847"/>
                </a:lnTo>
                <a:lnTo>
                  <a:pt x="2509" y="2762"/>
                </a:lnTo>
                <a:lnTo>
                  <a:pt x="2601" y="2847"/>
                </a:lnTo>
                <a:lnTo>
                  <a:pt x="2700" y="2924"/>
                </a:lnTo>
                <a:lnTo>
                  <a:pt x="2806" y="2988"/>
                </a:lnTo>
                <a:lnTo>
                  <a:pt x="2912" y="3039"/>
                </a:lnTo>
                <a:lnTo>
                  <a:pt x="3022" y="3072"/>
                </a:lnTo>
                <a:lnTo>
                  <a:pt x="3137" y="3091"/>
                </a:lnTo>
                <a:lnTo>
                  <a:pt x="3249" y="3102"/>
                </a:lnTo>
                <a:lnTo>
                  <a:pt x="3364" y="3091"/>
                </a:lnTo>
                <a:lnTo>
                  <a:pt x="3477" y="3072"/>
                </a:lnTo>
                <a:lnTo>
                  <a:pt x="3587" y="3033"/>
                </a:lnTo>
                <a:lnTo>
                  <a:pt x="3695" y="2984"/>
                </a:lnTo>
                <a:lnTo>
                  <a:pt x="3799" y="2924"/>
                </a:lnTo>
                <a:lnTo>
                  <a:pt x="3897" y="2847"/>
                </a:lnTo>
                <a:lnTo>
                  <a:pt x="3989" y="2758"/>
                </a:lnTo>
                <a:lnTo>
                  <a:pt x="4073" y="2659"/>
                </a:lnTo>
                <a:lnTo>
                  <a:pt x="4152" y="2548"/>
                </a:lnTo>
                <a:lnTo>
                  <a:pt x="4224" y="2429"/>
                </a:lnTo>
                <a:lnTo>
                  <a:pt x="4280" y="2301"/>
                </a:lnTo>
                <a:lnTo>
                  <a:pt x="4356" y="2320"/>
                </a:lnTo>
                <a:lnTo>
                  <a:pt x="4438" y="2326"/>
                </a:lnTo>
                <a:lnTo>
                  <a:pt x="4516" y="2315"/>
                </a:lnTo>
                <a:lnTo>
                  <a:pt x="4586" y="2297"/>
                </a:lnTo>
                <a:lnTo>
                  <a:pt x="4658" y="2264"/>
                </a:lnTo>
                <a:lnTo>
                  <a:pt x="4728" y="2217"/>
                </a:lnTo>
                <a:lnTo>
                  <a:pt x="4793" y="2164"/>
                </a:lnTo>
                <a:lnTo>
                  <a:pt x="4850" y="2093"/>
                </a:lnTo>
                <a:lnTo>
                  <a:pt x="4904" y="2021"/>
                </a:lnTo>
                <a:lnTo>
                  <a:pt x="4946" y="1938"/>
                </a:lnTo>
                <a:lnTo>
                  <a:pt x="4975" y="1843"/>
                </a:lnTo>
                <a:lnTo>
                  <a:pt x="5003" y="1749"/>
                </a:lnTo>
                <a:lnTo>
                  <a:pt x="5017" y="1649"/>
                </a:lnTo>
                <a:lnTo>
                  <a:pt x="5024" y="1548"/>
                </a:lnTo>
                <a:lnTo>
                  <a:pt x="5017" y="1451"/>
                </a:lnTo>
                <a:lnTo>
                  <a:pt x="5003" y="1351"/>
                </a:lnTo>
                <a:lnTo>
                  <a:pt x="4975" y="1254"/>
                </a:lnTo>
                <a:lnTo>
                  <a:pt x="4946" y="1160"/>
                </a:lnTo>
                <a:lnTo>
                  <a:pt x="4904" y="1077"/>
                </a:lnTo>
                <a:lnTo>
                  <a:pt x="4850" y="1004"/>
                </a:lnTo>
                <a:lnTo>
                  <a:pt x="4793" y="935"/>
                </a:lnTo>
                <a:lnTo>
                  <a:pt x="4728" y="878"/>
                </a:lnTo>
                <a:lnTo>
                  <a:pt x="4658" y="835"/>
                </a:lnTo>
                <a:lnTo>
                  <a:pt x="4586" y="801"/>
                </a:lnTo>
                <a:lnTo>
                  <a:pt x="4516" y="782"/>
                </a:lnTo>
                <a:lnTo>
                  <a:pt x="4438" y="775"/>
                </a:lnTo>
                <a:lnTo>
                  <a:pt x="4356" y="776"/>
                </a:lnTo>
                <a:lnTo>
                  <a:pt x="4280" y="797"/>
                </a:lnTo>
                <a:lnTo>
                  <a:pt x="4224" y="669"/>
                </a:lnTo>
                <a:lnTo>
                  <a:pt x="4152" y="551"/>
                </a:lnTo>
                <a:lnTo>
                  <a:pt x="4073" y="441"/>
                </a:lnTo>
                <a:lnTo>
                  <a:pt x="3989" y="339"/>
                </a:lnTo>
                <a:lnTo>
                  <a:pt x="3897" y="251"/>
                </a:lnTo>
                <a:lnTo>
                  <a:pt x="3799" y="176"/>
                </a:lnTo>
                <a:lnTo>
                  <a:pt x="3695" y="113"/>
                </a:lnTo>
                <a:lnTo>
                  <a:pt x="3587" y="63"/>
                </a:lnTo>
                <a:lnTo>
                  <a:pt x="3477" y="25"/>
                </a:lnTo>
                <a:lnTo>
                  <a:pt x="3364" y="4"/>
                </a:lnTo>
                <a:lnTo>
                  <a:pt x="3249" y="0"/>
                </a:lnTo>
                <a:lnTo>
                  <a:pt x="3137" y="4"/>
                </a:lnTo>
                <a:lnTo>
                  <a:pt x="3022" y="25"/>
                </a:lnTo>
                <a:lnTo>
                  <a:pt x="2912" y="59"/>
                </a:lnTo>
                <a:lnTo>
                  <a:pt x="2806" y="108"/>
                </a:lnTo>
                <a:lnTo>
                  <a:pt x="2700" y="176"/>
                </a:lnTo>
                <a:lnTo>
                  <a:pt x="2601" y="250"/>
                </a:lnTo>
                <a:lnTo>
                  <a:pt x="2509" y="338"/>
                </a:lnTo>
                <a:lnTo>
                  <a:pt x="2421" y="250"/>
                </a:lnTo>
                <a:lnTo>
                  <a:pt x="2315" y="176"/>
                </a:lnTo>
                <a:lnTo>
                  <a:pt x="2214" y="108"/>
                </a:lnTo>
                <a:lnTo>
                  <a:pt x="2110" y="59"/>
                </a:lnTo>
                <a:lnTo>
                  <a:pt x="1995" y="25"/>
                </a:lnTo>
                <a:lnTo>
                  <a:pt x="1884" y="4"/>
                </a:lnTo>
                <a:lnTo>
                  <a:pt x="1766" y="0"/>
                </a:lnTo>
                <a:lnTo>
                  <a:pt x="1653" y="4"/>
                </a:lnTo>
                <a:lnTo>
                  <a:pt x="1545" y="25"/>
                </a:lnTo>
                <a:lnTo>
                  <a:pt x="1433" y="63"/>
                </a:lnTo>
                <a:lnTo>
                  <a:pt x="1322" y="113"/>
                </a:lnTo>
                <a:lnTo>
                  <a:pt x="1223" y="176"/>
                </a:lnTo>
                <a:lnTo>
                  <a:pt x="1124" y="251"/>
                </a:lnTo>
                <a:lnTo>
                  <a:pt x="1032" y="339"/>
                </a:lnTo>
                <a:lnTo>
                  <a:pt x="942" y="441"/>
                </a:lnTo>
                <a:lnTo>
                  <a:pt x="866" y="551"/>
                </a:lnTo>
                <a:lnTo>
                  <a:pt x="798" y="669"/>
                </a:lnTo>
                <a:lnTo>
                  <a:pt x="737" y="797"/>
                </a:lnTo>
                <a:lnTo>
                  <a:pt x="665" y="776"/>
                </a:lnTo>
                <a:lnTo>
                  <a:pt x="586" y="775"/>
                </a:lnTo>
                <a:lnTo>
                  <a:pt x="510" y="782"/>
                </a:lnTo>
                <a:lnTo>
                  <a:pt x="435" y="801"/>
                </a:lnTo>
                <a:lnTo>
                  <a:pt x="364" y="835"/>
                </a:lnTo>
                <a:lnTo>
                  <a:pt x="292" y="878"/>
                </a:lnTo>
                <a:lnTo>
                  <a:pt x="228" y="935"/>
                </a:lnTo>
                <a:lnTo>
                  <a:pt x="172" y="1004"/>
                </a:lnTo>
                <a:lnTo>
                  <a:pt x="118" y="1077"/>
                </a:lnTo>
                <a:lnTo>
                  <a:pt x="75" y="1160"/>
                </a:lnTo>
                <a:lnTo>
                  <a:pt x="42" y="1254"/>
                </a:lnTo>
                <a:lnTo>
                  <a:pt x="19" y="1351"/>
                </a:lnTo>
                <a:lnTo>
                  <a:pt x="5" y="1451"/>
                </a:lnTo>
                <a:lnTo>
                  <a:pt x="0" y="1548"/>
                </a:lnTo>
                <a:lnTo>
                  <a:pt x="5" y="1649"/>
                </a:lnTo>
                <a:lnTo>
                  <a:pt x="19" y="1749"/>
                </a:lnTo>
                <a:lnTo>
                  <a:pt x="42" y="1843"/>
                </a:lnTo>
                <a:lnTo>
                  <a:pt x="75" y="1938"/>
                </a:lnTo>
                <a:lnTo>
                  <a:pt x="118" y="2021"/>
                </a:lnTo>
                <a:lnTo>
                  <a:pt x="172" y="2093"/>
                </a:lnTo>
                <a:lnTo>
                  <a:pt x="228" y="2164"/>
                </a:lnTo>
                <a:lnTo>
                  <a:pt x="292" y="2217"/>
                </a:lnTo>
                <a:lnTo>
                  <a:pt x="364" y="2264"/>
                </a:lnTo>
                <a:lnTo>
                  <a:pt x="435" y="2297"/>
                </a:lnTo>
                <a:lnTo>
                  <a:pt x="510" y="2315"/>
                </a:lnTo>
                <a:lnTo>
                  <a:pt x="586" y="2326"/>
                </a:lnTo>
                <a:lnTo>
                  <a:pt x="665" y="2320"/>
                </a:lnTo>
                <a:lnTo>
                  <a:pt x="737" y="2301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1412640" y="265752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057120" y="136836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29120" y="1376280"/>
            <a:ext cx="126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59360" y="23526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288880" y="4419720"/>
            <a:ext cx="4945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Direct and virtual fiber conn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Carrier-to-carrier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g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9360" y="402912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GX 550:  Meeting at the Glas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533520" y="3790800"/>
            <a:ext cx="8381880" cy="20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-48/STM-16 required for service provider backbone sca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nect GX 550 directly to fib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pass SONET/SDH transmission equip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fficient use of transmissio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ize Core network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ailability surpasses SONET/SDH transmission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219640" y="1736640"/>
            <a:ext cx="3276720" cy="68580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69960" y="2727360"/>
            <a:ext cx="33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C-48/STM-16 Trunking Over Virtual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>
            <a:off x="3028680" y="2232000"/>
            <a:ext cx="51444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079960" y="2727360"/>
            <a:ext cx="346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C-48/STM-16 Trunking Over Direct Fi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714680" y="2149560"/>
            <a:ext cx="228600" cy="457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781360" y="2149560"/>
            <a:ext cx="228600" cy="45720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43280" y="2378160"/>
            <a:ext cx="83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rot="16200000">
            <a:off x="1626840" y="2273040"/>
            <a:ext cx="47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rot="16200000">
            <a:off x="2693520" y="2273040"/>
            <a:ext cx="476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D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H="1">
            <a:off x="1161720" y="2232000"/>
            <a:ext cx="51444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609480" y="1698480"/>
            <a:ext cx="647640" cy="876600"/>
            <a:chOff x="609480" y="1698480"/>
            <a:chExt cx="647640" cy="876600"/>
          </a:xfrm>
        </p:grpSpPr>
        <p:grpSp>
          <p:nvGrpSpPr>
            <p:cNvPr id="1524" name=""/>
            <p:cNvGrpSpPr/>
            <p:nvPr/>
          </p:nvGrpSpPr>
          <p:grpSpPr>
            <a:xfrm>
              <a:off x="609480" y="1698480"/>
              <a:ext cx="647640" cy="876600"/>
              <a:chOff x="609480" y="1698480"/>
              <a:chExt cx="647640" cy="876600"/>
            </a:xfrm>
          </p:grpSpPr>
          <p:sp>
            <p:nvSpPr>
              <p:cNvPr id="1525" name=""/>
              <p:cNvSpPr/>
              <p:nvPr/>
            </p:nvSpPr>
            <p:spPr>
              <a:xfrm>
                <a:off x="609480" y="1698480"/>
                <a:ext cx="628200" cy="87156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237680" y="1698480"/>
                <a:ext cx="19440" cy="87660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622080" y="2408400"/>
                <a:ext cx="596880" cy="150480"/>
                <a:chOff x="622080" y="2408400"/>
                <a:chExt cx="596880" cy="150480"/>
              </a:xfrm>
            </p:grpSpPr>
            <p:sp>
              <p:nvSpPr>
                <p:cNvPr id="1528" name=""/>
                <p:cNvSpPr/>
                <p:nvPr/>
              </p:nvSpPr>
              <p:spPr>
                <a:xfrm>
                  <a:off x="622080" y="2408400"/>
                  <a:ext cx="596880" cy="1504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631080" y="2413800"/>
                  <a:ext cx="579600" cy="138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" name=""/>
              <p:cNvSpPr/>
              <p:nvPr/>
            </p:nvSpPr>
            <p:spPr>
              <a:xfrm>
                <a:off x="626400" y="1898640"/>
                <a:ext cx="591480" cy="492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30000" y="1898640"/>
                <a:ext cx="577800" cy="49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627840" y="1966320"/>
                <a:ext cx="578880" cy="1044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11800" y="189792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70480" y="1894680"/>
                <a:ext cx="0" cy="49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929160" y="1894680"/>
                <a:ext cx="0" cy="49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047960" y="189576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161720" y="189684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105560" y="1895760"/>
                <a:ext cx="0" cy="49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990360" y="189792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46280" y="1898640"/>
                <a:ext cx="0" cy="49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82920" y="1898640"/>
                <a:ext cx="0" cy="49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2" name=""/>
              <p:cNvGrpSpPr/>
              <p:nvPr/>
            </p:nvGrpSpPr>
            <p:grpSpPr>
              <a:xfrm>
                <a:off x="660960" y="2434680"/>
                <a:ext cx="518040" cy="104400"/>
                <a:chOff x="660960" y="2434680"/>
                <a:chExt cx="518040" cy="10440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660960" y="2434680"/>
                  <a:ext cx="51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660960" y="2455200"/>
                  <a:ext cx="51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660960" y="2476080"/>
                  <a:ext cx="51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660960" y="2496600"/>
                  <a:ext cx="51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660960" y="2518200"/>
                  <a:ext cx="51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660960" y="2539080"/>
                  <a:ext cx="5180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622080" y="1705680"/>
                <a:ext cx="596880" cy="182160"/>
                <a:chOff x="622080" y="1705680"/>
                <a:chExt cx="596880" cy="18216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622080" y="1705680"/>
                  <a:ext cx="596880" cy="182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631080" y="1712160"/>
                  <a:ext cx="579600" cy="168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664560" y="1829880"/>
                <a:ext cx="517680" cy="42120"/>
                <a:chOff x="664560" y="1829880"/>
                <a:chExt cx="517680" cy="4212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664560" y="18298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64560" y="18504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664560" y="18720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1037520" y="1721880"/>
                <a:ext cx="112680" cy="78840"/>
                <a:chOff x="1037520" y="1721880"/>
                <a:chExt cx="112680" cy="7884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1037520" y="172188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1037520" y="180072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1098360" y="1723680"/>
                  <a:ext cx="14760" cy="7308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60" name=""/>
            <p:cNvGrpSpPr/>
            <p:nvPr/>
          </p:nvGrpSpPr>
          <p:grpSpPr>
            <a:xfrm>
              <a:off x="664560" y="1698480"/>
              <a:ext cx="110160" cy="135360"/>
              <a:chOff x="664560" y="1698480"/>
              <a:chExt cx="110160" cy="135360"/>
            </a:xfrm>
          </p:grpSpPr>
          <p:sp>
            <p:nvSpPr>
              <p:cNvPr id="1561" name=""/>
              <p:cNvSpPr/>
              <p:nvPr/>
            </p:nvSpPr>
            <p:spPr>
              <a:xfrm>
                <a:off x="693000" y="17496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64560" y="1698480"/>
                <a:ext cx="54720" cy="9864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19280" y="1698480"/>
                <a:ext cx="55440" cy="9864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4" name=""/>
              <p:cNvGrpSpPr/>
              <p:nvPr/>
            </p:nvGrpSpPr>
            <p:grpSpPr>
              <a:xfrm>
                <a:off x="664560" y="1803600"/>
                <a:ext cx="110160" cy="30240"/>
                <a:chOff x="664560" y="1803600"/>
                <a:chExt cx="110160" cy="30240"/>
              </a:xfrm>
            </p:grpSpPr>
            <p:sp>
              <p:nvSpPr>
                <p:cNvPr id="1565" name=""/>
                <p:cNvSpPr/>
                <p:nvPr/>
              </p:nvSpPr>
              <p:spPr>
                <a:xfrm>
                  <a:off x="705240" y="1803600"/>
                  <a:ext cx="9720" cy="3024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25400" y="1803600"/>
                  <a:ext cx="8640" cy="2988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43760" y="1803600"/>
                  <a:ext cx="10800" cy="2988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85440" y="1803600"/>
                  <a:ext cx="9720" cy="3024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664560" y="1803600"/>
                  <a:ext cx="11520" cy="2988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764640" y="1803600"/>
                  <a:ext cx="10080" cy="2988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71" name=""/>
          <p:cNvGrpSpPr/>
          <p:nvPr/>
        </p:nvGrpSpPr>
        <p:grpSpPr>
          <a:xfrm>
            <a:off x="3505320" y="1698480"/>
            <a:ext cx="647280" cy="876600"/>
            <a:chOff x="3505320" y="1698480"/>
            <a:chExt cx="647280" cy="876600"/>
          </a:xfrm>
        </p:grpSpPr>
        <p:grpSp>
          <p:nvGrpSpPr>
            <p:cNvPr id="1572" name=""/>
            <p:cNvGrpSpPr/>
            <p:nvPr/>
          </p:nvGrpSpPr>
          <p:grpSpPr>
            <a:xfrm>
              <a:off x="3505320" y="1698480"/>
              <a:ext cx="647280" cy="876600"/>
              <a:chOff x="3505320" y="1698480"/>
              <a:chExt cx="647280" cy="876600"/>
            </a:xfrm>
          </p:grpSpPr>
          <p:sp>
            <p:nvSpPr>
              <p:cNvPr id="1573" name=""/>
              <p:cNvSpPr/>
              <p:nvPr/>
            </p:nvSpPr>
            <p:spPr>
              <a:xfrm>
                <a:off x="3505320" y="1698480"/>
                <a:ext cx="627840" cy="87156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4133160" y="1698480"/>
                <a:ext cx="19440" cy="87660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5" name=""/>
              <p:cNvGrpSpPr/>
              <p:nvPr/>
            </p:nvGrpSpPr>
            <p:grpSpPr>
              <a:xfrm>
                <a:off x="3517920" y="2408400"/>
                <a:ext cx="596520" cy="150480"/>
                <a:chOff x="3517920" y="2408400"/>
                <a:chExt cx="596520" cy="15048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3517920" y="2408400"/>
                  <a:ext cx="596520" cy="1504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3526920" y="2413800"/>
                  <a:ext cx="579240" cy="138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8" name=""/>
              <p:cNvSpPr/>
              <p:nvPr/>
            </p:nvSpPr>
            <p:spPr>
              <a:xfrm>
                <a:off x="3522240" y="1898640"/>
                <a:ext cx="591120" cy="492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525840" y="1898640"/>
                <a:ext cx="577440" cy="49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523680" y="1966320"/>
                <a:ext cx="578520" cy="1044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707640" y="189792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766320" y="1894680"/>
                <a:ext cx="0" cy="49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825000" y="1894680"/>
                <a:ext cx="0" cy="49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943440" y="189576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4057560" y="189684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001040" y="1895760"/>
                <a:ext cx="0" cy="49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885840" y="189792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642120" y="1898640"/>
                <a:ext cx="0" cy="49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578760" y="1898640"/>
                <a:ext cx="0" cy="49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0" name=""/>
              <p:cNvGrpSpPr/>
              <p:nvPr/>
            </p:nvGrpSpPr>
            <p:grpSpPr>
              <a:xfrm>
                <a:off x="3556800" y="2434680"/>
                <a:ext cx="517680" cy="104400"/>
                <a:chOff x="3556800" y="2434680"/>
                <a:chExt cx="517680" cy="10440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3556800" y="24346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3556800" y="24552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3556800" y="24760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3556800" y="24966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3556800" y="25182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556800" y="25390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7" name=""/>
              <p:cNvGrpSpPr/>
              <p:nvPr/>
            </p:nvGrpSpPr>
            <p:grpSpPr>
              <a:xfrm>
                <a:off x="3517920" y="1705680"/>
                <a:ext cx="596520" cy="182160"/>
                <a:chOff x="3517920" y="1705680"/>
                <a:chExt cx="596520" cy="182160"/>
              </a:xfrm>
            </p:grpSpPr>
            <p:sp>
              <p:nvSpPr>
                <p:cNvPr id="1598" name=""/>
                <p:cNvSpPr/>
                <p:nvPr/>
              </p:nvSpPr>
              <p:spPr>
                <a:xfrm>
                  <a:off x="3517920" y="1705680"/>
                  <a:ext cx="596520" cy="182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3526920" y="1712160"/>
                  <a:ext cx="579240" cy="168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0" name=""/>
              <p:cNvGrpSpPr/>
              <p:nvPr/>
            </p:nvGrpSpPr>
            <p:grpSpPr>
              <a:xfrm>
                <a:off x="3560400" y="1829880"/>
                <a:ext cx="517320" cy="42120"/>
                <a:chOff x="3560400" y="1829880"/>
                <a:chExt cx="517320" cy="4212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560400" y="1829880"/>
                  <a:ext cx="51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560400" y="1850400"/>
                  <a:ext cx="51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560400" y="1872000"/>
                  <a:ext cx="51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4" name=""/>
              <p:cNvGrpSpPr/>
              <p:nvPr/>
            </p:nvGrpSpPr>
            <p:grpSpPr>
              <a:xfrm>
                <a:off x="3933000" y="1721880"/>
                <a:ext cx="112680" cy="78840"/>
                <a:chOff x="3933000" y="1721880"/>
                <a:chExt cx="112680" cy="78840"/>
              </a:xfrm>
            </p:grpSpPr>
            <p:sp>
              <p:nvSpPr>
                <p:cNvPr id="1605" name=""/>
                <p:cNvSpPr/>
                <p:nvPr/>
              </p:nvSpPr>
              <p:spPr>
                <a:xfrm>
                  <a:off x="3933000" y="172188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3933000" y="180072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993840" y="1723680"/>
                  <a:ext cx="14760" cy="7308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08" name=""/>
            <p:cNvGrpSpPr/>
            <p:nvPr/>
          </p:nvGrpSpPr>
          <p:grpSpPr>
            <a:xfrm>
              <a:off x="3560400" y="1698480"/>
              <a:ext cx="110160" cy="135360"/>
              <a:chOff x="3560400" y="1698480"/>
              <a:chExt cx="110160" cy="135360"/>
            </a:xfrm>
          </p:grpSpPr>
          <p:sp>
            <p:nvSpPr>
              <p:cNvPr id="1609" name=""/>
              <p:cNvSpPr/>
              <p:nvPr/>
            </p:nvSpPr>
            <p:spPr>
              <a:xfrm>
                <a:off x="3588840" y="17496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560400" y="1698480"/>
                <a:ext cx="54720" cy="9864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615120" y="1698480"/>
                <a:ext cx="55440" cy="9864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3560400" y="1803600"/>
                <a:ext cx="110160" cy="30240"/>
                <a:chOff x="3560400" y="1803600"/>
                <a:chExt cx="110160" cy="3024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3601080" y="1803600"/>
                  <a:ext cx="9720" cy="3024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3621240" y="1803600"/>
                  <a:ext cx="8640" cy="2988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3639600" y="1803600"/>
                  <a:ext cx="10800" cy="2988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3581280" y="1803600"/>
                  <a:ext cx="9720" cy="3024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560400" y="1803600"/>
                  <a:ext cx="11520" cy="2988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3660480" y="1803600"/>
                  <a:ext cx="10080" cy="2988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19" name=""/>
          <p:cNvGrpSpPr/>
          <p:nvPr/>
        </p:nvGrpSpPr>
        <p:grpSpPr>
          <a:xfrm>
            <a:off x="8172360" y="1698480"/>
            <a:ext cx="647280" cy="876600"/>
            <a:chOff x="8172360" y="1698480"/>
            <a:chExt cx="647280" cy="876600"/>
          </a:xfrm>
        </p:grpSpPr>
        <p:grpSp>
          <p:nvGrpSpPr>
            <p:cNvPr id="1620" name=""/>
            <p:cNvGrpSpPr/>
            <p:nvPr/>
          </p:nvGrpSpPr>
          <p:grpSpPr>
            <a:xfrm>
              <a:off x="8172360" y="1698480"/>
              <a:ext cx="647280" cy="876600"/>
              <a:chOff x="8172360" y="1698480"/>
              <a:chExt cx="647280" cy="876600"/>
            </a:xfrm>
          </p:grpSpPr>
          <p:sp>
            <p:nvSpPr>
              <p:cNvPr id="1621" name=""/>
              <p:cNvSpPr/>
              <p:nvPr/>
            </p:nvSpPr>
            <p:spPr>
              <a:xfrm>
                <a:off x="8172360" y="1698480"/>
                <a:ext cx="627840" cy="87156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8800200" y="1698480"/>
                <a:ext cx="19440" cy="87660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3" name=""/>
              <p:cNvGrpSpPr/>
              <p:nvPr/>
            </p:nvGrpSpPr>
            <p:grpSpPr>
              <a:xfrm>
                <a:off x="8184960" y="2408400"/>
                <a:ext cx="596520" cy="150480"/>
                <a:chOff x="8184960" y="2408400"/>
                <a:chExt cx="596520" cy="15048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8184960" y="2408400"/>
                  <a:ext cx="596520" cy="1504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193960" y="2413800"/>
                  <a:ext cx="579240" cy="138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>
                <a:off x="8189280" y="1898640"/>
                <a:ext cx="591120" cy="492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192880" y="1898640"/>
                <a:ext cx="577440" cy="49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190720" y="1966320"/>
                <a:ext cx="578520" cy="1044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374680" y="189792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433360" y="1894680"/>
                <a:ext cx="0" cy="49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492040" y="1894680"/>
                <a:ext cx="0" cy="49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610480" y="189576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724600" y="189684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668080" y="1895760"/>
                <a:ext cx="0" cy="49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552880" y="189792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8309160" y="1898640"/>
                <a:ext cx="0" cy="49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245800" y="1898640"/>
                <a:ext cx="0" cy="49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8" name=""/>
              <p:cNvGrpSpPr/>
              <p:nvPr/>
            </p:nvGrpSpPr>
            <p:grpSpPr>
              <a:xfrm>
                <a:off x="8223840" y="2434680"/>
                <a:ext cx="517680" cy="104400"/>
                <a:chOff x="8223840" y="2434680"/>
                <a:chExt cx="517680" cy="10440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8223840" y="24346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223840" y="24552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8223840" y="24760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8223840" y="24966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223840" y="25182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8223840" y="25390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5" name=""/>
              <p:cNvGrpSpPr/>
              <p:nvPr/>
            </p:nvGrpSpPr>
            <p:grpSpPr>
              <a:xfrm>
                <a:off x="8184960" y="1705680"/>
                <a:ext cx="596520" cy="182160"/>
                <a:chOff x="8184960" y="1705680"/>
                <a:chExt cx="596520" cy="182160"/>
              </a:xfrm>
            </p:grpSpPr>
            <p:sp>
              <p:nvSpPr>
                <p:cNvPr id="1646" name=""/>
                <p:cNvSpPr/>
                <p:nvPr/>
              </p:nvSpPr>
              <p:spPr>
                <a:xfrm>
                  <a:off x="8184960" y="1705680"/>
                  <a:ext cx="596520" cy="182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8193960" y="1712160"/>
                  <a:ext cx="579240" cy="168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8" name=""/>
              <p:cNvGrpSpPr/>
              <p:nvPr/>
            </p:nvGrpSpPr>
            <p:grpSpPr>
              <a:xfrm>
                <a:off x="8227440" y="1829880"/>
                <a:ext cx="517320" cy="42120"/>
                <a:chOff x="8227440" y="1829880"/>
                <a:chExt cx="517320" cy="42120"/>
              </a:xfrm>
            </p:grpSpPr>
            <p:sp>
              <p:nvSpPr>
                <p:cNvPr id="1649" name=""/>
                <p:cNvSpPr/>
                <p:nvPr/>
              </p:nvSpPr>
              <p:spPr>
                <a:xfrm>
                  <a:off x="8227440" y="1829880"/>
                  <a:ext cx="51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8227440" y="1850400"/>
                  <a:ext cx="51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8227440" y="1872000"/>
                  <a:ext cx="51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2" name=""/>
              <p:cNvGrpSpPr/>
              <p:nvPr/>
            </p:nvGrpSpPr>
            <p:grpSpPr>
              <a:xfrm>
                <a:off x="8600040" y="1721880"/>
                <a:ext cx="112680" cy="78840"/>
                <a:chOff x="8600040" y="1721880"/>
                <a:chExt cx="112680" cy="78840"/>
              </a:xfrm>
            </p:grpSpPr>
            <p:sp>
              <p:nvSpPr>
                <p:cNvPr id="1653" name=""/>
                <p:cNvSpPr/>
                <p:nvPr/>
              </p:nvSpPr>
              <p:spPr>
                <a:xfrm>
                  <a:off x="8600040" y="172188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8600040" y="180072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8660880" y="1723680"/>
                  <a:ext cx="14760" cy="7308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6" name=""/>
            <p:cNvGrpSpPr/>
            <p:nvPr/>
          </p:nvGrpSpPr>
          <p:grpSpPr>
            <a:xfrm>
              <a:off x="8227440" y="1698480"/>
              <a:ext cx="110160" cy="135360"/>
              <a:chOff x="8227440" y="1698480"/>
              <a:chExt cx="110160" cy="135360"/>
            </a:xfrm>
          </p:grpSpPr>
          <p:sp>
            <p:nvSpPr>
              <p:cNvPr id="1657" name=""/>
              <p:cNvSpPr/>
              <p:nvPr/>
            </p:nvSpPr>
            <p:spPr>
              <a:xfrm>
                <a:off x="8255880" y="17496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227440" y="1698480"/>
                <a:ext cx="54720" cy="9864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282160" y="1698480"/>
                <a:ext cx="55440" cy="9864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8227440" y="1803600"/>
                <a:ext cx="110160" cy="30240"/>
                <a:chOff x="8227440" y="1803600"/>
                <a:chExt cx="110160" cy="3024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8268120" y="1803600"/>
                  <a:ext cx="9720" cy="3024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8288280" y="1803600"/>
                  <a:ext cx="8640" cy="2988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8306640" y="1803600"/>
                  <a:ext cx="10800" cy="2988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8248320" y="1803600"/>
                  <a:ext cx="9720" cy="3024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8227440" y="1803600"/>
                  <a:ext cx="11520" cy="2988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8327520" y="1803600"/>
                  <a:ext cx="10080" cy="2988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667" name=""/>
          <p:cNvGrpSpPr/>
          <p:nvPr/>
        </p:nvGrpSpPr>
        <p:grpSpPr>
          <a:xfrm>
            <a:off x="4857840" y="1698480"/>
            <a:ext cx="647280" cy="876600"/>
            <a:chOff x="4857840" y="1698480"/>
            <a:chExt cx="647280" cy="876600"/>
          </a:xfrm>
        </p:grpSpPr>
        <p:grpSp>
          <p:nvGrpSpPr>
            <p:cNvPr id="1668" name=""/>
            <p:cNvGrpSpPr/>
            <p:nvPr/>
          </p:nvGrpSpPr>
          <p:grpSpPr>
            <a:xfrm>
              <a:off x="4857840" y="1698480"/>
              <a:ext cx="647280" cy="876600"/>
              <a:chOff x="4857840" y="1698480"/>
              <a:chExt cx="647280" cy="876600"/>
            </a:xfrm>
          </p:grpSpPr>
          <p:sp>
            <p:nvSpPr>
              <p:cNvPr id="1669" name=""/>
              <p:cNvSpPr/>
              <p:nvPr/>
            </p:nvSpPr>
            <p:spPr>
              <a:xfrm>
                <a:off x="4857840" y="1698480"/>
                <a:ext cx="627840" cy="87156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485680" y="1698480"/>
                <a:ext cx="19440" cy="87660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1" name=""/>
              <p:cNvGrpSpPr/>
              <p:nvPr/>
            </p:nvGrpSpPr>
            <p:grpSpPr>
              <a:xfrm>
                <a:off x="4870440" y="2408400"/>
                <a:ext cx="596520" cy="150480"/>
                <a:chOff x="4870440" y="2408400"/>
                <a:chExt cx="596520" cy="15048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4870440" y="2408400"/>
                  <a:ext cx="596520" cy="15048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4879440" y="2413800"/>
                  <a:ext cx="579240" cy="138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4" name=""/>
              <p:cNvSpPr/>
              <p:nvPr/>
            </p:nvSpPr>
            <p:spPr>
              <a:xfrm>
                <a:off x="4874760" y="1898640"/>
                <a:ext cx="591120" cy="49284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878360" y="1898640"/>
                <a:ext cx="577440" cy="492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876200" y="1966320"/>
                <a:ext cx="578520" cy="1044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060160" y="189792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118840" y="1894680"/>
                <a:ext cx="0" cy="49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177520" y="1894680"/>
                <a:ext cx="0" cy="49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295960" y="189576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410080" y="189684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353560" y="1895760"/>
                <a:ext cx="0" cy="49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238360" y="1897920"/>
                <a:ext cx="0" cy="49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994640" y="1898640"/>
                <a:ext cx="0" cy="49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931280" y="1898640"/>
                <a:ext cx="0" cy="49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6" name=""/>
              <p:cNvGrpSpPr/>
              <p:nvPr/>
            </p:nvGrpSpPr>
            <p:grpSpPr>
              <a:xfrm>
                <a:off x="4909320" y="2434680"/>
                <a:ext cx="517680" cy="104400"/>
                <a:chOff x="4909320" y="2434680"/>
                <a:chExt cx="517680" cy="10440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909320" y="24346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4909320" y="24552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4909320" y="24760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4909320" y="24966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4909320" y="251820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4909320" y="2539080"/>
                  <a:ext cx="517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3" name=""/>
              <p:cNvGrpSpPr/>
              <p:nvPr/>
            </p:nvGrpSpPr>
            <p:grpSpPr>
              <a:xfrm>
                <a:off x="4870440" y="1705680"/>
                <a:ext cx="596520" cy="182160"/>
                <a:chOff x="4870440" y="1705680"/>
                <a:chExt cx="596520" cy="18216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4870440" y="1705680"/>
                  <a:ext cx="596520" cy="1821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4879440" y="1712160"/>
                  <a:ext cx="579240" cy="168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6" name=""/>
              <p:cNvGrpSpPr/>
              <p:nvPr/>
            </p:nvGrpSpPr>
            <p:grpSpPr>
              <a:xfrm>
                <a:off x="4912920" y="1829880"/>
                <a:ext cx="517320" cy="42120"/>
                <a:chOff x="4912920" y="1829880"/>
                <a:chExt cx="517320" cy="4212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4912920" y="1829880"/>
                  <a:ext cx="51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4912920" y="1850400"/>
                  <a:ext cx="51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4912920" y="1872000"/>
                  <a:ext cx="517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0" name=""/>
              <p:cNvGrpSpPr/>
              <p:nvPr/>
            </p:nvGrpSpPr>
            <p:grpSpPr>
              <a:xfrm>
                <a:off x="5285520" y="1721880"/>
                <a:ext cx="112680" cy="78840"/>
                <a:chOff x="5285520" y="1721880"/>
                <a:chExt cx="112680" cy="78840"/>
              </a:xfrm>
            </p:grpSpPr>
            <p:sp>
              <p:nvSpPr>
                <p:cNvPr id="1701" name=""/>
                <p:cNvSpPr/>
                <p:nvPr/>
              </p:nvSpPr>
              <p:spPr>
                <a:xfrm>
                  <a:off x="5285520" y="172188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5285520" y="1800720"/>
                  <a:ext cx="112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5346360" y="1723680"/>
                  <a:ext cx="14760" cy="7308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4" name=""/>
            <p:cNvGrpSpPr/>
            <p:nvPr/>
          </p:nvGrpSpPr>
          <p:grpSpPr>
            <a:xfrm>
              <a:off x="4912920" y="1698480"/>
              <a:ext cx="110160" cy="135360"/>
              <a:chOff x="4912920" y="1698480"/>
              <a:chExt cx="110160" cy="135360"/>
            </a:xfrm>
          </p:grpSpPr>
          <p:sp>
            <p:nvSpPr>
              <p:cNvPr id="1705" name=""/>
              <p:cNvSpPr/>
              <p:nvPr/>
            </p:nvSpPr>
            <p:spPr>
              <a:xfrm>
                <a:off x="4941360" y="1749600"/>
                <a:ext cx="53280" cy="475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912920" y="1698480"/>
                <a:ext cx="54720" cy="9864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67640" y="1698480"/>
                <a:ext cx="55440" cy="9864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8" name=""/>
              <p:cNvGrpSpPr/>
              <p:nvPr/>
            </p:nvGrpSpPr>
            <p:grpSpPr>
              <a:xfrm>
                <a:off x="4912920" y="1803600"/>
                <a:ext cx="110160" cy="30240"/>
                <a:chOff x="4912920" y="1803600"/>
                <a:chExt cx="110160" cy="3024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4953600" y="1803600"/>
                  <a:ext cx="9720" cy="3024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973760" y="1803600"/>
                  <a:ext cx="8640" cy="2988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4992120" y="1803600"/>
                  <a:ext cx="10800" cy="2988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4933800" y="1803600"/>
                  <a:ext cx="9720" cy="3024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4912920" y="1803600"/>
                  <a:ext cx="11520" cy="2988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5013000" y="1803600"/>
                  <a:ext cx="10080" cy="2988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GX 550 PHY Extension Shelf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s port density for lower speed interf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card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ort Channelized OC-12/STM-4 T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 ports DS3 CE and/or DS3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ng Channelization down to D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4 ports OC-/STM-1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port DS3 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:1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ture application to CBX 5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GX 550 PHY Extension Shelf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rot="16200000">
            <a:off x="4290120" y="2855160"/>
            <a:ext cx="1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rot="16200000">
            <a:off x="4018680" y="2979000"/>
            <a:ext cx="144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0" name=""/>
          <p:cNvGrpSpPr/>
          <p:nvPr/>
        </p:nvGrpSpPr>
        <p:grpSpPr>
          <a:xfrm>
            <a:off x="2055960" y="1898640"/>
            <a:ext cx="5706720" cy="3305520"/>
            <a:chOff x="2055960" y="1898640"/>
            <a:chExt cx="5706720" cy="3305520"/>
          </a:xfrm>
        </p:grpSpPr>
        <p:grpSp>
          <p:nvGrpSpPr>
            <p:cNvPr id="1721" name=""/>
            <p:cNvGrpSpPr/>
            <p:nvPr/>
          </p:nvGrpSpPr>
          <p:grpSpPr>
            <a:xfrm>
              <a:off x="2055960" y="2123280"/>
              <a:ext cx="5706360" cy="3080880"/>
              <a:chOff x="2055960" y="2123280"/>
              <a:chExt cx="5706360" cy="3080880"/>
            </a:xfrm>
          </p:grpSpPr>
          <p:sp>
            <p:nvSpPr>
              <p:cNvPr id="1722" name=""/>
              <p:cNvSpPr/>
              <p:nvPr/>
            </p:nvSpPr>
            <p:spPr>
              <a:xfrm>
                <a:off x="5319000" y="4574880"/>
                <a:ext cx="25164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367240" y="4527000"/>
                <a:ext cx="15732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5435280" y="45853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333760" y="4318200"/>
                <a:ext cx="24876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379480" y="4271040"/>
                <a:ext cx="159480" cy="1342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447520" y="43290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319000" y="3966120"/>
                <a:ext cx="25164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367240" y="3918960"/>
                <a:ext cx="15732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435280" y="39744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333760" y="3710160"/>
                <a:ext cx="24876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379480" y="3662280"/>
                <a:ext cx="15948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447520" y="37177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319000" y="3196800"/>
                <a:ext cx="25164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367240" y="3149280"/>
                <a:ext cx="157320" cy="131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435280" y="320436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333760" y="2940120"/>
                <a:ext cx="24876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379480" y="2892600"/>
                <a:ext cx="15948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447520" y="29484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319000" y="2588400"/>
                <a:ext cx="251640" cy="316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367240" y="2538000"/>
                <a:ext cx="15732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435280" y="25963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333760" y="2331720"/>
                <a:ext cx="248760" cy="316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379480" y="2281320"/>
                <a:ext cx="15948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447520" y="233964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407280" y="2189160"/>
                <a:ext cx="379800" cy="25678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283000" y="2189160"/>
                <a:ext cx="377280" cy="25678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6200000">
                <a:off x="5362200" y="3475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16200000">
                <a:off x="5374440" y="34333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16200000">
                <a:off x="5358600" y="339264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6200000">
                <a:off x="5484960" y="35337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16200000">
                <a:off x="5493960" y="3470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rot="16200000">
                <a:off x="5493960" y="34239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rot="16200000">
                <a:off x="5493960" y="3382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rot="16200000">
                <a:off x="5504760" y="33555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rot="16200000">
                <a:off x="5493960" y="332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657400" y="2189160"/>
                <a:ext cx="379800" cy="25678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5285160" y="2188800"/>
                <a:ext cx="2520" cy="2565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259680" y="2189160"/>
                <a:ext cx="2520" cy="2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5210280" y="2189160"/>
                <a:ext cx="974520" cy="2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207760" y="2189160"/>
                <a:ext cx="77040" cy="25678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109920" y="4754880"/>
                <a:ext cx="74880" cy="2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032880" y="2189160"/>
                <a:ext cx="379440" cy="25678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94120" y="4574880"/>
                <a:ext cx="25092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742720" y="4527000"/>
                <a:ext cx="15948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810040" y="45853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708520" y="4318200"/>
                <a:ext cx="24876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754600" y="4271040"/>
                <a:ext cx="159480" cy="1342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822280" y="43290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694120" y="3966120"/>
                <a:ext cx="25092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742720" y="3918960"/>
                <a:ext cx="15948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810040" y="39744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708520" y="3710160"/>
                <a:ext cx="24876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754600" y="3662280"/>
                <a:ext cx="15948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822280" y="37177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694120" y="3196800"/>
                <a:ext cx="25092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742720" y="3149280"/>
                <a:ext cx="159480" cy="131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810040" y="320436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708520" y="2940120"/>
                <a:ext cx="24876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754600" y="2892600"/>
                <a:ext cx="15948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822280" y="29484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694120" y="2588400"/>
                <a:ext cx="250920" cy="316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742720" y="2538000"/>
                <a:ext cx="15948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810040" y="25963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708520" y="2331720"/>
                <a:ext cx="248760" cy="316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754600" y="2281320"/>
                <a:ext cx="15948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822280" y="233964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071040" y="4574880"/>
                <a:ext cx="24948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117120" y="4527000"/>
                <a:ext cx="15948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185160" y="45853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083640" y="4318200"/>
                <a:ext cx="24876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131880" y="4271040"/>
                <a:ext cx="156600" cy="1342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197400" y="43290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71040" y="3966120"/>
                <a:ext cx="24948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117120" y="3918960"/>
                <a:ext cx="15948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185160" y="39744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083640" y="3710160"/>
                <a:ext cx="24876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131880" y="3662280"/>
                <a:ext cx="15660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197400" y="37177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071040" y="3196800"/>
                <a:ext cx="24948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117120" y="3149280"/>
                <a:ext cx="159480" cy="131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185160" y="320436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083640" y="2940120"/>
                <a:ext cx="24876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131880" y="2892600"/>
                <a:ext cx="15660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197400" y="29484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71040" y="2588400"/>
                <a:ext cx="249480" cy="316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117120" y="2538000"/>
                <a:ext cx="15948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185160" y="25963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083640" y="2331720"/>
                <a:ext cx="248760" cy="316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131880" y="2281320"/>
                <a:ext cx="15660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197400" y="233964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446520" y="4574880"/>
                <a:ext cx="24876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494760" y="4527000"/>
                <a:ext cx="15732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559920" y="45853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458400" y="4318200"/>
                <a:ext cx="24876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506640" y="4271040"/>
                <a:ext cx="157320" cy="1342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571800" y="43290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446520" y="3966120"/>
                <a:ext cx="24876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494760" y="3918960"/>
                <a:ext cx="15732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559920" y="39744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458400" y="3710160"/>
                <a:ext cx="248760" cy="3384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506640" y="3662280"/>
                <a:ext cx="15732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571800" y="37177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446520" y="3196800"/>
                <a:ext cx="24876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494760" y="3149280"/>
                <a:ext cx="157320" cy="131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559920" y="320436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458400" y="2940120"/>
                <a:ext cx="248760" cy="3456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506640" y="2892600"/>
                <a:ext cx="157320" cy="13248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571800" y="2948400"/>
                <a:ext cx="24120" cy="230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446520" y="2588400"/>
                <a:ext cx="248760" cy="316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6494760" y="2538000"/>
                <a:ext cx="15732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559920" y="259632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6458400" y="2331720"/>
                <a:ext cx="248760" cy="31680"/>
              </a:xfrm>
              <a:prstGeom prst="rect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506640" y="2281320"/>
                <a:ext cx="157320" cy="13464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571800" y="2339640"/>
                <a:ext cx="24120" cy="23760"/>
              </a:xfrm>
              <a:prstGeom prst="ellipse">
                <a:avLst/>
              </a:prstGeom>
              <a:solidFill>
                <a:srgbClr val="ffffff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rot="16200000">
                <a:off x="5741640" y="34747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6200000">
                <a:off x="5753880" y="34333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6200000">
                <a:off x="5738040" y="339264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6200000">
                <a:off x="5865120" y="35337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rot="16200000">
                <a:off x="5874120" y="3470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16200000">
                <a:off x="5874120" y="34239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16200000">
                <a:off x="5874120" y="3382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6200000">
                <a:off x="5884920" y="33555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6200000">
                <a:off x="5874120" y="332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6200000">
                <a:off x="6114240" y="34758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16200000">
                <a:off x="6126480" y="34333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16200000">
                <a:off x="6110640" y="339264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16200000">
                <a:off x="6237720" y="35337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6200000">
                <a:off x="6246720" y="34700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6200000">
                <a:off x="6246720" y="34239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16200000">
                <a:off x="6246720" y="3382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16200000">
                <a:off x="6257520" y="33555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16200000">
                <a:off x="6246720" y="332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16200000">
                <a:off x="6493680" y="34747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16200000">
                <a:off x="6505920" y="34333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6200000">
                <a:off x="6490080" y="339264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16200000">
                <a:off x="6607440" y="353376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16200000">
                <a:off x="6621120" y="3471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16200000">
                <a:off x="6616440" y="34239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16200000">
                <a:off x="6621120" y="3384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6200000">
                <a:off x="6627240" y="335556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6200000">
                <a:off x="6621120" y="332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2055960" y="2123280"/>
                <a:ext cx="5706360" cy="30808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033360" y="4754880"/>
                <a:ext cx="4709520" cy="21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007880" y="2189160"/>
                <a:ext cx="377280" cy="25678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6200000">
                <a:off x="3801600" y="39366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6200000">
                <a:off x="3789360" y="389628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6200000">
                <a:off x="3797640" y="385128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6200000">
                <a:off x="3804480" y="38203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6200000">
                <a:off x="3796200" y="3789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6200000">
                <a:off x="3793320" y="37411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16200000">
                <a:off x="3796200" y="37015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16200000">
                <a:off x="3793320" y="3654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16200000">
                <a:off x="3803040" y="362088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16200000">
                <a:off x="3804480" y="359568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16200000">
                <a:off x="3792240" y="355932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16200000">
                <a:off x="3801600" y="35244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16200000">
                <a:off x="3785760" y="347940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16200000">
                <a:off x="3804480" y="34333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16200000">
                <a:off x="3787200" y="339120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rot="16200000">
                <a:off x="3793320" y="33368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rot="16200000">
                <a:off x="3796200" y="32968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rot="16200000">
                <a:off x="3796200" y="32493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rot="16200000">
                <a:off x="3807000" y="322092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rot="16200000">
                <a:off x="3796200" y="3192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rot="16200000">
                <a:off x="3804480" y="31554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rot="16200000">
                <a:off x="3803040" y="312912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16200000">
                <a:off x="3796200" y="30974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#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16200000">
                <a:off x="3796200" y="305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16200000">
                <a:off x="3803040" y="301824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630600" y="2189160"/>
                <a:ext cx="379440" cy="2567880"/>
              </a:xfrm>
              <a:prstGeom prst="rect">
                <a:avLst/>
              </a:prstGeom>
              <a:noFill/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16200000">
                <a:off x="4091760" y="363420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rot="16200000">
                <a:off x="4102560" y="35946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rot="16200000">
                <a:off x="4095720" y="355896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rot="16200000">
                <a:off x="4101840" y="352440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rot="16200000">
                <a:off x="4095720" y="34876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rot="16200000">
                <a:off x="4097160" y="344916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rot="16200000">
                <a:off x="4101840" y="341748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rot="16200000">
                <a:off x="4106520" y="340308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rot="16200000">
                <a:off x="4093560" y="3366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rot="16200000">
                <a:off x="4093560" y="3321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rot="16200000">
                <a:off x="4225320" y="394488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rot="16200000">
                <a:off x="4213080" y="39038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rot="16200000">
                <a:off x="4223160" y="3858840"/>
                <a:ext cx="327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rot="16200000">
                <a:off x="4225320" y="382824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rot="16200000">
                <a:off x="4217040" y="3796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rot="16200000">
                <a:off x="4221720" y="37530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rot="16200000">
                <a:off x="4217040" y="370944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rot="16200000">
                <a:off x="4221720" y="36619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rot="16200000">
                <a:off x="4228560" y="3628800"/>
                <a:ext cx="219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rot="16200000">
                <a:off x="4227480" y="36039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rot="16200000">
                <a:off x="4217760" y="3567240"/>
                <a:ext cx="435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rot="16200000">
                <a:off x="4227480" y="352692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rot="16200000">
                <a:off x="4214160" y="3486960"/>
                <a:ext cx="511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rot="16200000">
                <a:off x="4225320" y="3447360"/>
                <a:ext cx="1908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rot="16200000">
                <a:off x="4208040" y="3399120"/>
                <a:ext cx="540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rot="16200000">
                <a:off x="4217040" y="334440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rot="16200000">
                <a:off x="4221720" y="33037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rot="16200000">
                <a:off x="4217040" y="32572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rot="16200000">
                <a:off x="4232520" y="3227400"/>
                <a:ext cx="144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rot="16200000">
                <a:off x="4221720" y="31924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 rot="16200000">
              <a:off x="4230360" y="316368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rot="16200000">
              <a:off x="4228920" y="313740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rot="16200000">
              <a:off x="4217040" y="31057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rot="16200000">
              <a:off x="4219200" y="3057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16200000">
              <a:off x="4228920" y="302616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705840" y="2316600"/>
              <a:ext cx="229680" cy="4521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744360" y="2348280"/>
              <a:ext cx="152280" cy="1634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744360" y="2541600"/>
              <a:ext cx="152280" cy="1612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083480" y="2316600"/>
              <a:ext cx="226800" cy="4521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119480" y="2348280"/>
              <a:ext cx="154440" cy="1634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119480" y="2541600"/>
              <a:ext cx="154440" cy="1612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83000" y="2123280"/>
              <a:ext cx="77760" cy="2634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7685280" y="2189520"/>
              <a:ext cx="77040" cy="2568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055960" y="1898640"/>
              <a:ext cx="5706720" cy="2271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244600" y="1898640"/>
              <a:ext cx="5518080" cy="19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833360" y="2189520"/>
              <a:ext cx="377280" cy="2568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rot="16200000">
              <a:off x="5004360" y="390708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rot="16200000">
              <a:off x="4992120" y="386928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rot="16200000">
              <a:off x="4997520" y="382752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rot="16200000">
              <a:off x="5004360" y="37944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rot="16200000">
              <a:off x="4996080" y="37616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rot="16200000">
              <a:off x="4996080" y="37155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rot="16200000">
              <a:off x="4993200" y="36741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rot="16200000">
              <a:off x="4993200" y="36270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rot="16200000">
              <a:off x="5002920" y="359496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rot="16200000">
              <a:off x="5004360" y="35726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6200000">
              <a:off x="4992120" y="353592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6200000">
              <a:off x="5001480" y="34891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6200000">
              <a:off x="4985640" y="3449520"/>
              <a:ext cx="51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rot="16200000">
              <a:off x="5004360" y="34095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rot="16200000">
              <a:off x="4987080" y="336780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rot="16200000">
              <a:off x="4993200" y="33120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rot="16200000">
              <a:off x="4993200" y="3272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rot="16200000">
              <a:off x="4993200" y="32245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rot="16200000">
              <a:off x="4993200" y="31622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rot="16200000">
              <a:off x="5001480" y="31305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rot="16200000">
              <a:off x="5002920" y="311400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rot="16200000">
              <a:off x="4996080" y="30736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rot="16200000">
              <a:off x="4996080" y="30265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rot="16200000">
              <a:off x="5002920" y="29944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4457880" y="2189520"/>
              <a:ext cx="377280" cy="2568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6200000">
              <a:off x="4578480" y="363204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6200000">
              <a:off x="4589280" y="359496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rot="16200000">
              <a:off x="4582440" y="35568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6200000">
              <a:off x="4590720" y="35168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6200000">
              <a:off x="4584600" y="3471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16200000">
              <a:off x="4586040" y="344988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16200000">
              <a:off x="4590720" y="34178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rot="16200000">
              <a:off x="4582440" y="33591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rot="16200000">
              <a:off x="4582440" y="33213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rot="16200000">
              <a:off x="4714200" y="394560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rot="16200000">
              <a:off x="4706640" y="390096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rot="16200000">
              <a:off x="4707360" y="3851640"/>
              <a:ext cx="32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rot="16200000">
              <a:off x="4714200" y="382608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rot="16200000">
              <a:off x="4705920" y="37933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16200000">
              <a:off x="4705920" y="37537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rot="16200000">
              <a:off x="4710600" y="37062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rot="16200000">
              <a:off x="4710600" y="36583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rot="16200000">
              <a:off x="4712760" y="362664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6200000">
              <a:off x="4718880" y="36043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6200000">
              <a:off x="4701960" y="355968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6200000">
              <a:off x="4714200" y="35247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rot="16200000">
              <a:off x="4703040" y="3487680"/>
              <a:ext cx="51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rot="16200000">
              <a:off x="4714200" y="344808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rot="16200000">
              <a:off x="4696920" y="339984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rot="16200000">
              <a:off x="4705920" y="33451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rot="16200000">
              <a:off x="4705920" y="33040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rot="16200000">
              <a:off x="4710600" y="32562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rot="16200000">
              <a:off x="4716720" y="322776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rot="16200000">
              <a:off x="4710600" y="3192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rot="16200000">
              <a:off x="4718880" y="316368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rot="16200000">
              <a:off x="4717440" y="313740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6200000">
              <a:off x="4705920" y="31057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6200000">
              <a:off x="4705920" y="3057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6200000">
              <a:off x="4717440" y="302616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533120" y="2316600"/>
              <a:ext cx="226800" cy="4521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569480" y="2348280"/>
              <a:ext cx="154440" cy="1634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569480" y="2541600"/>
              <a:ext cx="154440" cy="1612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907880" y="2316600"/>
              <a:ext cx="227520" cy="4521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944600" y="2348280"/>
              <a:ext cx="154440" cy="1634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944600" y="2541600"/>
              <a:ext cx="154440" cy="1612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169720" y="457560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215440" y="4527720"/>
              <a:ext cx="15948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283480" y="45856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181960" y="431892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230200" y="4271400"/>
              <a:ext cx="156600" cy="1342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295360" y="4329720"/>
              <a:ext cx="2412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169720" y="396684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215440" y="3919320"/>
              <a:ext cx="15948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283480" y="3975120"/>
              <a:ext cx="2412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181960" y="371052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230200" y="3662640"/>
              <a:ext cx="15660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295360" y="371844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169720" y="319716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215440" y="3149640"/>
              <a:ext cx="159480" cy="131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283480" y="32050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1960" y="294048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230200" y="2892960"/>
              <a:ext cx="15660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295360" y="2948760"/>
              <a:ext cx="2412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169720" y="2588760"/>
              <a:ext cx="248760" cy="316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215440" y="2538360"/>
              <a:ext cx="15948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283480" y="25966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181960" y="2332080"/>
              <a:ext cx="248760" cy="316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230200" y="2281680"/>
              <a:ext cx="15660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295360" y="234000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256200" y="2189520"/>
              <a:ext cx="379440" cy="2568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130840" y="2189520"/>
              <a:ext cx="379440" cy="2568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rot="16200000">
              <a:off x="2215080" y="347508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rot="16200000">
              <a:off x="2224800" y="343224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rot="16200000">
              <a:off x="2208960" y="3393000"/>
              <a:ext cx="51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rot="16200000">
              <a:off x="2335680" y="352404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rot="16200000">
              <a:off x="2344680" y="3470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rot="16200000">
              <a:off x="2344680" y="3416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6200000">
              <a:off x="2344680" y="33832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6200000">
              <a:off x="2355480" y="335448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6200000">
              <a:off x="2344680" y="33213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506320" y="2189520"/>
              <a:ext cx="379440" cy="2568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2133000" y="2189520"/>
              <a:ext cx="2520" cy="2566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108600" y="2189520"/>
              <a:ext cx="216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>
              <a:off x="2058120" y="2189520"/>
              <a:ext cx="97452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055960" y="2189520"/>
              <a:ext cx="77040" cy="2568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H="1">
              <a:off x="2958120" y="4755600"/>
              <a:ext cx="7488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880720" y="2189520"/>
              <a:ext cx="379440" cy="2568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544480" y="457560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590560" y="4527720"/>
              <a:ext cx="15948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58240" y="45856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556720" y="431892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04960" y="4271400"/>
              <a:ext cx="157320" cy="1342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670120" y="4329720"/>
              <a:ext cx="2448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544480" y="396684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590560" y="3919320"/>
              <a:ext cx="15948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658240" y="3975120"/>
              <a:ext cx="2412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556720" y="371052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604960" y="3662640"/>
              <a:ext cx="15732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670120" y="3718440"/>
              <a:ext cx="2448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544480" y="319716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590560" y="3149640"/>
              <a:ext cx="159480" cy="131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658240" y="32050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556720" y="294048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604960" y="2892960"/>
              <a:ext cx="15732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670120" y="2948760"/>
              <a:ext cx="2448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544480" y="2588760"/>
              <a:ext cx="248760" cy="316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590560" y="2538360"/>
              <a:ext cx="15948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658240" y="25966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556720" y="2332080"/>
              <a:ext cx="248760" cy="316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604960" y="2281680"/>
              <a:ext cx="15732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670120" y="2340000"/>
              <a:ext cx="2448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919960" y="457560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968200" y="4527720"/>
              <a:ext cx="15660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033360" y="45856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931840" y="431892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980080" y="4271400"/>
              <a:ext cx="156600" cy="1342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045600" y="4329720"/>
              <a:ext cx="2412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919960" y="396684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968200" y="3919320"/>
              <a:ext cx="15660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033360" y="3975120"/>
              <a:ext cx="2412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931840" y="371052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980080" y="3662640"/>
              <a:ext cx="15660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045600" y="371844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919960" y="319716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968200" y="3149640"/>
              <a:ext cx="156600" cy="131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033360" y="32050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931840" y="294048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980080" y="2892960"/>
              <a:ext cx="15660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045600" y="2948760"/>
              <a:ext cx="2412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919960" y="2588760"/>
              <a:ext cx="248760" cy="316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968200" y="2538360"/>
              <a:ext cx="15660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033360" y="25966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931840" y="2332080"/>
              <a:ext cx="248760" cy="316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980080" y="2281680"/>
              <a:ext cx="15660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045600" y="234000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294360" y="457560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342600" y="4527720"/>
              <a:ext cx="15732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408120" y="45856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306600" y="431892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354840" y="4271400"/>
              <a:ext cx="157320" cy="1342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420000" y="4329720"/>
              <a:ext cx="2448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294360" y="396684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42600" y="3919320"/>
              <a:ext cx="15732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408120" y="3975120"/>
              <a:ext cx="2412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306600" y="3710520"/>
              <a:ext cx="248760" cy="3384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354840" y="3662640"/>
              <a:ext cx="15732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420000" y="3718440"/>
              <a:ext cx="2448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294360" y="319716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342600" y="3149640"/>
              <a:ext cx="157320" cy="131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08120" y="32050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306600" y="2940480"/>
              <a:ext cx="248760" cy="3456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354840" y="2892960"/>
              <a:ext cx="157320" cy="13248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420000" y="2948760"/>
              <a:ext cx="24480" cy="230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294360" y="2588760"/>
              <a:ext cx="248760" cy="316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342600" y="2538360"/>
              <a:ext cx="15732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408120" y="2596680"/>
              <a:ext cx="2412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306600" y="2332080"/>
              <a:ext cx="248760" cy="3168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354840" y="2281680"/>
              <a:ext cx="157320" cy="13464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420000" y="2340000"/>
              <a:ext cx="24480" cy="23760"/>
            </a:xfrm>
            <a:prstGeom prst="ellipse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rot="16200000">
              <a:off x="2589840" y="347508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16200000">
              <a:off x="2599920" y="34257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16200000">
              <a:off x="2584080" y="3384360"/>
              <a:ext cx="51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16200000">
              <a:off x="2710440" y="352404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16200000">
              <a:off x="2719440" y="3471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16200000">
              <a:off x="2717280" y="3416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16200000">
              <a:off x="2719440" y="33847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16200000">
              <a:off x="2728080" y="334008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16200000">
              <a:off x="2717280" y="33213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16200000">
              <a:off x="2962440" y="347508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16200000">
              <a:off x="2974680" y="34257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rot="16200000">
              <a:off x="2958840" y="3384360"/>
              <a:ext cx="51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rot="16200000">
              <a:off x="3087720" y="352404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rot="16200000">
              <a:off x="3096720" y="3470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rot="16200000">
              <a:off x="3096720" y="3416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rot="16200000">
              <a:off x="3096720" y="33832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6200000">
              <a:off x="3107520" y="334008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16200000">
              <a:off x="3096720" y="33213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16200000">
              <a:off x="3339720" y="347508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rot="16200000">
              <a:off x="3351960" y="34257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16200000">
              <a:off x="3336120" y="3384360"/>
              <a:ext cx="511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rot="16200000">
              <a:off x="3463200" y="3524040"/>
              <a:ext cx="540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16200000">
              <a:off x="3472200" y="347184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rot="16200000">
              <a:off x="3469320" y="3416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rot="16200000">
              <a:off x="3472200" y="33847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rot="16200000">
              <a:off x="3480120" y="3340080"/>
              <a:ext cx="14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rot="16200000">
              <a:off x="3469320" y="332136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784920" y="2189520"/>
              <a:ext cx="900000" cy="2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7346160" y="3887640"/>
              <a:ext cx="227520" cy="6451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7382880" y="3951000"/>
              <a:ext cx="156600" cy="13464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382880" y="4302720"/>
              <a:ext cx="156600" cy="13464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971760" y="3887640"/>
              <a:ext cx="226800" cy="645120"/>
            </a:xfrm>
            <a:prstGeom prst="rect">
              <a:avLst/>
            </a:prstGeom>
            <a:solidFill>
              <a:srgbClr val="ff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3951000"/>
              <a:ext cx="159480" cy="13464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005600" y="4302720"/>
              <a:ext cx="159480" cy="134640"/>
            </a:xfrm>
            <a:prstGeom prst="ellipse">
              <a:avLst/>
            </a:prstGeom>
            <a:solidFill>
              <a:srgbClr val="00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rot="16200000">
              <a:off x="7061760" y="372996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rot="16200000">
              <a:off x="7054920" y="36982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rot="16200000">
              <a:off x="7054920" y="36439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16200000">
              <a:off x="7050960" y="360720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rot="16200000">
              <a:off x="7050960" y="355284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rot="16200000">
              <a:off x="7402320" y="3737880"/>
              <a:ext cx="21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rot="16200000">
              <a:off x="7395480" y="369828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rot="16200000">
              <a:off x="7395480" y="365040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rot="16200000">
              <a:off x="7391520" y="361512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rot="16200000">
              <a:off x="7391520" y="355968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903720" y="3123360"/>
              <a:ext cx="4356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966720" y="3123360"/>
              <a:ext cx="511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038720" y="3123360"/>
              <a:ext cx="61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131240" y="312336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189560" y="312336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255800" y="312336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283880" y="312336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346160" y="312336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410960" y="312336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472160" y="312336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537680" y="312336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978600" y="3390120"/>
              <a:ext cx="4644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045560" y="339012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101000" y="33901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125120" y="33901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7153200" y="339012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7210800" y="3390120"/>
              <a:ext cx="1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7235640" y="3390120"/>
              <a:ext cx="356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7287480" y="3390120"/>
              <a:ext cx="40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346160" y="3390120"/>
              <a:ext cx="435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409520" y="3390120"/>
              <a:ext cx="46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304960" y="2223720"/>
              <a:ext cx="730080" cy="253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035040" y="2223720"/>
              <a:ext cx="754560" cy="2536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5459760" y="2498760"/>
              <a:ext cx="347760" cy="633960"/>
              <a:chOff x="5459760" y="2498760"/>
              <a:chExt cx="347760" cy="633960"/>
            </a:xfrm>
          </p:grpSpPr>
          <p:sp>
            <p:nvSpPr>
              <p:cNvPr id="2185" name=""/>
              <p:cNvSpPr/>
              <p:nvPr/>
            </p:nvSpPr>
            <p:spPr>
              <a:xfrm>
                <a:off x="5459760" y="2498760"/>
                <a:ext cx="347760" cy="63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575320" y="2625480"/>
                <a:ext cx="115920" cy="12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575320" y="2879280"/>
                <a:ext cx="115920" cy="12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6233760" y="2498760"/>
              <a:ext cx="347760" cy="633960"/>
              <a:chOff x="6233760" y="2498760"/>
              <a:chExt cx="347760" cy="633960"/>
            </a:xfrm>
          </p:grpSpPr>
          <p:sp>
            <p:nvSpPr>
              <p:cNvPr id="2189" name=""/>
              <p:cNvSpPr/>
              <p:nvPr/>
            </p:nvSpPr>
            <p:spPr>
              <a:xfrm>
                <a:off x="6233760" y="2498760"/>
                <a:ext cx="347760" cy="633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6349320" y="2625480"/>
                <a:ext cx="115920" cy="126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49320" y="2879280"/>
                <a:ext cx="115920" cy="126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2" name=""/>
            <p:cNvSpPr/>
            <p:nvPr/>
          </p:nvSpPr>
          <p:spPr>
            <a:xfrm>
              <a:off x="5393880" y="3155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C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129360" y="315504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OC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D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040080" y="2139120"/>
              <a:ext cx="0" cy="26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117480" y="4403520"/>
              <a:ext cx="46440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 Roadma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ltiservice CBX 50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X 55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Jade Roadmap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198" name=""/>
          <p:cNvGrpSpPr/>
          <p:nvPr/>
        </p:nvGrpSpPr>
        <p:grpSpPr>
          <a:xfrm>
            <a:off x="3581280" y="1523880"/>
            <a:ext cx="1600200" cy="762120"/>
            <a:chOff x="3581280" y="1523880"/>
            <a:chExt cx="1600200" cy="762120"/>
          </a:xfrm>
        </p:grpSpPr>
        <p:sp>
          <p:nvSpPr>
            <p:cNvPr id="2199" name=""/>
            <p:cNvSpPr/>
            <p:nvPr/>
          </p:nvSpPr>
          <p:spPr>
            <a:xfrm>
              <a:off x="3581280" y="1523880"/>
              <a:ext cx="1600200" cy="762120"/>
            </a:xfrm>
            <a:prstGeom prst="ellipse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965040" y="167652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1" name=""/>
          <p:cNvSpPr/>
          <p:nvPr/>
        </p:nvSpPr>
        <p:spPr>
          <a:xfrm>
            <a:off x="2057400" y="2666880"/>
            <a:ext cx="1600200" cy="76212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211840" y="28195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e M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5257800" y="2590920"/>
            <a:ext cx="1600200" cy="76176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5396400" y="27432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de 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581280" y="3809880"/>
            <a:ext cx="1600200" cy="76212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81204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581280" y="5410080"/>
            <a:ext cx="1600200" cy="76212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736440" y="55627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3124080" y="213372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343400" y="4572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105520" y="220968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3048120" y="3429000"/>
            <a:ext cx="60948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5028840" y="3429000"/>
            <a:ext cx="6858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772400" cy="72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BX 500 Rel 3.0 -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Jade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1090080" y="89532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 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30, SP40 (250K IP ro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ervice support:  IP and Frame Rel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ort DS3/E3 Frame/IP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ort 10/100 Ethernet/IP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Server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Navigator and Priority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enhanc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 4.0, Carrier selection, PNNI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multicast on all I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-level (EPD, PPD) dis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all IO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 rate AB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ort statistics for OPTimum tru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P Shaping with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5514840" y="3475080"/>
            <a:ext cx="3886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a- and Inter-card APS (OC3, OC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um 3 holdover S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re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GX 550 Rel 1.0</a:t>
            </a:r>
            <a:br>
              <a:rPr sz="44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Jade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1523880" y="1295280"/>
            <a:ext cx="68580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d at Interop Atlanta - October 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witch shipped - December 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a testing in Jan/Feb 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 Sites and Westford Professional Services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Jad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 Gbps fully redunda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s with enhanced QuadPlane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3/STM1, OC12/STM4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S redundan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ing the New Public Net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 Infrastructure Appl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Roadmap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etitive Updat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1143000" y="380880"/>
            <a:ext cx="81532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BX 500 and GX 550</a:t>
            </a:r>
            <a:br>
              <a:rPr sz="4000"/>
            </a:b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Jade Minor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rallel Rele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1 - IP Navigator software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3.1/CBX 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2 - New Hardware 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ort Channelized DS3 (3:1) FR/IP for CBX 500 (Rel 3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port OC-48/STM-16 for GX 550 (Rel 1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80010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CBX 500 (Rel 4.0) and </a:t>
            </a:r>
            <a:br>
              <a:rPr sz="4000"/>
            </a:b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GX 550 (Rel 2.0)</a:t>
            </a:r>
            <a:br>
              <a:rPr sz="4400"/>
            </a:br>
            <a:r>
              <a:rPr b="1" i="1" lang="en-US" sz="2800" spc="-1" strike="noStrike">
                <a:solidFill>
                  <a:srgbClr val="660066"/>
                </a:solidFill>
                <a:latin typeface="Arial"/>
              </a:rPr>
              <a:t>Europa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port Channelized DS3 T1 IMA for CBX 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-VC Queuing BIO for GX 5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itional features will be contai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nternational port scalability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33080" y="1752480"/>
            <a:ext cx="834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Channelized E3 infrastructure….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we create increased density on the CBX platform for E1 servic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External access shelf with high speed up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External cab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Optical access into the CBX 500 (VC12 mapp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Ascend ATM Deployment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STDX backbon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BX 500 &amp; multi-vendor intero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ve ATM services: DS3/E3 &amp; OC3/STM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ESS mobile voice backb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 services deliv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et backb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 infra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DSL backb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380880" y="1143000"/>
            <a:ext cx="8383680" cy="4649760"/>
            <a:chOff x="380880" y="1143000"/>
            <a:chExt cx="8383680" cy="4649760"/>
          </a:xfrm>
        </p:grpSpPr>
        <p:sp>
          <p:nvSpPr>
            <p:cNvPr id="110" name=""/>
            <p:cNvSpPr/>
            <p:nvPr/>
          </p:nvSpPr>
          <p:spPr>
            <a:xfrm>
              <a:off x="1773360" y="1432080"/>
              <a:ext cx="382320" cy="158760"/>
            </a:xfrm>
            <a:custGeom>
              <a:avLst/>
              <a:gdLst/>
              <a:ahLst/>
              <a:rect l="l" t="t" r="r" b="b"/>
              <a:pathLst>
                <a:path w="241" h="100">
                  <a:moveTo>
                    <a:pt x="110" y="14"/>
                  </a:moveTo>
                  <a:lnTo>
                    <a:pt x="68" y="14"/>
                  </a:lnTo>
                  <a:lnTo>
                    <a:pt x="54" y="14"/>
                  </a:lnTo>
                  <a:lnTo>
                    <a:pt x="11" y="27"/>
                  </a:lnTo>
                  <a:lnTo>
                    <a:pt x="0" y="54"/>
                  </a:lnTo>
                  <a:lnTo>
                    <a:pt x="41" y="54"/>
                  </a:lnTo>
                  <a:lnTo>
                    <a:pt x="68" y="41"/>
                  </a:lnTo>
                  <a:lnTo>
                    <a:pt x="54" y="71"/>
                  </a:lnTo>
                  <a:lnTo>
                    <a:pt x="96" y="71"/>
                  </a:lnTo>
                  <a:lnTo>
                    <a:pt x="96" y="99"/>
                  </a:lnTo>
                  <a:lnTo>
                    <a:pt x="110" y="99"/>
                  </a:lnTo>
                  <a:lnTo>
                    <a:pt x="169" y="84"/>
                  </a:lnTo>
                  <a:lnTo>
                    <a:pt x="240" y="71"/>
                  </a:lnTo>
                  <a:lnTo>
                    <a:pt x="227" y="54"/>
                  </a:lnTo>
                  <a:lnTo>
                    <a:pt x="198" y="54"/>
                  </a:lnTo>
                  <a:lnTo>
                    <a:pt x="214" y="27"/>
                  </a:lnTo>
                  <a:lnTo>
                    <a:pt x="182" y="27"/>
                  </a:lnTo>
                  <a:lnTo>
                    <a:pt x="182" y="0"/>
                  </a:lnTo>
                  <a:lnTo>
                    <a:pt x="169" y="0"/>
                  </a:lnTo>
                  <a:lnTo>
                    <a:pt x="140" y="41"/>
                  </a:lnTo>
                  <a:lnTo>
                    <a:pt x="110" y="14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9240" y="1360440"/>
              <a:ext cx="117360" cy="730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59" y="0"/>
                  </a:moveTo>
                  <a:lnTo>
                    <a:pt x="14" y="0"/>
                  </a:lnTo>
                  <a:lnTo>
                    <a:pt x="0" y="15"/>
                  </a:lnTo>
                  <a:lnTo>
                    <a:pt x="43" y="15"/>
                  </a:lnTo>
                  <a:lnTo>
                    <a:pt x="0" y="30"/>
                  </a:lnTo>
                  <a:lnTo>
                    <a:pt x="59" y="45"/>
                  </a:lnTo>
                  <a:lnTo>
                    <a:pt x="73" y="15"/>
                  </a:lnTo>
                  <a:lnTo>
                    <a:pt x="59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3840" y="1344600"/>
              <a:ext cx="130320" cy="90360"/>
            </a:xfrm>
            <a:custGeom>
              <a:avLst/>
              <a:gdLst/>
              <a:ahLst/>
              <a:rect l="l" t="t" r="r" b="b"/>
              <a:pathLst>
                <a:path w="82" h="57">
                  <a:moveTo>
                    <a:pt x="81" y="51"/>
                  </a:moveTo>
                  <a:lnTo>
                    <a:pt x="81" y="37"/>
                  </a:lnTo>
                  <a:lnTo>
                    <a:pt x="57" y="25"/>
                  </a:lnTo>
                  <a:lnTo>
                    <a:pt x="27" y="0"/>
                  </a:lnTo>
                  <a:lnTo>
                    <a:pt x="4" y="0"/>
                  </a:lnTo>
                  <a:lnTo>
                    <a:pt x="0" y="17"/>
                  </a:lnTo>
                  <a:lnTo>
                    <a:pt x="25" y="30"/>
                  </a:lnTo>
                  <a:lnTo>
                    <a:pt x="4" y="38"/>
                  </a:lnTo>
                  <a:lnTo>
                    <a:pt x="4" y="56"/>
                  </a:lnTo>
                  <a:lnTo>
                    <a:pt x="48" y="43"/>
                  </a:lnTo>
                  <a:lnTo>
                    <a:pt x="64" y="44"/>
                  </a:lnTo>
                  <a:lnTo>
                    <a:pt x="66" y="51"/>
                  </a:lnTo>
                  <a:lnTo>
                    <a:pt x="81" y="51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35320" y="1373040"/>
              <a:ext cx="88920" cy="92160"/>
            </a:xfrm>
            <a:custGeom>
              <a:avLst/>
              <a:gdLst/>
              <a:ahLst/>
              <a:rect l="l" t="t" r="r" b="b"/>
              <a:pathLst>
                <a:path w="56" h="58">
                  <a:moveTo>
                    <a:pt x="44" y="57"/>
                  </a:moveTo>
                  <a:lnTo>
                    <a:pt x="55" y="45"/>
                  </a:lnTo>
                  <a:lnTo>
                    <a:pt x="49" y="21"/>
                  </a:lnTo>
                  <a:lnTo>
                    <a:pt x="28" y="12"/>
                  </a:lnTo>
                  <a:lnTo>
                    <a:pt x="26" y="0"/>
                  </a:lnTo>
                  <a:lnTo>
                    <a:pt x="0" y="0"/>
                  </a:lnTo>
                  <a:lnTo>
                    <a:pt x="2" y="32"/>
                  </a:lnTo>
                  <a:lnTo>
                    <a:pt x="24" y="57"/>
                  </a:lnTo>
                  <a:lnTo>
                    <a:pt x="44" y="57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68600" y="1552680"/>
              <a:ext cx="482400" cy="233280"/>
            </a:xfrm>
            <a:custGeom>
              <a:avLst/>
              <a:gdLst/>
              <a:ahLst/>
              <a:rect l="l" t="t" r="r" b="b"/>
              <a:pathLst>
                <a:path w="304" h="147">
                  <a:moveTo>
                    <a:pt x="123" y="12"/>
                  </a:moveTo>
                  <a:lnTo>
                    <a:pt x="56" y="7"/>
                  </a:lnTo>
                  <a:lnTo>
                    <a:pt x="28" y="0"/>
                  </a:lnTo>
                  <a:lnTo>
                    <a:pt x="35" y="12"/>
                  </a:lnTo>
                  <a:lnTo>
                    <a:pt x="0" y="60"/>
                  </a:lnTo>
                  <a:lnTo>
                    <a:pt x="0" y="80"/>
                  </a:lnTo>
                  <a:lnTo>
                    <a:pt x="12" y="93"/>
                  </a:lnTo>
                  <a:lnTo>
                    <a:pt x="21" y="110"/>
                  </a:lnTo>
                  <a:lnTo>
                    <a:pt x="50" y="107"/>
                  </a:lnTo>
                  <a:lnTo>
                    <a:pt x="50" y="95"/>
                  </a:lnTo>
                  <a:lnTo>
                    <a:pt x="64" y="94"/>
                  </a:lnTo>
                  <a:lnTo>
                    <a:pt x="84" y="51"/>
                  </a:lnTo>
                  <a:lnTo>
                    <a:pt x="100" y="64"/>
                  </a:lnTo>
                  <a:lnTo>
                    <a:pt x="84" y="74"/>
                  </a:lnTo>
                  <a:lnTo>
                    <a:pt x="84" y="100"/>
                  </a:lnTo>
                  <a:lnTo>
                    <a:pt x="97" y="93"/>
                  </a:lnTo>
                  <a:lnTo>
                    <a:pt x="84" y="113"/>
                  </a:lnTo>
                  <a:lnTo>
                    <a:pt x="84" y="124"/>
                  </a:lnTo>
                  <a:lnTo>
                    <a:pt x="129" y="134"/>
                  </a:lnTo>
                  <a:lnTo>
                    <a:pt x="189" y="143"/>
                  </a:lnTo>
                  <a:lnTo>
                    <a:pt x="216" y="124"/>
                  </a:lnTo>
                  <a:lnTo>
                    <a:pt x="242" y="143"/>
                  </a:lnTo>
                  <a:lnTo>
                    <a:pt x="294" y="146"/>
                  </a:lnTo>
                  <a:lnTo>
                    <a:pt x="297" y="128"/>
                  </a:lnTo>
                  <a:lnTo>
                    <a:pt x="268" y="105"/>
                  </a:lnTo>
                  <a:lnTo>
                    <a:pt x="280" y="77"/>
                  </a:lnTo>
                  <a:lnTo>
                    <a:pt x="298" y="55"/>
                  </a:lnTo>
                  <a:lnTo>
                    <a:pt x="303" y="31"/>
                  </a:lnTo>
                  <a:lnTo>
                    <a:pt x="248" y="28"/>
                  </a:lnTo>
                  <a:lnTo>
                    <a:pt x="242" y="60"/>
                  </a:lnTo>
                  <a:lnTo>
                    <a:pt x="219" y="64"/>
                  </a:lnTo>
                  <a:lnTo>
                    <a:pt x="211" y="84"/>
                  </a:lnTo>
                  <a:lnTo>
                    <a:pt x="183" y="44"/>
                  </a:lnTo>
                  <a:lnTo>
                    <a:pt x="169" y="60"/>
                  </a:lnTo>
                  <a:lnTo>
                    <a:pt x="157" y="48"/>
                  </a:lnTo>
                  <a:lnTo>
                    <a:pt x="162" y="31"/>
                  </a:lnTo>
                  <a:lnTo>
                    <a:pt x="129" y="28"/>
                  </a:lnTo>
                  <a:lnTo>
                    <a:pt x="123" y="12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63600" y="1592280"/>
              <a:ext cx="141480" cy="15084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88" y="7"/>
                  </a:moveTo>
                  <a:lnTo>
                    <a:pt x="60" y="0"/>
                  </a:lnTo>
                  <a:lnTo>
                    <a:pt x="31" y="7"/>
                  </a:lnTo>
                  <a:lnTo>
                    <a:pt x="20" y="23"/>
                  </a:lnTo>
                  <a:lnTo>
                    <a:pt x="38" y="23"/>
                  </a:lnTo>
                  <a:lnTo>
                    <a:pt x="31" y="34"/>
                  </a:lnTo>
                  <a:lnTo>
                    <a:pt x="0" y="39"/>
                  </a:lnTo>
                  <a:lnTo>
                    <a:pt x="11" y="60"/>
                  </a:lnTo>
                  <a:lnTo>
                    <a:pt x="27" y="59"/>
                  </a:lnTo>
                  <a:lnTo>
                    <a:pt x="31" y="70"/>
                  </a:lnTo>
                  <a:lnTo>
                    <a:pt x="47" y="94"/>
                  </a:lnTo>
                  <a:lnTo>
                    <a:pt x="86" y="69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76" y="30"/>
                  </a:lnTo>
                  <a:lnTo>
                    <a:pt x="88" y="18"/>
                  </a:lnTo>
                  <a:lnTo>
                    <a:pt x="88" y="7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74760" y="1495440"/>
              <a:ext cx="162000" cy="79200"/>
            </a:xfrm>
            <a:custGeom>
              <a:avLst/>
              <a:gdLst/>
              <a:ahLst/>
              <a:rect l="l" t="t" r="r" b="b"/>
              <a:pathLst>
                <a:path w="102" h="50">
                  <a:moveTo>
                    <a:pt x="4" y="0"/>
                  </a:moveTo>
                  <a:lnTo>
                    <a:pt x="0" y="10"/>
                  </a:lnTo>
                  <a:lnTo>
                    <a:pt x="20" y="34"/>
                  </a:lnTo>
                  <a:lnTo>
                    <a:pt x="54" y="33"/>
                  </a:lnTo>
                  <a:lnTo>
                    <a:pt x="44" y="44"/>
                  </a:lnTo>
                  <a:lnTo>
                    <a:pt x="88" y="49"/>
                  </a:lnTo>
                  <a:lnTo>
                    <a:pt x="95" y="25"/>
                  </a:lnTo>
                  <a:lnTo>
                    <a:pt x="101" y="0"/>
                  </a:lnTo>
                  <a:lnTo>
                    <a:pt x="54" y="1"/>
                  </a:lnTo>
                  <a:lnTo>
                    <a:pt x="47" y="17"/>
                  </a:lnTo>
                  <a:lnTo>
                    <a:pt x="20" y="10"/>
                  </a:lnTo>
                  <a:lnTo>
                    <a:pt x="4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6840" y="1598760"/>
              <a:ext cx="576360" cy="533160"/>
            </a:xfrm>
            <a:custGeom>
              <a:avLst/>
              <a:gdLst/>
              <a:ahLst/>
              <a:rect l="l" t="t" r="r" b="b"/>
              <a:pathLst>
                <a:path w="363" h="336">
                  <a:moveTo>
                    <a:pt x="63" y="0"/>
                  </a:moveTo>
                  <a:lnTo>
                    <a:pt x="30" y="15"/>
                  </a:lnTo>
                  <a:lnTo>
                    <a:pt x="0" y="64"/>
                  </a:lnTo>
                  <a:lnTo>
                    <a:pt x="10" y="100"/>
                  </a:lnTo>
                  <a:lnTo>
                    <a:pt x="68" y="115"/>
                  </a:lnTo>
                  <a:lnTo>
                    <a:pt x="139" y="115"/>
                  </a:lnTo>
                  <a:lnTo>
                    <a:pt x="154" y="143"/>
                  </a:lnTo>
                  <a:lnTo>
                    <a:pt x="189" y="145"/>
                  </a:lnTo>
                  <a:lnTo>
                    <a:pt x="212" y="175"/>
                  </a:lnTo>
                  <a:lnTo>
                    <a:pt x="196" y="207"/>
                  </a:lnTo>
                  <a:lnTo>
                    <a:pt x="167" y="238"/>
                  </a:lnTo>
                  <a:lnTo>
                    <a:pt x="134" y="237"/>
                  </a:lnTo>
                  <a:lnTo>
                    <a:pt x="110" y="250"/>
                  </a:lnTo>
                  <a:lnTo>
                    <a:pt x="189" y="267"/>
                  </a:lnTo>
                  <a:lnTo>
                    <a:pt x="227" y="317"/>
                  </a:lnTo>
                  <a:lnTo>
                    <a:pt x="276" y="335"/>
                  </a:lnTo>
                  <a:lnTo>
                    <a:pt x="276" y="320"/>
                  </a:lnTo>
                  <a:lnTo>
                    <a:pt x="253" y="287"/>
                  </a:lnTo>
                  <a:lnTo>
                    <a:pt x="295" y="314"/>
                  </a:lnTo>
                  <a:lnTo>
                    <a:pt x="309" y="303"/>
                  </a:lnTo>
                  <a:lnTo>
                    <a:pt x="280" y="253"/>
                  </a:lnTo>
                  <a:lnTo>
                    <a:pt x="275" y="222"/>
                  </a:lnTo>
                  <a:lnTo>
                    <a:pt x="298" y="222"/>
                  </a:lnTo>
                  <a:lnTo>
                    <a:pt x="309" y="253"/>
                  </a:lnTo>
                  <a:lnTo>
                    <a:pt x="341" y="258"/>
                  </a:lnTo>
                  <a:lnTo>
                    <a:pt x="362" y="228"/>
                  </a:lnTo>
                  <a:lnTo>
                    <a:pt x="362" y="195"/>
                  </a:lnTo>
                  <a:lnTo>
                    <a:pt x="322" y="172"/>
                  </a:lnTo>
                  <a:lnTo>
                    <a:pt x="305" y="172"/>
                  </a:lnTo>
                  <a:lnTo>
                    <a:pt x="295" y="156"/>
                  </a:lnTo>
                  <a:lnTo>
                    <a:pt x="269" y="145"/>
                  </a:lnTo>
                  <a:lnTo>
                    <a:pt x="306" y="140"/>
                  </a:lnTo>
                  <a:lnTo>
                    <a:pt x="301" y="126"/>
                  </a:lnTo>
                  <a:lnTo>
                    <a:pt x="275" y="100"/>
                  </a:lnTo>
                  <a:lnTo>
                    <a:pt x="275" y="79"/>
                  </a:lnTo>
                  <a:lnTo>
                    <a:pt x="227" y="74"/>
                  </a:lnTo>
                  <a:lnTo>
                    <a:pt x="222" y="60"/>
                  </a:lnTo>
                  <a:lnTo>
                    <a:pt x="194" y="46"/>
                  </a:lnTo>
                  <a:lnTo>
                    <a:pt x="175" y="12"/>
                  </a:lnTo>
                  <a:lnTo>
                    <a:pt x="120" y="10"/>
                  </a:lnTo>
                  <a:lnTo>
                    <a:pt x="81" y="18"/>
                  </a:lnTo>
                  <a:lnTo>
                    <a:pt x="57" y="66"/>
                  </a:lnTo>
                  <a:lnTo>
                    <a:pt x="68" y="12"/>
                  </a:lnTo>
                  <a:lnTo>
                    <a:pt x="63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05160" y="1930320"/>
              <a:ext cx="156960" cy="184320"/>
            </a:xfrm>
            <a:custGeom>
              <a:avLst/>
              <a:gdLst/>
              <a:ahLst/>
              <a:rect l="l" t="t" r="r" b="b"/>
              <a:pathLst>
                <a:path w="99" h="116">
                  <a:moveTo>
                    <a:pt x="38" y="0"/>
                  </a:moveTo>
                  <a:lnTo>
                    <a:pt x="32" y="30"/>
                  </a:lnTo>
                  <a:lnTo>
                    <a:pt x="2" y="61"/>
                  </a:lnTo>
                  <a:lnTo>
                    <a:pt x="0" y="83"/>
                  </a:lnTo>
                  <a:lnTo>
                    <a:pt x="32" y="73"/>
                  </a:lnTo>
                  <a:lnTo>
                    <a:pt x="44" y="81"/>
                  </a:lnTo>
                  <a:lnTo>
                    <a:pt x="21" y="92"/>
                  </a:lnTo>
                  <a:lnTo>
                    <a:pt x="38" y="115"/>
                  </a:lnTo>
                  <a:lnTo>
                    <a:pt x="58" y="100"/>
                  </a:lnTo>
                  <a:lnTo>
                    <a:pt x="69" y="79"/>
                  </a:lnTo>
                  <a:lnTo>
                    <a:pt x="98" y="71"/>
                  </a:lnTo>
                  <a:lnTo>
                    <a:pt x="83" y="48"/>
                  </a:lnTo>
                  <a:lnTo>
                    <a:pt x="46" y="18"/>
                  </a:lnTo>
                  <a:lnTo>
                    <a:pt x="38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27200" y="2085840"/>
              <a:ext cx="41400" cy="3816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25" y="0"/>
                  </a:moveTo>
                  <a:lnTo>
                    <a:pt x="6" y="7"/>
                  </a:lnTo>
                  <a:lnTo>
                    <a:pt x="0" y="23"/>
                  </a:lnTo>
                  <a:lnTo>
                    <a:pt x="15" y="23"/>
                  </a:lnTo>
                  <a:lnTo>
                    <a:pt x="25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9600" y="1166760"/>
              <a:ext cx="752400" cy="330120"/>
            </a:xfrm>
            <a:custGeom>
              <a:avLst/>
              <a:gdLst/>
              <a:ahLst/>
              <a:rect l="l" t="t" r="r" b="b"/>
              <a:pathLst>
                <a:path w="474" h="208">
                  <a:moveTo>
                    <a:pt x="473" y="31"/>
                  </a:moveTo>
                  <a:lnTo>
                    <a:pt x="418" y="18"/>
                  </a:lnTo>
                  <a:lnTo>
                    <a:pt x="364" y="15"/>
                  </a:lnTo>
                  <a:lnTo>
                    <a:pt x="329" y="0"/>
                  </a:lnTo>
                  <a:lnTo>
                    <a:pt x="229" y="5"/>
                  </a:lnTo>
                  <a:lnTo>
                    <a:pt x="195" y="18"/>
                  </a:lnTo>
                  <a:lnTo>
                    <a:pt x="134" y="18"/>
                  </a:lnTo>
                  <a:lnTo>
                    <a:pt x="122" y="34"/>
                  </a:lnTo>
                  <a:lnTo>
                    <a:pt x="70" y="37"/>
                  </a:lnTo>
                  <a:lnTo>
                    <a:pt x="128" y="69"/>
                  </a:lnTo>
                  <a:lnTo>
                    <a:pt x="114" y="83"/>
                  </a:lnTo>
                  <a:lnTo>
                    <a:pt x="81" y="67"/>
                  </a:lnTo>
                  <a:lnTo>
                    <a:pt x="62" y="58"/>
                  </a:lnTo>
                  <a:lnTo>
                    <a:pt x="56" y="46"/>
                  </a:lnTo>
                  <a:lnTo>
                    <a:pt x="27" y="48"/>
                  </a:lnTo>
                  <a:lnTo>
                    <a:pt x="1" y="61"/>
                  </a:lnTo>
                  <a:lnTo>
                    <a:pt x="0" y="106"/>
                  </a:lnTo>
                  <a:lnTo>
                    <a:pt x="21" y="115"/>
                  </a:lnTo>
                  <a:lnTo>
                    <a:pt x="53" y="115"/>
                  </a:lnTo>
                  <a:lnTo>
                    <a:pt x="31" y="135"/>
                  </a:lnTo>
                  <a:lnTo>
                    <a:pt x="62" y="162"/>
                  </a:lnTo>
                  <a:lnTo>
                    <a:pt x="70" y="146"/>
                  </a:lnTo>
                  <a:lnTo>
                    <a:pt x="122" y="115"/>
                  </a:lnTo>
                  <a:lnTo>
                    <a:pt x="138" y="117"/>
                  </a:lnTo>
                  <a:lnTo>
                    <a:pt x="92" y="145"/>
                  </a:lnTo>
                  <a:lnTo>
                    <a:pt x="120" y="158"/>
                  </a:lnTo>
                  <a:lnTo>
                    <a:pt x="94" y="166"/>
                  </a:lnTo>
                  <a:lnTo>
                    <a:pt x="70" y="192"/>
                  </a:lnTo>
                  <a:lnTo>
                    <a:pt x="117" y="202"/>
                  </a:lnTo>
                  <a:lnTo>
                    <a:pt x="225" y="207"/>
                  </a:lnTo>
                  <a:lnTo>
                    <a:pt x="201" y="186"/>
                  </a:lnTo>
                  <a:lnTo>
                    <a:pt x="229" y="168"/>
                  </a:lnTo>
                  <a:lnTo>
                    <a:pt x="245" y="136"/>
                  </a:lnTo>
                  <a:lnTo>
                    <a:pt x="279" y="133"/>
                  </a:lnTo>
                  <a:lnTo>
                    <a:pt x="274" y="115"/>
                  </a:lnTo>
                  <a:lnTo>
                    <a:pt x="319" y="112"/>
                  </a:lnTo>
                  <a:lnTo>
                    <a:pt x="345" y="80"/>
                  </a:lnTo>
                  <a:lnTo>
                    <a:pt x="402" y="70"/>
                  </a:lnTo>
                  <a:lnTo>
                    <a:pt x="442" y="43"/>
                  </a:lnTo>
                  <a:lnTo>
                    <a:pt x="473" y="31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52600" y="1476360"/>
              <a:ext cx="363600" cy="117360"/>
            </a:xfrm>
            <a:custGeom>
              <a:avLst/>
              <a:gdLst/>
              <a:ahLst/>
              <a:rect l="l" t="t" r="r" b="b"/>
              <a:pathLst>
                <a:path w="229" h="74">
                  <a:moveTo>
                    <a:pt x="0" y="0"/>
                  </a:moveTo>
                  <a:lnTo>
                    <a:pt x="40" y="14"/>
                  </a:lnTo>
                  <a:lnTo>
                    <a:pt x="80" y="11"/>
                  </a:lnTo>
                  <a:lnTo>
                    <a:pt x="131" y="40"/>
                  </a:lnTo>
                  <a:lnTo>
                    <a:pt x="228" y="40"/>
                  </a:lnTo>
                  <a:lnTo>
                    <a:pt x="215" y="73"/>
                  </a:lnTo>
                  <a:lnTo>
                    <a:pt x="129" y="70"/>
                  </a:lnTo>
                  <a:lnTo>
                    <a:pt x="77" y="60"/>
                  </a:lnTo>
                  <a:lnTo>
                    <a:pt x="47" y="54"/>
                  </a:lnTo>
                  <a:lnTo>
                    <a:pt x="33" y="25"/>
                  </a:ln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32120" y="1143000"/>
              <a:ext cx="1312920" cy="1101600"/>
            </a:xfrm>
            <a:custGeom>
              <a:avLst/>
              <a:gdLst/>
              <a:ahLst/>
              <a:rect l="l" t="t" r="r" b="b"/>
              <a:pathLst>
                <a:path w="827" h="694">
                  <a:moveTo>
                    <a:pt x="697" y="49"/>
                  </a:moveTo>
                  <a:lnTo>
                    <a:pt x="673" y="33"/>
                  </a:lnTo>
                  <a:lnTo>
                    <a:pt x="624" y="30"/>
                  </a:lnTo>
                  <a:lnTo>
                    <a:pt x="598" y="20"/>
                  </a:lnTo>
                  <a:lnTo>
                    <a:pt x="556" y="30"/>
                  </a:lnTo>
                  <a:lnTo>
                    <a:pt x="604" y="5"/>
                  </a:lnTo>
                  <a:lnTo>
                    <a:pt x="534" y="0"/>
                  </a:lnTo>
                  <a:lnTo>
                    <a:pt x="482" y="11"/>
                  </a:lnTo>
                  <a:lnTo>
                    <a:pt x="402" y="18"/>
                  </a:lnTo>
                  <a:lnTo>
                    <a:pt x="363" y="33"/>
                  </a:lnTo>
                  <a:lnTo>
                    <a:pt x="318" y="37"/>
                  </a:lnTo>
                  <a:lnTo>
                    <a:pt x="302" y="59"/>
                  </a:lnTo>
                  <a:lnTo>
                    <a:pt x="266" y="46"/>
                  </a:lnTo>
                  <a:lnTo>
                    <a:pt x="199" y="59"/>
                  </a:lnTo>
                  <a:lnTo>
                    <a:pt x="157" y="67"/>
                  </a:lnTo>
                  <a:lnTo>
                    <a:pt x="128" y="98"/>
                  </a:lnTo>
                  <a:lnTo>
                    <a:pt x="91" y="114"/>
                  </a:lnTo>
                  <a:lnTo>
                    <a:pt x="110" y="129"/>
                  </a:lnTo>
                  <a:lnTo>
                    <a:pt x="82" y="144"/>
                  </a:lnTo>
                  <a:lnTo>
                    <a:pt x="36" y="151"/>
                  </a:lnTo>
                  <a:lnTo>
                    <a:pt x="0" y="183"/>
                  </a:lnTo>
                  <a:lnTo>
                    <a:pt x="34" y="197"/>
                  </a:lnTo>
                  <a:lnTo>
                    <a:pt x="10" y="213"/>
                  </a:lnTo>
                  <a:lnTo>
                    <a:pt x="24" y="229"/>
                  </a:lnTo>
                  <a:lnTo>
                    <a:pt x="73" y="229"/>
                  </a:lnTo>
                  <a:lnTo>
                    <a:pt x="65" y="248"/>
                  </a:lnTo>
                  <a:lnTo>
                    <a:pt x="185" y="251"/>
                  </a:lnTo>
                  <a:lnTo>
                    <a:pt x="214" y="274"/>
                  </a:lnTo>
                  <a:lnTo>
                    <a:pt x="204" y="336"/>
                  </a:lnTo>
                  <a:lnTo>
                    <a:pt x="227" y="358"/>
                  </a:lnTo>
                  <a:lnTo>
                    <a:pt x="202" y="381"/>
                  </a:lnTo>
                  <a:lnTo>
                    <a:pt x="243" y="388"/>
                  </a:lnTo>
                  <a:lnTo>
                    <a:pt x="210" y="391"/>
                  </a:lnTo>
                  <a:lnTo>
                    <a:pt x="214" y="425"/>
                  </a:lnTo>
                  <a:lnTo>
                    <a:pt x="259" y="436"/>
                  </a:lnTo>
                  <a:lnTo>
                    <a:pt x="243" y="447"/>
                  </a:lnTo>
                  <a:lnTo>
                    <a:pt x="215" y="447"/>
                  </a:lnTo>
                  <a:lnTo>
                    <a:pt x="202" y="479"/>
                  </a:lnTo>
                  <a:lnTo>
                    <a:pt x="221" y="532"/>
                  </a:lnTo>
                  <a:lnTo>
                    <a:pt x="259" y="602"/>
                  </a:lnTo>
                  <a:lnTo>
                    <a:pt x="259" y="623"/>
                  </a:lnTo>
                  <a:lnTo>
                    <a:pt x="292" y="672"/>
                  </a:lnTo>
                  <a:lnTo>
                    <a:pt x="340" y="693"/>
                  </a:lnTo>
                  <a:lnTo>
                    <a:pt x="352" y="668"/>
                  </a:lnTo>
                  <a:lnTo>
                    <a:pt x="397" y="616"/>
                  </a:lnTo>
                  <a:lnTo>
                    <a:pt x="399" y="542"/>
                  </a:lnTo>
                  <a:lnTo>
                    <a:pt x="430" y="547"/>
                  </a:lnTo>
                  <a:lnTo>
                    <a:pt x="440" y="526"/>
                  </a:lnTo>
                  <a:lnTo>
                    <a:pt x="470" y="525"/>
                  </a:lnTo>
                  <a:lnTo>
                    <a:pt x="497" y="502"/>
                  </a:lnTo>
                  <a:lnTo>
                    <a:pt x="539" y="463"/>
                  </a:lnTo>
                  <a:lnTo>
                    <a:pt x="591" y="460"/>
                  </a:lnTo>
                  <a:lnTo>
                    <a:pt x="608" y="441"/>
                  </a:lnTo>
                  <a:lnTo>
                    <a:pt x="681" y="427"/>
                  </a:lnTo>
                  <a:lnTo>
                    <a:pt x="681" y="414"/>
                  </a:lnTo>
                  <a:lnTo>
                    <a:pt x="627" y="410"/>
                  </a:lnTo>
                  <a:lnTo>
                    <a:pt x="621" y="381"/>
                  </a:lnTo>
                  <a:lnTo>
                    <a:pt x="643" y="399"/>
                  </a:lnTo>
                  <a:lnTo>
                    <a:pt x="686" y="395"/>
                  </a:lnTo>
                  <a:lnTo>
                    <a:pt x="646" y="366"/>
                  </a:lnTo>
                  <a:lnTo>
                    <a:pt x="650" y="347"/>
                  </a:lnTo>
                  <a:lnTo>
                    <a:pt x="676" y="362"/>
                  </a:lnTo>
                  <a:lnTo>
                    <a:pt x="691" y="333"/>
                  </a:lnTo>
                  <a:lnTo>
                    <a:pt x="673" y="310"/>
                  </a:lnTo>
                  <a:lnTo>
                    <a:pt x="714" y="295"/>
                  </a:lnTo>
                  <a:lnTo>
                    <a:pt x="691" y="262"/>
                  </a:lnTo>
                  <a:lnTo>
                    <a:pt x="708" y="262"/>
                  </a:lnTo>
                  <a:lnTo>
                    <a:pt x="691" y="229"/>
                  </a:lnTo>
                  <a:lnTo>
                    <a:pt x="710" y="229"/>
                  </a:lnTo>
                  <a:lnTo>
                    <a:pt x="728" y="236"/>
                  </a:lnTo>
                  <a:lnTo>
                    <a:pt x="736" y="213"/>
                  </a:lnTo>
                  <a:lnTo>
                    <a:pt x="708" y="187"/>
                  </a:lnTo>
                  <a:lnTo>
                    <a:pt x="715" y="129"/>
                  </a:lnTo>
                  <a:lnTo>
                    <a:pt x="756" y="124"/>
                  </a:lnTo>
                  <a:lnTo>
                    <a:pt x="765" y="103"/>
                  </a:lnTo>
                  <a:lnTo>
                    <a:pt x="826" y="82"/>
                  </a:lnTo>
                  <a:lnTo>
                    <a:pt x="808" y="67"/>
                  </a:lnTo>
                  <a:lnTo>
                    <a:pt x="773" y="66"/>
                  </a:lnTo>
                  <a:lnTo>
                    <a:pt x="740" y="85"/>
                  </a:lnTo>
                  <a:lnTo>
                    <a:pt x="697" y="82"/>
                  </a:lnTo>
                  <a:lnTo>
                    <a:pt x="666" y="102"/>
                  </a:lnTo>
                  <a:lnTo>
                    <a:pt x="676" y="67"/>
                  </a:lnTo>
                  <a:lnTo>
                    <a:pt x="636" y="60"/>
                  </a:lnTo>
                  <a:lnTo>
                    <a:pt x="672" y="53"/>
                  </a:lnTo>
                  <a:lnTo>
                    <a:pt x="697" y="49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14920" y="1933560"/>
              <a:ext cx="242640" cy="155520"/>
            </a:xfrm>
            <a:custGeom>
              <a:avLst/>
              <a:gdLst/>
              <a:ahLst/>
              <a:rect l="l" t="t" r="r" b="b"/>
              <a:pathLst>
                <a:path w="153" h="98">
                  <a:moveTo>
                    <a:pt x="107" y="0"/>
                  </a:moveTo>
                  <a:lnTo>
                    <a:pt x="73" y="21"/>
                  </a:lnTo>
                  <a:lnTo>
                    <a:pt x="45" y="21"/>
                  </a:lnTo>
                  <a:lnTo>
                    <a:pt x="35" y="5"/>
                  </a:lnTo>
                  <a:lnTo>
                    <a:pt x="0" y="33"/>
                  </a:lnTo>
                  <a:lnTo>
                    <a:pt x="15" y="68"/>
                  </a:lnTo>
                  <a:lnTo>
                    <a:pt x="14" y="89"/>
                  </a:lnTo>
                  <a:lnTo>
                    <a:pt x="87" y="97"/>
                  </a:lnTo>
                  <a:lnTo>
                    <a:pt x="114" y="76"/>
                  </a:lnTo>
                  <a:lnTo>
                    <a:pt x="149" y="69"/>
                  </a:lnTo>
                  <a:lnTo>
                    <a:pt x="152" y="5"/>
                  </a:lnTo>
                  <a:lnTo>
                    <a:pt x="123" y="11"/>
                  </a:lnTo>
                  <a:lnTo>
                    <a:pt x="107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0840" y="1558800"/>
              <a:ext cx="2700360" cy="2259000"/>
            </a:xfrm>
            <a:custGeom>
              <a:avLst/>
              <a:gdLst/>
              <a:ahLst/>
              <a:rect l="l" t="t" r="r" b="b"/>
              <a:pathLst>
                <a:path w="1701" h="1423">
                  <a:moveTo>
                    <a:pt x="1268" y="24"/>
                  </a:moveTo>
                  <a:lnTo>
                    <a:pt x="1226" y="0"/>
                  </a:lnTo>
                  <a:lnTo>
                    <a:pt x="1200" y="34"/>
                  </a:lnTo>
                  <a:lnTo>
                    <a:pt x="1197" y="92"/>
                  </a:lnTo>
                  <a:lnTo>
                    <a:pt x="1171" y="125"/>
                  </a:lnTo>
                  <a:lnTo>
                    <a:pt x="1182" y="149"/>
                  </a:lnTo>
                  <a:lnTo>
                    <a:pt x="1139" y="162"/>
                  </a:lnTo>
                  <a:lnTo>
                    <a:pt x="1130" y="125"/>
                  </a:lnTo>
                  <a:lnTo>
                    <a:pt x="1091" y="149"/>
                  </a:lnTo>
                  <a:lnTo>
                    <a:pt x="1087" y="175"/>
                  </a:lnTo>
                  <a:lnTo>
                    <a:pt x="1006" y="144"/>
                  </a:lnTo>
                  <a:lnTo>
                    <a:pt x="967" y="152"/>
                  </a:lnTo>
                  <a:lnTo>
                    <a:pt x="948" y="180"/>
                  </a:lnTo>
                  <a:lnTo>
                    <a:pt x="863" y="165"/>
                  </a:lnTo>
                  <a:lnTo>
                    <a:pt x="863" y="135"/>
                  </a:lnTo>
                  <a:lnTo>
                    <a:pt x="814" y="139"/>
                  </a:lnTo>
                  <a:lnTo>
                    <a:pt x="779" y="102"/>
                  </a:lnTo>
                  <a:lnTo>
                    <a:pt x="753" y="106"/>
                  </a:lnTo>
                  <a:lnTo>
                    <a:pt x="753" y="131"/>
                  </a:lnTo>
                  <a:lnTo>
                    <a:pt x="719" y="106"/>
                  </a:lnTo>
                  <a:lnTo>
                    <a:pt x="660" y="125"/>
                  </a:lnTo>
                  <a:lnTo>
                    <a:pt x="623" y="139"/>
                  </a:lnTo>
                  <a:lnTo>
                    <a:pt x="597" y="125"/>
                  </a:lnTo>
                  <a:lnTo>
                    <a:pt x="538" y="115"/>
                  </a:lnTo>
                  <a:lnTo>
                    <a:pt x="466" y="106"/>
                  </a:lnTo>
                  <a:lnTo>
                    <a:pt x="431" y="106"/>
                  </a:lnTo>
                  <a:lnTo>
                    <a:pt x="394" y="102"/>
                  </a:lnTo>
                  <a:lnTo>
                    <a:pt x="374" y="79"/>
                  </a:lnTo>
                  <a:lnTo>
                    <a:pt x="343" y="82"/>
                  </a:lnTo>
                  <a:lnTo>
                    <a:pt x="333" y="59"/>
                  </a:lnTo>
                  <a:lnTo>
                    <a:pt x="300" y="73"/>
                  </a:lnTo>
                  <a:lnTo>
                    <a:pt x="205" y="96"/>
                  </a:lnTo>
                  <a:lnTo>
                    <a:pt x="167" y="139"/>
                  </a:lnTo>
                  <a:lnTo>
                    <a:pt x="205" y="186"/>
                  </a:lnTo>
                  <a:lnTo>
                    <a:pt x="158" y="180"/>
                  </a:lnTo>
                  <a:lnTo>
                    <a:pt x="128" y="196"/>
                  </a:lnTo>
                  <a:lnTo>
                    <a:pt x="150" y="248"/>
                  </a:lnTo>
                  <a:lnTo>
                    <a:pt x="176" y="233"/>
                  </a:lnTo>
                  <a:lnTo>
                    <a:pt x="200" y="248"/>
                  </a:lnTo>
                  <a:lnTo>
                    <a:pt x="176" y="268"/>
                  </a:lnTo>
                  <a:lnTo>
                    <a:pt x="132" y="282"/>
                  </a:lnTo>
                  <a:lnTo>
                    <a:pt x="99" y="310"/>
                  </a:lnTo>
                  <a:lnTo>
                    <a:pt x="99" y="354"/>
                  </a:lnTo>
                  <a:lnTo>
                    <a:pt x="128" y="369"/>
                  </a:lnTo>
                  <a:lnTo>
                    <a:pt x="157" y="359"/>
                  </a:lnTo>
                  <a:lnTo>
                    <a:pt x="147" y="389"/>
                  </a:lnTo>
                  <a:lnTo>
                    <a:pt x="183" y="392"/>
                  </a:lnTo>
                  <a:lnTo>
                    <a:pt x="112" y="457"/>
                  </a:lnTo>
                  <a:lnTo>
                    <a:pt x="0" y="488"/>
                  </a:lnTo>
                  <a:lnTo>
                    <a:pt x="119" y="464"/>
                  </a:lnTo>
                  <a:lnTo>
                    <a:pt x="249" y="379"/>
                  </a:lnTo>
                  <a:lnTo>
                    <a:pt x="218" y="351"/>
                  </a:lnTo>
                  <a:lnTo>
                    <a:pt x="249" y="351"/>
                  </a:lnTo>
                  <a:lnTo>
                    <a:pt x="297" y="305"/>
                  </a:lnTo>
                  <a:lnTo>
                    <a:pt x="274" y="351"/>
                  </a:lnTo>
                  <a:lnTo>
                    <a:pt x="319" y="344"/>
                  </a:lnTo>
                  <a:lnTo>
                    <a:pt x="343" y="351"/>
                  </a:lnTo>
                  <a:lnTo>
                    <a:pt x="404" y="351"/>
                  </a:lnTo>
                  <a:lnTo>
                    <a:pt x="431" y="331"/>
                  </a:lnTo>
                  <a:lnTo>
                    <a:pt x="475" y="331"/>
                  </a:lnTo>
                  <a:lnTo>
                    <a:pt x="449" y="351"/>
                  </a:lnTo>
                  <a:lnTo>
                    <a:pt x="462" y="382"/>
                  </a:lnTo>
                  <a:lnTo>
                    <a:pt x="496" y="475"/>
                  </a:lnTo>
                  <a:lnTo>
                    <a:pt x="538" y="484"/>
                  </a:lnTo>
                  <a:lnTo>
                    <a:pt x="561" y="509"/>
                  </a:lnTo>
                  <a:lnTo>
                    <a:pt x="561" y="542"/>
                  </a:lnTo>
                  <a:lnTo>
                    <a:pt x="548" y="569"/>
                  </a:lnTo>
                  <a:lnTo>
                    <a:pt x="574" y="612"/>
                  </a:lnTo>
                  <a:lnTo>
                    <a:pt x="556" y="745"/>
                  </a:lnTo>
                  <a:lnTo>
                    <a:pt x="613" y="928"/>
                  </a:lnTo>
                  <a:lnTo>
                    <a:pt x="623" y="969"/>
                  </a:lnTo>
                  <a:lnTo>
                    <a:pt x="660" y="976"/>
                  </a:lnTo>
                  <a:lnTo>
                    <a:pt x="668" y="1032"/>
                  </a:lnTo>
                  <a:lnTo>
                    <a:pt x="684" y="1061"/>
                  </a:lnTo>
                  <a:lnTo>
                    <a:pt x="681" y="1103"/>
                  </a:lnTo>
                  <a:lnTo>
                    <a:pt x="712" y="1139"/>
                  </a:lnTo>
                  <a:lnTo>
                    <a:pt x="729" y="1168"/>
                  </a:lnTo>
                  <a:lnTo>
                    <a:pt x="759" y="1185"/>
                  </a:lnTo>
                  <a:lnTo>
                    <a:pt x="753" y="1147"/>
                  </a:lnTo>
                  <a:lnTo>
                    <a:pt x="723" y="1094"/>
                  </a:lnTo>
                  <a:lnTo>
                    <a:pt x="712" y="1055"/>
                  </a:lnTo>
                  <a:lnTo>
                    <a:pt x="707" y="1022"/>
                  </a:lnTo>
                  <a:lnTo>
                    <a:pt x="729" y="1070"/>
                  </a:lnTo>
                  <a:lnTo>
                    <a:pt x="756" y="1110"/>
                  </a:lnTo>
                  <a:lnTo>
                    <a:pt x="818" y="1181"/>
                  </a:lnTo>
                  <a:lnTo>
                    <a:pt x="862" y="1217"/>
                  </a:lnTo>
                  <a:lnTo>
                    <a:pt x="899" y="1240"/>
                  </a:lnTo>
                  <a:lnTo>
                    <a:pt x="941" y="1277"/>
                  </a:lnTo>
                  <a:lnTo>
                    <a:pt x="983" y="1293"/>
                  </a:lnTo>
                  <a:lnTo>
                    <a:pt x="1025" y="1309"/>
                  </a:lnTo>
                  <a:lnTo>
                    <a:pt x="1096" y="1391"/>
                  </a:lnTo>
                  <a:lnTo>
                    <a:pt x="1145" y="1422"/>
                  </a:lnTo>
                  <a:lnTo>
                    <a:pt x="1214" y="1401"/>
                  </a:lnTo>
                  <a:lnTo>
                    <a:pt x="1230" y="1359"/>
                  </a:lnTo>
                  <a:lnTo>
                    <a:pt x="1193" y="1377"/>
                  </a:lnTo>
                  <a:lnTo>
                    <a:pt x="1145" y="1372"/>
                  </a:lnTo>
                  <a:lnTo>
                    <a:pt x="1136" y="1349"/>
                  </a:lnTo>
                  <a:lnTo>
                    <a:pt x="1145" y="1321"/>
                  </a:lnTo>
                  <a:lnTo>
                    <a:pt x="1145" y="1282"/>
                  </a:lnTo>
                  <a:lnTo>
                    <a:pt x="1109" y="1257"/>
                  </a:lnTo>
                  <a:lnTo>
                    <a:pt x="1084" y="1253"/>
                  </a:lnTo>
                  <a:lnTo>
                    <a:pt x="1044" y="1253"/>
                  </a:lnTo>
                  <a:lnTo>
                    <a:pt x="1091" y="1224"/>
                  </a:lnTo>
                  <a:lnTo>
                    <a:pt x="1077" y="1191"/>
                  </a:lnTo>
                  <a:lnTo>
                    <a:pt x="1080" y="1139"/>
                  </a:lnTo>
                  <a:lnTo>
                    <a:pt x="1035" y="1147"/>
                  </a:lnTo>
                  <a:lnTo>
                    <a:pt x="1013" y="1176"/>
                  </a:lnTo>
                  <a:lnTo>
                    <a:pt x="967" y="1181"/>
                  </a:lnTo>
                  <a:lnTo>
                    <a:pt x="920" y="1158"/>
                  </a:lnTo>
                  <a:lnTo>
                    <a:pt x="915" y="1098"/>
                  </a:lnTo>
                  <a:lnTo>
                    <a:pt x="944" y="1070"/>
                  </a:lnTo>
                  <a:lnTo>
                    <a:pt x="944" y="1042"/>
                  </a:lnTo>
                  <a:lnTo>
                    <a:pt x="993" y="1008"/>
                  </a:lnTo>
                  <a:lnTo>
                    <a:pt x="1016" y="999"/>
                  </a:lnTo>
                  <a:lnTo>
                    <a:pt x="1051" y="1013"/>
                  </a:lnTo>
                  <a:lnTo>
                    <a:pt x="1077" y="1029"/>
                  </a:lnTo>
                  <a:lnTo>
                    <a:pt x="1077" y="1003"/>
                  </a:lnTo>
                  <a:lnTo>
                    <a:pt x="1113" y="1022"/>
                  </a:lnTo>
                  <a:lnTo>
                    <a:pt x="1159" y="1022"/>
                  </a:lnTo>
                  <a:lnTo>
                    <a:pt x="1159" y="1070"/>
                  </a:lnTo>
                  <a:lnTo>
                    <a:pt x="1182" y="1103"/>
                  </a:lnTo>
                  <a:lnTo>
                    <a:pt x="1208" y="1090"/>
                  </a:lnTo>
                  <a:lnTo>
                    <a:pt x="1208" y="1022"/>
                  </a:lnTo>
                  <a:lnTo>
                    <a:pt x="1256" y="924"/>
                  </a:lnTo>
                  <a:lnTo>
                    <a:pt x="1284" y="921"/>
                  </a:lnTo>
                  <a:lnTo>
                    <a:pt x="1294" y="889"/>
                  </a:lnTo>
                  <a:lnTo>
                    <a:pt x="1294" y="866"/>
                  </a:lnTo>
                  <a:lnTo>
                    <a:pt x="1327" y="832"/>
                  </a:lnTo>
                  <a:lnTo>
                    <a:pt x="1349" y="800"/>
                  </a:lnTo>
                  <a:lnTo>
                    <a:pt x="1390" y="793"/>
                  </a:lnTo>
                  <a:lnTo>
                    <a:pt x="1402" y="760"/>
                  </a:lnTo>
                  <a:lnTo>
                    <a:pt x="1405" y="731"/>
                  </a:lnTo>
                  <a:lnTo>
                    <a:pt x="1451" y="721"/>
                  </a:lnTo>
                  <a:lnTo>
                    <a:pt x="1496" y="708"/>
                  </a:lnTo>
                  <a:lnTo>
                    <a:pt x="1503" y="736"/>
                  </a:lnTo>
                  <a:lnTo>
                    <a:pt x="1490" y="760"/>
                  </a:lnTo>
                  <a:lnTo>
                    <a:pt x="1480" y="783"/>
                  </a:lnTo>
                  <a:lnTo>
                    <a:pt x="1519" y="788"/>
                  </a:lnTo>
                  <a:lnTo>
                    <a:pt x="1545" y="755"/>
                  </a:lnTo>
                  <a:lnTo>
                    <a:pt x="1584" y="741"/>
                  </a:lnTo>
                  <a:lnTo>
                    <a:pt x="1584" y="708"/>
                  </a:lnTo>
                  <a:lnTo>
                    <a:pt x="1558" y="698"/>
                  </a:lnTo>
                  <a:lnTo>
                    <a:pt x="1516" y="712"/>
                  </a:lnTo>
                  <a:lnTo>
                    <a:pt x="1529" y="679"/>
                  </a:lnTo>
                  <a:lnTo>
                    <a:pt x="1496" y="663"/>
                  </a:lnTo>
                  <a:lnTo>
                    <a:pt x="1438" y="683"/>
                  </a:lnTo>
                  <a:lnTo>
                    <a:pt x="1496" y="650"/>
                  </a:lnTo>
                  <a:lnTo>
                    <a:pt x="1585" y="656"/>
                  </a:lnTo>
                  <a:lnTo>
                    <a:pt x="1623" y="640"/>
                  </a:lnTo>
                  <a:lnTo>
                    <a:pt x="1632" y="663"/>
                  </a:lnTo>
                  <a:lnTo>
                    <a:pt x="1593" y="683"/>
                  </a:lnTo>
                  <a:lnTo>
                    <a:pt x="1632" y="712"/>
                  </a:lnTo>
                  <a:lnTo>
                    <a:pt x="1671" y="712"/>
                  </a:lnTo>
                  <a:lnTo>
                    <a:pt x="1700" y="712"/>
                  </a:lnTo>
                  <a:lnTo>
                    <a:pt x="1694" y="663"/>
                  </a:lnTo>
                  <a:lnTo>
                    <a:pt x="1668" y="656"/>
                  </a:lnTo>
                  <a:lnTo>
                    <a:pt x="1655" y="631"/>
                  </a:lnTo>
                  <a:lnTo>
                    <a:pt x="1671" y="561"/>
                  </a:lnTo>
                  <a:lnTo>
                    <a:pt x="1632" y="532"/>
                  </a:lnTo>
                  <a:lnTo>
                    <a:pt x="1597" y="523"/>
                  </a:lnTo>
                  <a:lnTo>
                    <a:pt x="1593" y="471"/>
                  </a:lnTo>
                  <a:lnTo>
                    <a:pt x="1571" y="426"/>
                  </a:lnTo>
                  <a:lnTo>
                    <a:pt x="1558" y="382"/>
                  </a:lnTo>
                  <a:lnTo>
                    <a:pt x="1525" y="374"/>
                  </a:lnTo>
                  <a:lnTo>
                    <a:pt x="1519" y="416"/>
                  </a:lnTo>
                  <a:lnTo>
                    <a:pt x="1496" y="431"/>
                  </a:lnTo>
                  <a:lnTo>
                    <a:pt x="1477" y="398"/>
                  </a:lnTo>
                  <a:lnTo>
                    <a:pt x="1477" y="354"/>
                  </a:lnTo>
                  <a:lnTo>
                    <a:pt x="1447" y="351"/>
                  </a:lnTo>
                  <a:lnTo>
                    <a:pt x="1434" y="325"/>
                  </a:lnTo>
                  <a:lnTo>
                    <a:pt x="1357" y="325"/>
                  </a:lnTo>
                  <a:lnTo>
                    <a:pt x="1364" y="359"/>
                  </a:lnTo>
                  <a:lnTo>
                    <a:pt x="1357" y="392"/>
                  </a:lnTo>
                  <a:lnTo>
                    <a:pt x="1338" y="422"/>
                  </a:lnTo>
                  <a:lnTo>
                    <a:pt x="1357" y="447"/>
                  </a:lnTo>
                  <a:lnTo>
                    <a:pt x="1344" y="484"/>
                  </a:lnTo>
                  <a:lnTo>
                    <a:pt x="1305" y="509"/>
                  </a:lnTo>
                  <a:lnTo>
                    <a:pt x="1308" y="575"/>
                  </a:lnTo>
                  <a:lnTo>
                    <a:pt x="1284" y="575"/>
                  </a:lnTo>
                  <a:lnTo>
                    <a:pt x="1294" y="546"/>
                  </a:lnTo>
                  <a:lnTo>
                    <a:pt x="1281" y="497"/>
                  </a:lnTo>
                  <a:lnTo>
                    <a:pt x="1256" y="494"/>
                  </a:lnTo>
                  <a:lnTo>
                    <a:pt x="1216" y="475"/>
                  </a:lnTo>
                  <a:lnTo>
                    <a:pt x="1182" y="449"/>
                  </a:lnTo>
                  <a:lnTo>
                    <a:pt x="1145" y="405"/>
                  </a:lnTo>
                  <a:lnTo>
                    <a:pt x="1117" y="392"/>
                  </a:lnTo>
                  <a:lnTo>
                    <a:pt x="1133" y="344"/>
                  </a:lnTo>
                  <a:lnTo>
                    <a:pt x="1159" y="331"/>
                  </a:lnTo>
                  <a:lnTo>
                    <a:pt x="1185" y="325"/>
                  </a:lnTo>
                  <a:lnTo>
                    <a:pt x="1190" y="292"/>
                  </a:lnTo>
                  <a:lnTo>
                    <a:pt x="1234" y="282"/>
                  </a:lnTo>
                  <a:lnTo>
                    <a:pt x="1263" y="243"/>
                  </a:lnTo>
                  <a:lnTo>
                    <a:pt x="1281" y="210"/>
                  </a:lnTo>
                  <a:lnTo>
                    <a:pt x="1315" y="203"/>
                  </a:lnTo>
                  <a:lnTo>
                    <a:pt x="1346" y="186"/>
                  </a:lnTo>
                  <a:lnTo>
                    <a:pt x="1320" y="175"/>
                  </a:lnTo>
                  <a:lnTo>
                    <a:pt x="1312" y="144"/>
                  </a:lnTo>
                  <a:lnTo>
                    <a:pt x="1271" y="175"/>
                  </a:lnTo>
                  <a:lnTo>
                    <a:pt x="1255" y="149"/>
                  </a:lnTo>
                  <a:lnTo>
                    <a:pt x="1220" y="135"/>
                  </a:lnTo>
                  <a:lnTo>
                    <a:pt x="1226" y="109"/>
                  </a:lnTo>
                  <a:lnTo>
                    <a:pt x="1230" y="34"/>
                  </a:lnTo>
                  <a:lnTo>
                    <a:pt x="1268" y="24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11480" y="3673440"/>
              <a:ext cx="1204920" cy="2119320"/>
            </a:xfrm>
            <a:custGeom>
              <a:avLst/>
              <a:gdLst/>
              <a:ahLst/>
              <a:rect l="l" t="t" r="r" b="b"/>
              <a:pathLst>
                <a:path w="759" h="1335">
                  <a:moveTo>
                    <a:pt x="105" y="21"/>
                  </a:moveTo>
                  <a:lnTo>
                    <a:pt x="79" y="69"/>
                  </a:lnTo>
                  <a:lnTo>
                    <a:pt x="75" y="126"/>
                  </a:lnTo>
                  <a:lnTo>
                    <a:pt x="88" y="178"/>
                  </a:lnTo>
                  <a:lnTo>
                    <a:pt x="26" y="224"/>
                  </a:lnTo>
                  <a:lnTo>
                    <a:pt x="33" y="285"/>
                  </a:lnTo>
                  <a:lnTo>
                    <a:pt x="0" y="307"/>
                  </a:lnTo>
                  <a:lnTo>
                    <a:pt x="10" y="333"/>
                  </a:lnTo>
                  <a:lnTo>
                    <a:pt x="68" y="399"/>
                  </a:lnTo>
                  <a:lnTo>
                    <a:pt x="71" y="436"/>
                  </a:lnTo>
                  <a:lnTo>
                    <a:pt x="131" y="517"/>
                  </a:lnTo>
                  <a:lnTo>
                    <a:pt x="171" y="526"/>
                  </a:lnTo>
                  <a:lnTo>
                    <a:pt x="179" y="576"/>
                  </a:lnTo>
                  <a:lnTo>
                    <a:pt x="192" y="602"/>
                  </a:lnTo>
                  <a:lnTo>
                    <a:pt x="186" y="715"/>
                  </a:lnTo>
                  <a:lnTo>
                    <a:pt x="171" y="761"/>
                  </a:lnTo>
                  <a:lnTo>
                    <a:pt x="176" y="881"/>
                  </a:lnTo>
                  <a:lnTo>
                    <a:pt x="160" y="1003"/>
                  </a:lnTo>
                  <a:lnTo>
                    <a:pt x="184" y="1019"/>
                  </a:lnTo>
                  <a:lnTo>
                    <a:pt x="171" y="1094"/>
                  </a:lnTo>
                  <a:lnTo>
                    <a:pt x="152" y="1111"/>
                  </a:lnTo>
                  <a:lnTo>
                    <a:pt x="168" y="1192"/>
                  </a:lnTo>
                  <a:lnTo>
                    <a:pt x="202" y="1235"/>
                  </a:lnTo>
                  <a:lnTo>
                    <a:pt x="202" y="1261"/>
                  </a:lnTo>
                  <a:lnTo>
                    <a:pt x="215" y="1279"/>
                  </a:lnTo>
                  <a:lnTo>
                    <a:pt x="197" y="1290"/>
                  </a:lnTo>
                  <a:lnTo>
                    <a:pt x="240" y="1318"/>
                  </a:lnTo>
                  <a:lnTo>
                    <a:pt x="278" y="1318"/>
                  </a:lnTo>
                  <a:lnTo>
                    <a:pt x="328" y="1334"/>
                  </a:lnTo>
                  <a:lnTo>
                    <a:pt x="347" y="1318"/>
                  </a:lnTo>
                  <a:lnTo>
                    <a:pt x="300" y="1290"/>
                  </a:lnTo>
                  <a:lnTo>
                    <a:pt x="284" y="1269"/>
                  </a:lnTo>
                  <a:lnTo>
                    <a:pt x="244" y="1269"/>
                  </a:lnTo>
                  <a:lnTo>
                    <a:pt x="284" y="1241"/>
                  </a:lnTo>
                  <a:lnTo>
                    <a:pt x="247" y="1224"/>
                  </a:lnTo>
                  <a:lnTo>
                    <a:pt x="294" y="1160"/>
                  </a:lnTo>
                  <a:lnTo>
                    <a:pt x="271" y="1133"/>
                  </a:lnTo>
                  <a:lnTo>
                    <a:pt x="262" y="1100"/>
                  </a:lnTo>
                  <a:lnTo>
                    <a:pt x="291" y="1091"/>
                  </a:lnTo>
                  <a:lnTo>
                    <a:pt x="310" y="1058"/>
                  </a:lnTo>
                  <a:lnTo>
                    <a:pt x="333" y="1047"/>
                  </a:lnTo>
                  <a:lnTo>
                    <a:pt x="294" y="1008"/>
                  </a:lnTo>
                  <a:lnTo>
                    <a:pt x="328" y="1003"/>
                  </a:lnTo>
                  <a:lnTo>
                    <a:pt x="352" y="970"/>
                  </a:lnTo>
                  <a:lnTo>
                    <a:pt x="381" y="970"/>
                  </a:lnTo>
                  <a:lnTo>
                    <a:pt x="418" y="934"/>
                  </a:lnTo>
                  <a:lnTo>
                    <a:pt x="401" y="873"/>
                  </a:lnTo>
                  <a:lnTo>
                    <a:pt x="427" y="873"/>
                  </a:lnTo>
                  <a:lnTo>
                    <a:pt x="430" y="891"/>
                  </a:lnTo>
                  <a:lnTo>
                    <a:pt x="482" y="865"/>
                  </a:lnTo>
                  <a:lnTo>
                    <a:pt x="485" y="809"/>
                  </a:lnTo>
                  <a:lnTo>
                    <a:pt x="530" y="806"/>
                  </a:lnTo>
                  <a:lnTo>
                    <a:pt x="544" y="783"/>
                  </a:lnTo>
                  <a:lnTo>
                    <a:pt x="542" y="715"/>
                  </a:lnTo>
                  <a:lnTo>
                    <a:pt x="579" y="700"/>
                  </a:lnTo>
                  <a:lnTo>
                    <a:pt x="584" y="669"/>
                  </a:lnTo>
                  <a:lnTo>
                    <a:pt x="630" y="653"/>
                  </a:lnTo>
                  <a:lnTo>
                    <a:pt x="688" y="592"/>
                  </a:lnTo>
                  <a:lnTo>
                    <a:pt x="688" y="481"/>
                  </a:lnTo>
                  <a:lnTo>
                    <a:pt x="739" y="405"/>
                  </a:lnTo>
                  <a:lnTo>
                    <a:pt x="758" y="333"/>
                  </a:lnTo>
                  <a:lnTo>
                    <a:pt x="710" y="317"/>
                  </a:lnTo>
                  <a:lnTo>
                    <a:pt x="684" y="285"/>
                  </a:lnTo>
                  <a:lnTo>
                    <a:pt x="634" y="279"/>
                  </a:lnTo>
                  <a:lnTo>
                    <a:pt x="615" y="258"/>
                  </a:lnTo>
                  <a:lnTo>
                    <a:pt x="607" y="272"/>
                  </a:lnTo>
                  <a:lnTo>
                    <a:pt x="553" y="236"/>
                  </a:lnTo>
                  <a:lnTo>
                    <a:pt x="537" y="240"/>
                  </a:lnTo>
                  <a:lnTo>
                    <a:pt x="511" y="209"/>
                  </a:lnTo>
                  <a:lnTo>
                    <a:pt x="530" y="194"/>
                  </a:lnTo>
                  <a:lnTo>
                    <a:pt x="504" y="154"/>
                  </a:lnTo>
                  <a:lnTo>
                    <a:pt x="473" y="154"/>
                  </a:lnTo>
                  <a:lnTo>
                    <a:pt x="452" y="132"/>
                  </a:lnTo>
                  <a:lnTo>
                    <a:pt x="401" y="126"/>
                  </a:lnTo>
                  <a:lnTo>
                    <a:pt x="381" y="85"/>
                  </a:lnTo>
                  <a:lnTo>
                    <a:pt x="359" y="80"/>
                  </a:lnTo>
                  <a:lnTo>
                    <a:pt x="343" y="31"/>
                  </a:lnTo>
                  <a:lnTo>
                    <a:pt x="218" y="31"/>
                  </a:lnTo>
                  <a:lnTo>
                    <a:pt x="197" y="0"/>
                  </a:lnTo>
                  <a:lnTo>
                    <a:pt x="171" y="5"/>
                  </a:lnTo>
                  <a:lnTo>
                    <a:pt x="139" y="14"/>
                  </a:lnTo>
                  <a:lnTo>
                    <a:pt x="105" y="21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0840" y="3362400"/>
              <a:ext cx="274680" cy="120600"/>
            </a:xfrm>
            <a:custGeom>
              <a:avLst/>
              <a:gdLst/>
              <a:ahLst/>
              <a:rect l="l" t="t" r="r" b="b"/>
              <a:pathLst>
                <a:path w="173" h="76">
                  <a:moveTo>
                    <a:pt x="172" y="59"/>
                  </a:moveTo>
                  <a:lnTo>
                    <a:pt x="141" y="75"/>
                  </a:lnTo>
                  <a:lnTo>
                    <a:pt x="101" y="59"/>
                  </a:lnTo>
                  <a:lnTo>
                    <a:pt x="55" y="37"/>
                  </a:lnTo>
                  <a:lnTo>
                    <a:pt x="0" y="28"/>
                  </a:lnTo>
                  <a:lnTo>
                    <a:pt x="12" y="11"/>
                  </a:lnTo>
                  <a:lnTo>
                    <a:pt x="60" y="0"/>
                  </a:lnTo>
                  <a:lnTo>
                    <a:pt x="104" y="37"/>
                  </a:lnTo>
                  <a:lnTo>
                    <a:pt x="172" y="59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36840" y="3475080"/>
              <a:ext cx="218880" cy="54000"/>
            </a:xfrm>
            <a:custGeom>
              <a:avLst/>
              <a:gdLst/>
              <a:ahLst/>
              <a:rect l="l" t="t" r="r" b="b"/>
              <a:pathLst>
                <a:path w="138" h="34">
                  <a:moveTo>
                    <a:pt x="137" y="27"/>
                  </a:moveTo>
                  <a:lnTo>
                    <a:pt x="94" y="0"/>
                  </a:lnTo>
                  <a:lnTo>
                    <a:pt x="37" y="4"/>
                  </a:lnTo>
                  <a:lnTo>
                    <a:pt x="0" y="22"/>
                  </a:lnTo>
                  <a:lnTo>
                    <a:pt x="37" y="27"/>
                  </a:lnTo>
                  <a:lnTo>
                    <a:pt x="94" y="33"/>
                  </a:lnTo>
                  <a:lnTo>
                    <a:pt x="137" y="27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349360" y="3517920"/>
              <a:ext cx="88920" cy="38160"/>
            </a:xfrm>
            <a:custGeom>
              <a:avLst/>
              <a:gdLst/>
              <a:ahLst/>
              <a:rect l="l" t="t" r="r" b="b"/>
              <a:pathLst>
                <a:path w="56" h="24">
                  <a:moveTo>
                    <a:pt x="55" y="23"/>
                  </a:moveTo>
                  <a:lnTo>
                    <a:pt x="40" y="0"/>
                  </a:lnTo>
                  <a:lnTo>
                    <a:pt x="2" y="0"/>
                  </a:lnTo>
                  <a:lnTo>
                    <a:pt x="0" y="23"/>
                  </a:lnTo>
                  <a:lnTo>
                    <a:pt x="55" y="23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73360" y="3537000"/>
              <a:ext cx="57240" cy="381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5" y="0"/>
                  </a:moveTo>
                  <a:lnTo>
                    <a:pt x="2" y="0"/>
                  </a:lnTo>
                  <a:lnTo>
                    <a:pt x="0" y="14"/>
                  </a:lnTo>
                  <a:lnTo>
                    <a:pt x="30" y="23"/>
                  </a:lnTo>
                  <a:lnTo>
                    <a:pt x="35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65520" y="357840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12" y="23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05120" y="3603600"/>
              <a:ext cx="39600" cy="95400"/>
            </a:xfrm>
            <a:custGeom>
              <a:avLst/>
              <a:gdLst/>
              <a:ahLst/>
              <a:rect l="l" t="t" r="r" b="b"/>
              <a:pathLst>
                <a:path w="25" h="60">
                  <a:moveTo>
                    <a:pt x="0" y="0"/>
                  </a:moveTo>
                  <a:lnTo>
                    <a:pt x="0" y="21"/>
                  </a:lnTo>
                  <a:lnTo>
                    <a:pt x="10" y="59"/>
                  </a:lnTo>
                  <a:lnTo>
                    <a:pt x="24" y="50"/>
                  </a:lnTo>
                  <a:lnTo>
                    <a:pt x="24" y="18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17720" y="565956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23" y="0"/>
                  </a:moveTo>
                  <a:lnTo>
                    <a:pt x="0" y="27"/>
                  </a:lnTo>
                  <a:lnTo>
                    <a:pt x="26" y="18"/>
                  </a:lnTo>
                  <a:lnTo>
                    <a:pt x="23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51200" y="5686560"/>
              <a:ext cx="41400" cy="3960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0" y="0"/>
                  </a:moveTo>
                  <a:lnTo>
                    <a:pt x="0" y="24"/>
                  </a:lnTo>
                  <a:lnTo>
                    <a:pt x="25" y="24"/>
                  </a:lnTo>
                  <a:lnTo>
                    <a:pt x="2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05160" y="3268800"/>
              <a:ext cx="39600" cy="3780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4" y="0"/>
                  </a:moveTo>
                  <a:lnTo>
                    <a:pt x="8" y="0"/>
                  </a:lnTo>
                  <a:lnTo>
                    <a:pt x="0" y="23"/>
                  </a:lnTo>
                  <a:lnTo>
                    <a:pt x="24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36840" y="3292560"/>
              <a:ext cx="42840" cy="3816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0" y="0"/>
                  </a:moveTo>
                  <a:lnTo>
                    <a:pt x="26" y="23"/>
                  </a:lnTo>
                  <a:lnTo>
                    <a:pt x="0" y="18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70320" y="33465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6" y="0"/>
                  </a:moveTo>
                  <a:lnTo>
                    <a:pt x="24" y="17"/>
                  </a:lnTo>
                  <a:lnTo>
                    <a:pt x="0" y="24"/>
                  </a:lnTo>
                  <a:lnTo>
                    <a:pt x="6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70360" y="2990880"/>
              <a:ext cx="1719360" cy="2230560"/>
            </a:xfrm>
            <a:custGeom>
              <a:avLst/>
              <a:gdLst/>
              <a:ahLst/>
              <a:rect l="l" t="t" r="r" b="b"/>
              <a:pathLst>
                <a:path w="1083" h="1405">
                  <a:moveTo>
                    <a:pt x="787" y="132"/>
                  </a:moveTo>
                  <a:lnTo>
                    <a:pt x="668" y="105"/>
                  </a:lnTo>
                  <a:lnTo>
                    <a:pt x="600" y="96"/>
                  </a:lnTo>
                  <a:lnTo>
                    <a:pt x="583" y="123"/>
                  </a:lnTo>
                  <a:lnTo>
                    <a:pt x="541" y="123"/>
                  </a:lnTo>
                  <a:lnTo>
                    <a:pt x="499" y="90"/>
                  </a:lnTo>
                  <a:lnTo>
                    <a:pt x="442" y="83"/>
                  </a:lnTo>
                  <a:lnTo>
                    <a:pt x="456" y="10"/>
                  </a:lnTo>
                  <a:lnTo>
                    <a:pt x="401" y="0"/>
                  </a:lnTo>
                  <a:lnTo>
                    <a:pt x="359" y="10"/>
                  </a:lnTo>
                  <a:lnTo>
                    <a:pt x="312" y="10"/>
                  </a:lnTo>
                  <a:lnTo>
                    <a:pt x="252" y="38"/>
                  </a:lnTo>
                  <a:lnTo>
                    <a:pt x="174" y="44"/>
                  </a:lnTo>
                  <a:lnTo>
                    <a:pt x="143" y="87"/>
                  </a:lnTo>
                  <a:lnTo>
                    <a:pt x="105" y="109"/>
                  </a:lnTo>
                  <a:lnTo>
                    <a:pt x="88" y="170"/>
                  </a:lnTo>
                  <a:lnTo>
                    <a:pt x="49" y="206"/>
                  </a:lnTo>
                  <a:lnTo>
                    <a:pt x="2" y="289"/>
                  </a:lnTo>
                  <a:lnTo>
                    <a:pt x="13" y="356"/>
                  </a:lnTo>
                  <a:lnTo>
                    <a:pt x="0" y="433"/>
                  </a:lnTo>
                  <a:lnTo>
                    <a:pt x="10" y="497"/>
                  </a:lnTo>
                  <a:lnTo>
                    <a:pt x="57" y="527"/>
                  </a:lnTo>
                  <a:lnTo>
                    <a:pt x="70" y="579"/>
                  </a:lnTo>
                  <a:lnTo>
                    <a:pt x="109" y="592"/>
                  </a:lnTo>
                  <a:lnTo>
                    <a:pt x="132" y="629"/>
                  </a:lnTo>
                  <a:lnTo>
                    <a:pt x="203" y="645"/>
                  </a:lnTo>
                  <a:lnTo>
                    <a:pt x="297" y="632"/>
                  </a:lnTo>
                  <a:lnTo>
                    <a:pt x="323" y="598"/>
                  </a:lnTo>
                  <a:lnTo>
                    <a:pt x="366" y="638"/>
                  </a:lnTo>
                  <a:lnTo>
                    <a:pt x="416" y="638"/>
                  </a:lnTo>
                  <a:lnTo>
                    <a:pt x="436" y="663"/>
                  </a:lnTo>
                  <a:lnTo>
                    <a:pt x="397" y="707"/>
                  </a:lnTo>
                  <a:lnTo>
                    <a:pt x="401" y="769"/>
                  </a:lnTo>
                  <a:lnTo>
                    <a:pt x="456" y="823"/>
                  </a:lnTo>
                  <a:lnTo>
                    <a:pt x="468" y="899"/>
                  </a:lnTo>
                  <a:lnTo>
                    <a:pt x="453" y="970"/>
                  </a:lnTo>
                  <a:lnTo>
                    <a:pt x="446" y="1016"/>
                  </a:lnTo>
                  <a:lnTo>
                    <a:pt x="427" y="1059"/>
                  </a:lnTo>
                  <a:lnTo>
                    <a:pt x="446" y="1083"/>
                  </a:lnTo>
                  <a:lnTo>
                    <a:pt x="449" y="1115"/>
                  </a:lnTo>
                  <a:lnTo>
                    <a:pt x="488" y="1145"/>
                  </a:lnTo>
                  <a:lnTo>
                    <a:pt x="515" y="1275"/>
                  </a:lnTo>
                  <a:lnTo>
                    <a:pt x="534" y="1295"/>
                  </a:lnTo>
                  <a:lnTo>
                    <a:pt x="534" y="1383"/>
                  </a:lnTo>
                  <a:lnTo>
                    <a:pt x="553" y="1404"/>
                  </a:lnTo>
                  <a:lnTo>
                    <a:pt x="642" y="1404"/>
                  </a:lnTo>
                  <a:lnTo>
                    <a:pt x="699" y="1373"/>
                  </a:lnTo>
                  <a:lnTo>
                    <a:pt x="713" y="1323"/>
                  </a:lnTo>
                  <a:lnTo>
                    <a:pt x="735" y="1310"/>
                  </a:lnTo>
                  <a:lnTo>
                    <a:pt x="735" y="1262"/>
                  </a:lnTo>
                  <a:lnTo>
                    <a:pt x="772" y="1241"/>
                  </a:lnTo>
                  <a:lnTo>
                    <a:pt x="817" y="1193"/>
                  </a:lnTo>
                  <a:lnTo>
                    <a:pt x="817" y="1154"/>
                  </a:lnTo>
                  <a:lnTo>
                    <a:pt x="798" y="1115"/>
                  </a:lnTo>
                  <a:lnTo>
                    <a:pt x="821" y="1094"/>
                  </a:lnTo>
                  <a:lnTo>
                    <a:pt x="895" y="1065"/>
                  </a:lnTo>
                  <a:lnTo>
                    <a:pt x="905" y="1022"/>
                  </a:lnTo>
                  <a:lnTo>
                    <a:pt x="901" y="962"/>
                  </a:lnTo>
                  <a:lnTo>
                    <a:pt x="892" y="945"/>
                  </a:lnTo>
                  <a:lnTo>
                    <a:pt x="892" y="851"/>
                  </a:lnTo>
                  <a:lnTo>
                    <a:pt x="921" y="794"/>
                  </a:lnTo>
                  <a:lnTo>
                    <a:pt x="973" y="746"/>
                  </a:lnTo>
                  <a:lnTo>
                    <a:pt x="1009" y="729"/>
                  </a:lnTo>
                  <a:lnTo>
                    <a:pt x="1041" y="684"/>
                  </a:lnTo>
                  <a:lnTo>
                    <a:pt x="1044" y="655"/>
                  </a:lnTo>
                  <a:lnTo>
                    <a:pt x="1073" y="629"/>
                  </a:lnTo>
                  <a:lnTo>
                    <a:pt x="1082" y="579"/>
                  </a:lnTo>
                  <a:lnTo>
                    <a:pt x="1073" y="540"/>
                  </a:lnTo>
                  <a:lnTo>
                    <a:pt x="1048" y="540"/>
                  </a:lnTo>
                  <a:lnTo>
                    <a:pt x="1032" y="556"/>
                  </a:lnTo>
                  <a:lnTo>
                    <a:pt x="973" y="552"/>
                  </a:lnTo>
                  <a:lnTo>
                    <a:pt x="876" y="433"/>
                  </a:lnTo>
                  <a:lnTo>
                    <a:pt x="862" y="367"/>
                  </a:lnTo>
                  <a:lnTo>
                    <a:pt x="817" y="232"/>
                  </a:lnTo>
                  <a:lnTo>
                    <a:pt x="791" y="152"/>
                  </a:lnTo>
                  <a:lnTo>
                    <a:pt x="787" y="132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5800" y="4457880"/>
              <a:ext cx="177840" cy="393480"/>
            </a:xfrm>
            <a:custGeom>
              <a:avLst/>
              <a:gdLst/>
              <a:ahLst/>
              <a:rect l="l" t="t" r="r" b="b"/>
              <a:pathLst>
                <a:path w="112" h="248">
                  <a:moveTo>
                    <a:pt x="85" y="4"/>
                  </a:moveTo>
                  <a:lnTo>
                    <a:pt x="64" y="56"/>
                  </a:lnTo>
                  <a:lnTo>
                    <a:pt x="7" y="87"/>
                  </a:lnTo>
                  <a:lnTo>
                    <a:pt x="0" y="182"/>
                  </a:lnTo>
                  <a:lnTo>
                    <a:pt x="11" y="247"/>
                  </a:lnTo>
                  <a:lnTo>
                    <a:pt x="64" y="247"/>
                  </a:lnTo>
                  <a:lnTo>
                    <a:pt x="92" y="130"/>
                  </a:lnTo>
                  <a:lnTo>
                    <a:pt x="111" y="58"/>
                  </a:lnTo>
                  <a:lnTo>
                    <a:pt x="96" y="0"/>
                  </a:lnTo>
                  <a:lnTo>
                    <a:pt x="85" y="4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76960" y="3867120"/>
              <a:ext cx="82440" cy="128520"/>
            </a:xfrm>
            <a:custGeom>
              <a:avLst/>
              <a:gdLst/>
              <a:ahLst/>
              <a:rect l="l" t="t" r="r" b="b"/>
              <a:pathLst>
                <a:path w="52" h="81">
                  <a:moveTo>
                    <a:pt x="19" y="0"/>
                  </a:moveTo>
                  <a:lnTo>
                    <a:pt x="0" y="51"/>
                  </a:lnTo>
                  <a:lnTo>
                    <a:pt x="19" y="80"/>
                  </a:lnTo>
                  <a:lnTo>
                    <a:pt x="51" y="65"/>
                  </a:lnTo>
                  <a:lnTo>
                    <a:pt x="40" y="37"/>
                  </a:lnTo>
                  <a:lnTo>
                    <a:pt x="19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14880" y="2244600"/>
              <a:ext cx="176040" cy="365400"/>
            </a:xfrm>
            <a:custGeom>
              <a:avLst/>
              <a:gdLst/>
              <a:ahLst/>
              <a:rect l="l" t="t" r="r" b="b"/>
              <a:pathLst>
                <a:path w="111" h="230">
                  <a:moveTo>
                    <a:pt x="62" y="1"/>
                  </a:moveTo>
                  <a:lnTo>
                    <a:pt x="66" y="36"/>
                  </a:lnTo>
                  <a:lnTo>
                    <a:pt x="41" y="57"/>
                  </a:lnTo>
                  <a:lnTo>
                    <a:pt x="65" y="57"/>
                  </a:lnTo>
                  <a:lnTo>
                    <a:pt x="75" y="73"/>
                  </a:lnTo>
                  <a:lnTo>
                    <a:pt x="62" y="96"/>
                  </a:lnTo>
                  <a:lnTo>
                    <a:pt x="88" y="108"/>
                  </a:lnTo>
                  <a:lnTo>
                    <a:pt x="89" y="145"/>
                  </a:lnTo>
                  <a:lnTo>
                    <a:pt x="107" y="158"/>
                  </a:lnTo>
                  <a:lnTo>
                    <a:pt x="110" y="181"/>
                  </a:lnTo>
                  <a:lnTo>
                    <a:pt x="75" y="200"/>
                  </a:lnTo>
                  <a:lnTo>
                    <a:pt x="31" y="216"/>
                  </a:lnTo>
                  <a:lnTo>
                    <a:pt x="2" y="229"/>
                  </a:lnTo>
                  <a:lnTo>
                    <a:pt x="18" y="207"/>
                  </a:lnTo>
                  <a:lnTo>
                    <a:pt x="31" y="195"/>
                  </a:lnTo>
                  <a:lnTo>
                    <a:pt x="13" y="192"/>
                  </a:lnTo>
                  <a:lnTo>
                    <a:pt x="26" y="164"/>
                  </a:lnTo>
                  <a:lnTo>
                    <a:pt x="15" y="152"/>
                  </a:lnTo>
                  <a:lnTo>
                    <a:pt x="36" y="152"/>
                  </a:lnTo>
                  <a:lnTo>
                    <a:pt x="46" y="135"/>
                  </a:lnTo>
                  <a:lnTo>
                    <a:pt x="31" y="118"/>
                  </a:lnTo>
                  <a:lnTo>
                    <a:pt x="0" y="92"/>
                  </a:lnTo>
                  <a:lnTo>
                    <a:pt x="0" y="44"/>
                  </a:lnTo>
                  <a:lnTo>
                    <a:pt x="15" y="36"/>
                  </a:lnTo>
                  <a:lnTo>
                    <a:pt x="46" y="25"/>
                  </a:lnTo>
                  <a:lnTo>
                    <a:pt x="57" y="0"/>
                  </a:lnTo>
                  <a:lnTo>
                    <a:pt x="62" y="1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14800" y="2401920"/>
              <a:ext cx="106200" cy="160200"/>
            </a:xfrm>
            <a:custGeom>
              <a:avLst/>
              <a:gdLst/>
              <a:ahLst/>
              <a:rect l="l" t="t" r="r" b="b"/>
              <a:pathLst>
                <a:path w="67" h="101">
                  <a:moveTo>
                    <a:pt x="66" y="25"/>
                  </a:moveTo>
                  <a:lnTo>
                    <a:pt x="55" y="45"/>
                  </a:lnTo>
                  <a:lnTo>
                    <a:pt x="66" y="81"/>
                  </a:lnTo>
                  <a:lnTo>
                    <a:pt x="45" y="100"/>
                  </a:lnTo>
                  <a:lnTo>
                    <a:pt x="0" y="95"/>
                  </a:lnTo>
                  <a:lnTo>
                    <a:pt x="11" y="55"/>
                  </a:lnTo>
                  <a:lnTo>
                    <a:pt x="4" y="21"/>
                  </a:lnTo>
                  <a:lnTo>
                    <a:pt x="43" y="0"/>
                  </a:lnTo>
                  <a:lnTo>
                    <a:pt x="66" y="25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89640" y="1344600"/>
              <a:ext cx="315720" cy="182520"/>
            </a:xfrm>
            <a:custGeom>
              <a:avLst/>
              <a:gdLst/>
              <a:ahLst/>
              <a:rect l="l" t="t" r="r" b="b"/>
              <a:pathLst>
                <a:path w="199" h="115">
                  <a:moveTo>
                    <a:pt x="198" y="72"/>
                  </a:moveTo>
                  <a:lnTo>
                    <a:pt x="150" y="56"/>
                  </a:lnTo>
                  <a:lnTo>
                    <a:pt x="96" y="5"/>
                  </a:lnTo>
                  <a:lnTo>
                    <a:pt x="68" y="0"/>
                  </a:lnTo>
                  <a:lnTo>
                    <a:pt x="60" y="17"/>
                  </a:lnTo>
                  <a:lnTo>
                    <a:pt x="1" y="17"/>
                  </a:lnTo>
                  <a:lnTo>
                    <a:pt x="0" y="43"/>
                  </a:lnTo>
                  <a:lnTo>
                    <a:pt x="45" y="63"/>
                  </a:lnTo>
                  <a:lnTo>
                    <a:pt x="33" y="79"/>
                  </a:lnTo>
                  <a:lnTo>
                    <a:pt x="63" y="114"/>
                  </a:lnTo>
                  <a:lnTo>
                    <a:pt x="97" y="92"/>
                  </a:lnTo>
                  <a:lnTo>
                    <a:pt x="121" y="49"/>
                  </a:lnTo>
                  <a:lnTo>
                    <a:pt x="146" y="66"/>
                  </a:lnTo>
                  <a:lnTo>
                    <a:pt x="126" y="89"/>
                  </a:lnTo>
                  <a:lnTo>
                    <a:pt x="170" y="102"/>
                  </a:lnTo>
                  <a:lnTo>
                    <a:pt x="193" y="92"/>
                  </a:lnTo>
                  <a:lnTo>
                    <a:pt x="198" y="72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67120" y="1344600"/>
              <a:ext cx="182880" cy="6048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0" y="5"/>
                  </a:moveTo>
                  <a:lnTo>
                    <a:pt x="106" y="0"/>
                  </a:lnTo>
                  <a:lnTo>
                    <a:pt x="114" y="17"/>
                  </a:lnTo>
                  <a:lnTo>
                    <a:pt x="91" y="24"/>
                  </a:lnTo>
                  <a:lnTo>
                    <a:pt x="55" y="37"/>
                  </a:lnTo>
                  <a:lnTo>
                    <a:pt x="22" y="25"/>
                  </a:lnTo>
                  <a:lnTo>
                    <a:pt x="44" y="17"/>
                  </a:lnTo>
                  <a:lnTo>
                    <a:pt x="0" y="5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64080" y="1519200"/>
              <a:ext cx="352440" cy="281160"/>
            </a:xfrm>
            <a:custGeom>
              <a:avLst/>
              <a:gdLst/>
              <a:ahLst/>
              <a:rect l="l" t="t" r="r" b="b"/>
              <a:pathLst>
                <a:path w="222" h="177">
                  <a:moveTo>
                    <a:pt x="221" y="0"/>
                  </a:moveTo>
                  <a:lnTo>
                    <a:pt x="183" y="0"/>
                  </a:lnTo>
                  <a:lnTo>
                    <a:pt x="154" y="20"/>
                  </a:lnTo>
                  <a:lnTo>
                    <a:pt x="87" y="37"/>
                  </a:lnTo>
                  <a:lnTo>
                    <a:pt x="37" y="55"/>
                  </a:lnTo>
                  <a:lnTo>
                    <a:pt x="18" y="98"/>
                  </a:lnTo>
                  <a:lnTo>
                    <a:pt x="0" y="150"/>
                  </a:lnTo>
                  <a:lnTo>
                    <a:pt x="37" y="176"/>
                  </a:lnTo>
                  <a:lnTo>
                    <a:pt x="77" y="167"/>
                  </a:lnTo>
                  <a:lnTo>
                    <a:pt x="54" y="140"/>
                  </a:lnTo>
                  <a:lnTo>
                    <a:pt x="81" y="77"/>
                  </a:lnTo>
                  <a:lnTo>
                    <a:pt x="140" y="47"/>
                  </a:lnTo>
                  <a:lnTo>
                    <a:pt x="221" y="25"/>
                  </a:lnTo>
                  <a:lnTo>
                    <a:pt x="221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1000" y="1319040"/>
              <a:ext cx="69840" cy="3816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9" y="0"/>
                  </a:moveTo>
                  <a:lnTo>
                    <a:pt x="0" y="20"/>
                  </a:lnTo>
                  <a:lnTo>
                    <a:pt x="43" y="23"/>
                  </a:lnTo>
                  <a:lnTo>
                    <a:pt x="40" y="6"/>
                  </a:lnTo>
                  <a:lnTo>
                    <a:pt x="9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73880" y="1319040"/>
              <a:ext cx="61920" cy="5580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19" y="0"/>
                  </a:moveTo>
                  <a:lnTo>
                    <a:pt x="38" y="10"/>
                  </a:lnTo>
                  <a:lnTo>
                    <a:pt x="27" y="34"/>
                  </a:lnTo>
                  <a:lnTo>
                    <a:pt x="0" y="16"/>
                  </a:lnTo>
                  <a:lnTo>
                    <a:pt x="19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22760" y="1279440"/>
              <a:ext cx="42840" cy="47880"/>
            </a:xfrm>
            <a:custGeom>
              <a:avLst/>
              <a:gdLst/>
              <a:ahLst/>
              <a:rect l="l" t="t" r="r" b="b"/>
              <a:pathLst>
                <a:path w="27" h="30">
                  <a:moveTo>
                    <a:pt x="0" y="0"/>
                  </a:moveTo>
                  <a:lnTo>
                    <a:pt x="21" y="13"/>
                  </a:lnTo>
                  <a:lnTo>
                    <a:pt x="26" y="29"/>
                  </a:lnTo>
                  <a:lnTo>
                    <a:pt x="0" y="24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29080" y="1306440"/>
              <a:ext cx="214560" cy="7776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115" y="28"/>
                  </a:moveTo>
                  <a:lnTo>
                    <a:pt x="134" y="43"/>
                  </a:lnTo>
                  <a:lnTo>
                    <a:pt x="87" y="48"/>
                  </a:lnTo>
                  <a:lnTo>
                    <a:pt x="40" y="15"/>
                  </a:lnTo>
                  <a:lnTo>
                    <a:pt x="0" y="28"/>
                  </a:lnTo>
                  <a:lnTo>
                    <a:pt x="14" y="12"/>
                  </a:lnTo>
                  <a:lnTo>
                    <a:pt x="56" y="0"/>
                  </a:lnTo>
                  <a:lnTo>
                    <a:pt x="96" y="23"/>
                  </a:lnTo>
                  <a:lnTo>
                    <a:pt x="115" y="28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4800" y="1558800"/>
              <a:ext cx="4429080" cy="2644920"/>
            </a:xfrm>
            <a:custGeom>
              <a:avLst/>
              <a:gdLst/>
              <a:ahLst/>
              <a:rect l="l" t="t" r="r" b="b"/>
              <a:pathLst>
                <a:path w="2790" h="1666">
                  <a:moveTo>
                    <a:pt x="2789" y="317"/>
                  </a:moveTo>
                  <a:lnTo>
                    <a:pt x="2722" y="275"/>
                  </a:lnTo>
                  <a:lnTo>
                    <a:pt x="2643" y="268"/>
                  </a:lnTo>
                  <a:lnTo>
                    <a:pt x="2534" y="216"/>
                  </a:lnTo>
                  <a:lnTo>
                    <a:pt x="2349" y="216"/>
                  </a:lnTo>
                  <a:lnTo>
                    <a:pt x="2303" y="194"/>
                  </a:lnTo>
                  <a:lnTo>
                    <a:pt x="2196" y="180"/>
                  </a:lnTo>
                  <a:lnTo>
                    <a:pt x="2156" y="151"/>
                  </a:lnTo>
                  <a:lnTo>
                    <a:pt x="2022" y="125"/>
                  </a:lnTo>
                  <a:lnTo>
                    <a:pt x="2033" y="151"/>
                  </a:lnTo>
                  <a:lnTo>
                    <a:pt x="1981" y="151"/>
                  </a:lnTo>
                  <a:lnTo>
                    <a:pt x="1913" y="147"/>
                  </a:lnTo>
                  <a:lnTo>
                    <a:pt x="1902" y="172"/>
                  </a:lnTo>
                  <a:lnTo>
                    <a:pt x="1840" y="115"/>
                  </a:lnTo>
                  <a:lnTo>
                    <a:pt x="1731" y="95"/>
                  </a:lnTo>
                  <a:lnTo>
                    <a:pt x="1634" y="89"/>
                  </a:lnTo>
                  <a:lnTo>
                    <a:pt x="1658" y="21"/>
                  </a:lnTo>
                  <a:lnTo>
                    <a:pt x="1551" y="0"/>
                  </a:lnTo>
                  <a:lnTo>
                    <a:pt x="1454" y="37"/>
                  </a:lnTo>
                  <a:lnTo>
                    <a:pt x="1323" y="59"/>
                  </a:lnTo>
                  <a:lnTo>
                    <a:pt x="1297" y="102"/>
                  </a:lnTo>
                  <a:lnTo>
                    <a:pt x="1240" y="109"/>
                  </a:lnTo>
                  <a:lnTo>
                    <a:pt x="1240" y="147"/>
                  </a:lnTo>
                  <a:lnTo>
                    <a:pt x="1187" y="151"/>
                  </a:lnTo>
                  <a:lnTo>
                    <a:pt x="1162" y="125"/>
                  </a:lnTo>
                  <a:lnTo>
                    <a:pt x="1180" y="194"/>
                  </a:lnTo>
                  <a:lnTo>
                    <a:pt x="1128" y="115"/>
                  </a:lnTo>
                  <a:lnTo>
                    <a:pt x="1060" y="131"/>
                  </a:lnTo>
                  <a:lnTo>
                    <a:pt x="1031" y="194"/>
                  </a:lnTo>
                  <a:lnTo>
                    <a:pt x="966" y="158"/>
                  </a:lnTo>
                  <a:lnTo>
                    <a:pt x="933" y="210"/>
                  </a:lnTo>
                  <a:lnTo>
                    <a:pt x="849" y="216"/>
                  </a:lnTo>
                  <a:lnTo>
                    <a:pt x="801" y="252"/>
                  </a:lnTo>
                  <a:lnTo>
                    <a:pt x="774" y="216"/>
                  </a:lnTo>
                  <a:lnTo>
                    <a:pt x="736" y="210"/>
                  </a:lnTo>
                  <a:lnTo>
                    <a:pt x="752" y="268"/>
                  </a:lnTo>
                  <a:lnTo>
                    <a:pt x="709" y="312"/>
                  </a:lnTo>
                  <a:lnTo>
                    <a:pt x="652" y="312"/>
                  </a:lnTo>
                  <a:lnTo>
                    <a:pt x="600" y="252"/>
                  </a:lnTo>
                  <a:lnTo>
                    <a:pt x="652" y="252"/>
                  </a:lnTo>
                  <a:lnTo>
                    <a:pt x="678" y="275"/>
                  </a:lnTo>
                  <a:lnTo>
                    <a:pt x="730" y="259"/>
                  </a:lnTo>
                  <a:lnTo>
                    <a:pt x="686" y="203"/>
                  </a:lnTo>
                  <a:lnTo>
                    <a:pt x="612" y="158"/>
                  </a:lnTo>
                  <a:lnTo>
                    <a:pt x="553" y="147"/>
                  </a:lnTo>
                  <a:lnTo>
                    <a:pt x="527" y="158"/>
                  </a:lnTo>
                  <a:lnTo>
                    <a:pt x="470" y="147"/>
                  </a:lnTo>
                  <a:lnTo>
                    <a:pt x="434" y="165"/>
                  </a:lnTo>
                  <a:lnTo>
                    <a:pt x="368" y="172"/>
                  </a:lnTo>
                  <a:lnTo>
                    <a:pt x="322" y="216"/>
                  </a:lnTo>
                  <a:lnTo>
                    <a:pt x="355" y="224"/>
                  </a:lnTo>
                  <a:lnTo>
                    <a:pt x="322" y="304"/>
                  </a:lnTo>
                  <a:lnTo>
                    <a:pt x="232" y="363"/>
                  </a:lnTo>
                  <a:lnTo>
                    <a:pt x="220" y="435"/>
                  </a:lnTo>
                  <a:lnTo>
                    <a:pt x="259" y="464"/>
                  </a:lnTo>
                  <a:lnTo>
                    <a:pt x="300" y="456"/>
                  </a:lnTo>
                  <a:lnTo>
                    <a:pt x="322" y="487"/>
                  </a:lnTo>
                  <a:lnTo>
                    <a:pt x="345" y="534"/>
                  </a:lnTo>
                  <a:lnTo>
                    <a:pt x="385" y="523"/>
                  </a:lnTo>
                  <a:lnTo>
                    <a:pt x="407" y="449"/>
                  </a:lnTo>
                  <a:lnTo>
                    <a:pt x="401" y="363"/>
                  </a:lnTo>
                  <a:lnTo>
                    <a:pt x="453" y="289"/>
                  </a:lnTo>
                  <a:lnTo>
                    <a:pt x="498" y="282"/>
                  </a:lnTo>
                  <a:lnTo>
                    <a:pt x="459" y="340"/>
                  </a:lnTo>
                  <a:lnTo>
                    <a:pt x="459" y="420"/>
                  </a:lnTo>
                  <a:lnTo>
                    <a:pt x="553" y="429"/>
                  </a:lnTo>
                  <a:lnTo>
                    <a:pt x="485" y="449"/>
                  </a:lnTo>
                  <a:lnTo>
                    <a:pt x="498" y="478"/>
                  </a:lnTo>
                  <a:lnTo>
                    <a:pt x="453" y="464"/>
                  </a:lnTo>
                  <a:lnTo>
                    <a:pt x="447" y="514"/>
                  </a:lnTo>
                  <a:lnTo>
                    <a:pt x="385" y="557"/>
                  </a:lnTo>
                  <a:lnTo>
                    <a:pt x="345" y="544"/>
                  </a:lnTo>
                  <a:lnTo>
                    <a:pt x="300" y="544"/>
                  </a:lnTo>
                  <a:lnTo>
                    <a:pt x="300" y="493"/>
                  </a:lnTo>
                  <a:lnTo>
                    <a:pt x="267" y="487"/>
                  </a:lnTo>
                  <a:lnTo>
                    <a:pt x="248" y="514"/>
                  </a:lnTo>
                  <a:lnTo>
                    <a:pt x="267" y="552"/>
                  </a:lnTo>
                  <a:lnTo>
                    <a:pt x="213" y="566"/>
                  </a:lnTo>
                  <a:lnTo>
                    <a:pt x="199" y="614"/>
                  </a:lnTo>
                  <a:lnTo>
                    <a:pt x="135" y="657"/>
                  </a:lnTo>
                  <a:lnTo>
                    <a:pt x="62" y="689"/>
                  </a:lnTo>
                  <a:lnTo>
                    <a:pt x="89" y="715"/>
                  </a:lnTo>
                  <a:lnTo>
                    <a:pt x="118" y="738"/>
                  </a:lnTo>
                  <a:lnTo>
                    <a:pt x="102" y="788"/>
                  </a:lnTo>
                  <a:lnTo>
                    <a:pt x="56" y="774"/>
                  </a:lnTo>
                  <a:lnTo>
                    <a:pt x="0" y="795"/>
                  </a:lnTo>
                  <a:lnTo>
                    <a:pt x="0" y="853"/>
                  </a:lnTo>
                  <a:lnTo>
                    <a:pt x="17" y="911"/>
                  </a:lnTo>
                  <a:lnTo>
                    <a:pt x="56" y="928"/>
                  </a:lnTo>
                  <a:lnTo>
                    <a:pt x="153" y="896"/>
                  </a:lnTo>
                  <a:lnTo>
                    <a:pt x="140" y="862"/>
                  </a:lnTo>
                  <a:lnTo>
                    <a:pt x="170" y="838"/>
                  </a:lnTo>
                  <a:lnTo>
                    <a:pt x="207" y="826"/>
                  </a:lnTo>
                  <a:lnTo>
                    <a:pt x="284" y="781"/>
                  </a:lnTo>
                  <a:lnTo>
                    <a:pt x="322" y="817"/>
                  </a:lnTo>
                  <a:lnTo>
                    <a:pt x="362" y="838"/>
                  </a:lnTo>
                  <a:lnTo>
                    <a:pt x="374" y="896"/>
                  </a:lnTo>
                  <a:lnTo>
                    <a:pt x="395" y="862"/>
                  </a:lnTo>
                  <a:lnTo>
                    <a:pt x="420" y="862"/>
                  </a:lnTo>
                  <a:lnTo>
                    <a:pt x="378" y="831"/>
                  </a:lnTo>
                  <a:lnTo>
                    <a:pt x="333" y="788"/>
                  </a:lnTo>
                  <a:lnTo>
                    <a:pt x="333" y="745"/>
                  </a:lnTo>
                  <a:lnTo>
                    <a:pt x="374" y="802"/>
                  </a:lnTo>
                  <a:lnTo>
                    <a:pt x="407" y="817"/>
                  </a:lnTo>
                  <a:lnTo>
                    <a:pt x="434" y="866"/>
                  </a:lnTo>
                  <a:lnTo>
                    <a:pt x="453" y="911"/>
                  </a:lnTo>
                  <a:lnTo>
                    <a:pt x="485" y="942"/>
                  </a:lnTo>
                  <a:lnTo>
                    <a:pt x="515" y="911"/>
                  </a:lnTo>
                  <a:lnTo>
                    <a:pt x="475" y="862"/>
                  </a:lnTo>
                  <a:lnTo>
                    <a:pt x="531" y="853"/>
                  </a:lnTo>
                  <a:lnTo>
                    <a:pt x="566" y="942"/>
                  </a:lnTo>
                  <a:lnTo>
                    <a:pt x="605" y="955"/>
                  </a:lnTo>
                  <a:lnTo>
                    <a:pt x="639" y="934"/>
                  </a:lnTo>
                  <a:lnTo>
                    <a:pt x="668" y="951"/>
                  </a:lnTo>
                  <a:lnTo>
                    <a:pt x="652" y="999"/>
                  </a:lnTo>
                  <a:lnTo>
                    <a:pt x="634" y="1029"/>
                  </a:lnTo>
                  <a:lnTo>
                    <a:pt x="661" y="1143"/>
                  </a:lnTo>
                  <a:lnTo>
                    <a:pt x="701" y="1164"/>
                  </a:lnTo>
                  <a:lnTo>
                    <a:pt x="742" y="1202"/>
                  </a:lnTo>
                  <a:lnTo>
                    <a:pt x="742" y="1251"/>
                  </a:lnTo>
                  <a:lnTo>
                    <a:pt x="798" y="1332"/>
                  </a:lnTo>
                  <a:lnTo>
                    <a:pt x="801" y="1398"/>
                  </a:lnTo>
                  <a:lnTo>
                    <a:pt x="883" y="1405"/>
                  </a:lnTo>
                  <a:lnTo>
                    <a:pt x="950" y="1360"/>
                  </a:lnTo>
                  <a:lnTo>
                    <a:pt x="1031" y="1339"/>
                  </a:lnTo>
                  <a:lnTo>
                    <a:pt x="1031" y="1281"/>
                  </a:lnTo>
                  <a:lnTo>
                    <a:pt x="1076" y="1245"/>
                  </a:lnTo>
                  <a:lnTo>
                    <a:pt x="1052" y="1202"/>
                  </a:lnTo>
                  <a:lnTo>
                    <a:pt x="1006" y="1171"/>
                  </a:lnTo>
                  <a:lnTo>
                    <a:pt x="966" y="1180"/>
                  </a:lnTo>
                  <a:lnTo>
                    <a:pt x="933" y="1180"/>
                  </a:lnTo>
                  <a:lnTo>
                    <a:pt x="898" y="1148"/>
                  </a:lnTo>
                  <a:lnTo>
                    <a:pt x="883" y="1091"/>
                  </a:lnTo>
                  <a:lnTo>
                    <a:pt x="950" y="1143"/>
                  </a:lnTo>
                  <a:lnTo>
                    <a:pt x="1031" y="1157"/>
                  </a:lnTo>
                  <a:lnTo>
                    <a:pt x="1103" y="1187"/>
                  </a:lnTo>
                  <a:lnTo>
                    <a:pt x="1200" y="1187"/>
                  </a:lnTo>
                  <a:lnTo>
                    <a:pt x="1233" y="1251"/>
                  </a:lnTo>
                  <a:lnTo>
                    <a:pt x="1262" y="1360"/>
                  </a:lnTo>
                  <a:lnTo>
                    <a:pt x="1317" y="1474"/>
                  </a:lnTo>
                  <a:lnTo>
                    <a:pt x="1363" y="1460"/>
                  </a:lnTo>
                  <a:lnTo>
                    <a:pt x="1376" y="1346"/>
                  </a:lnTo>
                  <a:lnTo>
                    <a:pt x="1447" y="1294"/>
                  </a:lnTo>
                  <a:lnTo>
                    <a:pt x="1539" y="1251"/>
                  </a:lnTo>
                  <a:lnTo>
                    <a:pt x="1568" y="1317"/>
                  </a:lnTo>
                  <a:lnTo>
                    <a:pt x="1597" y="1405"/>
                  </a:lnTo>
                  <a:lnTo>
                    <a:pt x="1634" y="1389"/>
                  </a:lnTo>
                  <a:lnTo>
                    <a:pt x="1662" y="1483"/>
                  </a:lnTo>
                  <a:lnTo>
                    <a:pt x="1668" y="1541"/>
                  </a:lnTo>
                  <a:lnTo>
                    <a:pt x="1720" y="1634"/>
                  </a:lnTo>
                  <a:lnTo>
                    <a:pt x="1764" y="1665"/>
                  </a:lnTo>
                  <a:lnTo>
                    <a:pt x="1737" y="1591"/>
                  </a:lnTo>
                  <a:lnTo>
                    <a:pt x="1698" y="1526"/>
                  </a:lnTo>
                  <a:lnTo>
                    <a:pt x="1714" y="1468"/>
                  </a:lnTo>
                  <a:lnTo>
                    <a:pt x="1759" y="1519"/>
                  </a:lnTo>
                  <a:lnTo>
                    <a:pt x="1816" y="1512"/>
                  </a:lnTo>
                  <a:lnTo>
                    <a:pt x="1855" y="1447"/>
                  </a:lnTo>
                  <a:lnTo>
                    <a:pt x="1832" y="1389"/>
                  </a:lnTo>
                  <a:lnTo>
                    <a:pt x="1764" y="1332"/>
                  </a:lnTo>
                  <a:lnTo>
                    <a:pt x="1805" y="1290"/>
                  </a:lnTo>
                  <a:lnTo>
                    <a:pt x="1840" y="1290"/>
                  </a:lnTo>
                  <a:lnTo>
                    <a:pt x="1850" y="1324"/>
                  </a:lnTo>
                  <a:lnTo>
                    <a:pt x="1906" y="1281"/>
                  </a:lnTo>
                  <a:lnTo>
                    <a:pt x="1970" y="1259"/>
                  </a:lnTo>
                  <a:lnTo>
                    <a:pt x="1981" y="1223"/>
                  </a:lnTo>
                  <a:lnTo>
                    <a:pt x="2022" y="1148"/>
                  </a:lnTo>
                  <a:lnTo>
                    <a:pt x="2027" y="1098"/>
                  </a:lnTo>
                  <a:lnTo>
                    <a:pt x="1970" y="1029"/>
                  </a:lnTo>
                  <a:lnTo>
                    <a:pt x="2003" y="991"/>
                  </a:lnTo>
                  <a:lnTo>
                    <a:pt x="1946" y="971"/>
                  </a:lnTo>
                  <a:lnTo>
                    <a:pt x="1941" y="942"/>
                  </a:lnTo>
                  <a:lnTo>
                    <a:pt x="1975" y="911"/>
                  </a:lnTo>
                  <a:lnTo>
                    <a:pt x="1987" y="951"/>
                  </a:lnTo>
                  <a:lnTo>
                    <a:pt x="2043" y="942"/>
                  </a:lnTo>
                  <a:lnTo>
                    <a:pt x="2037" y="978"/>
                  </a:lnTo>
                  <a:lnTo>
                    <a:pt x="2049" y="1042"/>
                  </a:lnTo>
                  <a:lnTo>
                    <a:pt x="2100" y="1042"/>
                  </a:lnTo>
                  <a:lnTo>
                    <a:pt x="2110" y="991"/>
                  </a:lnTo>
                  <a:lnTo>
                    <a:pt x="2075" y="951"/>
                  </a:lnTo>
                  <a:lnTo>
                    <a:pt x="2121" y="866"/>
                  </a:lnTo>
                  <a:lnTo>
                    <a:pt x="2115" y="831"/>
                  </a:lnTo>
                  <a:lnTo>
                    <a:pt x="2201" y="788"/>
                  </a:lnTo>
                  <a:lnTo>
                    <a:pt x="2218" y="689"/>
                  </a:lnTo>
                  <a:lnTo>
                    <a:pt x="2196" y="614"/>
                  </a:lnTo>
                  <a:lnTo>
                    <a:pt x="2133" y="599"/>
                  </a:lnTo>
                  <a:lnTo>
                    <a:pt x="2087" y="579"/>
                  </a:lnTo>
                  <a:lnTo>
                    <a:pt x="2121" y="514"/>
                  </a:lnTo>
                  <a:lnTo>
                    <a:pt x="2196" y="478"/>
                  </a:lnTo>
                  <a:lnTo>
                    <a:pt x="2280" y="500"/>
                  </a:lnTo>
                  <a:lnTo>
                    <a:pt x="2342" y="508"/>
                  </a:lnTo>
                  <a:lnTo>
                    <a:pt x="2342" y="464"/>
                  </a:lnTo>
                  <a:lnTo>
                    <a:pt x="2388" y="435"/>
                  </a:lnTo>
                  <a:lnTo>
                    <a:pt x="2456" y="435"/>
                  </a:lnTo>
                  <a:lnTo>
                    <a:pt x="2417" y="493"/>
                  </a:lnTo>
                  <a:lnTo>
                    <a:pt x="2375" y="534"/>
                  </a:lnTo>
                  <a:lnTo>
                    <a:pt x="2401" y="657"/>
                  </a:lnTo>
                  <a:lnTo>
                    <a:pt x="2435" y="693"/>
                  </a:lnTo>
                  <a:lnTo>
                    <a:pt x="2491" y="599"/>
                  </a:lnTo>
                  <a:lnTo>
                    <a:pt x="2498" y="523"/>
                  </a:lnTo>
                  <a:lnTo>
                    <a:pt x="2456" y="514"/>
                  </a:lnTo>
                  <a:lnTo>
                    <a:pt x="2464" y="478"/>
                  </a:lnTo>
                  <a:lnTo>
                    <a:pt x="2517" y="487"/>
                  </a:lnTo>
                  <a:lnTo>
                    <a:pt x="2602" y="442"/>
                  </a:lnTo>
                  <a:lnTo>
                    <a:pt x="2676" y="429"/>
                  </a:lnTo>
                  <a:lnTo>
                    <a:pt x="2676" y="390"/>
                  </a:lnTo>
                  <a:lnTo>
                    <a:pt x="2638" y="354"/>
                  </a:lnTo>
                  <a:lnTo>
                    <a:pt x="2680" y="354"/>
                  </a:lnTo>
                  <a:lnTo>
                    <a:pt x="2739" y="376"/>
                  </a:lnTo>
                  <a:lnTo>
                    <a:pt x="2784" y="376"/>
                  </a:lnTo>
                  <a:lnTo>
                    <a:pt x="2754" y="354"/>
                  </a:lnTo>
                  <a:lnTo>
                    <a:pt x="2789" y="340"/>
                  </a:lnTo>
                  <a:lnTo>
                    <a:pt x="2789" y="317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45320" y="2554200"/>
              <a:ext cx="146160" cy="374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0" y="0"/>
                  </a:moveTo>
                  <a:lnTo>
                    <a:pt x="14" y="87"/>
                  </a:lnTo>
                  <a:lnTo>
                    <a:pt x="21" y="235"/>
                  </a:lnTo>
                  <a:lnTo>
                    <a:pt x="62" y="198"/>
                  </a:lnTo>
                  <a:lnTo>
                    <a:pt x="34" y="132"/>
                  </a:lnTo>
                  <a:lnTo>
                    <a:pt x="50" y="111"/>
                  </a:lnTo>
                  <a:lnTo>
                    <a:pt x="75" y="139"/>
                  </a:lnTo>
                  <a:lnTo>
                    <a:pt x="91" y="125"/>
                  </a:lnTo>
                  <a:lnTo>
                    <a:pt x="56" y="96"/>
                  </a:lnTo>
                  <a:lnTo>
                    <a:pt x="39" y="82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75400" y="2963880"/>
              <a:ext cx="268560" cy="252360"/>
            </a:xfrm>
            <a:custGeom>
              <a:avLst/>
              <a:gdLst/>
              <a:ahLst/>
              <a:rect l="l" t="t" r="r" b="b"/>
              <a:pathLst>
                <a:path w="169" h="159">
                  <a:moveTo>
                    <a:pt x="116" y="0"/>
                  </a:moveTo>
                  <a:lnTo>
                    <a:pt x="121" y="58"/>
                  </a:lnTo>
                  <a:lnTo>
                    <a:pt x="84" y="107"/>
                  </a:lnTo>
                  <a:lnTo>
                    <a:pt x="17" y="122"/>
                  </a:lnTo>
                  <a:lnTo>
                    <a:pt x="0" y="145"/>
                  </a:lnTo>
                  <a:lnTo>
                    <a:pt x="84" y="135"/>
                  </a:lnTo>
                  <a:lnTo>
                    <a:pt x="101" y="158"/>
                  </a:lnTo>
                  <a:lnTo>
                    <a:pt x="168" y="101"/>
                  </a:lnTo>
                  <a:lnTo>
                    <a:pt x="156" y="58"/>
                  </a:lnTo>
                  <a:lnTo>
                    <a:pt x="133" y="0"/>
                  </a:lnTo>
                  <a:lnTo>
                    <a:pt x="116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15160" y="2890800"/>
              <a:ext cx="109800" cy="10800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0" y="14"/>
                  </a:moveTo>
                  <a:lnTo>
                    <a:pt x="52" y="0"/>
                  </a:lnTo>
                  <a:lnTo>
                    <a:pt x="68" y="14"/>
                  </a:lnTo>
                  <a:lnTo>
                    <a:pt x="24" y="67"/>
                  </a:lnTo>
                  <a:lnTo>
                    <a:pt x="7" y="34"/>
                  </a:lnTo>
                  <a:lnTo>
                    <a:pt x="0" y="14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94680" y="3454560"/>
              <a:ext cx="74520" cy="120600"/>
            </a:xfrm>
            <a:custGeom>
              <a:avLst/>
              <a:gdLst/>
              <a:ahLst/>
              <a:rect l="l" t="t" r="r" b="b"/>
              <a:pathLst>
                <a:path w="47" h="76">
                  <a:moveTo>
                    <a:pt x="46" y="0"/>
                  </a:moveTo>
                  <a:lnTo>
                    <a:pt x="11" y="0"/>
                  </a:lnTo>
                  <a:lnTo>
                    <a:pt x="0" y="51"/>
                  </a:lnTo>
                  <a:lnTo>
                    <a:pt x="7" y="75"/>
                  </a:lnTo>
                  <a:lnTo>
                    <a:pt x="34" y="43"/>
                  </a:lnTo>
                  <a:lnTo>
                    <a:pt x="46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81720" y="3651120"/>
              <a:ext cx="119160" cy="228600"/>
            </a:xfrm>
            <a:custGeom>
              <a:avLst/>
              <a:gdLst/>
              <a:ahLst/>
              <a:rect l="l" t="t" r="r" b="b"/>
              <a:pathLst>
                <a:path w="75" h="144">
                  <a:moveTo>
                    <a:pt x="5" y="0"/>
                  </a:moveTo>
                  <a:lnTo>
                    <a:pt x="34" y="14"/>
                  </a:lnTo>
                  <a:lnTo>
                    <a:pt x="34" y="65"/>
                  </a:lnTo>
                  <a:lnTo>
                    <a:pt x="74" y="99"/>
                  </a:lnTo>
                  <a:lnTo>
                    <a:pt x="66" y="143"/>
                  </a:lnTo>
                  <a:lnTo>
                    <a:pt x="44" y="108"/>
                  </a:lnTo>
                  <a:lnTo>
                    <a:pt x="0" y="80"/>
                  </a:lnTo>
                  <a:lnTo>
                    <a:pt x="5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5320" y="3970440"/>
              <a:ext cx="244440" cy="314280"/>
            </a:xfrm>
            <a:custGeom>
              <a:avLst/>
              <a:gdLst/>
              <a:ahLst/>
              <a:rect l="l" t="t" r="r" b="b"/>
              <a:pathLst>
                <a:path w="154" h="198">
                  <a:moveTo>
                    <a:pt x="141" y="21"/>
                  </a:moveTo>
                  <a:lnTo>
                    <a:pt x="124" y="0"/>
                  </a:lnTo>
                  <a:lnTo>
                    <a:pt x="74" y="72"/>
                  </a:lnTo>
                  <a:lnTo>
                    <a:pt x="5" y="95"/>
                  </a:lnTo>
                  <a:lnTo>
                    <a:pt x="0" y="130"/>
                  </a:lnTo>
                  <a:lnTo>
                    <a:pt x="40" y="189"/>
                  </a:lnTo>
                  <a:lnTo>
                    <a:pt x="101" y="197"/>
                  </a:lnTo>
                  <a:lnTo>
                    <a:pt x="124" y="146"/>
                  </a:lnTo>
                  <a:lnTo>
                    <a:pt x="153" y="124"/>
                  </a:lnTo>
                  <a:lnTo>
                    <a:pt x="141" y="79"/>
                  </a:lnTo>
                  <a:lnTo>
                    <a:pt x="153" y="50"/>
                  </a:lnTo>
                  <a:lnTo>
                    <a:pt x="141" y="21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57960" y="4122720"/>
              <a:ext cx="173160" cy="25416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108" y="0"/>
                  </a:moveTo>
                  <a:lnTo>
                    <a:pt x="88" y="11"/>
                  </a:lnTo>
                  <a:lnTo>
                    <a:pt x="29" y="20"/>
                  </a:lnTo>
                  <a:lnTo>
                    <a:pt x="0" y="63"/>
                  </a:lnTo>
                  <a:lnTo>
                    <a:pt x="0" y="108"/>
                  </a:lnTo>
                  <a:lnTo>
                    <a:pt x="0" y="159"/>
                  </a:lnTo>
                  <a:lnTo>
                    <a:pt x="41" y="101"/>
                  </a:lnTo>
                  <a:lnTo>
                    <a:pt x="63" y="122"/>
                  </a:lnTo>
                  <a:lnTo>
                    <a:pt x="75" y="93"/>
                  </a:lnTo>
                  <a:lnTo>
                    <a:pt x="57" y="72"/>
                  </a:lnTo>
                  <a:lnTo>
                    <a:pt x="75" y="43"/>
                  </a:lnTo>
                  <a:lnTo>
                    <a:pt x="47" y="34"/>
                  </a:lnTo>
                  <a:lnTo>
                    <a:pt x="96" y="28"/>
                  </a:lnTo>
                  <a:lnTo>
                    <a:pt x="108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32840" y="3890880"/>
              <a:ext cx="144360" cy="141480"/>
            </a:xfrm>
            <a:custGeom>
              <a:avLst/>
              <a:gdLst/>
              <a:ahLst/>
              <a:rect l="l" t="t" r="r" b="b"/>
              <a:pathLst>
                <a:path w="91" h="89">
                  <a:moveTo>
                    <a:pt x="60" y="0"/>
                  </a:moveTo>
                  <a:lnTo>
                    <a:pt x="42" y="27"/>
                  </a:lnTo>
                  <a:lnTo>
                    <a:pt x="10" y="36"/>
                  </a:lnTo>
                  <a:lnTo>
                    <a:pt x="0" y="64"/>
                  </a:lnTo>
                  <a:lnTo>
                    <a:pt x="33" y="50"/>
                  </a:lnTo>
                  <a:lnTo>
                    <a:pt x="41" y="88"/>
                  </a:lnTo>
                  <a:lnTo>
                    <a:pt x="90" y="50"/>
                  </a:lnTo>
                  <a:lnTo>
                    <a:pt x="66" y="36"/>
                  </a:lnTo>
                  <a:lnTo>
                    <a:pt x="6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42000" y="3994200"/>
              <a:ext cx="311400" cy="358560"/>
            </a:xfrm>
            <a:custGeom>
              <a:avLst/>
              <a:gdLst/>
              <a:ahLst/>
              <a:rect l="l" t="t" r="r" b="b"/>
              <a:pathLst>
                <a:path w="196" h="226">
                  <a:moveTo>
                    <a:pt x="0" y="0"/>
                  </a:moveTo>
                  <a:lnTo>
                    <a:pt x="44" y="23"/>
                  </a:lnTo>
                  <a:lnTo>
                    <a:pt x="83" y="87"/>
                  </a:lnTo>
                  <a:lnTo>
                    <a:pt x="145" y="137"/>
                  </a:lnTo>
                  <a:lnTo>
                    <a:pt x="195" y="167"/>
                  </a:lnTo>
                  <a:lnTo>
                    <a:pt x="177" y="225"/>
                  </a:lnTo>
                  <a:lnTo>
                    <a:pt x="118" y="203"/>
                  </a:lnTo>
                  <a:lnTo>
                    <a:pt x="66" y="109"/>
                  </a:lnTo>
                  <a:lnTo>
                    <a:pt x="29" y="44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80400" y="4351320"/>
              <a:ext cx="468000" cy="115920"/>
            </a:xfrm>
            <a:custGeom>
              <a:avLst/>
              <a:gdLst/>
              <a:ahLst/>
              <a:rect l="l" t="t" r="r" b="b"/>
              <a:pathLst>
                <a:path w="295" h="73">
                  <a:moveTo>
                    <a:pt x="0" y="0"/>
                  </a:moveTo>
                  <a:lnTo>
                    <a:pt x="73" y="30"/>
                  </a:lnTo>
                  <a:lnTo>
                    <a:pt x="197" y="57"/>
                  </a:lnTo>
                  <a:lnTo>
                    <a:pt x="294" y="37"/>
                  </a:lnTo>
                  <a:lnTo>
                    <a:pt x="269" y="66"/>
                  </a:lnTo>
                  <a:lnTo>
                    <a:pt x="123" y="72"/>
                  </a:lnTo>
                  <a:lnTo>
                    <a:pt x="18" y="37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20040" y="4202280"/>
              <a:ext cx="812880" cy="318960"/>
            </a:xfrm>
            <a:custGeom>
              <a:avLst/>
              <a:gdLst/>
              <a:ahLst/>
              <a:rect l="l" t="t" r="r" b="b"/>
              <a:pathLst>
                <a:path w="512" h="201">
                  <a:moveTo>
                    <a:pt x="90" y="36"/>
                  </a:moveTo>
                  <a:lnTo>
                    <a:pt x="62" y="0"/>
                  </a:lnTo>
                  <a:lnTo>
                    <a:pt x="0" y="0"/>
                  </a:lnTo>
                  <a:lnTo>
                    <a:pt x="75" y="43"/>
                  </a:lnTo>
                  <a:lnTo>
                    <a:pt x="28" y="50"/>
                  </a:lnTo>
                  <a:lnTo>
                    <a:pt x="34" y="72"/>
                  </a:lnTo>
                  <a:lnTo>
                    <a:pt x="131" y="94"/>
                  </a:lnTo>
                  <a:lnTo>
                    <a:pt x="115" y="143"/>
                  </a:lnTo>
                  <a:lnTo>
                    <a:pt x="193" y="160"/>
                  </a:lnTo>
                  <a:lnTo>
                    <a:pt x="223" y="143"/>
                  </a:lnTo>
                  <a:lnTo>
                    <a:pt x="280" y="194"/>
                  </a:lnTo>
                  <a:lnTo>
                    <a:pt x="369" y="194"/>
                  </a:lnTo>
                  <a:lnTo>
                    <a:pt x="385" y="160"/>
                  </a:lnTo>
                  <a:lnTo>
                    <a:pt x="495" y="200"/>
                  </a:lnTo>
                  <a:lnTo>
                    <a:pt x="511" y="166"/>
                  </a:lnTo>
                  <a:lnTo>
                    <a:pt x="425" y="152"/>
                  </a:lnTo>
                  <a:lnTo>
                    <a:pt x="359" y="79"/>
                  </a:lnTo>
                  <a:lnTo>
                    <a:pt x="297" y="102"/>
                  </a:lnTo>
                  <a:lnTo>
                    <a:pt x="193" y="72"/>
                  </a:lnTo>
                  <a:lnTo>
                    <a:pt x="124" y="21"/>
                  </a:lnTo>
                  <a:lnTo>
                    <a:pt x="90" y="36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1822320"/>
              <a:ext cx="130320" cy="60480"/>
            </a:xfrm>
            <a:custGeom>
              <a:avLst/>
              <a:gdLst/>
              <a:ahLst/>
              <a:rect l="l" t="t" r="r" b="b"/>
              <a:pathLst>
                <a:path w="82" h="38">
                  <a:moveTo>
                    <a:pt x="16" y="0"/>
                  </a:moveTo>
                  <a:lnTo>
                    <a:pt x="0" y="14"/>
                  </a:lnTo>
                  <a:lnTo>
                    <a:pt x="16" y="37"/>
                  </a:lnTo>
                  <a:lnTo>
                    <a:pt x="81" y="14"/>
                  </a:lnTo>
                  <a:lnTo>
                    <a:pt x="16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57960" y="1592280"/>
              <a:ext cx="335160" cy="82440"/>
            </a:xfrm>
            <a:custGeom>
              <a:avLst/>
              <a:gdLst/>
              <a:ahLst/>
              <a:rect l="l" t="t" r="r" b="b"/>
              <a:pathLst>
                <a:path w="211" h="52">
                  <a:moveTo>
                    <a:pt x="210" y="51"/>
                  </a:moveTo>
                  <a:lnTo>
                    <a:pt x="198" y="29"/>
                  </a:lnTo>
                  <a:lnTo>
                    <a:pt x="74" y="8"/>
                  </a:lnTo>
                  <a:lnTo>
                    <a:pt x="52" y="22"/>
                  </a:lnTo>
                  <a:lnTo>
                    <a:pt x="5" y="0"/>
                  </a:lnTo>
                  <a:lnTo>
                    <a:pt x="0" y="36"/>
                  </a:lnTo>
                  <a:lnTo>
                    <a:pt x="80" y="51"/>
                  </a:lnTo>
                  <a:lnTo>
                    <a:pt x="112" y="36"/>
                  </a:lnTo>
                  <a:lnTo>
                    <a:pt x="210" y="51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224840" y="3809880"/>
              <a:ext cx="58680" cy="127080"/>
            </a:xfrm>
            <a:custGeom>
              <a:avLst/>
              <a:gdLst/>
              <a:ahLst/>
              <a:rect l="l" t="t" r="r" b="b"/>
              <a:pathLst>
                <a:path w="37" h="80">
                  <a:moveTo>
                    <a:pt x="24" y="0"/>
                  </a:moveTo>
                  <a:lnTo>
                    <a:pt x="0" y="79"/>
                  </a:lnTo>
                  <a:lnTo>
                    <a:pt x="36" y="21"/>
                  </a:lnTo>
                  <a:lnTo>
                    <a:pt x="24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32640" y="3809880"/>
              <a:ext cx="39600" cy="141480"/>
            </a:xfrm>
            <a:custGeom>
              <a:avLst/>
              <a:gdLst/>
              <a:ahLst/>
              <a:rect l="l" t="t" r="r" b="b"/>
              <a:pathLst>
                <a:path w="25" h="89">
                  <a:moveTo>
                    <a:pt x="0" y="0"/>
                  </a:moveTo>
                  <a:lnTo>
                    <a:pt x="24" y="14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34320" y="2693880"/>
              <a:ext cx="136440" cy="165240"/>
            </a:xfrm>
            <a:custGeom>
              <a:avLst/>
              <a:gdLst/>
              <a:ahLst/>
              <a:rect l="l" t="t" r="r" b="b"/>
              <a:pathLst>
                <a:path w="86" h="104">
                  <a:moveTo>
                    <a:pt x="85" y="0"/>
                  </a:moveTo>
                  <a:lnTo>
                    <a:pt x="69" y="44"/>
                  </a:lnTo>
                  <a:lnTo>
                    <a:pt x="0" y="103"/>
                  </a:lnTo>
                  <a:lnTo>
                    <a:pt x="79" y="44"/>
                  </a:lnTo>
                  <a:lnTo>
                    <a:pt x="85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3320" y="3214800"/>
              <a:ext cx="79560" cy="102960"/>
            </a:xfrm>
            <a:custGeom>
              <a:avLst/>
              <a:gdLst/>
              <a:ahLst/>
              <a:rect l="l" t="t" r="r" b="b"/>
              <a:pathLst>
                <a:path w="50" h="65">
                  <a:moveTo>
                    <a:pt x="0" y="7"/>
                  </a:moveTo>
                  <a:lnTo>
                    <a:pt x="49" y="0"/>
                  </a:lnTo>
                  <a:lnTo>
                    <a:pt x="49" y="64"/>
                  </a:lnTo>
                  <a:lnTo>
                    <a:pt x="15" y="55"/>
                  </a:lnTo>
                  <a:lnTo>
                    <a:pt x="0" y="7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00880" y="3373560"/>
              <a:ext cx="147600" cy="96840"/>
            </a:xfrm>
            <a:custGeom>
              <a:avLst/>
              <a:gdLst/>
              <a:ahLst/>
              <a:rect l="l" t="t" r="r" b="b"/>
              <a:pathLst>
                <a:path w="93" h="61">
                  <a:moveTo>
                    <a:pt x="92" y="0"/>
                  </a:moveTo>
                  <a:lnTo>
                    <a:pt x="63" y="38"/>
                  </a:lnTo>
                  <a:lnTo>
                    <a:pt x="0" y="60"/>
                  </a:lnTo>
                  <a:lnTo>
                    <a:pt x="57" y="29"/>
                  </a:lnTo>
                  <a:lnTo>
                    <a:pt x="92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31320" y="4246560"/>
              <a:ext cx="98280" cy="71280"/>
            </a:xfrm>
            <a:custGeom>
              <a:avLst/>
              <a:gdLst/>
              <a:ahLst/>
              <a:rect l="l" t="t" r="r" b="b"/>
              <a:pathLst>
                <a:path w="62" h="45">
                  <a:moveTo>
                    <a:pt x="0" y="44"/>
                  </a:moveTo>
                  <a:lnTo>
                    <a:pt x="39" y="38"/>
                  </a:lnTo>
                  <a:lnTo>
                    <a:pt x="61" y="0"/>
                  </a:lnTo>
                  <a:lnTo>
                    <a:pt x="49" y="44"/>
                  </a:lnTo>
                  <a:lnTo>
                    <a:pt x="0" y="44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1280" y="4272120"/>
              <a:ext cx="258840" cy="12852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0" y="0"/>
                  </a:moveTo>
                  <a:lnTo>
                    <a:pt x="110" y="14"/>
                  </a:lnTo>
                  <a:lnTo>
                    <a:pt x="162" y="80"/>
                  </a:lnTo>
                  <a:lnTo>
                    <a:pt x="103" y="28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2320" y="4495680"/>
              <a:ext cx="1041120" cy="871560"/>
            </a:xfrm>
            <a:custGeom>
              <a:avLst/>
              <a:gdLst/>
              <a:ahLst/>
              <a:rect l="l" t="t" r="r" b="b"/>
              <a:pathLst>
                <a:path w="656" h="549">
                  <a:moveTo>
                    <a:pt x="489" y="0"/>
                  </a:moveTo>
                  <a:lnTo>
                    <a:pt x="465" y="57"/>
                  </a:lnTo>
                  <a:lnTo>
                    <a:pt x="465" y="115"/>
                  </a:lnTo>
                  <a:lnTo>
                    <a:pt x="407" y="98"/>
                  </a:lnTo>
                  <a:lnTo>
                    <a:pt x="389" y="21"/>
                  </a:lnTo>
                  <a:lnTo>
                    <a:pt x="317" y="0"/>
                  </a:lnTo>
                  <a:lnTo>
                    <a:pt x="276" y="21"/>
                  </a:lnTo>
                  <a:lnTo>
                    <a:pt x="259" y="63"/>
                  </a:lnTo>
                  <a:lnTo>
                    <a:pt x="224" y="40"/>
                  </a:lnTo>
                  <a:lnTo>
                    <a:pt x="188" y="92"/>
                  </a:lnTo>
                  <a:lnTo>
                    <a:pt x="142" y="106"/>
                  </a:lnTo>
                  <a:lnTo>
                    <a:pt x="136" y="151"/>
                  </a:lnTo>
                  <a:lnTo>
                    <a:pt x="15" y="194"/>
                  </a:lnTo>
                  <a:lnTo>
                    <a:pt x="0" y="297"/>
                  </a:lnTo>
                  <a:lnTo>
                    <a:pt x="33" y="392"/>
                  </a:lnTo>
                  <a:lnTo>
                    <a:pt x="0" y="418"/>
                  </a:lnTo>
                  <a:lnTo>
                    <a:pt x="27" y="447"/>
                  </a:lnTo>
                  <a:lnTo>
                    <a:pt x="120" y="455"/>
                  </a:lnTo>
                  <a:lnTo>
                    <a:pt x="204" y="405"/>
                  </a:lnTo>
                  <a:lnTo>
                    <a:pt x="270" y="392"/>
                  </a:lnTo>
                  <a:lnTo>
                    <a:pt x="333" y="461"/>
                  </a:lnTo>
                  <a:lnTo>
                    <a:pt x="360" y="425"/>
                  </a:lnTo>
                  <a:lnTo>
                    <a:pt x="379" y="504"/>
                  </a:lnTo>
                  <a:lnTo>
                    <a:pt x="418" y="527"/>
                  </a:lnTo>
                  <a:lnTo>
                    <a:pt x="470" y="513"/>
                  </a:lnTo>
                  <a:lnTo>
                    <a:pt x="511" y="548"/>
                  </a:lnTo>
                  <a:lnTo>
                    <a:pt x="585" y="470"/>
                  </a:lnTo>
                  <a:lnTo>
                    <a:pt x="620" y="370"/>
                  </a:lnTo>
                  <a:lnTo>
                    <a:pt x="655" y="354"/>
                  </a:lnTo>
                  <a:lnTo>
                    <a:pt x="637" y="282"/>
                  </a:lnTo>
                  <a:lnTo>
                    <a:pt x="597" y="223"/>
                  </a:lnTo>
                  <a:lnTo>
                    <a:pt x="569" y="157"/>
                  </a:lnTo>
                  <a:lnTo>
                    <a:pt x="527" y="142"/>
                  </a:lnTo>
                  <a:lnTo>
                    <a:pt x="505" y="40"/>
                  </a:lnTo>
                  <a:lnTo>
                    <a:pt x="489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09040" y="5389560"/>
              <a:ext cx="137880" cy="128520"/>
            </a:xfrm>
            <a:custGeom>
              <a:avLst/>
              <a:gdLst/>
              <a:ahLst/>
              <a:rect l="l" t="t" r="r" b="b"/>
              <a:pathLst>
                <a:path w="87" h="81">
                  <a:moveTo>
                    <a:pt x="11" y="0"/>
                  </a:moveTo>
                  <a:lnTo>
                    <a:pt x="45" y="14"/>
                  </a:lnTo>
                  <a:lnTo>
                    <a:pt x="86" y="7"/>
                  </a:lnTo>
                  <a:lnTo>
                    <a:pt x="78" y="51"/>
                  </a:lnTo>
                  <a:lnTo>
                    <a:pt x="17" y="80"/>
                  </a:lnTo>
                  <a:lnTo>
                    <a:pt x="0" y="30"/>
                  </a:lnTo>
                  <a:lnTo>
                    <a:pt x="11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47040" y="5241960"/>
              <a:ext cx="154080" cy="195120"/>
            </a:xfrm>
            <a:custGeom>
              <a:avLst/>
              <a:gdLst/>
              <a:ahLst/>
              <a:rect l="l" t="t" r="r" b="b"/>
              <a:pathLst>
                <a:path w="97" h="123">
                  <a:moveTo>
                    <a:pt x="5" y="0"/>
                  </a:moveTo>
                  <a:lnTo>
                    <a:pt x="5" y="28"/>
                  </a:lnTo>
                  <a:lnTo>
                    <a:pt x="21" y="64"/>
                  </a:lnTo>
                  <a:lnTo>
                    <a:pt x="0" y="77"/>
                  </a:lnTo>
                  <a:lnTo>
                    <a:pt x="17" y="122"/>
                  </a:lnTo>
                  <a:lnTo>
                    <a:pt x="60" y="99"/>
                  </a:lnTo>
                  <a:lnTo>
                    <a:pt x="96" y="34"/>
                  </a:lnTo>
                  <a:lnTo>
                    <a:pt x="60" y="43"/>
                  </a:lnTo>
                  <a:lnTo>
                    <a:pt x="32" y="12"/>
                  </a:lnTo>
                  <a:lnTo>
                    <a:pt x="5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18440" y="5425920"/>
              <a:ext cx="23040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28" y="0"/>
                  </a:moveTo>
                  <a:lnTo>
                    <a:pt x="144" y="21"/>
                  </a:lnTo>
                  <a:lnTo>
                    <a:pt x="128" y="64"/>
                  </a:lnTo>
                  <a:lnTo>
                    <a:pt x="80" y="86"/>
                  </a:lnTo>
                  <a:lnTo>
                    <a:pt x="24" y="144"/>
                  </a:lnTo>
                  <a:lnTo>
                    <a:pt x="0" y="122"/>
                  </a:lnTo>
                  <a:lnTo>
                    <a:pt x="69" y="57"/>
                  </a:lnTo>
                  <a:lnTo>
                    <a:pt x="109" y="28"/>
                  </a:lnTo>
                  <a:lnTo>
                    <a:pt x="128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17080" y="479268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0"/>
                  </a:moveTo>
                  <a:lnTo>
                    <a:pt x="46" y="51"/>
                  </a:lnTo>
                  <a:lnTo>
                    <a:pt x="60" y="29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623440" y="468144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88" y="0"/>
                  </a:moveTo>
                  <a:lnTo>
                    <a:pt x="25" y="65"/>
                  </a:lnTo>
                  <a:lnTo>
                    <a:pt x="0" y="47"/>
                  </a:lnTo>
                  <a:lnTo>
                    <a:pt x="88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05640" y="4603680"/>
              <a:ext cx="103320" cy="15408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0" y="0"/>
                  </a:moveTo>
                  <a:lnTo>
                    <a:pt x="37" y="17"/>
                  </a:lnTo>
                  <a:lnTo>
                    <a:pt x="64" y="96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00640" y="1311120"/>
              <a:ext cx="333360" cy="209880"/>
            </a:xfrm>
            <a:custGeom>
              <a:avLst/>
              <a:gdLst/>
              <a:ahLst/>
              <a:rect l="l" t="t" r="r" b="b"/>
              <a:pathLst>
                <a:path w="210" h="132">
                  <a:moveTo>
                    <a:pt x="53" y="0"/>
                  </a:moveTo>
                  <a:lnTo>
                    <a:pt x="191" y="34"/>
                  </a:lnTo>
                  <a:lnTo>
                    <a:pt x="209" y="113"/>
                  </a:lnTo>
                  <a:lnTo>
                    <a:pt x="148" y="77"/>
                  </a:lnTo>
                  <a:lnTo>
                    <a:pt x="124" y="131"/>
                  </a:lnTo>
                  <a:lnTo>
                    <a:pt x="0" y="45"/>
                  </a:lnTo>
                  <a:lnTo>
                    <a:pt x="79" y="59"/>
                  </a:lnTo>
                  <a:lnTo>
                    <a:pt x="53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9160" y="2817720"/>
              <a:ext cx="63360" cy="149400"/>
            </a:xfrm>
            <a:custGeom>
              <a:avLst/>
              <a:gdLst/>
              <a:ahLst/>
              <a:rect l="l" t="t" r="r" b="b"/>
              <a:pathLst>
                <a:path w="40" h="94">
                  <a:moveTo>
                    <a:pt x="15" y="0"/>
                  </a:moveTo>
                  <a:lnTo>
                    <a:pt x="28" y="8"/>
                  </a:lnTo>
                  <a:lnTo>
                    <a:pt x="39" y="36"/>
                  </a:lnTo>
                  <a:lnTo>
                    <a:pt x="28" y="43"/>
                  </a:lnTo>
                  <a:lnTo>
                    <a:pt x="39" y="61"/>
                  </a:lnTo>
                  <a:lnTo>
                    <a:pt x="27" y="93"/>
                  </a:lnTo>
                  <a:lnTo>
                    <a:pt x="1" y="93"/>
                  </a:lnTo>
                  <a:lnTo>
                    <a:pt x="0" y="56"/>
                  </a:lnTo>
                  <a:lnTo>
                    <a:pt x="15" y="45"/>
                  </a:lnTo>
                  <a:lnTo>
                    <a:pt x="12" y="14"/>
                  </a:lnTo>
                  <a:lnTo>
                    <a:pt x="15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89480" y="2911320"/>
              <a:ext cx="52200" cy="381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2" y="0"/>
                  </a:moveTo>
                  <a:lnTo>
                    <a:pt x="2" y="4"/>
                  </a:lnTo>
                  <a:lnTo>
                    <a:pt x="0" y="19"/>
                  </a:lnTo>
                  <a:lnTo>
                    <a:pt x="13" y="23"/>
                  </a:lnTo>
                  <a:lnTo>
                    <a:pt x="16" y="10"/>
                  </a:lnTo>
                  <a:lnTo>
                    <a:pt x="32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16520" y="3033720"/>
              <a:ext cx="71280" cy="38160"/>
            </a:xfrm>
            <a:custGeom>
              <a:avLst/>
              <a:gdLst/>
              <a:ahLst/>
              <a:rect l="l" t="t" r="r" b="b"/>
              <a:pathLst>
                <a:path w="45" h="24">
                  <a:moveTo>
                    <a:pt x="8" y="0"/>
                  </a:moveTo>
                  <a:lnTo>
                    <a:pt x="24" y="8"/>
                  </a:lnTo>
                  <a:lnTo>
                    <a:pt x="44" y="4"/>
                  </a:lnTo>
                  <a:lnTo>
                    <a:pt x="36" y="20"/>
                  </a:lnTo>
                  <a:lnTo>
                    <a:pt x="17" y="23"/>
                  </a:lnTo>
                  <a:lnTo>
                    <a:pt x="0" y="14"/>
                  </a:lnTo>
                  <a:lnTo>
                    <a:pt x="8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0600" y="3075120"/>
              <a:ext cx="48960" cy="3780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0" y="0"/>
                  </a:moveTo>
                  <a:lnTo>
                    <a:pt x="15" y="7"/>
                  </a:lnTo>
                  <a:lnTo>
                    <a:pt x="0" y="11"/>
                  </a:lnTo>
                  <a:lnTo>
                    <a:pt x="3" y="23"/>
                  </a:lnTo>
                  <a:lnTo>
                    <a:pt x="27" y="23"/>
                  </a:lnTo>
                  <a:lnTo>
                    <a:pt x="3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0840" y="3394080"/>
              <a:ext cx="61920" cy="7632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38" y="0"/>
                  </a:moveTo>
                  <a:lnTo>
                    <a:pt x="38" y="47"/>
                  </a:lnTo>
                  <a:lnTo>
                    <a:pt x="0" y="32"/>
                  </a:lnTo>
                  <a:lnTo>
                    <a:pt x="38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0880" y="3316320"/>
              <a:ext cx="58680" cy="7920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0" y="0"/>
                  </a:moveTo>
                  <a:lnTo>
                    <a:pt x="36" y="34"/>
                  </a:lnTo>
                  <a:lnTo>
                    <a:pt x="12" y="49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70240" y="2297160"/>
              <a:ext cx="39960" cy="5400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24" y="0"/>
                  </a:moveTo>
                  <a:lnTo>
                    <a:pt x="17" y="11"/>
                  </a:lnTo>
                  <a:lnTo>
                    <a:pt x="20" y="33"/>
                  </a:lnTo>
                  <a:lnTo>
                    <a:pt x="0" y="11"/>
                  </a:lnTo>
                  <a:lnTo>
                    <a:pt x="24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03800" y="2170080"/>
              <a:ext cx="41040" cy="5868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3" y="0"/>
                  </a:moveTo>
                  <a:lnTo>
                    <a:pt x="18" y="12"/>
                  </a:lnTo>
                  <a:lnTo>
                    <a:pt x="0" y="24"/>
                  </a:lnTo>
                  <a:lnTo>
                    <a:pt x="14" y="36"/>
                  </a:lnTo>
                  <a:lnTo>
                    <a:pt x="25" y="20"/>
                  </a:lnTo>
                  <a:lnTo>
                    <a:pt x="23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1720" y="2735280"/>
              <a:ext cx="162000" cy="355680"/>
            </a:xfrm>
            <a:custGeom>
              <a:avLst/>
              <a:gdLst/>
              <a:ahLst/>
              <a:rect l="l" t="t" r="r" b="b"/>
              <a:pathLst>
                <a:path w="102" h="224">
                  <a:moveTo>
                    <a:pt x="74" y="21"/>
                  </a:moveTo>
                  <a:lnTo>
                    <a:pt x="61" y="0"/>
                  </a:lnTo>
                  <a:lnTo>
                    <a:pt x="29" y="2"/>
                  </a:lnTo>
                  <a:lnTo>
                    <a:pt x="4" y="37"/>
                  </a:lnTo>
                  <a:lnTo>
                    <a:pt x="0" y="70"/>
                  </a:lnTo>
                  <a:lnTo>
                    <a:pt x="16" y="85"/>
                  </a:lnTo>
                  <a:lnTo>
                    <a:pt x="36" y="97"/>
                  </a:lnTo>
                  <a:lnTo>
                    <a:pt x="40" y="133"/>
                  </a:lnTo>
                  <a:lnTo>
                    <a:pt x="35" y="163"/>
                  </a:lnTo>
                  <a:lnTo>
                    <a:pt x="43" y="191"/>
                  </a:lnTo>
                  <a:lnTo>
                    <a:pt x="55" y="211"/>
                  </a:lnTo>
                  <a:lnTo>
                    <a:pt x="90" y="223"/>
                  </a:lnTo>
                  <a:lnTo>
                    <a:pt x="101" y="182"/>
                  </a:lnTo>
                  <a:lnTo>
                    <a:pt x="71" y="130"/>
                  </a:lnTo>
                  <a:lnTo>
                    <a:pt x="61" y="82"/>
                  </a:lnTo>
                  <a:lnTo>
                    <a:pt x="26" y="52"/>
                  </a:lnTo>
                  <a:lnTo>
                    <a:pt x="68" y="28"/>
                  </a:lnTo>
                  <a:lnTo>
                    <a:pt x="74" y="21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55920" y="2754360"/>
              <a:ext cx="73080" cy="38160"/>
            </a:xfrm>
            <a:custGeom>
              <a:avLst/>
              <a:gdLst/>
              <a:ahLst/>
              <a:rect l="l" t="t" r="r" b="b"/>
              <a:pathLst>
                <a:path w="46" h="24">
                  <a:moveTo>
                    <a:pt x="45" y="0"/>
                  </a:moveTo>
                  <a:lnTo>
                    <a:pt x="19" y="23"/>
                  </a:lnTo>
                  <a:lnTo>
                    <a:pt x="0" y="23"/>
                  </a:lnTo>
                  <a:lnTo>
                    <a:pt x="24" y="0"/>
                  </a:lnTo>
                  <a:lnTo>
                    <a:pt x="45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2784600"/>
              <a:ext cx="83880" cy="3636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52" y="4"/>
                  </a:moveTo>
                  <a:lnTo>
                    <a:pt x="18" y="6"/>
                  </a:lnTo>
                  <a:lnTo>
                    <a:pt x="0" y="22"/>
                  </a:lnTo>
                  <a:lnTo>
                    <a:pt x="15" y="0"/>
                  </a:lnTo>
                  <a:lnTo>
                    <a:pt x="52" y="4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24160" y="2654280"/>
              <a:ext cx="82440" cy="10152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0" y="0"/>
                  </a:moveTo>
                  <a:lnTo>
                    <a:pt x="21" y="16"/>
                  </a:lnTo>
                  <a:lnTo>
                    <a:pt x="21" y="50"/>
                  </a:lnTo>
                  <a:lnTo>
                    <a:pt x="33" y="63"/>
                  </a:lnTo>
                  <a:lnTo>
                    <a:pt x="36" y="23"/>
                  </a:lnTo>
                  <a:lnTo>
                    <a:pt x="51" y="23"/>
                  </a:lnTo>
                  <a:lnTo>
                    <a:pt x="33" y="4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43160" y="2660760"/>
              <a:ext cx="81000" cy="128520"/>
            </a:xfrm>
            <a:custGeom>
              <a:avLst/>
              <a:gdLst/>
              <a:ahLst/>
              <a:rect l="l" t="t" r="r" b="b"/>
              <a:pathLst>
                <a:path w="51" h="81">
                  <a:moveTo>
                    <a:pt x="50" y="0"/>
                  </a:moveTo>
                  <a:lnTo>
                    <a:pt x="23" y="2"/>
                  </a:lnTo>
                  <a:lnTo>
                    <a:pt x="23" y="8"/>
                  </a:lnTo>
                  <a:lnTo>
                    <a:pt x="10" y="31"/>
                  </a:lnTo>
                  <a:lnTo>
                    <a:pt x="0" y="77"/>
                  </a:lnTo>
                  <a:lnTo>
                    <a:pt x="10" y="80"/>
                  </a:lnTo>
                  <a:lnTo>
                    <a:pt x="16" y="62"/>
                  </a:lnTo>
                  <a:lnTo>
                    <a:pt x="23" y="31"/>
                  </a:lnTo>
                  <a:lnTo>
                    <a:pt x="38" y="10"/>
                  </a:lnTo>
                  <a:lnTo>
                    <a:pt x="50" y="10"/>
                  </a:lnTo>
                  <a:lnTo>
                    <a:pt x="5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74760" y="2584440"/>
              <a:ext cx="162000" cy="58680"/>
            </a:xfrm>
            <a:custGeom>
              <a:avLst/>
              <a:gdLst/>
              <a:ahLst/>
              <a:rect l="l" t="t" r="r" b="b"/>
              <a:pathLst>
                <a:path w="102" h="37">
                  <a:moveTo>
                    <a:pt x="101" y="28"/>
                  </a:moveTo>
                  <a:lnTo>
                    <a:pt x="95" y="20"/>
                  </a:lnTo>
                  <a:lnTo>
                    <a:pt x="77" y="0"/>
                  </a:lnTo>
                  <a:lnTo>
                    <a:pt x="47" y="4"/>
                  </a:lnTo>
                  <a:lnTo>
                    <a:pt x="0" y="28"/>
                  </a:lnTo>
                  <a:lnTo>
                    <a:pt x="20" y="36"/>
                  </a:lnTo>
                  <a:lnTo>
                    <a:pt x="44" y="14"/>
                  </a:lnTo>
                  <a:lnTo>
                    <a:pt x="53" y="28"/>
                  </a:lnTo>
                  <a:lnTo>
                    <a:pt x="88" y="36"/>
                  </a:lnTo>
                  <a:lnTo>
                    <a:pt x="101" y="28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48040" y="2386080"/>
              <a:ext cx="37800" cy="8424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0"/>
                  </a:moveTo>
                  <a:lnTo>
                    <a:pt x="14" y="2"/>
                  </a:lnTo>
                  <a:lnTo>
                    <a:pt x="23" y="52"/>
                  </a:lnTo>
                  <a:lnTo>
                    <a:pt x="12" y="34"/>
                  </a:lnTo>
                  <a:lnTo>
                    <a:pt x="0" y="28"/>
                  </a:lnTo>
                  <a:lnTo>
                    <a:pt x="0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20880" y="2181240"/>
              <a:ext cx="6660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24"/>
                  </a:moveTo>
                  <a:lnTo>
                    <a:pt x="14" y="0"/>
                  </a:lnTo>
                  <a:lnTo>
                    <a:pt x="41" y="0"/>
                  </a:lnTo>
                  <a:lnTo>
                    <a:pt x="0" y="24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20800" y="2057400"/>
              <a:ext cx="82440" cy="47520"/>
            </a:xfrm>
            <a:custGeom>
              <a:avLst/>
              <a:gdLst/>
              <a:ahLst/>
              <a:rect l="l" t="t" r="r" b="b"/>
              <a:pathLst>
                <a:path w="52" h="30">
                  <a:moveTo>
                    <a:pt x="51" y="15"/>
                  </a:moveTo>
                  <a:lnTo>
                    <a:pt x="31" y="15"/>
                  </a:lnTo>
                  <a:lnTo>
                    <a:pt x="22" y="0"/>
                  </a:lnTo>
                  <a:lnTo>
                    <a:pt x="22" y="17"/>
                  </a:lnTo>
                  <a:lnTo>
                    <a:pt x="0" y="29"/>
                  </a:lnTo>
                  <a:lnTo>
                    <a:pt x="26" y="29"/>
                  </a:lnTo>
                  <a:lnTo>
                    <a:pt x="51" y="15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77880" y="1873080"/>
              <a:ext cx="147600" cy="59040"/>
            </a:xfrm>
            <a:custGeom>
              <a:avLst/>
              <a:gdLst/>
              <a:ahLst/>
              <a:rect l="l" t="t" r="r" b="b"/>
              <a:pathLst>
                <a:path w="93" h="37">
                  <a:moveTo>
                    <a:pt x="0" y="15"/>
                  </a:moveTo>
                  <a:lnTo>
                    <a:pt x="41" y="5"/>
                  </a:lnTo>
                  <a:lnTo>
                    <a:pt x="80" y="0"/>
                  </a:lnTo>
                  <a:lnTo>
                    <a:pt x="52" y="15"/>
                  </a:lnTo>
                  <a:lnTo>
                    <a:pt x="92" y="20"/>
                  </a:lnTo>
                  <a:lnTo>
                    <a:pt x="50" y="24"/>
                  </a:lnTo>
                  <a:lnTo>
                    <a:pt x="2" y="36"/>
                  </a:lnTo>
                  <a:lnTo>
                    <a:pt x="36" y="15"/>
                  </a:lnTo>
                  <a:lnTo>
                    <a:pt x="0" y="15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3640" y="2719440"/>
              <a:ext cx="339840" cy="185760"/>
            </a:xfrm>
            <a:custGeom>
              <a:avLst/>
              <a:gdLst/>
              <a:ahLst/>
              <a:rect l="l" t="t" r="r" b="b"/>
              <a:pathLst>
                <a:path w="214" h="117">
                  <a:moveTo>
                    <a:pt x="36" y="0"/>
                  </a:moveTo>
                  <a:lnTo>
                    <a:pt x="20" y="21"/>
                  </a:lnTo>
                  <a:lnTo>
                    <a:pt x="20" y="51"/>
                  </a:lnTo>
                  <a:lnTo>
                    <a:pt x="0" y="74"/>
                  </a:lnTo>
                  <a:lnTo>
                    <a:pt x="11" y="105"/>
                  </a:lnTo>
                  <a:lnTo>
                    <a:pt x="50" y="113"/>
                  </a:lnTo>
                  <a:lnTo>
                    <a:pt x="84" y="88"/>
                  </a:lnTo>
                  <a:lnTo>
                    <a:pt x="130" y="95"/>
                  </a:lnTo>
                  <a:lnTo>
                    <a:pt x="159" y="116"/>
                  </a:lnTo>
                  <a:lnTo>
                    <a:pt x="213" y="107"/>
                  </a:lnTo>
                  <a:lnTo>
                    <a:pt x="162" y="71"/>
                  </a:lnTo>
                  <a:lnTo>
                    <a:pt x="140" y="65"/>
                  </a:lnTo>
                  <a:lnTo>
                    <a:pt x="130" y="54"/>
                  </a:lnTo>
                  <a:lnTo>
                    <a:pt x="69" y="54"/>
                  </a:lnTo>
                  <a:lnTo>
                    <a:pt x="59" y="22"/>
                  </a:lnTo>
                  <a:lnTo>
                    <a:pt x="36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167440" y="269064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33" y="0"/>
                  </a:moveTo>
                  <a:lnTo>
                    <a:pt x="5" y="12"/>
                  </a:lnTo>
                  <a:lnTo>
                    <a:pt x="0" y="44"/>
                  </a:lnTo>
                  <a:lnTo>
                    <a:pt x="21" y="44"/>
                  </a:lnTo>
                  <a:lnTo>
                    <a:pt x="38" y="21"/>
                  </a:lnTo>
                  <a:lnTo>
                    <a:pt x="33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35520" y="2760840"/>
              <a:ext cx="61920" cy="586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8" y="0"/>
                  </a:moveTo>
                  <a:lnTo>
                    <a:pt x="0" y="10"/>
                  </a:lnTo>
                  <a:lnTo>
                    <a:pt x="2" y="36"/>
                  </a:lnTo>
                  <a:lnTo>
                    <a:pt x="22" y="34"/>
                  </a:lnTo>
                  <a:lnTo>
                    <a:pt x="38" y="20"/>
                  </a:lnTo>
                  <a:lnTo>
                    <a:pt x="22" y="14"/>
                  </a:lnTo>
                  <a:lnTo>
                    <a:pt x="18" y="0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cap="rnd"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Representative ATM Customers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12840" y="1441440"/>
            <a:ext cx="7475400" cy="4745160"/>
            <a:chOff x="1212840" y="1441440"/>
            <a:chExt cx="7475400" cy="4745160"/>
          </a:xfrm>
        </p:grpSpPr>
        <p:sp>
          <p:nvSpPr>
            <p:cNvPr id="201" name=""/>
            <p:cNvSpPr/>
            <p:nvPr/>
          </p:nvSpPr>
          <p:spPr>
            <a:xfrm>
              <a:off x="1212840" y="4486320"/>
              <a:ext cx="332568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r>
                <a:rPr b="1" lang="en-US" sz="1500" spc="-1" strike="noStrike" u="sng">
                  <a:solidFill>
                    <a:srgbClr val="cc0000"/>
                  </a:solidFill>
                  <a:uFillTx/>
                  <a:latin typeface="Arial"/>
                </a:rPr>
                <a:t>ISP:</a:t>
              </a:r>
              <a:r>
                <a:rPr b="1" lang="en-US" sz="1300" spc="-1" strike="noStrike" u="sng">
                  <a:solidFill>
                    <a:srgbClr val="cc0000"/>
                  </a:solidFill>
                  <a:uFillTx/>
                  <a:latin typeface="Arial"/>
                </a:rPr>
                <a:t> </a:t>
              </a:r>
              <a:r>
                <a:rPr b="1" lang="en-US" sz="1500" spc="-1" strike="noStrike" u="sng">
                  <a:solidFill>
                    <a:srgbClr val="cc0000"/>
                  </a:solidFill>
                  <a:uFillTx/>
                  <a:latin typeface="Arial"/>
                </a:rPr>
                <a:t>Internet Service Provid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pex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g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rid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tCo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arthlin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Uu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kysca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12840" y="1441440"/>
              <a:ext cx="3543480" cy="18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500" spc="-1" strike="noStrike" u="sng">
                  <a:solidFill>
                    <a:srgbClr val="cc0000"/>
                  </a:solidFill>
                  <a:uFillTx/>
                  <a:latin typeface="Arial"/>
                </a:rPr>
                <a:t>RBOC: Local Exchange Carri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ellAtlantic-Nynex Mobile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ell Atlanti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ellSout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incinnati Be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GTE Mobil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N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merite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12840" y="3449520"/>
              <a:ext cx="3102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500" spc="-1" strike="noStrike" u="sng">
                  <a:solidFill>
                    <a:srgbClr val="cc0000"/>
                  </a:solidFill>
                  <a:uFillTx/>
                  <a:latin typeface="Arial"/>
                </a:rPr>
                <a:t>IXC: Interexchange Carri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T&amp;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WorldCo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T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5600" y="1441440"/>
              <a:ext cx="375120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500" spc="-1" strike="noStrike" u="sng">
                  <a:solidFill>
                    <a:srgbClr val="cc0000"/>
                  </a:solidFill>
                  <a:uFillTx/>
                  <a:latin typeface="Arial"/>
                </a:rPr>
                <a:t>CAP: Competitive Access Provid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ridge Data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EL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entr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C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F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eleport Comm Grou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irtual Internatio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yv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35600" y="4452840"/>
              <a:ext cx="352260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500" spc="-1" strike="noStrike" u="sng">
                  <a:solidFill>
                    <a:srgbClr val="cc0000"/>
                  </a:solidFill>
                  <a:uFillTx/>
                  <a:latin typeface="Arial"/>
                </a:rPr>
                <a:t>PTT: International Service Provid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eget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PT Chin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S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Telecom Finla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8920" y="2398680"/>
              <a:ext cx="331164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37040" y="3424320"/>
              <a:ext cx="3751200" cy="51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500" spc="-1" strike="noStrike" u="sng">
                  <a:solidFill>
                    <a:srgbClr val="cc0000"/>
                  </a:solidFill>
                  <a:uFillTx/>
                  <a:latin typeface="Arial"/>
                </a:rPr>
                <a:t>IBM/OE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22280">
                <a:lnSpc>
                  <a:spcPct val="100000"/>
                </a:lnSpc>
                <a:tabLst>
                  <a:tab algn="l" pos="0"/>
                  <a:tab algn="l" pos="843120"/>
                  <a:tab algn="l" pos="1685880"/>
                  <a:tab algn="l" pos="2529000"/>
                  <a:tab algn="l" pos="3371760"/>
                  <a:tab algn="l" pos="4214880"/>
                  <a:tab algn="l" pos="5057640"/>
                  <a:tab algn="l" pos="5900760"/>
                  <a:tab algn="l" pos="6743880"/>
                  <a:tab algn="l" pos="7586640"/>
                  <a:tab algn="l" pos="8429760"/>
                  <a:tab algn="l" pos="9272520"/>
                  <a:tab algn="l" pos="10115640"/>
                  <a:tab algn="l" pos="109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dvanti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Multiservice &amp; Expansion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95440" y="1927080"/>
            <a:ext cx="3645000" cy="4254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3755880"/>
            <a:ext cx="2714400" cy="2425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8480" y="1774800"/>
            <a:ext cx="0" cy="477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830160" y="6211800"/>
            <a:ext cx="579924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176480" y="4975200"/>
            <a:ext cx="712800" cy="1108080"/>
          </a:xfrm>
          <a:custGeom>
            <a:avLst/>
            <a:gdLst/>
            <a:ahLst/>
            <a:rect l="l" t="t" r="r" b="b"/>
            <a:pathLst>
              <a:path w="449" h="698">
                <a:moveTo>
                  <a:pt x="0" y="0"/>
                </a:moveTo>
                <a:lnTo>
                  <a:pt x="0" y="697"/>
                </a:lnTo>
                <a:lnTo>
                  <a:pt x="448" y="697"/>
                </a:lnTo>
                <a:lnTo>
                  <a:pt x="448" y="0"/>
                </a:lnTo>
                <a:lnTo>
                  <a:pt x="0" y="0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89280" y="4975200"/>
            <a:ext cx="27000" cy="1114560"/>
          </a:xfrm>
          <a:custGeom>
            <a:avLst/>
            <a:gdLst/>
            <a:ahLst/>
            <a:rect l="l" t="t" r="r" b="b"/>
            <a:pathLst>
              <a:path w="17" h="702">
                <a:moveTo>
                  <a:pt x="0" y="0"/>
                </a:moveTo>
                <a:lnTo>
                  <a:pt x="0" y="701"/>
                </a:lnTo>
                <a:lnTo>
                  <a:pt x="16" y="632"/>
                </a:lnTo>
                <a:lnTo>
                  <a:pt x="16" y="40"/>
                </a:lnTo>
                <a:lnTo>
                  <a:pt x="0" y="0"/>
                </a:lnTo>
              </a:path>
            </a:pathLst>
          </a:custGeom>
          <a:solidFill>
            <a:srgbClr val="a0a0a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198440" y="5024520"/>
            <a:ext cx="652680" cy="76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00240" y="4995720"/>
            <a:ext cx="641160" cy="800280"/>
          </a:xfrm>
          <a:prstGeom prst="rect">
            <a:avLst/>
          </a:prstGeom>
          <a:solidFill>
            <a:srgbClr val="dadad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5056200"/>
            <a:ext cx="27000" cy="60480"/>
          </a:xfrm>
          <a:custGeom>
            <a:avLst/>
            <a:gdLst/>
            <a:ahLst/>
            <a:rect l="l" t="t" r="r" b="b"/>
            <a:pathLst>
              <a:path w="17" h="38">
                <a:moveTo>
                  <a:pt x="16" y="0"/>
                </a:moveTo>
                <a:lnTo>
                  <a:pt x="0" y="0"/>
                </a:lnTo>
                <a:lnTo>
                  <a:pt x="0" y="37"/>
                </a:lnTo>
                <a:lnTo>
                  <a:pt x="16" y="0"/>
                </a:lnTo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04920" y="5141880"/>
            <a:ext cx="628560" cy="93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11400" y="5154480"/>
            <a:ext cx="618840" cy="6696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25440" y="5178600"/>
            <a:ext cx="3672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5178600"/>
            <a:ext cx="34920" cy="31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37800" y="5122800"/>
            <a:ext cx="583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Book Antiqua"/>
              </a:rPr>
              <a:t>B-STDX  9000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206360" y="5572080"/>
            <a:ext cx="641160" cy="25560"/>
            <a:chOff x="1206360" y="5572080"/>
            <a:chExt cx="641160" cy="25560"/>
          </a:xfrm>
        </p:grpSpPr>
        <p:sp>
          <p:nvSpPr>
            <p:cNvPr id="224" name=""/>
            <p:cNvSpPr/>
            <p:nvPr/>
          </p:nvSpPr>
          <p:spPr>
            <a:xfrm>
              <a:off x="1206360" y="5572080"/>
              <a:ext cx="6411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2480" y="5572080"/>
              <a:ext cx="627120" cy="129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206360" y="5622840"/>
            <a:ext cx="641160" cy="28440"/>
            <a:chOff x="1206360" y="5622840"/>
            <a:chExt cx="641160" cy="28440"/>
          </a:xfrm>
        </p:grpSpPr>
        <p:sp>
          <p:nvSpPr>
            <p:cNvPr id="227" name=""/>
            <p:cNvSpPr/>
            <p:nvPr/>
          </p:nvSpPr>
          <p:spPr>
            <a:xfrm>
              <a:off x="1206360" y="5625720"/>
              <a:ext cx="6411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12480" y="5622840"/>
              <a:ext cx="627120" cy="12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206360" y="5675400"/>
            <a:ext cx="641160" cy="27000"/>
            <a:chOff x="1206360" y="5675400"/>
            <a:chExt cx="641160" cy="27000"/>
          </a:xfrm>
        </p:grpSpPr>
        <p:sp>
          <p:nvSpPr>
            <p:cNvPr id="230" name=""/>
            <p:cNvSpPr/>
            <p:nvPr/>
          </p:nvSpPr>
          <p:spPr>
            <a:xfrm>
              <a:off x="1206360" y="5676840"/>
              <a:ext cx="64116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12480" y="5675400"/>
              <a:ext cx="627120" cy="12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206360" y="5729400"/>
            <a:ext cx="641160" cy="25200"/>
            <a:chOff x="1206360" y="5729400"/>
            <a:chExt cx="641160" cy="25200"/>
          </a:xfrm>
        </p:grpSpPr>
        <p:sp>
          <p:nvSpPr>
            <p:cNvPr id="233" name=""/>
            <p:cNvSpPr/>
            <p:nvPr/>
          </p:nvSpPr>
          <p:spPr>
            <a:xfrm>
              <a:off x="1206360" y="5729400"/>
              <a:ext cx="6411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12480" y="5732280"/>
              <a:ext cx="627120" cy="12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206360" y="5783400"/>
            <a:ext cx="641160" cy="28440"/>
            <a:chOff x="1206360" y="5783400"/>
            <a:chExt cx="641160" cy="28440"/>
          </a:xfrm>
        </p:grpSpPr>
        <p:sp>
          <p:nvSpPr>
            <p:cNvPr id="236" name=""/>
            <p:cNvSpPr/>
            <p:nvPr/>
          </p:nvSpPr>
          <p:spPr>
            <a:xfrm>
              <a:off x="1206360" y="5786640"/>
              <a:ext cx="6411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12480" y="5783400"/>
              <a:ext cx="627120" cy="12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189080" y="5816520"/>
            <a:ext cx="665280" cy="120600"/>
            <a:chOff x="1189080" y="5816520"/>
            <a:chExt cx="665280" cy="120600"/>
          </a:xfrm>
        </p:grpSpPr>
        <p:sp>
          <p:nvSpPr>
            <p:cNvPr id="239" name=""/>
            <p:cNvSpPr/>
            <p:nvPr/>
          </p:nvSpPr>
          <p:spPr>
            <a:xfrm>
              <a:off x="1189080" y="5816520"/>
              <a:ext cx="665280" cy="120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95560" y="5830560"/>
              <a:ext cx="647640" cy="85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30520" y="5845320"/>
            <a:ext cx="54000" cy="540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47800" y="5869080"/>
            <a:ext cx="1260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189080" y="5943600"/>
            <a:ext cx="665280" cy="119160"/>
            <a:chOff x="1189080" y="5943600"/>
            <a:chExt cx="665280" cy="119160"/>
          </a:xfrm>
        </p:grpSpPr>
        <p:sp>
          <p:nvSpPr>
            <p:cNvPr id="244" name=""/>
            <p:cNvSpPr/>
            <p:nvPr/>
          </p:nvSpPr>
          <p:spPr>
            <a:xfrm>
              <a:off x="1189080" y="5943600"/>
              <a:ext cx="665280" cy="119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95560" y="5961240"/>
              <a:ext cx="647640" cy="84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1730520" y="5972040"/>
            <a:ext cx="54000" cy="52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47800" y="5996160"/>
            <a:ext cx="12600" cy="126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2640" y="1393920"/>
            <a:ext cx="13287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68480" y="5765760"/>
            <a:ext cx="245736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rame Relay/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18280" y="5765760"/>
            <a:ext cx="7426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35080" y="4722840"/>
            <a:ext cx="1176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STD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6160" y="6237360"/>
            <a:ext cx="701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76560" y="6237360"/>
            <a:ext cx="7016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9480" y="6237360"/>
            <a:ext cx="7030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8520" y="2387520"/>
            <a:ext cx="971640" cy="3511440"/>
            <a:chOff x="128520" y="2387520"/>
            <a:chExt cx="971640" cy="3511440"/>
          </a:xfrm>
        </p:grpSpPr>
        <p:sp>
          <p:nvSpPr>
            <p:cNvPr id="256" name=""/>
            <p:cNvSpPr/>
            <p:nvPr/>
          </p:nvSpPr>
          <p:spPr>
            <a:xfrm>
              <a:off x="795240" y="252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8520" y="2387520"/>
              <a:ext cx="701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00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5240" y="4670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2720" y="4521240"/>
              <a:ext cx="7034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5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5240" y="5721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20" y="5584680"/>
              <a:ext cx="703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5240" y="3587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9760" y="3476520"/>
              <a:ext cx="703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5680" rIns="8568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5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 rot="19797000">
            <a:off x="704880" y="2509560"/>
            <a:ext cx="4992480" cy="839880"/>
          </a:xfrm>
          <a:prstGeom prst="rightArrow">
            <a:avLst>
              <a:gd name="adj1" fmla="val 50000"/>
              <a:gd name="adj2" fmla="val 13140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on System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76840" y="2232000"/>
            <a:ext cx="11761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X 5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3832200"/>
            <a:ext cx="11764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BX 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19797000">
            <a:off x="566640" y="2003040"/>
            <a:ext cx="4992840" cy="839880"/>
          </a:xfrm>
          <a:prstGeom prst="rightArrow">
            <a:avLst>
              <a:gd name="adj1" fmla="val 50000"/>
              <a:gd name="adj2" fmla="val 131416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on Networ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776840" y="2536920"/>
            <a:ext cx="837720" cy="1238040"/>
            <a:chOff x="4776840" y="2536920"/>
            <a:chExt cx="837720" cy="1238040"/>
          </a:xfrm>
        </p:grpSpPr>
        <p:grpSp>
          <p:nvGrpSpPr>
            <p:cNvPr id="269" name=""/>
            <p:cNvGrpSpPr/>
            <p:nvPr/>
          </p:nvGrpSpPr>
          <p:grpSpPr>
            <a:xfrm>
              <a:off x="4776840" y="2536920"/>
              <a:ext cx="837720" cy="1238040"/>
              <a:chOff x="4776840" y="2536920"/>
              <a:chExt cx="837720" cy="1238040"/>
            </a:xfrm>
          </p:grpSpPr>
          <p:sp>
            <p:nvSpPr>
              <p:cNvPr id="270" name=""/>
              <p:cNvSpPr/>
              <p:nvPr/>
            </p:nvSpPr>
            <p:spPr>
              <a:xfrm>
                <a:off x="4776840" y="2536920"/>
                <a:ext cx="812520" cy="123084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589360" y="2536920"/>
                <a:ext cx="25200" cy="123804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4793040" y="3539520"/>
                <a:ext cx="772200" cy="212400"/>
                <a:chOff x="4793040" y="3539520"/>
                <a:chExt cx="772200" cy="2124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793040" y="3539520"/>
                  <a:ext cx="772200" cy="2124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804560" y="3547080"/>
                  <a:ext cx="749880" cy="195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4798800" y="2819520"/>
                <a:ext cx="765000" cy="6958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3480" y="2819520"/>
                <a:ext cx="747000" cy="69588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00600" y="2914920"/>
                <a:ext cx="748440" cy="1476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38560" y="2818440"/>
                <a:ext cx="0" cy="70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14520" y="2814120"/>
                <a:ext cx="0" cy="70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90480" y="2814120"/>
                <a:ext cx="0" cy="70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343840" y="2815560"/>
                <a:ext cx="0" cy="70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91080" y="2817000"/>
                <a:ext cx="0" cy="70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18360" y="2815560"/>
                <a:ext cx="0" cy="70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269320" y="2818440"/>
                <a:ext cx="0" cy="70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953960" y="2819520"/>
                <a:ext cx="0" cy="69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871880" y="2819520"/>
                <a:ext cx="0" cy="69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4843440" y="3576600"/>
                <a:ext cx="669960" cy="147600"/>
                <a:chOff x="4843440" y="3576600"/>
                <a:chExt cx="669960" cy="1476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843440" y="3576600"/>
                  <a:ext cx="669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843440" y="3605760"/>
                  <a:ext cx="669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843440" y="3634920"/>
                  <a:ext cx="669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843440" y="3664440"/>
                  <a:ext cx="669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843440" y="3694680"/>
                  <a:ext cx="669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843440" y="3724200"/>
                  <a:ext cx="669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793040" y="2547360"/>
                <a:ext cx="772200" cy="257400"/>
                <a:chOff x="4793040" y="2547360"/>
                <a:chExt cx="772200" cy="2574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793040" y="2547360"/>
                  <a:ext cx="772200" cy="25740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804560" y="2556360"/>
                  <a:ext cx="749880" cy="2376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848120" y="2722680"/>
                <a:ext cx="669600" cy="59400"/>
                <a:chOff x="4848120" y="2722680"/>
                <a:chExt cx="669600" cy="594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4848120" y="2722680"/>
                  <a:ext cx="669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848120" y="2751480"/>
                  <a:ext cx="669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8120" y="2782080"/>
                  <a:ext cx="669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330160" y="2570040"/>
                <a:ext cx="145800" cy="111240"/>
                <a:chOff x="5330160" y="2570040"/>
                <a:chExt cx="145800" cy="1112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330160" y="2570040"/>
                  <a:ext cx="14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330160" y="2681280"/>
                  <a:ext cx="14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408640" y="2572560"/>
                  <a:ext cx="19440" cy="10296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4848120" y="2536920"/>
              <a:ext cx="142560" cy="191160"/>
              <a:chOff x="4848120" y="2536920"/>
              <a:chExt cx="142560" cy="191160"/>
            </a:xfrm>
          </p:grpSpPr>
          <p:sp>
            <p:nvSpPr>
              <p:cNvPr id="306" name=""/>
              <p:cNvSpPr/>
              <p:nvPr/>
            </p:nvSpPr>
            <p:spPr>
              <a:xfrm>
                <a:off x="4884840" y="2608920"/>
                <a:ext cx="68760" cy="6696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848120" y="2536920"/>
                <a:ext cx="70560" cy="13932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918680" y="2536920"/>
                <a:ext cx="71640" cy="13932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"/>
              <p:cNvGrpSpPr/>
              <p:nvPr/>
            </p:nvGrpSpPr>
            <p:grpSpPr>
              <a:xfrm>
                <a:off x="4848120" y="2685600"/>
                <a:ext cx="142560" cy="42480"/>
                <a:chOff x="4848120" y="2685600"/>
                <a:chExt cx="142560" cy="424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901040" y="2685600"/>
                  <a:ext cx="12600" cy="4248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26960" y="2685600"/>
                  <a:ext cx="11160" cy="4212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950360" y="2685600"/>
                  <a:ext cx="14040" cy="4212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875120" y="2685600"/>
                  <a:ext cx="12600" cy="4248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848120" y="2685600"/>
                  <a:ext cx="14760" cy="4212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977360" y="2685600"/>
                  <a:ext cx="13320" cy="4212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6" name=""/>
          <p:cNvGrpSpPr/>
          <p:nvPr/>
        </p:nvGrpSpPr>
        <p:grpSpPr>
          <a:xfrm>
            <a:off x="2776680" y="4098960"/>
            <a:ext cx="856800" cy="1272960"/>
            <a:chOff x="2776680" y="4098960"/>
            <a:chExt cx="856800" cy="1272960"/>
          </a:xfrm>
        </p:grpSpPr>
        <p:sp>
          <p:nvSpPr>
            <p:cNvPr id="317" name=""/>
            <p:cNvSpPr/>
            <p:nvPr/>
          </p:nvSpPr>
          <p:spPr>
            <a:xfrm>
              <a:off x="2776680" y="4111920"/>
              <a:ext cx="826200" cy="1252800"/>
            </a:xfrm>
            <a:custGeom>
              <a:avLst/>
              <a:gdLst/>
              <a:ahLst/>
              <a:rect l="l" t="t" r="r" b="b"/>
              <a:pathLst>
                <a:path w="461" h="697">
                  <a:moveTo>
                    <a:pt x="0" y="0"/>
                  </a:moveTo>
                  <a:lnTo>
                    <a:pt x="0" y="696"/>
                  </a:lnTo>
                  <a:lnTo>
                    <a:pt x="460" y="696"/>
                  </a:lnTo>
                  <a:lnTo>
                    <a:pt x="460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02880" y="4111920"/>
              <a:ext cx="30600" cy="1260000"/>
            </a:xfrm>
            <a:custGeom>
              <a:avLst/>
              <a:gdLst/>
              <a:ahLst/>
              <a:rect l="l" t="t" r="r" b="b"/>
              <a:pathLst>
                <a:path w="17" h="701">
                  <a:moveTo>
                    <a:pt x="0" y="0"/>
                  </a:moveTo>
                  <a:lnTo>
                    <a:pt x="0" y="700"/>
                  </a:lnTo>
                  <a:lnTo>
                    <a:pt x="16" y="631"/>
                  </a:lnTo>
                  <a:lnTo>
                    <a:pt x="16" y="40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00440" y="4190760"/>
              <a:ext cx="758160" cy="7045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05120" y="4190760"/>
              <a:ext cx="744120" cy="7045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26720" y="4201560"/>
              <a:ext cx="30600" cy="68040"/>
            </a:xfrm>
            <a:custGeom>
              <a:avLst/>
              <a:gdLst/>
              <a:ahLst/>
              <a:rect l="l" t="t" r="r" b="b"/>
              <a:pathLst>
                <a:path w="17" h="38">
                  <a:moveTo>
                    <a:pt x="16" y="0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93240" y="5079240"/>
              <a:ext cx="773640" cy="1191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04040" y="5090040"/>
              <a:ext cx="748440" cy="9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24320" y="5108040"/>
              <a:ext cx="60480" cy="58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443400" y="5133240"/>
              <a:ext cx="14040" cy="14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93240" y="5219280"/>
              <a:ext cx="773640" cy="12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04040" y="5233320"/>
              <a:ext cx="748440" cy="9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4320" y="5250240"/>
              <a:ext cx="60480" cy="58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43400" y="5276520"/>
              <a:ext cx="14040" cy="140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3240" y="4931640"/>
              <a:ext cx="773640" cy="123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04040" y="4947840"/>
              <a:ext cx="748440" cy="943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74280" y="4138200"/>
              <a:ext cx="166320" cy="212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87600" y="4098960"/>
              <a:ext cx="144000" cy="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00" rIns="39600" tIns="20520" bIns="20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7840"/>
                  <a:tab algn="l" pos="355680"/>
                  <a:tab algn="l" pos="533520"/>
                  <a:tab algn="l" pos="711360"/>
                  <a:tab algn="l" pos="888840"/>
                  <a:tab algn="l" pos="1066680"/>
                  <a:tab algn="l" pos="1244520"/>
                  <a:tab algn="l" pos="1422360"/>
                  <a:tab algn="l" pos="1600200"/>
                  <a:tab algn="l" pos="1778040"/>
                  <a:tab algn="l" pos="1955880"/>
                  <a:tab algn="l" pos="2133720"/>
                  <a:tab algn="l" pos="2311560"/>
                  <a:tab algn="l" pos="2489040"/>
                  <a:tab algn="l" pos="2666880"/>
                  <a:tab algn="l" pos="2844720"/>
                  <a:tab algn="l" pos="3022560"/>
                  <a:tab algn="l" pos="3200400"/>
                  <a:tab algn="l" pos="3378240"/>
                  <a:tab algn="l" pos="355608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Book Antiqua"/>
                </a:rPr>
                <a:t>50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02840" y="4194360"/>
              <a:ext cx="96120" cy="11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01520" y="4194360"/>
              <a:ext cx="746280" cy="10584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99240" y="4187160"/>
              <a:ext cx="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36080" y="4185000"/>
              <a:ext cx="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876760" y="4187160"/>
              <a:ext cx="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18160" y="4183560"/>
              <a:ext cx="0" cy="71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63520" y="4183560"/>
              <a:ext cx="0" cy="71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00240" y="4183560"/>
              <a:ext cx="0" cy="71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046680" y="4183560"/>
              <a:ext cx="0" cy="71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55120" y="4185000"/>
              <a:ext cx="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05160" y="4185000"/>
              <a:ext cx="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07400" y="4187160"/>
              <a:ext cx="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461400" y="4187160"/>
              <a:ext cx="0" cy="71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357720" y="4187160"/>
              <a:ext cx="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12520" y="4183560"/>
              <a:ext cx="0" cy="71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5400" y="4187160"/>
              <a:ext cx="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56480" y="4307760"/>
              <a:ext cx="91800" cy="59328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02920" y="4187160"/>
              <a:ext cx="0" cy="71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94080" y="4930920"/>
            <a:ext cx="118800" cy="110520"/>
            <a:chOff x="3394080" y="4930920"/>
            <a:chExt cx="118800" cy="110520"/>
          </a:xfrm>
        </p:grpSpPr>
        <p:sp>
          <p:nvSpPr>
            <p:cNvPr id="353" name=""/>
            <p:cNvSpPr/>
            <p:nvPr/>
          </p:nvSpPr>
          <p:spPr>
            <a:xfrm>
              <a:off x="3424680" y="4972680"/>
              <a:ext cx="57600" cy="38880"/>
            </a:xfrm>
            <a:custGeom>
              <a:avLst/>
              <a:gdLst/>
              <a:ahLst/>
              <a:rect l="l" t="t" r="r" b="b"/>
              <a:pathLst>
                <a:path w="202" h="201">
                  <a:moveTo>
                    <a:pt x="100" y="200"/>
                  </a:moveTo>
                  <a:lnTo>
                    <a:pt x="110" y="200"/>
                  </a:lnTo>
                  <a:lnTo>
                    <a:pt x="120" y="197"/>
                  </a:lnTo>
                  <a:lnTo>
                    <a:pt x="130" y="195"/>
                  </a:lnTo>
                  <a:lnTo>
                    <a:pt x="139" y="191"/>
                  </a:lnTo>
                  <a:lnTo>
                    <a:pt x="148" y="187"/>
                  </a:lnTo>
                  <a:lnTo>
                    <a:pt x="156" y="182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7" y="164"/>
                  </a:lnTo>
                  <a:lnTo>
                    <a:pt x="183" y="156"/>
                  </a:lnTo>
                  <a:lnTo>
                    <a:pt x="188" y="148"/>
                  </a:lnTo>
                  <a:lnTo>
                    <a:pt x="192" y="139"/>
                  </a:lnTo>
                  <a:lnTo>
                    <a:pt x="196" y="130"/>
                  </a:lnTo>
                  <a:lnTo>
                    <a:pt x="197" y="120"/>
                  </a:lnTo>
                  <a:lnTo>
                    <a:pt x="200" y="110"/>
                  </a:lnTo>
                  <a:lnTo>
                    <a:pt x="201" y="101"/>
                  </a:lnTo>
                  <a:lnTo>
                    <a:pt x="200" y="90"/>
                  </a:lnTo>
                  <a:lnTo>
                    <a:pt x="197" y="80"/>
                  </a:lnTo>
                  <a:lnTo>
                    <a:pt x="196" y="69"/>
                  </a:lnTo>
                  <a:lnTo>
                    <a:pt x="192" y="61"/>
                  </a:lnTo>
                  <a:lnTo>
                    <a:pt x="188" y="51"/>
                  </a:lnTo>
                  <a:lnTo>
                    <a:pt x="183" y="44"/>
                  </a:lnTo>
                  <a:lnTo>
                    <a:pt x="177" y="35"/>
                  </a:lnTo>
                  <a:lnTo>
                    <a:pt x="171" y="29"/>
                  </a:lnTo>
                  <a:lnTo>
                    <a:pt x="163" y="22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1" y="8"/>
                  </a:lnTo>
                  <a:lnTo>
                    <a:pt x="52" y="12"/>
                  </a:lnTo>
                  <a:lnTo>
                    <a:pt x="43" y="17"/>
                  </a:lnTo>
                  <a:lnTo>
                    <a:pt x="36" y="22"/>
                  </a:lnTo>
                  <a:lnTo>
                    <a:pt x="29" y="29"/>
                  </a:lnTo>
                  <a:lnTo>
                    <a:pt x="22" y="35"/>
                  </a:lnTo>
                  <a:lnTo>
                    <a:pt x="17" y="44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4" y="69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4" y="130"/>
                  </a:lnTo>
                  <a:lnTo>
                    <a:pt x="8" y="139"/>
                  </a:lnTo>
                  <a:lnTo>
                    <a:pt x="11" y="148"/>
                  </a:lnTo>
                  <a:lnTo>
                    <a:pt x="17" y="156"/>
                  </a:lnTo>
                  <a:lnTo>
                    <a:pt x="22" y="164"/>
                  </a:lnTo>
                  <a:lnTo>
                    <a:pt x="29" y="170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52" y="187"/>
                  </a:lnTo>
                  <a:lnTo>
                    <a:pt x="61" y="191"/>
                  </a:lnTo>
                  <a:lnTo>
                    <a:pt x="69" y="195"/>
                  </a:lnTo>
                  <a:lnTo>
                    <a:pt x="79" y="197"/>
                  </a:lnTo>
                  <a:lnTo>
                    <a:pt x="89" y="200"/>
                  </a:lnTo>
                  <a:lnTo>
                    <a:pt x="100" y="20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94080" y="4930920"/>
              <a:ext cx="59040" cy="80640"/>
            </a:xfrm>
            <a:custGeom>
              <a:avLst/>
              <a:gdLst/>
              <a:ahLst/>
              <a:rect l="l" t="t" r="r" b="b"/>
              <a:pathLst>
                <a:path w="207" h="417">
                  <a:moveTo>
                    <a:pt x="206" y="0"/>
                  </a:moveTo>
                  <a:lnTo>
                    <a:pt x="0" y="0"/>
                  </a:lnTo>
                  <a:lnTo>
                    <a:pt x="0" y="416"/>
                  </a:lnTo>
                  <a:lnTo>
                    <a:pt x="20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53120" y="4930920"/>
              <a:ext cx="59760" cy="80640"/>
            </a:xfrm>
            <a:custGeom>
              <a:avLst/>
              <a:gdLst/>
              <a:ahLst/>
              <a:rect l="l" t="t" r="r" b="b"/>
              <a:pathLst>
                <a:path w="210" h="417">
                  <a:moveTo>
                    <a:pt x="209" y="416"/>
                  </a:moveTo>
                  <a:lnTo>
                    <a:pt x="209" y="0"/>
                  </a:lnTo>
                  <a:lnTo>
                    <a:pt x="0" y="0"/>
                  </a:lnTo>
                  <a:lnTo>
                    <a:pt x="209" y="416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3394080" y="5016960"/>
              <a:ext cx="118800" cy="24480"/>
              <a:chOff x="3394080" y="5016960"/>
              <a:chExt cx="118800" cy="24480"/>
            </a:xfrm>
          </p:grpSpPr>
          <p:sp>
            <p:nvSpPr>
              <p:cNvPr id="357" name=""/>
              <p:cNvSpPr/>
              <p:nvPr/>
            </p:nvSpPr>
            <p:spPr>
              <a:xfrm>
                <a:off x="3438000" y="5016960"/>
                <a:ext cx="10440" cy="24480"/>
              </a:xfrm>
              <a:custGeom>
                <a:avLst/>
                <a:gdLst/>
                <a:ahLst/>
                <a:rect l="l" t="t" r="r" b="b"/>
                <a:pathLst>
                  <a:path w="37" h="128">
                    <a:moveTo>
                      <a:pt x="20" y="43"/>
                    </a:moveTo>
                    <a:lnTo>
                      <a:pt x="20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108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0" y="109"/>
                    </a:lnTo>
                    <a:lnTo>
                      <a:pt x="20" y="108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20" y="105"/>
                    </a:lnTo>
                    <a:lnTo>
                      <a:pt x="20" y="103"/>
                    </a:lnTo>
                    <a:lnTo>
                      <a:pt x="20" y="76"/>
                    </a:lnTo>
                    <a:lnTo>
                      <a:pt x="36" y="76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2"/>
                    </a:lnTo>
                    <a:lnTo>
                      <a:pt x="35" y="114"/>
                    </a:lnTo>
                    <a:lnTo>
                      <a:pt x="34" y="117"/>
                    </a:lnTo>
                    <a:lnTo>
                      <a:pt x="32" y="118"/>
                    </a:lnTo>
                    <a:lnTo>
                      <a:pt x="32" y="120"/>
                    </a:lnTo>
                    <a:lnTo>
                      <a:pt x="31" y="122"/>
                    </a:lnTo>
                    <a:lnTo>
                      <a:pt x="30" y="123"/>
                    </a:lnTo>
                    <a:lnTo>
                      <a:pt x="28" y="124"/>
                    </a:lnTo>
                    <a:lnTo>
                      <a:pt x="27" y="125"/>
                    </a:lnTo>
                    <a:lnTo>
                      <a:pt x="25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0" y="126"/>
                    </a:lnTo>
                    <a:lnTo>
                      <a:pt x="19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4" y="126"/>
                    </a:lnTo>
                    <a:lnTo>
                      <a:pt x="12" y="126"/>
                    </a:lnTo>
                    <a:lnTo>
                      <a:pt x="10" y="126"/>
                    </a:lnTo>
                    <a:lnTo>
                      <a:pt x="9" y="125"/>
                    </a:lnTo>
                    <a:lnTo>
                      <a:pt x="8" y="125"/>
                    </a:lnTo>
                    <a:lnTo>
                      <a:pt x="6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2" y="120"/>
                    </a:lnTo>
                    <a:lnTo>
                      <a:pt x="1" y="118"/>
                    </a:lnTo>
                    <a:lnTo>
                      <a:pt x="0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7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6" y="43"/>
                    </a:lnTo>
                    <a:lnTo>
                      <a:pt x="20" y="4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59960" y="5016960"/>
                <a:ext cx="9360" cy="2412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0" y="125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52"/>
                    </a:lnTo>
                    <a:lnTo>
                      <a:pt x="31" y="52"/>
                    </a:lnTo>
                    <a:lnTo>
                      <a:pt x="31" y="67"/>
                    </a:lnTo>
                    <a:lnTo>
                      <a:pt x="15" y="72"/>
                    </a:lnTo>
                    <a:lnTo>
                      <a:pt x="15" y="108"/>
                    </a:lnTo>
                    <a:lnTo>
                      <a:pt x="32" y="108"/>
                    </a:lnTo>
                    <a:lnTo>
                      <a:pt x="32" y="125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479760" y="5016960"/>
                <a:ext cx="11880" cy="24120"/>
              </a:xfrm>
              <a:custGeom>
                <a:avLst/>
                <a:gdLst/>
                <a:ahLst/>
                <a:rect l="l" t="t" r="r" b="b"/>
                <a:pathLst>
                  <a:path w="42" h="126">
                    <a:moveTo>
                      <a:pt x="28" y="80"/>
                    </a:moveTo>
                    <a:lnTo>
                      <a:pt x="28" y="0"/>
                    </a:lnTo>
                    <a:lnTo>
                      <a:pt x="41" y="0"/>
                    </a:lnTo>
                    <a:lnTo>
                      <a:pt x="41" y="125"/>
                    </a:lnTo>
                    <a:lnTo>
                      <a:pt x="24" y="125"/>
                    </a:lnTo>
                    <a:lnTo>
                      <a:pt x="10" y="36"/>
                    </a:lnTo>
                    <a:lnTo>
                      <a:pt x="10" y="125"/>
                    </a:lnTo>
                    <a:lnTo>
                      <a:pt x="0" y="12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8" y="8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416760" y="5016960"/>
                <a:ext cx="10800" cy="24480"/>
              </a:xfrm>
              <a:custGeom>
                <a:avLst/>
                <a:gdLst/>
                <a:ahLst/>
                <a:rect l="l" t="t" r="r" b="b"/>
                <a:pathLst>
                  <a:path w="38" h="128">
                    <a:moveTo>
                      <a:pt x="15" y="103"/>
                    </a:move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7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9"/>
                    </a:lnTo>
                    <a:lnTo>
                      <a:pt x="15" y="109"/>
                    </a:lnTo>
                    <a:lnTo>
                      <a:pt x="15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1" y="108"/>
                    </a:lnTo>
                    <a:lnTo>
                      <a:pt x="21" y="108"/>
                    </a:lnTo>
                    <a:lnTo>
                      <a:pt x="21" y="107"/>
                    </a:lnTo>
                    <a:lnTo>
                      <a:pt x="21" y="106"/>
                    </a:lnTo>
                    <a:lnTo>
                      <a:pt x="21" y="105"/>
                    </a:lnTo>
                    <a:lnTo>
                      <a:pt x="21" y="103"/>
                    </a:lnTo>
                    <a:lnTo>
                      <a:pt x="21" y="84"/>
                    </a:lnTo>
                    <a:lnTo>
                      <a:pt x="21" y="83"/>
                    </a:lnTo>
                    <a:lnTo>
                      <a:pt x="20" y="79"/>
                    </a:lnTo>
                    <a:lnTo>
                      <a:pt x="20" y="77"/>
                    </a:lnTo>
                    <a:lnTo>
                      <a:pt x="19" y="75"/>
                    </a:lnTo>
                    <a:lnTo>
                      <a:pt x="16" y="72"/>
                    </a:lnTo>
                    <a:lnTo>
                      <a:pt x="15" y="70"/>
                    </a:lnTo>
                    <a:lnTo>
                      <a:pt x="13" y="68"/>
                    </a:lnTo>
                    <a:lnTo>
                      <a:pt x="11" y="65"/>
                    </a:lnTo>
                    <a:lnTo>
                      <a:pt x="9" y="64"/>
                    </a:lnTo>
                    <a:lnTo>
                      <a:pt x="8" y="61"/>
                    </a:lnTo>
                    <a:lnTo>
                      <a:pt x="5" y="59"/>
                    </a:lnTo>
                    <a:lnTo>
                      <a:pt x="4" y="56"/>
                    </a:lnTo>
                    <a:lnTo>
                      <a:pt x="3" y="53"/>
                    </a:lnTo>
                    <a:lnTo>
                      <a:pt x="2" y="51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9"/>
                    </a:lnTo>
                    <a:lnTo>
                      <a:pt x="36" y="12"/>
                    </a:lnTo>
                    <a:lnTo>
                      <a:pt x="37" y="14"/>
                    </a:lnTo>
                    <a:lnTo>
                      <a:pt x="37" y="17"/>
                    </a:lnTo>
                    <a:lnTo>
                      <a:pt x="37" y="20"/>
                    </a:lnTo>
                    <a:lnTo>
                      <a:pt x="37" y="42"/>
                    </a:lnTo>
                    <a:lnTo>
                      <a:pt x="22" y="42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39"/>
                    </a:lnTo>
                    <a:lnTo>
                      <a:pt x="16" y="41"/>
                    </a:lnTo>
                    <a:lnTo>
                      <a:pt x="16" y="42"/>
                    </a:lnTo>
                    <a:lnTo>
                      <a:pt x="17" y="44"/>
                    </a:lnTo>
                    <a:lnTo>
                      <a:pt x="19" y="47"/>
                    </a:lnTo>
                    <a:lnTo>
                      <a:pt x="20" y="48"/>
                    </a:lnTo>
                    <a:lnTo>
                      <a:pt x="22" y="50"/>
                    </a:lnTo>
                    <a:lnTo>
                      <a:pt x="24" y="52"/>
                    </a:lnTo>
                    <a:lnTo>
                      <a:pt x="26" y="54"/>
                    </a:lnTo>
                    <a:lnTo>
                      <a:pt x="28" y="56"/>
                    </a:lnTo>
                    <a:lnTo>
                      <a:pt x="30" y="59"/>
                    </a:lnTo>
                    <a:lnTo>
                      <a:pt x="32" y="61"/>
                    </a:lnTo>
                    <a:lnTo>
                      <a:pt x="32" y="62"/>
                    </a:lnTo>
                    <a:lnTo>
                      <a:pt x="34" y="65"/>
                    </a:lnTo>
                    <a:lnTo>
                      <a:pt x="36" y="67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7" y="106"/>
                    </a:lnTo>
                    <a:lnTo>
                      <a:pt x="37" y="108"/>
                    </a:lnTo>
                    <a:lnTo>
                      <a:pt x="36" y="112"/>
                    </a:lnTo>
                    <a:lnTo>
                      <a:pt x="36" y="114"/>
                    </a:lnTo>
                    <a:lnTo>
                      <a:pt x="34" y="117"/>
                    </a:lnTo>
                    <a:lnTo>
                      <a:pt x="33" y="118"/>
                    </a:lnTo>
                    <a:lnTo>
                      <a:pt x="32" y="120"/>
                    </a:lnTo>
                    <a:lnTo>
                      <a:pt x="32" y="122"/>
                    </a:lnTo>
                    <a:lnTo>
                      <a:pt x="31" y="123"/>
                    </a:lnTo>
                    <a:lnTo>
                      <a:pt x="28" y="124"/>
                    </a:lnTo>
                    <a:lnTo>
                      <a:pt x="28" y="125"/>
                    </a:lnTo>
                    <a:lnTo>
                      <a:pt x="26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1" y="126"/>
                    </a:lnTo>
                    <a:lnTo>
                      <a:pt x="20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5" y="126"/>
                    </a:lnTo>
                    <a:lnTo>
                      <a:pt x="13" y="126"/>
                    </a:lnTo>
                    <a:lnTo>
                      <a:pt x="12" y="126"/>
                    </a:lnTo>
                    <a:lnTo>
                      <a:pt x="10" y="125"/>
                    </a:lnTo>
                    <a:lnTo>
                      <a:pt x="8" y="125"/>
                    </a:lnTo>
                    <a:lnTo>
                      <a:pt x="8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4" y="120"/>
                    </a:lnTo>
                    <a:lnTo>
                      <a:pt x="3" y="118"/>
                    </a:lnTo>
                    <a:lnTo>
                      <a:pt x="2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76"/>
                    </a:lnTo>
                    <a:lnTo>
                      <a:pt x="15" y="76"/>
                    </a:lnTo>
                    <a:lnTo>
                      <a:pt x="15" y="10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94080" y="5016960"/>
                <a:ext cx="12240" cy="2412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9" y="0"/>
                    </a:moveTo>
                    <a:lnTo>
                      <a:pt x="33" y="0"/>
                    </a:lnTo>
                    <a:lnTo>
                      <a:pt x="43" y="125"/>
                    </a:lnTo>
                    <a:lnTo>
                      <a:pt x="27" y="125"/>
                    </a:lnTo>
                    <a:lnTo>
                      <a:pt x="25" y="93"/>
                    </a:lnTo>
                    <a:lnTo>
                      <a:pt x="24" y="78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4" y="78"/>
                    </a:lnTo>
                    <a:lnTo>
                      <a:pt x="24" y="78"/>
                    </a:lnTo>
                    <a:lnTo>
                      <a:pt x="25" y="93"/>
                    </a:lnTo>
                    <a:lnTo>
                      <a:pt x="14" y="93"/>
                    </a:lnTo>
                    <a:lnTo>
                      <a:pt x="12" y="125"/>
                    </a:lnTo>
                    <a:lnTo>
                      <a:pt x="0" y="12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502080" y="5016960"/>
                <a:ext cx="10800" cy="24120"/>
              </a:xfrm>
              <a:custGeom>
                <a:avLst/>
                <a:gdLst/>
                <a:ahLst/>
                <a:rect l="l" t="t" r="r" b="b"/>
                <a:pathLst>
                  <a:path w="39" h="126">
                    <a:moveTo>
                      <a:pt x="0" y="0"/>
                    </a:move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0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102"/>
                    </a:lnTo>
                    <a:lnTo>
                      <a:pt x="38" y="104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1"/>
                    </a:lnTo>
                    <a:lnTo>
                      <a:pt x="35" y="113"/>
                    </a:lnTo>
                    <a:lnTo>
                      <a:pt x="34" y="114"/>
                    </a:lnTo>
                    <a:lnTo>
                      <a:pt x="33" y="115"/>
                    </a:lnTo>
                    <a:lnTo>
                      <a:pt x="33" y="118"/>
                    </a:lnTo>
                    <a:lnTo>
                      <a:pt x="32" y="119"/>
                    </a:lnTo>
                    <a:lnTo>
                      <a:pt x="30" y="120"/>
                    </a:lnTo>
                    <a:lnTo>
                      <a:pt x="28" y="121"/>
                    </a:lnTo>
                    <a:lnTo>
                      <a:pt x="28" y="123"/>
                    </a:lnTo>
                    <a:lnTo>
                      <a:pt x="26" y="124"/>
                    </a:lnTo>
                    <a:lnTo>
                      <a:pt x="23" y="124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15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1" y="111"/>
                    </a:lnTo>
                    <a:lnTo>
                      <a:pt x="21" y="109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2" y="108"/>
                    </a:lnTo>
                    <a:lnTo>
                      <a:pt x="22" y="107"/>
                    </a:lnTo>
                    <a:lnTo>
                      <a:pt x="22" y="106"/>
                    </a:lnTo>
                    <a:lnTo>
                      <a:pt x="22" y="105"/>
                    </a:lnTo>
                    <a:lnTo>
                      <a:pt x="22" y="104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5" y="112"/>
                    </a:lnTo>
                    <a:lnTo>
                      <a:pt x="20" y="125"/>
                    </a:lnTo>
                    <a:lnTo>
                      <a:pt x="0" y="1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6172200" y="2563920"/>
            <a:ext cx="3124080" cy="28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216000" indent="-216000">
              <a:lnSpc>
                <a:spcPct val="10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ize investment in Core net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1874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imize bandwidth   and leverage service 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1874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d by NavisXtend and Navi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728720" y="5432400"/>
            <a:ext cx="118800" cy="111240"/>
            <a:chOff x="1728720" y="5432400"/>
            <a:chExt cx="118800" cy="111240"/>
          </a:xfrm>
        </p:grpSpPr>
        <p:sp>
          <p:nvSpPr>
            <p:cNvPr id="365" name=""/>
            <p:cNvSpPr/>
            <p:nvPr/>
          </p:nvSpPr>
          <p:spPr>
            <a:xfrm>
              <a:off x="1759320" y="5474160"/>
              <a:ext cx="57600" cy="38880"/>
            </a:xfrm>
            <a:custGeom>
              <a:avLst/>
              <a:gdLst/>
              <a:ahLst/>
              <a:rect l="l" t="t" r="r" b="b"/>
              <a:pathLst>
                <a:path w="202" h="201">
                  <a:moveTo>
                    <a:pt x="100" y="200"/>
                  </a:moveTo>
                  <a:lnTo>
                    <a:pt x="110" y="200"/>
                  </a:lnTo>
                  <a:lnTo>
                    <a:pt x="120" y="197"/>
                  </a:lnTo>
                  <a:lnTo>
                    <a:pt x="130" y="195"/>
                  </a:lnTo>
                  <a:lnTo>
                    <a:pt x="139" y="191"/>
                  </a:lnTo>
                  <a:lnTo>
                    <a:pt x="148" y="187"/>
                  </a:lnTo>
                  <a:lnTo>
                    <a:pt x="156" y="182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7" y="164"/>
                  </a:lnTo>
                  <a:lnTo>
                    <a:pt x="183" y="156"/>
                  </a:lnTo>
                  <a:lnTo>
                    <a:pt x="188" y="148"/>
                  </a:lnTo>
                  <a:lnTo>
                    <a:pt x="192" y="139"/>
                  </a:lnTo>
                  <a:lnTo>
                    <a:pt x="196" y="130"/>
                  </a:lnTo>
                  <a:lnTo>
                    <a:pt x="197" y="120"/>
                  </a:lnTo>
                  <a:lnTo>
                    <a:pt x="200" y="110"/>
                  </a:lnTo>
                  <a:lnTo>
                    <a:pt x="201" y="101"/>
                  </a:lnTo>
                  <a:lnTo>
                    <a:pt x="200" y="90"/>
                  </a:lnTo>
                  <a:lnTo>
                    <a:pt x="197" y="80"/>
                  </a:lnTo>
                  <a:lnTo>
                    <a:pt x="196" y="69"/>
                  </a:lnTo>
                  <a:lnTo>
                    <a:pt x="192" y="61"/>
                  </a:lnTo>
                  <a:lnTo>
                    <a:pt x="188" y="51"/>
                  </a:lnTo>
                  <a:lnTo>
                    <a:pt x="183" y="44"/>
                  </a:lnTo>
                  <a:lnTo>
                    <a:pt x="177" y="35"/>
                  </a:lnTo>
                  <a:lnTo>
                    <a:pt x="171" y="29"/>
                  </a:lnTo>
                  <a:lnTo>
                    <a:pt x="163" y="22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9" y="2"/>
                  </a:lnTo>
                  <a:lnTo>
                    <a:pt x="69" y="4"/>
                  </a:lnTo>
                  <a:lnTo>
                    <a:pt x="61" y="8"/>
                  </a:lnTo>
                  <a:lnTo>
                    <a:pt x="52" y="12"/>
                  </a:lnTo>
                  <a:lnTo>
                    <a:pt x="43" y="17"/>
                  </a:lnTo>
                  <a:lnTo>
                    <a:pt x="36" y="22"/>
                  </a:lnTo>
                  <a:lnTo>
                    <a:pt x="29" y="29"/>
                  </a:lnTo>
                  <a:lnTo>
                    <a:pt x="22" y="35"/>
                  </a:lnTo>
                  <a:lnTo>
                    <a:pt x="17" y="44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4" y="69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4" y="130"/>
                  </a:lnTo>
                  <a:lnTo>
                    <a:pt x="8" y="139"/>
                  </a:lnTo>
                  <a:lnTo>
                    <a:pt x="11" y="148"/>
                  </a:lnTo>
                  <a:lnTo>
                    <a:pt x="17" y="156"/>
                  </a:lnTo>
                  <a:lnTo>
                    <a:pt x="22" y="164"/>
                  </a:lnTo>
                  <a:lnTo>
                    <a:pt x="29" y="170"/>
                  </a:lnTo>
                  <a:lnTo>
                    <a:pt x="36" y="177"/>
                  </a:lnTo>
                  <a:lnTo>
                    <a:pt x="43" y="182"/>
                  </a:lnTo>
                  <a:lnTo>
                    <a:pt x="52" y="187"/>
                  </a:lnTo>
                  <a:lnTo>
                    <a:pt x="61" y="191"/>
                  </a:lnTo>
                  <a:lnTo>
                    <a:pt x="69" y="195"/>
                  </a:lnTo>
                  <a:lnTo>
                    <a:pt x="79" y="197"/>
                  </a:lnTo>
                  <a:lnTo>
                    <a:pt x="89" y="200"/>
                  </a:lnTo>
                  <a:lnTo>
                    <a:pt x="100" y="200"/>
                  </a:lnTo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28720" y="5432400"/>
              <a:ext cx="59040" cy="81000"/>
            </a:xfrm>
            <a:custGeom>
              <a:avLst/>
              <a:gdLst/>
              <a:ahLst/>
              <a:rect l="l" t="t" r="r" b="b"/>
              <a:pathLst>
                <a:path w="207" h="417">
                  <a:moveTo>
                    <a:pt x="206" y="0"/>
                  </a:moveTo>
                  <a:lnTo>
                    <a:pt x="0" y="0"/>
                  </a:lnTo>
                  <a:lnTo>
                    <a:pt x="0" y="416"/>
                  </a:lnTo>
                  <a:lnTo>
                    <a:pt x="206" y="0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87760" y="5432400"/>
              <a:ext cx="59760" cy="81000"/>
            </a:xfrm>
            <a:custGeom>
              <a:avLst/>
              <a:gdLst/>
              <a:ahLst/>
              <a:rect l="l" t="t" r="r" b="b"/>
              <a:pathLst>
                <a:path w="210" h="417">
                  <a:moveTo>
                    <a:pt x="209" y="416"/>
                  </a:moveTo>
                  <a:lnTo>
                    <a:pt x="209" y="0"/>
                  </a:lnTo>
                  <a:lnTo>
                    <a:pt x="0" y="0"/>
                  </a:lnTo>
                  <a:lnTo>
                    <a:pt x="209" y="416"/>
                  </a:lnTo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728720" y="5518800"/>
              <a:ext cx="118800" cy="24840"/>
              <a:chOff x="1728720" y="5518800"/>
              <a:chExt cx="118800" cy="24840"/>
            </a:xfrm>
          </p:grpSpPr>
          <p:sp>
            <p:nvSpPr>
              <p:cNvPr id="369" name=""/>
              <p:cNvSpPr/>
              <p:nvPr/>
            </p:nvSpPr>
            <p:spPr>
              <a:xfrm>
                <a:off x="1772640" y="5518800"/>
                <a:ext cx="10440" cy="24840"/>
              </a:xfrm>
              <a:custGeom>
                <a:avLst/>
                <a:gdLst/>
                <a:ahLst/>
                <a:rect l="l" t="t" r="r" b="b"/>
                <a:pathLst>
                  <a:path w="37" h="128">
                    <a:moveTo>
                      <a:pt x="20" y="43"/>
                    </a:moveTo>
                    <a:lnTo>
                      <a:pt x="20" y="21"/>
                    </a:lnTo>
                    <a:lnTo>
                      <a:pt x="20" y="20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8"/>
                    </a:lnTo>
                    <a:lnTo>
                      <a:pt x="20" y="17"/>
                    </a:lnTo>
                    <a:lnTo>
                      <a:pt x="20" y="16"/>
                    </a:lnTo>
                    <a:lnTo>
                      <a:pt x="20" y="16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4" y="1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4" y="20"/>
                    </a:lnTo>
                    <a:lnTo>
                      <a:pt x="14" y="21"/>
                    </a:lnTo>
                    <a:lnTo>
                      <a:pt x="14" y="108"/>
                    </a:lnTo>
                    <a:lnTo>
                      <a:pt x="14" y="109"/>
                    </a:lnTo>
                    <a:lnTo>
                      <a:pt x="14" y="111"/>
                    </a:lnTo>
                    <a:lnTo>
                      <a:pt x="14" y="111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5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0" y="109"/>
                    </a:lnTo>
                    <a:lnTo>
                      <a:pt x="20" y="108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6"/>
                    </a:lnTo>
                    <a:lnTo>
                      <a:pt x="20" y="105"/>
                    </a:lnTo>
                    <a:lnTo>
                      <a:pt x="20" y="103"/>
                    </a:lnTo>
                    <a:lnTo>
                      <a:pt x="20" y="76"/>
                    </a:lnTo>
                    <a:lnTo>
                      <a:pt x="36" y="76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2"/>
                    </a:lnTo>
                    <a:lnTo>
                      <a:pt x="35" y="114"/>
                    </a:lnTo>
                    <a:lnTo>
                      <a:pt x="34" y="117"/>
                    </a:lnTo>
                    <a:lnTo>
                      <a:pt x="32" y="118"/>
                    </a:lnTo>
                    <a:lnTo>
                      <a:pt x="32" y="120"/>
                    </a:lnTo>
                    <a:lnTo>
                      <a:pt x="31" y="122"/>
                    </a:lnTo>
                    <a:lnTo>
                      <a:pt x="30" y="123"/>
                    </a:lnTo>
                    <a:lnTo>
                      <a:pt x="28" y="124"/>
                    </a:lnTo>
                    <a:lnTo>
                      <a:pt x="27" y="125"/>
                    </a:lnTo>
                    <a:lnTo>
                      <a:pt x="25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0" y="126"/>
                    </a:lnTo>
                    <a:lnTo>
                      <a:pt x="19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4" y="126"/>
                    </a:lnTo>
                    <a:lnTo>
                      <a:pt x="12" y="126"/>
                    </a:lnTo>
                    <a:lnTo>
                      <a:pt x="10" y="126"/>
                    </a:lnTo>
                    <a:lnTo>
                      <a:pt x="9" y="125"/>
                    </a:lnTo>
                    <a:lnTo>
                      <a:pt x="8" y="125"/>
                    </a:lnTo>
                    <a:lnTo>
                      <a:pt x="6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2" y="120"/>
                    </a:lnTo>
                    <a:lnTo>
                      <a:pt x="1" y="118"/>
                    </a:lnTo>
                    <a:lnTo>
                      <a:pt x="0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9"/>
                    </a:lnTo>
                    <a:lnTo>
                      <a:pt x="1" y="7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7" y="1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4"/>
                    </a:lnTo>
                    <a:lnTo>
                      <a:pt x="32" y="5"/>
                    </a:lnTo>
                    <a:lnTo>
                      <a:pt x="32" y="7"/>
                    </a:lnTo>
                    <a:lnTo>
                      <a:pt x="34" y="9"/>
                    </a:lnTo>
                    <a:lnTo>
                      <a:pt x="35" y="12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6" y="43"/>
                    </a:lnTo>
                    <a:lnTo>
                      <a:pt x="20" y="4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94600" y="5518800"/>
                <a:ext cx="9360" cy="24480"/>
              </a:xfrm>
              <a:custGeom>
                <a:avLst/>
                <a:gdLst/>
                <a:ahLst/>
                <a:rect l="l" t="t" r="r" b="b"/>
                <a:pathLst>
                  <a:path w="33" h="126">
                    <a:moveTo>
                      <a:pt x="0" y="125"/>
                    </a:moveTo>
                    <a:lnTo>
                      <a:pt x="0" y="0"/>
                    </a:lnTo>
                    <a:lnTo>
                      <a:pt x="31" y="0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52"/>
                    </a:lnTo>
                    <a:lnTo>
                      <a:pt x="31" y="52"/>
                    </a:lnTo>
                    <a:lnTo>
                      <a:pt x="31" y="67"/>
                    </a:lnTo>
                    <a:lnTo>
                      <a:pt x="15" y="72"/>
                    </a:lnTo>
                    <a:lnTo>
                      <a:pt x="15" y="108"/>
                    </a:lnTo>
                    <a:lnTo>
                      <a:pt x="32" y="108"/>
                    </a:lnTo>
                    <a:lnTo>
                      <a:pt x="32" y="125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814400" y="5518800"/>
                <a:ext cx="11880" cy="24480"/>
              </a:xfrm>
              <a:custGeom>
                <a:avLst/>
                <a:gdLst/>
                <a:ahLst/>
                <a:rect l="l" t="t" r="r" b="b"/>
                <a:pathLst>
                  <a:path w="42" h="126">
                    <a:moveTo>
                      <a:pt x="28" y="80"/>
                    </a:moveTo>
                    <a:lnTo>
                      <a:pt x="28" y="0"/>
                    </a:lnTo>
                    <a:lnTo>
                      <a:pt x="41" y="0"/>
                    </a:lnTo>
                    <a:lnTo>
                      <a:pt x="41" y="125"/>
                    </a:lnTo>
                    <a:lnTo>
                      <a:pt x="24" y="125"/>
                    </a:lnTo>
                    <a:lnTo>
                      <a:pt x="10" y="36"/>
                    </a:lnTo>
                    <a:lnTo>
                      <a:pt x="10" y="125"/>
                    </a:lnTo>
                    <a:lnTo>
                      <a:pt x="0" y="125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28" y="8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51400" y="5518800"/>
                <a:ext cx="10800" cy="24840"/>
              </a:xfrm>
              <a:custGeom>
                <a:avLst/>
                <a:gdLst/>
                <a:ahLst/>
                <a:rect l="l" t="t" r="r" b="b"/>
                <a:pathLst>
                  <a:path w="38" h="128">
                    <a:moveTo>
                      <a:pt x="15" y="103"/>
                    </a:moveTo>
                    <a:lnTo>
                      <a:pt x="15" y="105"/>
                    </a:lnTo>
                    <a:lnTo>
                      <a:pt x="15" y="106"/>
                    </a:lnTo>
                    <a:lnTo>
                      <a:pt x="15" y="107"/>
                    </a:lnTo>
                    <a:lnTo>
                      <a:pt x="15" y="108"/>
                    </a:lnTo>
                    <a:lnTo>
                      <a:pt x="15" y="108"/>
                    </a:lnTo>
                    <a:lnTo>
                      <a:pt x="15" y="109"/>
                    </a:lnTo>
                    <a:lnTo>
                      <a:pt x="15" y="109"/>
                    </a:lnTo>
                    <a:lnTo>
                      <a:pt x="15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6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11"/>
                    </a:lnTo>
                    <a:lnTo>
                      <a:pt x="20" y="109"/>
                    </a:lnTo>
                    <a:lnTo>
                      <a:pt x="21" y="109"/>
                    </a:lnTo>
                    <a:lnTo>
                      <a:pt x="21" y="108"/>
                    </a:lnTo>
                    <a:lnTo>
                      <a:pt x="21" y="108"/>
                    </a:lnTo>
                    <a:lnTo>
                      <a:pt x="21" y="107"/>
                    </a:lnTo>
                    <a:lnTo>
                      <a:pt x="21" y="106"/>
                    </a:lnTo>
                    <a:lnTo>
                      <a:pt x="21" y="105"/>
                    </a:lnTo>
                    <a:lnTo>
                      <a:pt x="21" y="103"/>
                    </a:lnTo>
                    <a:lnTo>
                      <a:pt x="21" y="84"/>
                    </a:lnTo>
                    <a:lnTo>
                      <a:pt x="21" y="83"/>
                    </a:lnTo>
                    <a:lnTo>
                      <a:pt x="20" y="79"/>
                    </a:lnTo>
                    <a:lnTo>
                      <a:pt x="20" y="77"/>
                    </a:lnTo>
                    <a:lnTo>
                      <a:pt x="19" y="75"/>
                    </a:lnTo>
                    <a:lnTo>
                      <a:pt x="16" y="72"/>
                    </a:lnTo>
                    <a:lnTo>
                      <a:pt x="15" y="70"/>
                    </a:lnTo>
                    <a:lnTo>
                      <a:pt x="13" y="68"/>
                    </a:lnTo>
                    <a:lnTo>
                      <a:pt x="11" y="65"/>
                    </a:lnTo>
                    <a:lnTo>
                      <a:pt x="9" y="64"/>
                    </a:lnTo>
                    <a:lnTo>
                      <a:pt x="8" y="61"/>
                    </a:lnTo>
                    <a:lnTo>
                      <a:pt x="5" y="59"/>
                    </a:lnTo>
                    <a:lnTo>
                      <a:pt x="4" y="56"/>
                    </a:lnTo>
                    <a:lnTo>
                      <a:pt x="3" y="53"/>
                    </a:lnTo>
                    <a:lnTo>
                      <a:pt x="2" y="51"/>
                    </a:lnTo>
                    <a:lnTo>
                      <a:pt x="0" y="48"/>
                    </a:lnTo>
                    <a:lnTo>
                      <a:pt x="0" y="45"/>
                    </a:lnTo>
                    <a:lnTo>
                      <a:pt x="0" y="20"/>
                    </a:lnTo>
                    <a:lnTo>
                      <a:pt x="0" y="17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9"/>
                    </a:lnTo>
                    <a:lnTo>
                      <a:pt x="4" y="7"/>
                    </a:lnTo>
                    <a:lnTo>
                      <a:pt x="4" y="6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8" y="2"/>
                    </a:lnTo>
                    <a:lnTo>
                      <a:pt x="9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2" y="6"/>
                    </a:lnTo>
                    <a:lnTo>
                      <a:pt x="33" y="7"/>
                    </a:lnTo>
                    <a:lnTo>
                      <a:pt x="34" y="9"/>
                    </a:lnTo>
                    <a:lnTo>
                      <a:pt x="36" y="12"/>
                    </a:lnTo>
                    <a:lnTo>
                      <a:pt x="37" y="14"/>
                    </a:lnTo>
                    <a:lnTo>
                      <a:pt x="37" y="17"/>
                    </a:lnTo>
                    <a:lnTo>
                      <a:pt x="37" y="20"/>
                    </a:lnTo>
                    <a:lnTo>
                      <a:pt x="37" y="42"/>
                    </a:lnTo>
                    <a:lnTo>
                      <a:pt x="22" y="42"/>
                    </a:lnTo>
                    <a:lnTo>
                      <a:pt x="22" y="22"/>
                    </a:lnTo>
                    <a:lnTo>
                      <a:pt x="22" y="21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8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1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7" y="14"/>
                    </a:lnTo>
                    <a:lnTo>
                      <a:pt x="16" y="14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8"/>
                    </a:lnTo>
                    <a:lnTo>
                      <a:pt x="16" y="18"/>
                    </a:lnTo>
                    <a:lnTo>
                      <a:pt x="16" y="19"/>
                    </a:lnTo>
                    <a:lnTo>
                      <a:pt x="16" y="19"/>
                    </a:lnTo>
                    <a:lnTo>
                      <a:pt x="15" y="21"/>
                    </a:lnTo>
                    <a:lnTo>
                      <a:pt x="15" y="22"/>
                    </a:lnTo>
                    <a:lnTo>
                      <a:pt x="15" y="39"/>
                    </a:lnTo>
                    <a:lnTo>
                      <a:pt x="16" y="41"/>
                    </a:lnTo>
                    <a:lnTo>
                      <a:pt x="16" y="42"/>
                    </a:lnTo>
                    <a:lnTo>
                      <a:pt x="17" y="44"/>
                    </a:lnTo>
                    <a:lnTo>
                      <a:pt x="19" y="47"/>
                    </a:lnTo>
                    <a:lnTo>
                      <a:pt x="20" y="48"/>
                    </a:lnTo>
                    <a:lnTo>
                      <a:pt x="22" y="50"/>
                    </a:lnTo>
                    <a:lnTo>
                      <a:pt x="24" y="52"/>
                    </a:lnTo>
                    <a:lnTo>
                      <a:pt x="26" y="54"/>
                    </a:lnTo>
                    <a:lnTo>
                      <a:pt x="28" y="56"/>
                    </a:lnTo>
                    <a:lnTo>
                      <a:pt x="30" y="59"/>
                    </a:lnTo>
                    <a:lnTo>
                      <a:pt x="32" y="61"/>
                    </a:lnTo>
                    <a:lnTo>
                      <a:pt x="32" y="62"/>
                    </a:lnTo>
                    <a:lnTo>
                      <a:pt x="34" y="65"/>
                    </a:lnTo>
                    <a:lnTo>
                      <a:pt x="36" y="67"/>
                    </a:lnTo>
                    <a:lnTo>
                      <a:pt x="37" y="70"/>
                    </a:lnTo>
                    <a:lnTo>
                      <a:pt x="37" y="72"/>
                    </a:lnTo>
                    <a:lnTo>
                      <a:pt x="37" y="106"/>
                    </a:lnTo>
                    <a:lnTo>
                      <a:pt x="37" y="108"/>
                    </a:lnTo>
                    <a:lnTo>
                      <a:pt x="36" y="112"/>
                    </a:lnTo>
                    <a:lnTo>
                      <a:pt x="36" y="114"/>
                    </a:lnTo>
                    <a:lnTo>
                      <a:pt x="34" y="117"/>
                    </a:lnTo>
                    <a:lnTo>
                      <a:pt x="33" y="118"/>
                    </a:lnTo>
                    <a:lnTo>
                      <a:pt x="32" y="120"/>
                    </a:lnTo>
                    <a:lnTo>
                      <a:pt x="32" y="122"/>
                    </a:lnTo>
                    <a:lnTo>
                      <a:pt x="31" y="123"/>
                    </a:lnTo>
                    <a:lnTo>
                      <a:pt x="28" y="124"/>
                    </a:lnTo>
                    <a:lnTo>
                      <a:pt x="28" y="125"/>
                    </a:lnTo>
                    <a:lnTo>
                      <a:pt x="26" y="125"/>
                    </a:lnTo>
                    <a:lnTo>
                      <a:pt x="24" y="126"/>
                    </a:lnTo>
                    <a:lnTo>
                      <a:pt x="23" y="126"/>
                    </a:lnTo>
                    <a:lnTo>
                      <a:pt x="21" y="126"/>
                    </a:lnTo>
                    <a:lnTo>
                      <a:pt x="20" y="126"/>
                    </a:lnTo>
                    <a:lnTo>
                      <a:pt x="17" y="127"/>
                    </a:lnTo>
                    <a:lnTo>
                      <a:pt x="16" y="126"/>
                    </a:lnTo>
                    <a:lnTo>
                      <a:pt x="15" y="126"/>
                    </a:lnTo>
                    <a:lnTo>
                      <a:pt x="13" y="126"/>
                    </a:lnTo>
                    <a:lnTo>
                      <a:pt x="12" y="126"/>
                    </a:lnTo>
                    <a:lnTo>
                      <a:pt x="10" y="125"/>
                    </a:lnTo>
                    <a:lnTo>
                      <a:pt x="8" y="125"/>
                    </a:lnTo>
                    <a:lnTo>
                      <a:pt x="8" y="124"/>
                    </a:lnTo>
                    <a:lnTo>
                      <a:pt x="5" y="123"/>
                    </a:lnTo>
                    <a:lnTo>
                      <a:pt x="4" y="122"/>
                    </a:lnTo>
                    <a:lnTo>
                      <a:pt x="4" y="120"/>
                    </a:lnTo>
                    <a:lnTo>
                      <a:pt x="3" y="118"/>
                    </a:lnTo>
                    <a:lnTo>
                      <a:pt x="2" y="117"/>
                    </a:lnTo>
                    <a:lnTo>
                      <a:pt x="0" y="114"/>
                    </a:lnTo>
                    <a:lnTo>
                      <a:pt x="0" y="112"/>
                    </a:lnTo>
                    <a:lnTo>
                      <a:pt x="0" y="108"/>
                    </a:lnTo>
                    <a:lnTo>
                      <a:pt x="0" y="106"/>
                    </a:lnTo>
                    <a:lnTo>
                      <a:pt x="0" y="76"/>
                    </a:lnTo>
                    <a:lnTo>
                      <a:pt x="15" y="76"/>
                    </a:lnTo>
                    <a:lnTo>
                      <a:pt x="15" y="103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28720" y="5518800"/>
                <a:ext cx="12240" cy="24480"/>
              </a:xfrm>
              <a:custGeom>
                <a:avLst/>
                <a:gdLst/>
                <a:ahLst/>
                <a:rect l="l" t="t" r="r" b="b"/>
                <a:pathLst>
                  <a:path w="44" h="126">
                    <a:moveTo>
                      <a:pt x="9" y="0"/>
                    </a:moveTo>
                    <a:lnTo>
                      <a:pt x="33" y="0"/>
                    </a:lnTo>
                    <a:lnTo>
                      <a:pt x="43" y="125"/>
                    </a:lnTo>
                    <a:lnTo>
                      <a:pt x="27" y="125"/>
                    </a:lnTo>
                    <a:lnTo>
                      <a:pt x="25" y="93"/>
                    </a:lnTo>
                    <a:lnTo>
                      <a:pt x="24" y="78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4" y="78"/>
                    </a:lnTo>
                    <a:lnTo>
                      <a:pt x="24" y="78"/>
                    </a:lnTo>
                    <a:lnTo>
                      <a:pt x="25" y="93"/>
                    </a:lnTo>
                    <a:lnTo>
                      <a:pt x="14" y="93"/>
                    </a:lnTo>
                    <a:lnTo>
                      <a:pt x="12" y="125"/>
                    </a:lnTo>
                    <a:lnTo>
                      <a:pt x="0" y="125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836720" y="5518800"/>
                <a:ext cx="10800" cy="24480"/>
              </a:xfrm>
              <a:custGeom>
                <a:avLst/>
                <a:gdLst/>
                <a:ahLst/>
                <a:rect l="l" t="t" r="r" b="b"/>
                <a:pathLst>
                  <a:path w="39" h="126">
                    <a:moveTo>
                      <a:pt x="0" y="0"/>
                    </a:move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8" y="1"/>
                    </a:lnTo>
                    <a:lnTo>
                      <a:pt x="29" y="2"/>
                    </a:lnTo>
                    <a:lnTo>
                      <a:pt x="30" y="4"/>
                    </a:lnTo>
                    <a:lnTo>
                      <a:pt x="33" y="5"/>
                    </a:lnTo>
                    <a:lnTo>
                      <a:pt x="33" y="7"/>
                    </a:lnTo>
                    <a:lnTo>
                      <a:pt x="34" y="10"/>
                    </a:lnTo>
                    <a:lnTo>
                      <a:pt x="35" y="11"/>
                    </a:lnTo>
                    <a:lnTo>
                      <a:pt x="35" y="14"/>
                    </a:lnTo>
                    <a:lnTo>
                      <a:pt x="36" y="17"/>
                    </a:lnTo>
                    <a:lnTo>
                      <a:pt x="36" y="20"/>
                    </a:lnTo>
                    <a:lnTo>
                      <a:pt x="38" y="24"/>
                    </a:lnTo>
                    <a:lnTo>
                      <a:pt x="38" y="28"/>
                    </a:lnTo>
                    <a:lnTo>
                      <a:pt x="38" y="102"/>
                    </a:lnTo>
                    <a:lnTo>
                      <a:pt x="38" y="104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5" y="111"/>
                    </a:lnTo>
                    <a:lnTo>
                      <a:pt x="35" y="113"/>
                    </a:lnTo>
                    <a:lnTo>
                      <a:pt x="34" y="114"/>
                    </a:lnTo>
                    <a:lnTo>
                      <a:pt x="33" y="115"/>
                    </a:lnTo>
                    <a:lnTo>
                      <a:pt x="33" y="118"/>
                    </a:lnTo>
                    <a:lnTo>
                      <a:pt x="32" y="119"/>
                    </a:lnTo>
                    <a:lnTo>
                      <a:pt x="30" y="120"/>
                    </a:lnTo>
                    <a:lnTo>
                      <a:pt x="28" y="121"/>
                    </a:lnTo>
                    <a:lnTo>
                      <a:pt x="28" y="123"/>
                    </a:lnTo>
                    <a:lnTo>
                      <a:pt x="26" y="124"/>
                    </a:lnTo>
                    <a:lnTo>
                      <a:pt x="23" y="124"/>
                    </a:lnTo>
                    <a:lnTo>
                      <a:pt x="22" y="125"/>
                    </a:lnTo>
                    <a:lnTo>
                      <a:pt x="20" y="125"/>
                    </a:lnTo>
                    <a:lnTo>
                      <a:pt x="15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19" y="112"/>
                    </a:lnTo>
                    <a:lnTo>
                      <a:pt x="19" y="112"/>
                    </a:lnTo>
                    <a:lnTo>
                      <a:pt x="20" y="112"/>
                    </a:lnTo>
                    <a:lnTo>
                      <a:pt x="20" y="111"/>
                    </a:lnTo>
                    <a:lnTo>
                      <a:pt x="21" y="111"/>
                    </a:lnTo>
                    <a:lnTo>
                      <a:pt x="21" y="109"/>
                    </a:lnTo>
                    <a:lnTo>
                      <a:pt x="21" y="109"/>
                    </a:lnTo>
                    <a:lnTo>
                      <a:pt x="22" y="109"/>
                    </a:lnTo>
                    <a:lnTo>
                      <a:pt x="22" y="108"/>
                    </a:lnTo>
                    <a:lnTo>
                      <a:pt x="22" y="107"/>
                    </a:lnTo>
                    <a:lnTo>
                      <a:pt x="22" y="106"/>
                    </a:lnTo>
                    <a:lnTo>
                      <a:pt x="22" y="105"/>
                    </a:lnTo>
                    <a:lnTo>
                      <a:pt x="22" y="104"/>
                    </a:lnTo>
                    <a:lnTo>
                      <a:pt x="22" y="20"/>
                    </a:lnTo>
                    <a:lnTo>
                      <a:pt x="22" y="20"/>
                    </a:lnTo>
                    <a:lnTo>
                      <a:pt x="22" y="18"/>
                    </a:lnTo>
                    <a:lnTo>
                      <a:pt x="22" y="17"/>
                    </a:lnTo>
                    <a:lnTo>
                      <a:pt x="22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3"/>
                    </a:lnTo>
                    <a:lnTo>
                      <a:pt x="20" y="13"/>
                    </a:lnTo>
                    <a:lnTo>
                      <a:pt x="20" y="12"/>
                    </a:lnTo>
                    <a:lnTo>
                      <a:pt x="19" y="12"/>
                    </a:lnTo>
                    <a:lnTo>
                      <a:pt x="19" y="12"/>
                    </a:lnTo>
                    <a:lnTo>
                      <a:pt x="18" y="12"/>
                    </a:lnTo>
                    <a:lnTo>
                      <a:pt x="18" y="12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5" y="12"/>
                    </a:lnTo>
                    <a:lnTo>
                      <a:pt x="15" y="112"/>
                    </a:lnTo>
                    <a:lnTo>
                      <a:pt x="20" y="125"/>
                    </a:lnTo>
                    <a:lnTo>
                      <a:pt x="0" y="1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40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Arial"/>
              </a:rPr>
              <a:t>Multiservice Support</a:t>
            </a:r>
            <a:endParaRPr b="1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0" y="2209680"/>
            <a:ext cx="5346720" cy="3713400"/>
          </a:xfrm>
          <a:custGeom>
            <a:avLst/>
            <a:gdLst/>
            <a:ahLst/>
            <a:rect l="l" t="t" r="r" b="b"/>
            <a:pathLst>
              <a:path w="5025" h="3103">
                <a:moveTo>
                  <a:pt x="737" y="2301"/>
                </a:moveTo>
                <a:lnTo>
                  <a:pt x="798" y="2429"/>
                </a:lnTo>
                <a:lnTo>
                  <a:pt x="866" y="2548"/>
                </a:lnTo>
                <a:lnTo>
                  <a:pt x="942" y="2659"/>
                </a:lnTo>
                <a:lnTo>
                  <a:pt x="1032" y="2758"/>
                </a:lnTo>
                <a:lnTo>
                  <a:pt x="1124" y="2847"/>
                </a:lnTo>
                <a:lnTo>
                  <a:pt x="1223" y="2924"/>
                </a:lnTo>
                <a:lnTo>
                  <a:pt x="1322" y="2984"/>
                </a:lnTo>
                <a:lnTo>
                  <a:pt x="1433" y="3033"/>
                </a:lnTo>
                <a:lnTo>
                  <a:pt x="1545" y="3072"/>
                </a:lnTo>
                <a:lnTo>
                  <a:pt x="1653" y="3091"/>
                </a:lnTo>
                <a:lnTo>
                  <a:pt x="1766" y="3102"/>
                </a:lnTo>
                <a:lnTo>
                  <a:pt x="1884" y="3091"/>
                </a:lnTo>
                <a:lnTo>
                  <a:pt x="1995" y="3072"/>
                </a:lnTo>
                <a:lnTo>
                  <a:pt x="2110" y="3039"/>
                </a:lnTo>
                <a:lnTo>
                  <a:pt x="2214" y="2988"/>
                </a:lnTo>
                <a:lnTo>
                  <a:pt x="2315" y="2924"/>
                </a:lnTo>
                <a:lnTo>
                  <a:pt x="2421" y="2847"/>
                </a:lnTo>
                <a:lnTo>
                  <a:pt x="2509" y="2762"/>
                </a:lnTo>
                <a:lnTo>
                  <a:pt x="2601" y="2847"/>
                </a:lnTo>
                <a:lnTo>
                  <a:pt x="2700" y="2924"/>
                </a:lnTo>
                <a:lnTo>
                  <a:pt x="2806" y="2988"/>
                </a:lnTo>
                <a:lnTo>
                  <a:pt x="2912" y="3039"/>
                </a:lnTo>
                <a:lnTo>
                  <a:pt x="3022" y="3072"/>
                </a:lnTo>
                <a:lnTo>
                  <a:pt x="3137" y="3091"/>
                </a:lnTo>
                <a:lnTo>
                  <a:pt x="3249" y="3102"/>
                </a:lnTo>
                <a:lnTo>
                  <a:pt x="3364" y="3091"/>
                </a:lnTo>
                <a:lnTo>
                  <a:pt x="3477" y="3072"/>
                </a:lnTo>
                <a:lnTo>
                  <a:pt x="3587" y="3033"/>
                </a:lnTo>
                <a:lnTo>
                  <a:pt x="3695" y="2984"/>
                </a:lnTo>
                <a:lnTo>
                  <a:pt x="3799" y="2924"/>
                </a:lnTo>
                <a:lnTo>
                  <a:pt x="3897" y="2847"/>
                </a:lnTo>
                <a:lnTo>
                  <a:pt x="3989" y="2758"/>
                </a:lnTo>
                <a:lnTo>
                  <a:pt x="4073" y="2659"/>
                </a:lnTo>
                <a:lnTo>
                  <a:pt x="4152" y="2548"/>
                </a:lnTo>
                <a:lnTo>
                  <a:pt x="4224" y="2429"/>
                </a:lnTo>
                <a:lnTo>
                  <a:pt x="4280" y="2301"/>
                </a:lnTo>
                <a:lnTo>
                  <a:pt x="4356" y="2320"/>
                </a:lnTo>
                <a:lnTo>
                  <a:pt x="4438" y="2326"/>
                </a:lnTo>
                <a:lnTo>
                  <a:pt x="4516" y="2315"/>
                </a:lnTo>
                <a:lnTo>
                  <a:pt x="4586" y="2297"/>
                </a:lnTo>
                <a:lnTo>
                  <a:pt x="4658" y="2264"/>
                </a:lnTo>
                <a:lnTo>
                  <a:pt x="4728" y="2217"/>
                </a:lnTo>
                <a:lnTo>
                  <a:pt x="4793" y="2164"/>
                </a:lnTo>
                <a:lnTo>
                  <a:pt x="4850" y="2093"/>
                </a:lnTo>
                <a:lnTo>
                  <a:pt x="4904" y="2021"/>
                </a:lnTo>
                <a:lnTo>
                  <a:pt x="4946" y="1938"/>
                </a:lnTo>
                <a:lnTo>
                  <a:pt x="4975" y="1843"/>
                </a:lnTo>
                <a:lnTo>
                  <a:pt x="5003" y="1749"/>
                </a:lnTo>
                <a:lnTo>
                  <a:pt x="5017" y="1649"/>
                </a:lnTo>
                <a:lnTo>
                  <a:pt x="5024" y="1548"/>
                </a:lnTo>
                <a:lnTo>
                  <a:pt x="5017" y="1451"/>
                </a:lnTo>
                <a:lnTo>
                  <a:pt x="5003" y="1351"/>
                </a:lnTo>
                <a:lnTo>
                  <a:pt x="4975" y="1254"/>
                </a:lnTo>
                <a:lnTo>
                  <a:pt x="4946" y="1160"/>
                </a:lnTo>
                <a:lnTo>
                  <a:pt x="4904" y="1077"/>
                </a:lnTo>
                <a:lnTo>
                  <a:pt x="4850" y="1004"/>
                </a:lnTo>
                <a:lnTo>
                  <a:pt x="4793" y="935"/>
                </a:lnTo>
                <a:lnTo>
                  <a:pt x="4728" y="878"/>
                </a:lnTo>
                <a:lnTo>
                  <a:pt x="4658" y="835"/>
                </a:lnTo>
                <a:lnTo>
                  <a:pt x="4586" y="801"/>
                </a:lnTo>
                <a:lnTo>
                  <a:pt x="4516" y="782"/>
                </a:lnTo>
                <a:lnTo>
                  <a:pt x="4438" y="775"/>
                </a:lnTo>
                <a:lnTo>
                  <a:pt x="4356" y="776"/>
                </a:lnTo>
                <a:lnTo>
                  <a:pt x="4280" y="797"/>
                </a:lnTo>
                <a:lnTo>
                  <a:pt x="4224" y="669"/>
                </a:lnTo>
                <a:lnTo>
                  <a:pt x="4152" y="551"/>
                </a:lnTo>
                <a:lnTo>
                  <a:pt x="4073" y="441"/>
                </a:lnTo>
                <a:lnTo>
                  <a:pt x="3989" y="339"/>
                </a:lnTo>
                <a:lnTo>
                  <a:pt x="3897" y="251"/>
                </a:lnTo>
                <a:lnTo>
                  <a:pt x="3799" y="176"/>
                </a:lnTo>
                <a:lnTo>
                  <a:pt x="3695" y="113"/>
                </a:lnTo>
                <a:lnTo>
                  <a:pt x="3587" y="63"/>
                </a:lnTo>
                <a:lnTo>
                  <a:pt x="3477" y="25"/>
                </a:lnTo>
                <a:lnTo>
                  <a:pt x="3364" y="4"/>
                </a:lnTo>
                <a:lnTo>
                  <a:pt x="3249" y="0"/>
                </a:lnTo>
                <a:lnTo>
                  <a:pt x="3137" y="4"/>
                </a:lnTo>
                <a:lnTo>
                  <a:pt x="3022" y="25"/>
                </a:lnTo>
                <a:lnTo>
                  <a:pt x="2912" y="59"/>
                </a:lnTo>
                <a:lnTo>
                  <a:pt x="2806" y="108"/>
                </a:lnTo>
                <a:lnTo>
                  <a:pt x="2700" y="176"/>
                </a:lnTo>
                <a:lnTo>
                  <a:pt x="2601" y="250"/>
                </a:lnTo>
                <a:lnTo>
                  <a:pt x="2509" y="338"/>
                </a:lnTo>
                <a:lnTo>
                  <a:pt x="2421" y="250"/>
                </a:lnTo>
                <a:lnTo>
                  <a:pt x="2315" y="176"/>
                </a:lnTo>
                <a:lnTo>
                  <a:pt x="2214" y="108"/>
                </a:lnTo>
                <a:lnTo>
                  <a:pt x="2110" y="59"/>
                </a:lnTo>
                <a:lnTo>
                  <a:pt x="1995" y="25"/>
                </a:lnTo>
                <a:lnTo>
                  <a:pt x="1884" y="4"/>
                </a:lnTo>
                <a:lnTo>
                  <a:pt x="1766" y="0"/>
                </a:lnTo>
                <a:lnTo>
                  <a:pt x="1653" y="4"/>
                </a:lnTo>
                <a:lnTo>
                  <a:pt x="1545" y="25"/>
                </a:lnTo>
                <a:lnTo>
                  <a:pt x="1433" y="63"/>
                </a:lnTo>
                <a:lnTo>
                  <a:pt x="1322" y="113"/>
                </a:lnTo>
                <a:lnTo>
                  <a:pt x="1223" y="176"/>
                </a:lnTo>
                <a:lnTo>
                  <a:pt x="1124" y="251"/>
                </a:lnTo>
                <a:lnTo>
                  <a:pt x="1032" y="339"/>
                </a:lnTo>
                <a:lnTo>
                  <a:pt x="942" y="441"/>
                </a:lnTo>
                <a:lnTo>
                  <a:pt x="866" y="551"/>
                </a:lnTo>
                <a:lnTo>
                  <a:pt x="798" y="669"/>
                </a:lnTo>
                <a:lnTo>
                  <a:pt x="737" y="797"/>
                </a:lnTo>
                <a:lnTo>
                  <a:pt x="665" y="776"/>
                </a:lnTo>
                <a:lnTo>
                  <a:pt x="586" y="775"/>
                </a:lnTo>
                <a:lnTo>
                  <a:pt x="510" y="782"/>
                </a:lnTo>
                <a:lnTo>
                  <a:pt x="435" y="801"/>
                </a:lnTo>
                <a:lnTo>
                  <a:pt x="364" y="835"/>
                </a:lnTo>
                <a:lnTo>
                  <a:pt x="292" y="878"/>
                </a:lnTo>
                <a:lnTo>
                  <a:pt x="228" y="935"/>
                </a:lnTo>
                <a:lnTo>
                  <a:pt x="172" y="1004"/>
                </a:lnTo>
                <a:lnTo>
                  <a:pt x="118" y="1077"/>
                </a:lnTo>
                <a:lnTo>
                  <a:pt x="75" y="1160"/>
                </a:lnTo>
                <a:lnTo>
                  <a:pt x="42" y="1254"/>
                </a:lnTo>
                <a:lnTo>
                  <a:pt x="19" y="1351"/>
                </a:lnTo>
                <a:lnTo>
                  <a:pt x="5" y="1451"/>
                </a:lnTo>
                <a:lnTo>
                  <a:pt x="0" y="1548"/>
                </a:lnTo>
                <a:lnTo>
                  <a:pt x="5" y="1649"/>
                </a:lnTo>
                <a:lnTo>
                  <a:pt x="19" y="1749"/>
                </a:lnTo>
                <a:lnTo>
                  <a:pt x="42" y="1843"/>
                </a:lnTo>
                <a:lnTo>
                  <a:pt x="75" y="1938"/>
                </a:lnTo>
                <a:lnTo>
                  <a:pt x="118" y="2021"/>
                </a:lnTo>
                <a:lnTo>
                  <a:pt x="172" y="2093"/>
                </a:lnTo>
                <a:lnTo>
                  <a:pt x="228" y="2164"/>
                </a:lnTo>
                <a:lnTo>
                  <a:pt x="292" y="2217"/>
                </a:lnTo>
                <a:lnTo>
                  <a:pt x="364" y="2264"/>
                </a:lnTo>
                <a:lnTo>
                  <a:pt x="435" y="2297"/>
                </a:lnTo>
                <a:lnTo>
                  <a:pt x="510" y="2315"/>
                </a:lnTo>
                <a:lnTo>
                  <a:pt x="586" y="2326"/>
                </a:lnTo>
                <a:lnTo>
                  <a:pt x="665" y="2320"/>
                </a:lnTo>
                <a:lnTo>
                  <a:pt x="737" y="230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84520" y="1994040"/>
            <a:ext cx="4598640" cy="3763800"/>
          </a:xfrm>
          <a:custGeom>
            <a:avLst/>
            <a:gdLst/>
            <a:ahLst/>
            <a:rect l="l" t="t" r="r" b="b"/>
            <a:pathLst>
              <a:path w="3649" h="2641">
                <a:moveTo>
                  <a:pt x="535" y="1959"/>
                </a:moveTo>
                <a:lnTo>
                  <a:pt x="579" y="2068"/>
                </a:lnTo>
                <a:lnTo>
                  <a:pt x="628" y="2169"/>
                </a:lnTo>
                <a:lnTo>
                  <a:pt x="684" y="2263"/>
                </a:lnTo>
                <a:lnTo>
                  <a:pt x="749" y="2348"/>
                </a:lnTo>
                <a:lnTo>
                  <a:pt x="816" y="2423"/>
                </a:lnTo>
                <a:lnTo>
                  <a:pt x="888" y="2489"/>
                </a:lnTo>
                <a:lnTo>
                  <a:pt x="960" y="2540"/>
                </a:lnTo>
                <a:lnTo>
                  <a:pt x="1040" y="2582"/>
                </a:lnTo>
                <a:lnTo>
                  <a:pt x="1122" y="2615"/>
                </a:lnTo>
                <a:lnTo>
                  <a:pt x="1200" y="2631"/>
                </a:lnTo>
                <a:lnTo>
                  <a:pt x="1282" y="2640"/>
                </a:lnTo>
                <a:lnTo>
                  <a:pt x="1368" y="2631"/>
                </a:lnTo>
                <a:lnTo>
                  <a:pt x="1449" y="2615"/>
                </a:lnTo>
                <a:lnTo>
                  <a:pt x="1532" y="2587"/>
                </a:lnTo>
                <a:lnTo>
                  <a:pt x="1607" y="2543"/>
                </a:lnTo>
                <a:lnTo>
                  <a:pt x="1681" y="2489"/>
                </a:lnTo>
                <a:lnTo>
                  <a:pt x="1758" y="2423"/>
                </a:lnTo>
                <a:lnTo>
                  <a:pt x="1822" y="2351"/>
                </a:lnTo>
                <a:lnTo>
                  <a:pt x="1889" y="2423"/>
                </a:lnTo>
                <a:lnTo>
                  <a:pt x="1960" y="2489"/>
                </a:lnTo>
                <a:lnTo>
                  <a:pt x="2037" y="2543"/>
                </a:lnTo>
                <a:lnTo>
                  <a:pt x="2114" y="2587"/>
                </a:lnTo>
                <a:lnTo>
                  <a:pt x="2194" y="2615"/>
                </a:lnTo>
                <a:lnTo>
                  <a:pt x="2278" y="2631"/>
                </a:lnTo>
                <a:lnTo>
                  <a:pt x="2359" y="2640"/>
                </a:lnTo>
                <a:lnTo>
                  <a:pt x="2442" y="2631"/>
                </a:lnTo>
                <a:lnTo>
                  <a:pt x="2524" y="2615"/>
                </a:lnTo>
                <a:lnTo>
                  <a:pt x="2604" y="2582"/>
                </a:lnTo>
                <a:lnTo>
                  <a:pt x="2683" y="2540"/>
                </a:lnTo>
                <a:lnTo>
                  <a:pt x="2758" y="2489"/>
                </a:lnTo>
                <a:lnTo>
                  <a:pt x="2830" y="2423"/>
                </a:lnTo>
                <a:lnTo>
                  <a:pt x="2897" y="2348"/>
                </a:lnTo>
                <a:lnTo>
                  <a:pt x="2958" y="2263"/>
                </a:lnTo>
                <a:lnTo>
                  <a:pt x="3014" y="2169"/>
                </a:lnTo>
                <a:lnTo>
                  <a:pt x="3067" y="2068"/>
                </a:lnTo>
                <a:lnTo>
                  <a:pt x="3108" y="1959"/>
                </a:lnTo>
                <a:lnTo>
                  <a:pt x="3163" y="1975"/>
                </a:lnTo>
                <a:lnTo>
                  <a:pt x="3222" y="1980"/>
                </a:lnTo>
                <a:lnTo>
                  <a:pt x="3279" y="1971"/>
                </a:lnTo>
                <a:lnTo>
                  <a:pt x="3330" y="1955"/>
                </a:lnTo>
                <a:lnTo>
                  <a:pt x="3382" y="1927"/>
                </a:lnTo>
                <a:lnTo>
                  <a:pt x="3433" y="1887"/>
                </a:lnTo>
                <a:lnTo>
                  <a:pt x="3480" y="1842"/>
                </a:lnTo>
                <a:lnTo>
                  <a:pt x="3521" y="1782"/>
                </a:lnTo>
                <a:lnTo>
                  <a:pt x="3561" y="1720"/>
                </a:lnTo>
                <a:lnTo>
                  <a:pt x="3592" y="1650"/>
                </a:lnTo>
                <a:lnTo>
                  <a:pt x="3612" y="1569"/>
                </a:lnTo>
                <a:lnTo>
                  <a:pt x="3632" y="1489"/>
                </a:lnTo>
                <a:lnTo>
                  <a:pt x="3642" y="1404"/>
                </a:lnTo>
                <a:lnTo>
                  <a:pt x="3648" y="1318"/>
                </a:lnTo>
                <a:lnTo>
                  <a:pt x="3642" y="1235"/>
                </a:lnTo>
                <a:lnTo>
                  <a:pt x="3632" y="1150"/>
                </a:lnTo>
                <a:lnTo>
                  <a:pt x="3612" y="1068"/>
                </a:lnTo>
                <a:lnTo>
                  <a:pt x="3592" y="988"/>
                </a:lnTo>
                <a:lnTo>
                  <a:pt x="3561" y="917"/>
                </a:lnTo>
                <a:lnTo>
                  <a:pt x="3521" y="855"/>
                </a:lnTo>
                <a:lnTo>
                  <a:pt x="3480" y="796"/>
                </a:lnTo>
                <a:lnTo>
                  <a:pt x="3433" y="748"/>
                </a:lnTo>
                <a:lnTo>
                  <a:pt x="3382" y="711"/>
                </a:lnTo>
                <a:lnTo>
                  <a:pt x="3330" y="682"/>
                </a:lnTo>
                <a:lnTo>
                  <a:pt x="3279" y="666"/>
                </a:lnTo>
                <a:lnTo>
                  <a:pt x="3222" y="660"/>
                </a:lnTo>
                <a:lnTo>
                  <a:pt x="3163" y="661"/>
                </a:lnTo>
                <a:lnTo>
                  <a:pt x="3108" y="679"/>
                </a:lnTo>
                <a:lnTo>
                  <a:pt x="3067" y="570"/>
                </a:lnTo>
                <a:lnTo>
                  <a:pt x="3014" y="469"/>
                </a:lnTo>
                <a:lnTo>
                  <a:pt x="2958" y="376"/>
                </a:lnTo>
                <a:lnTo>
                  <a:pt x="2897" y="289"/>
                </a:lnTo>
                <a:lnTo>
                  <a:pt x="2830" y="214"/>
                </a:lnTo>
                <a:lnTo>
                  <a:pt x="2758" y="150"/>
                </a:lnTo>
                <a:lnTo>
                  <a:pt x="2683" y="97"/>
                </a:lnTo>
                <a:lnTo>
                  <a:pt x="2604" y="54"/>
                </a:lnTo>
                <a:lnTo>
                  <a:pt x="2524" y="22"/>
                </a:lnTo>
                <a:lnTo>
                  <a:pt x="2442" y="4"/>
                </a:lnTo>
                <a:lnTo>
                  <a:pt x="2359" y="0"/>
                </a:lnTo>
                <a:lnTo>
                  <a:pt x="2278" y="4"/>
                </a:lnTo>
                <a:lnTo>
                  <a:pt x="2194" y="22"/>
                </a:lnTo>
                <a:lnTo>
                  <a:pt x="2114" y="51"/>
                </a:lnTo>
                <a:lnTo>
                  <a:pt x="2037" y="92"/>
                </a:lnTo>
                <a:lnTo>
                  <a:pt x="1960" y="150"/>
                </a:lnTo>
                <a:lnTo>
                  <a:pt x="1889" y="213"/>
                </a:lnTo>
                <a:lnTo>
                  <a:pt x="1822" y="288"/>
                </a:lnTo>
                <a:lnTo>
                  <a:pt x="1758" y="213"/>
                </a:lnTo>
                <a:lnTo>
                  <a:pt x="1681" y="150"/>
                </a:lnTo>
                <a:lnTo>
                  <a:pt x="1607" y="92"/>
                </a:lnTo>
                <a:lnTo>
                  <a:pt x="1532" y="51"/>
                </a:lnTo>
                <a:lnTo>
                  <a:pt x="1449" y="22"/>
                </a:lnTo>
                <a:lnTo>
                  <a:pt x="1368" y="4"/>
                </a:lnTo>
                <a:lnTo>
                  <a:pt x="1282" y="0"/>
                </a:lnTo>
                <a:lnTo>
                  <a:pt x="1200" y="4"/>
                </a:lnTo>
                <a:lnTo>
                  <a:pt x="1122" y="22"/>
                </a:lnTo>
                <a:lnTo>
                  <a:pt x="1040" y="54"/>
                </a:lnTo>
                <a:lnTo>
                  <a:pt x="960" y="97"/>
                </a:lnTo>
                <a:lnTo>
                  <a:pt x="888" y="150"/>
                </a:lnTo>
                <a:lnTo>
                  <a:pt x="816" y="214"/>
                </a:lnTo>
                <a:lnTo>
                  <a:pt x="749" y="289"/>
                </a:lnTo>
                <a:lnTo>
                  <a:pt x="684" y="376"/>
                </a:lnTo>
                <a:lnTo>
                  <a:pt x="628" y="469"/>
                </a:lnTo>
                <a:lnTo>
                  <a:pt x="579" y="570"/>
                </a:lnTo>
                <a:lnTo>
                  <a:pt x="535" y="679"/>
                </a:lnTo>
                <a:lnTo>
                  <a:pt x="483" y="661"/>
                </a:lnTo>
                <a:lnTo>
                  <a:pt x="425" y="660"/>
                </a:lnTo>
                <a:lnTo>
                  <a:pt x="370" y="666"/>
                </a:lnTo>
                <a:lnTo>
                  <a:pt x="316" y="682"/>
                </a:lnTo>
                <a:lnTo>
                  <a:pt x="264" y="711"/>
                </a:lnTo>
                <a:lnTo>
                  <a:pt x="212" y="748"/>
                </a:lnTo>
                <a:lnTo>
                  <a:pt x="166" y="796"/>
                </a:lnTo>
                <a:lnTo>
                  <a:pt x="125" y="855"/>
                </a:lnTo>
                <a:lnTo>
                  <a:pt x="86" y="917"/>
                </a:lnTo>
                <a:lnTo>
                  <a:pt x="55" y="988"/>
                </a:lnTo>
                <a:lnTo>
                  <a:pt x="30" y="1068"/>
                </a:lnTo>
                <a:lnTo>
                  <a:pt x="14" y="1150"/>
                </a:lnTo>
                <a:lnTo>
                  <a:pt x="4" y="1235"/>
                </a:lnTo>
                <a:lnTo>
                  <a:pt x="0" y="1318"/>
                </a:lnTo>
                <a:lnTo>
                  <a:pt x="4" y="1404"/>
                </a:lnTo>
                <a:lnTo>
                  <a:pt x="14" y="1489"/>
                </a:lnTo>
                <a:lnTo>
                  <a:pt x="30" y="1569"/>
                </a:lnTo>
                <a:lnTo>
                  <a:pt x="55" y="1650"/>
                </a:lnTo>
                <a:lnTo>
                  <a:pt x="86" y="1720"/>
                </a:lnTo>
                <a:lnTo>
                  <a:pt x="125" y="1782"/>
                </a:lnTo>
                <a:lnTo>
                  <a:pt x="166" y="1842"/>
                </a:lnTo>
                <a:lnTo>
                  <a:pt x="212" y="1887"/>
                </a:lnTo>
                <a:lnTo>
                  <a:pt x="264" y="1927"/>
                </a:lnTo>
                <a:lnTo>
                  <a:pt x="316" y="1955"/>
                </a:lnTo>
                <a:lnTo>
                  <a:pt x="370" y="1971"/>
                </a:lnTo>
                <a:lnTo>
                  <a:pt x="425" y="1980"/>
                </a:lnTo>
                <a:lnTo>
                  <a:pt x="483" y="1975"/>
                </a:lnTo>
                <a:lnTo>
                  <a:pt x="535" y="1959"/>
                </a:ln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2057400"/>
            <a:ext cx="3144600" cy="3178080"/>
          </a:xfrm>
          <a:custGeom>
            <a:avLst/>
            <a:gdLst/>
            <a:ahLst/>
            <a:rect l="l" t="t" r="r" b="b"/>
            <a:pathLst>
              <a:path w="2593" h="2113">
                <a:moveTo>
                  <a:pt x="261" y="1531"/>
                </a:moveTo>
                <a:lnTo>
                  <a:pt x="262" y="1506"/>
                </a:lnTo>
                <a:lnTo>
                  <a:pt x="253" y="1514"/>
                </a:lnTo>
                <a:lnTo>
                  <a:pt x="245" y="1517"/>
                </a:lnTo>
                <a:lnTo>
                  <a:pt x="236" y="1520"/>
                </a:lnTo>
                <a:lnTo>
                  <a:pt x="226" y="1524"/>
                </a:lnTo>
                <a:lnTo>
                  <a:pt x="216" y="1526"/>
                </a:lnTo>
                <a:lnTo>
                  <a:pt x="207" y="1528"/>
                </a:lnTo>
                <a:lnTo>
                  <a:pt x="189" y="1531"/>
                </a:lnTo>
                <a:lnTo>
                  <a:pt x="170" y="1528"/>
                </a:lnTo>
                <a:lnTo>
                  <a:pt x="151" y="1524"/>
                </a:lnTo>
                <a:lnTo>
                  <a:pt x="132" y="1517"/>
                </a:lnTo>
                <a:lnTo>
                  <a:pt x="124" y="1514"/>
                </a:lnTo>
                <a:lnTo>
                  <a:pt x="114" y="1506"/>
                </a:lnTo>
                <a:lnTo>
                  <a:pt x="98" y="1496"/>
                </a:lnTo>
                <a:lnTo>
                  <a:pt x="91" y="1487"/>
                </a:lnTo>
                <a:lnTo>
                  <a:pt x="84" y="1481"/>
                </a:lnTo>
                <a:lnTo>
                  <a:pt x="69" y="1463"/>
                </a:lnTo>
                <a:lnTo>
                  <a:pt x="55" y="1446"/>
                </a:lnTo>
                <a:lnTo>
                  <a:pt x="42" y="1423"/>
                </a:lnTo>
                <a:lnTo>
                  <a:pt x="31" y="1401"/>
                </a:lnTo>
                <a:lnTo>
                  <a:pt x="27" y="1389"/>
                </a:lnTo>
                <a:lnTo>
                  <a:pt x="22" y="1378"/>
                </a:lnTo>
                <a:lnTo>
                  <a:pt x="14" y="1352"/>
                </a:lnTo>
                <a:lnTo>
                  <a:pt x="8" y="1325"/>
                </a:lnTo>
                <a:lnTo>
                  <a:pt x="3" y="1296"/>
                </a:lnTo>
                <a:lnTo>
                  <a:pt x="2" y="1284"/>
                </a:lnTo>
                <a:lnTo>
                  <a:pt x="2" y="1269"/>
                </a:lnTo>
                <a:lnTo>
                  <a:pt x="0" y="1254"/>
                </a:lnTo>
                <a:lnTo>
                  <a:pt x="0" y="1238"/>
                </a:lnTo>
                <a:lnTo>
                  <a:pt x="2" y="1211"/>
                </a:lnTo>
                <a:lnTo>
                  <a:pt x="3" y="1179"/>
                </a:lnTo>
                <a:lnTo>
                  <a:pt x="8" y="1154"/>
                </a:lnTo>
                <a:lnTo>
                  <a:pt x="14" y="1125"/>
                </a:lnTo>
                <a:lnTo>
                  <a:pt x="22" y="1101"/>
                </a:lnTo>
                <a:lnTo>
                  <a:pt x="27" y="1088"/>
                </a:lnTo>
                <a:lnTo>
                  <a:pt x="31" y="1077"/>
                </a:lnTo>
                <a:lnTo>
                  <a:pt x="42" y="1056"/>
                </a:lnTo>
                <a:lnTo>
                  <a:pt x="55" y="1033"/>
                </a:lnTo>
                <a:lnTo>
                  <a:pt x="61" y="1026"/>
                </a:lnTo>
                <a:lnTo>
                  <a:pt x="69" y="1015"/>
                </a:lnTo>
                <a:lnTo>
                  <a:pt x="84" y="1001"/>
                </a:lnTo>
                <a:lnTo>
                  <a:pt x="91" y="992"/>
                </a:lnTo>
                <a:lnTo>
                  <a:pt x="98" y="985"/>
                </a:lnTo>
                <a:lnTo>
                  <a:pt x="107" y="979"/>
                </a:lnTo>
                <a:lnTo>
                  <a:pt x="114" y="972"/>
                </a:lnTo>
                <a:lnTo>
                  <a:pt x="124" y="968"/>
                </a:lnTo>
                <a:lnTo>
                  <a:pt x="132" y="963"/>
                </a:lnTo>
                <a:lnTo>
                  <a:pt x="141" y="958"/>
                </a:lnTo>
                <a:lnTo>
                  <a:pt x="151" y="956"/>
                </a:lnTo>
                <a:lnTo>
                  <a:pt x="160" y="955"/>
                </a:lnTo>
                <a:lnTo>
                  <a:pt x="170" y="952"/>
                </a:lnTo>
                <a:lnTo>
                  <a:pt x="189" y="951"/>
                </a:lnTo>
                <a:lnTo>
                  <a:pt x="202" y="951"/>
                </a:lnTo>
                <a:lnTo>
                  <a:pt x="213" y="952"/>
                </a:lnTo>
                <a:lnTo>
                  <a:pt x="207" y="939"/>
                </a:lnTo>
                <a:lnTo>
                  <a:pt x="202" y="924"/>
                </a:lnTo>
                <a:lnTo>
                  <a:pt x="195" y="906"/>
                </a:lnTo>
                <a:lnTo>
                  <a:pt x="190" y="888"/>
                </a:lnTo>
                <a:lnTo>
                  <a:pt x="187" y="871"/>
                </a:lnTo>
                <a:lnTo>
                  <a:pt x="184" y="853"/>
                </a:lnTo>
                <a:lnTo>
                  <a:pt x="182" y="835"/>
                </a:lnTo>
                <a:lnTo>
                  <a:pt x="182" y="815"/>
                </a:lnTo>
                <a:lnTo>
                  <a:pt x="182" y="793"/>
                </a:lnTo>
                <a:lnTo>
                  <a:pt x="184" y="774"/>
                </a:lnTo>
                <a:lnTo>
                  <a:pt x="186" y="762"/>
                </a:lnTo>
                <a:lnTo>
                  <a:pt x="189" y="752"/>
                </a:lnTo>
                <a:lnTo>
                  <a:pt x="193" y="733"/>
                </a:lnTo>
                <a:lnTo>
                  <a:pt x="195" y="723"/>
                </a:lnTo>
                <a:lnTo>
                  <a:pt x="198" y="716"/>
                </a:lnTo>
                <a:lnTo>
                  <a:pt x="202" y="705"/>
                </a:lnTo>
                <a:lnTo>
                  <a:pt x="206" y="698"/>
                </a:lnTo>
                <a:lnTo>
                  <a:pt x="213" y="680"/>
                </a:lnTo>
                <a:lnTo>
                  <a:pt x="222" y="664"/>
                </a:lnTo>
                <a:lnTo>
                  <a:pt x="232" y="652"/>
                </a:lnTo>
                <a:lnTo>
                  <a:pt x="242" y="641"/>
                </a:lnTo>
                <a:lnTo>
                  <a:pt x="255" y="630"/>
                </a:lnTo>
                <a:lnTo>
                  <a:pt x="265" y="620"/>
                </a:lnTo>
                <a:lnTo>
                  <a:pt x="278" y="612"/>
                </a:lnTo>
                <a:lnTo>
                  <a:pt x="292" y="607"/>
                </a:lnTo>
                <a:lnTo>
                  <a:pt x="298" y="605"/>
                </a:lnTo>
                <a:lnTo>
                  <a:pt x="305" y="602"/>
                </a:lnTo>
                <a:lnTo>
                  <a:pt x="319" y="602"/>
                </a:lnTo>
                <a:lnTo>
                  <a:pt x="328" y="602"/>
                </a:lnTo>
                <a:lnTo>
                  <a:pt x="338" y="605"/>
                </a:lnTo>
                <a:lnTo>
                  <a:pt x="347" y="607"/>
                </a:lnTo>
                <a:lnTo>
                  <a:pt x="357" y="611"/>
                </a:lnTo>
                <a:lnTo>
                  <a:pt x="358" y="588"/>
                </a:lnTo>
                <a:lnTo>
                  <a:pt x="361" y="566"/>
                </a:lnTo>
                <a:lnTo>
                  <a:pt x="364" y="543"/>
                </a:lnTo>
                <a:lnTo>
                  <a:pt x="371" y="525"/>
                </a:lnTo>
                <a:lnTo>
                  <a:pt x="377" y="506"/>
                </a:lnTo>
                <a:lnTo>
                  <a:pt x="385" y="488"/>
                </a:lnTo>
                <a:lnTo>
                  <a:pt x="394" y="470"/>
                </a:lnTo>
                <a:lnTo>
                  <a:pt x="404" y="454"/>
                </a:lnTo>
                <a:lnTo>
                  <a:pt x="414" y="439"/>
                </a:lnTo>
                <a:lnTo>
                  <a:pt x="426" y="427"/>
                </a:lnTo>
                <a:lnTo>
                  <a:pt x="439" y="418"/>
                </a:lnTo>
                <a:lnTo>
                  <a:pt x="450" y="407"/>
                </a:lnTo>
                <a:lnTo>
                  <a:pt x="465" y="401"/>
                </a:lnTo>
                <a:lnTo>
                  <a:pt x="479" y="396"/>
                </a:lnTo>
                <a:lnTo>
                  <a:pt x="493" y="391"/>
                </a:lnTo>
                <a:lnTo>
                  <a:pt x="508" y="391"/>
                </a:lnTo>
                <a:lnTo>
                  <a:pt x="525" y="391"/>
                </a:lnTo>
                <a:lnTo>
                  <a:pt x="542" y="396"/>
                </a:lnTo>
                <a:lnTo>
                  <a:pt x="558" y="402"/>
                </a:lnTo>
                <a:lnTo>
                  <a:pt x="574" y="413"/>
                </a:lnTo>
                <a:lnTo>
                  <a:pt x="588" y="425"/>
                </a:lnTo>
                <a:lnTo>
                  <a:pt x="601" y="439"/>
                </a:lnTo>
                <a:lnTo>
                  <a:pt x="608" y="449"/>
                </a:lnTo>
                <a:lnTo>
                  <a:pt x="614" y="456"/>
                </a:lnTo>
                <a:lnTo>
                  <a:pt x="625" y="474"/>
                </a:lnTo>
                <a:lnTo>
                  <a:pt x="630" y="449"/>
                </a:lnTo>
                <a:lnTo>
                  <a:pt x="638" y="422"/>
                </a:lnTo>
                <a:lnTo>
                  <a:pt x="646" y="397"/>
                </a:lnTo>
                <a:lnTo>
                  <a:pt x="650" y="385"/>
                </a:lnTo>
                <a:lnTo>
                  <a:pt x="656" y="374"/>
                </a:lnTo>
                <a:lnTo>
                  <a:pt x="664" y="352"/>
                </a:lnTo>
                <a:lnTo>
                  <a:pt x="671" y="342"/>
                </a:lnTo>
                <a:lnTo>
                  <a:pt x="677" y="331"/>
                </a:lnTo>
                <a:lnTo>
                  <a:pt x="690" y="310"/>
                </a:lnTo>
                <a:lnTo>
                  <a:pt x="703" y="293"/>
                </a:lnTo>
                <a:lnTo>
                  <a:pt x="718" y="278"/>
                </a:lnTo>
                <a:lnTo>
                  <a:pt x="732" y="264"/>
                </a:lnTo>
                <a:lnTo>
                  <a:pt x="740" y="258"/>
                </a:lnTo>
                <a:lnTo>
                  <a:pt x="749" y="251"/>
                </a:lnTo>
                <a:lnTo>
                  <a:pt x="765" y="240"/>
                </a:lnTo>
                <a:lnTo>
                  <a:pt x="782" y="233"/>
                </a:lnTo>
                <a:lnTo>
                  <a:pt x="801" y="228"/>
                </a:lnTo>
                <a:lnTo>
                  <a:pt x="821" y="223"/>
                </a:lnTo>
                <a:lnTo>
                  <a:pt x="839" y="223"/>
                </a:lnTo>
                <a:lnTo>
                  <a:pt x="850" y="223"/>
                </a:lnTo>
                <a:lnTo>
                  <a:pt x="863" y="223"/>
                </a:lnTo>
                <a:lnTo>
                  <a:pt x="874" y="228"/>
                </a:lnTo>
                <a:lnTo>
                  <a:pt x="887" y="229"/>
                </a:lnTo>
                <a:lnTo>
                  <a:pt x="897" y="234"/>
                </a:lnTo>
                <a:lnTo>
                  <a:pt x="908" y="239"/>
                </a:lnTo>
                <a:lnTo>
                  <a:pt x="929" y="251"/>
                </a:lnTo>
                <a:lnTo>
                  <a:pt x="940" y="261"/>
                </a:lnTo>
                <a:lnTo>
                  <a:pt x="949" y="267"/>
                </a:lnTo>
                <a:lnTo>
                  <a:pt x="959" y="278"/>
                </a:lnTo>
                <a:lnTo>
                  <a:pt x="968" y="287"/>
                </a:lnTo>
                <a:lnTo>
                  <a:pt x="985" y="308"/>
                </a:lnTo>
                <a:lnTo>
                  <a:pt x="1001" y="333"/>
                </a:lnTo>
                <a:lnTo>
                  <a:pt x="1006" y="317"/>
                </a:lnTo>
                <a:lnTo>
                  <a:pt x="1012" y="304"/>
                </a:lnTo>
                <a:lnTo>
                  <a:pt x="1018" y="292"/>
                </a:lnTo>
                <a:lnTo>
                  <a:pt x="1025" y="278"/>
                </a:lnTo>
                <a:lnTo>
                  <a:pt x="1031" y="267"/>
                </a:lnTo>
                <a:lnTo>
                  <a:pt x="1039" y="256"/>
                </a:lnTo>
                <a:lnTo>
                  <a:pt x="1047" y="245"/>
                </a:lnTo>
                <a:lnTo>
                  <a:pt x="1056" y="237"/>
                </a:lnTo>
                <a:lnTo>
                  <a:pt x="1064" y="228"/>
                </a:lnTo>
                <a:lnTo>
                  <a:pt x="1074" y="221"/>
                </a:lnTo>
                <a:lnTo>
                  <a:pt x="1084" y="215"/>
                </a:lnTo>
                <a:lnTo>
                  <a:pt x="1094" y="210"/>
                </a:lnTo>
                <a:lnTo>
                  <a:pt x="1105" y="205"/>
                </a:lnTo>
                <a:lnTo>
                  <a:pt x="1114" y="203"/>
                </a:lnTo>
                <a:lnTo>
                  <a:pt x="1125" y="203"/>
                </a:lnTo>
                <a:lnTo>
                  <a:pt x="1136" y="199"/>
                </a:lnTo>
                <a:lnTo>
                  <a:pt x="1149" y="203"/>
                </a:lnTo>
                <a:lnTo>
                  <a:pt x="1160" y="204"/>
                </a:lnTo>
                <a:lnTo>
                  <a:pt x="1171" y="205"/>
                </a:lnTo>
                <a:lnTo>
                  <a:pt x="1182" y="210"/>
                </a:lnTo>
                <a:lnTo>
                  <a:pt x="1193" y="217"/>
                </a:lnTo>
                <a:lnTo>
                  <a:pt x="1202" y="223"/>
                </a:lnTo>
                <a:lnTo>
                  <a:pt x="1213" y="233"/>
                </a:lnTo>
                <a:lnTo>
                  <a:pt x="1223" y="240"/>
                </a:lnTo>
                <a:lnTo>
                  <a:pt x="1230" y="215"/>
                </a:lnTo>
                <a:lnTo>
                  <a:pt x="1240" y="191"/>
                </a:lnTo>
                <a:lnTo>
                  <a:pt x="1251" y="167"/>
                </a:lnTo>
                <a:lnTo>
                  <a:pt x="1263" y="142"/>
                </a:lnTo>
                <a:lnTo>
                  <a:pt x="1269" y="132"/>
                </a:lnTo>
                <a:lnTo>
                  <a:pt x="1276" y="121"/>
                </a:lnTo>
                <a:lnTo>
                  <a:pt x="1289" y="101"/>
                </a:lnTo>
                <a:lnTo>
                  <a:pt x="1302" y="83"/>
                </a:lnTo>
                <a:lnTo>
                  <a:pt x="1318" y="66"/>
                </a:lnTo>
                <a:lnTo>
                  <a:pt x="1334" y="51"/>
                </a:lnTo>
                <a:lnTo>
                  <a:pt x="1351" y="37"/>
                </a:lnTo>
                <a:lnTo>
                  <a:pt x="1368" y="28"/>
                </a:lnTo>
                <a:lnTo>
                  <a:pt x="1378" y="20"/>
                </a:lnTo>
                <a:lnTo>
                  <a:pt x="1388" y="16"/>
                </a:lnTo>
                <a:lnTo>
                  <a:pt x="1407" y="10"/>
                </a:lnTo>
                <a:lnTo>
                  <a:pt x="1426" y="2"/>
                </a:lnTo>
                <a:lnTo>
                  <a:pt x="1446" y="0"/>
                </a:lnTo>
                <a:lnTo>
                  <a:pt x="1466" y="0"/>
                </a:lnTo>
                <a:lnTo>
                  <a:pt x="1490" y="0"/>
                </a:lnTo>
                <a:lnTo>
                  <a:pt x="1512" y="5"/>
                </a:lnTo>
                <a:lnTo>
                  <a:pt x="1523" y="7"/>
                </a:lnTo>
                <a:lnTo>
                  <a:pt x="1535" y="12"/>
                </a:lnTo>
                <a:lnTo>
                  <a:pt x="1556" y="23"/>
                </a:lnTo>
                <a:lnTo>
                  <a:pt x="1567" y="29"/>
                </a:lnTo>
                <a:lnTo>
                  <a:pt x="1578" y="36"/>
                </a:lnTo>
                <a:lnTo>
                  <a:pt x="1587" y="45"/>
                </a:lnTo>
                <a:lnTo>
                  <a:pt x="1597" y="51"/>
                </a:lnTo>
                <a:lnTo>
                  <a:pt x="1607" y="59"/>
                </a:lnTo>
                <a:lnTo>
                  <a:pt x="1615" y="71"/>
                </a:lnTo>
                <a:lnTo>
                  <a:pt x="1625" y="80"/>
                </a:lnTo>
                <a:lnTo>
                  <a:pt x="1634" y="89"/>
                </a:lnTo>
                <a:lnTo>
                  <a:pt x="1643" y="101"/>
                </a:lnTo>
                <a:lnTo>
                  <a:pt x="1650" y="112"/>
                </a:lnTo>
                <a:lnTo>
                  <a:pt x="1658" y="125"/>
                </a:lnTo>
                <a:lnTo>
                  <a:pt x="1666" y="135"/>
                </a:lnTo>
                <a:lnTo>
                  <a:pt x="1680" y="164"/>
                </a:lnTo>
                <a:lnTo>
                  <a:pt x="1693" y="191"/>
                </a:lnTo>
                <a:lnTo>
                  <a:pt x="1699" y="205"/>
                </a:lnTo>
                <a:lnTo>
                  <a:pt x="1703" y="221"/>
                </a:lnTo>
                <a:lnTo>
                  <a:pt x="1713" y="251"/>
                </a:lnTo>
                <a:lnTo>
                  <a:pt x="1720" y="285"/>
                </a:lnTo>
                <a:lnTo>
                  <a:pt x="1727" y="320"/>
                </a:lnTo>
                <a:lnTo>
                  <a:pt x="1738" y="304"/>
                </a:lnTo>
                <a:lnTo>
                  <a:pt x="1749" y="293"/>
                </a:lnTo>
                <a:lnTo>
                  <a:pt x="1760" y="281"/>
                </a:lnTo>
                <a:lnTo>
                  <a:pt x="1773" y="274"/>
                </a:lnTo>
                <a:lnTo>
                  <a:pt x="1786" y="264"/>
                </a:lnTo>
                <a:lnTo>
                  <a:pt x="1799" y="261"/>
                </a:lnTo>
                <a:lnTo>
                  <a:pt x="1814" y="256"/>
                </a:lnTo>
                <a:lnTo>
                  <a:pt x="1829" y="256"/>
                </a:lnTo>
                <a:lnTo>
                  <a:pt x="1844" y="256"/>
                </a:lnTo>
                <a:lnTo>
                  <a:pt x="1858" y="261"/>
                </a:lnTo>
                <a:lnTo>
                  <a:pt x="1871" y="264"/>
                </a:lnTo>
                <a:lnTo>
                  <a:pt x="1886" y="274"/>
                </a:lnTo>
                <a:lnTo>
                  <a:pt x="1898" y="281"/>
                </a:lnTo>
                <a:lnTo>
                  <a:pt x="1910" y="293"/>
                </a:lnTo>
                <a:lnTo>
                  <a:pt x="1916" y="299"/>
                </a:lnTo>
                <a:lnTo>
                  <a:pt x="1920" y="308"/>
                </a:lnTo>
                <a:lnTo>
                  <a:pt x="1931" y="322"/>
                </a:lnTo>
                <a:lnTo>
                  <a:pt x="1941" y="337"/>
                </a:lnTo>
                <a:lnTo>
                  <a:pt x="1949" y="354"/>
                </a:lnTo>
                <a:lnTo>
                  <a:pt x="1957" y="372"/>
                </a:lnTo>
                <a:lnTo>
                  <a:pt x="1963" y="391"/>
                </a:lnTo>
                <a:lnTo>
                  <a:pt x="1967" y="413"/>
                </a:lnTo>
                <a:lnTo>
                  <a:pt x="1970" y="433"/>
                </a:lnTo>
                <a:lnTo>
                  <a:pt x="1972" y="443"/>
                </a:lnTo>
                <a:lnTo>
                  <a:pt x="1974" y="456"/>
                </a:lnTo>
                <a:lnTo>
                  <a:pt x="1974" y="479"/>
                </a:lnTo>
                <a:lnTo>
                  <a:pt x="1988" y="459"/>
                </a:lnTo>
                <a:lnTo>
                  <a:pt x="2002" y="442"/>
                </a:lnTo>
                <a:lnTo>
                  <a:pt x="2018" y="426"/>
                </a:lnTo>
                <a:lnTo>
                  <a:pt x="2026" y="420"/>
                </a:lnTo>
                <a:lnTo>
                  <a:pt x="2033" y="413"/>
                </a:lnTo>
                <a:lnTo>
                  <a:pt x="2051" y="404"/>
                </a:lnTo>
                <a:lnTo>
                  <a:pt x="2069" y="396"/>
                </a:lnTo>
                <a:lnTo>
                  <a:pt x="2079" y="393"/>
                </a:lnTo>
                <a:lnTo>
                  <a:pt x="2088" y="391"/>
                </a:lnTo>
                <a:lnTo>
                  <a:pt x="2109" y="391"/>
                </a:lnTo>
                <a:lnTo>
                  <a:pt x="2124" y="391"/>
                </a:lnTo>
                <a:lnTo>
                  <a:pt x="2138" y="393"/>
                </a:lnTo>
                <a:lnTo>
                  <a:pt x="2153" y="401"/>
                </a:lnTo>
                <a:lnTo>
                  <a:pt x="2161" y="402"/>
                </a:lnTo>
                <a:lnTo>
                  <a:pt x="2169" y="407"/>
                </a:lnTo>
                <a:lnTo>
                  <a:pt x="2181" y="413"/>
                </a:lnTo>
                <a:lnTo>
                  <a:pt x="2196" y="425"/>
                </a:lnTo>
                <a:lnTo>
                  <a:pt x="2202" y="427"/>
                </a:lnTo>
                <a:lnTo>
                  <a:pt x="2209" y="436"/>
                </a:lnTo>
                <a:lnTo>
                  <a:pt x="2220" y="449"/>
                </a:lnTo>
                <a:lnTo>
                  <a:pt x="2232" y="461"/>
                </a:lnTo>
                <a:lnTo>
                  <a:pt x="2242" y="479"/>
                </a:lnTo>
                <a:lnTo>
                  <a:pt x="2252" y="495"/>
                </a:lnTo>
                <a:lnTo>
                  <a:pt x="2260" y="512"/>
                </a:lnTo>
                <a:lnTo>
                  <a:pt x="2268" y="531"/>
                </a:lnTo>
                <a:lnTo>
                  <a:pt x="2276" y="550"/>
                </a:lnTo>
                <a:lnTo>
                  <a:pt x="2280" y="572"/>
                </a:lnTo>
                <a:lnTo>
                  <a:pt x="2283" y="584"/>
                </a:lnTo>
                <a:lnTo>
                  <a:pt x="2285" y="595"/>
                </a:lnTo>
                <a:lnTo>
                  <a:pt x="2295" y="588"/>
                </a:lnTo>
                <a:lnTo>
                  <a:pt x="2305" y="584"/>
                </a:lnTo>
                <a:lnTo>
                  <a:pt x="2315" y="582"/>
                </a:lnTo>
                <a:lnTo>
                  <a:pt x="2326" y="582"/>
                </a:lnTo>
                <a:lnTo>
                  <a:pt x="2335" y="582"/>
                </a:lnTo>
                <a:lnTo>
                  <a:pt x="2345" y="584"/>
                </a:lnTo>
                <a:lnTo>
                  <a:pt x="2354" y="588"/>
                </a:lnTo>
                <a:lnTo>
                  <a:pt x="2364" y="593"/>
                </a:lnTo>
                <a:lnTo>
                  <a:pt x="2373" y="600"/>
                </a:lnTo>
                <a:lnTo>
                  <a:pt x="2381" y="607"/>
                </a:lnTo>
                <a:lnTo>
                  <a:pt x="2388" y="614"/>
                </a:lnTo>
                <a:lnTo>
                  <a:pt x="2395" y="625"/>
                </a:lnTo>
                <a:lnTo>
                  <a:pt x="2401" y="636"/>
                </a:lnTo>
                <a:lnTo>
                  <a:pt x="2407" y="647"/>
                </a:lnTo>
                <a:lnTo>
                  <a:pt x="2413" y="660"/>
                </a:lnTo>
                <a:lnTo>
                  <a:pt x="2416" y="673"/>
                </a:lnTo>
                <a:lnTo>
                  <a:pt x="2419" y="687"/>
                </a:lnTo>
                <a:lnTo>
                  <a:pt x="2421" y="701"/>
                </a:lnTo>
                <a:lnTo>
                  <a:pt x="2423" y="717"/>
                </a:lnTo>
                <a:lnTo>
                  <a:pt x="2423" y="733"/>
                </a:lnTo>
                <a:lnTo>
                  <a:pt x="2423" y="750"/>
                </a:lnTo>
                <a:lnTo>
                  <a:pt x="2420" y="767"/>
                </a:lnTo>
                <a:lnTo>
                  <a:pt x="2439" y="774"/>
                </a:lnTo>
                <a:lnTo>
                  <a:pt x="2456" y="782"/>
                </a:lnTo>
                <a:lnTo>
                  <a:pt x="2472" y="794"/>
                </a:lnTo>
                <a:lnTo>
                  <a:pt x="2488" y="809"/>
                </a:lnTo>
                <a:lnTo>
                  <a:pt x="2503" y="823"/>
                </a:lnTo>
                <a:lnTo>
                  <a:pt x="2518" y="841"/>
                </a:lnTo>
                <a:lnTo>
                  <a:pt x="2530" y="862"/>
                </a:lnTo>
                <a:lnTo>
                  <a:pt x="2536" y="869"/>
                </a:lnTo>
                <a:lnTo>
                  <a:pt x="2543" y="880"/>
                </a:lnTo>
                <a:lnTo>
                  <a:pt x="2554" y="903"/>
                </a:lnTo>
                <a:lnTo>
                  <a:pt x="2559" y="914"/>
                </a:lnTo>
                <a:lnTo>
                  <a:pt x="2563" y="926"/>
                </a:lnTo>
                <a:lnTo>
                  <a:pt x="2571" y="951"/>
                </a:lnTo>
                <a:lnTo>
                  <a:pt x="2579" y="976"/>
                </a:lnTo>
                <a:lnTo>
                  <a:pt x="2584" y="1004"/>
                </a:lnTo>
                <a:lnTo>
                  <a:pt x="2585" y="1018"/>
                </a:lnTo>
                <a:lnTo>
                  <a:pt x="2588" y="1028"/>
                </a:lnTo>
                <a:lnTo>
                  <a:pt x="2590" y="1044"/>
                </a:lnTo>
                <a:lnTo>
                  <a:pt x="2590" y="1056"/>
                </a:lnTo>
                <a:lnTo>
                  <a:pt x="2592" y="1088"/>
                </a:lnTo>
                <a:lnTo>
                  <a:pt x="2590" y="1113"/>
                </a:lnTo>
                <a:lnTo>
                  <a:pt x="2588" y="1136"/>
                </a:lnTo>
                <a:lnTo>
                  <a:pt x="2587" y="1158"/>
                </a:lnTo>
                <a:lnTo>
                  <a:pt x="2582" y="1179"/>
                </a:lnTo>
                <a:lnTo>
                  <a:pt x="2578" y="1202"/>
                </a:lnTo>
                <a:lnTo>
                  <a:pt x="2572" y="1223"/>
                </a:lnTo>
                <a:lnTo>
                  <a:pt x="2566" y="1243"/>
                </a:lnTo>
                <a:lnTo>
                  <a:pt x="2559" y="1261"/>
                </a:lnTo>
                <a:lnTo>
                  <a:pt x="2551" y="1282"/>
                </a:lnTo>
                <a:lnTo>
                  <a:pt x="2542" y="1300"/>
                </a:lnTo>
                <a:lnTo>
                  <a:pt x="2532" y="1314"/>
                </a:lnTo>
                <a:lnTo>
                  <a:pt x="2522" y="1330"/>
                </a:lnTo>
                <a:lnTo>
                  <a:pt x="2512" y="1346"/>
                </a:lnTo>
                <a:lnTo>
                  <a:pt x="2499" y="1358"/>
                </a:lnTo>
                <a:lnTo>
                  <a:pt x="2488" y="1371"/>
                </a:lnTo>
                <a:lnTo>
                  <a:pt x="2473" y="1382"/>
                </a:lnTo>
                <a:lnTo>
                  <a:pt x="2476" y="1406"/>
                </a:lnTo>
                <a:lnTo>
                  <a:pt x="2473" y="1441"/>
                </a:lnTo>
                <a:lnTo>
                  <a:pt x="2470" y="1474"/>
                </a:lnTo>
                <a:lnTo>
                  <a:pt x="2467" y="1489"/>
                </a:lnTo>
                <a:lnTo>
                  <a:pt x="2466" y="1506"/>
                </a:lnTo>
                <a:lnTo>
                  <a:pt x="2461" y="1522"/>
                </a:lnTo>
                <a:lnTo>
                  <a:pt x="2457" y="1538"/>
                </a:lnTo>
                <a:lnTo>
                  <a:pt x="2449" y="1567"/>
                </a:lnTo>
                <a:lnTo>
                  <a:pt x="2437" y="1594"/>
                </a:lnTo>
                <a:lnTo>
                  <a:pt x="2425" y="1620"/>
                </a:lnTo>
                <a:lnTo>
                  <a:pt x="2419" y="1631"/>
                </a:lnTo>
                <a:lnTo>
                  <a:pt x="2411" y="1644"/>
                </a:lnTo>
                <a:lnTo>
                  <a:pt x="2395" y="1667"/>
                </a:lnTo>
                <a:lnTo>
                  <a:pt x="2387" y="1674"/>
                </a:lnTo>
                <a:lnTo>
                  <a:pt x="2380" y="1684"/>
                </a:lnTo>
                <a:lnTo>
                  <a:pt x="2361" y="1701"/>
                </a:lnTo>
                <a:lnTo>
                  <a:pt x="2342" y="1716"/>
                </a:lnTo>
                <a:lnTo>
                  <a:pt x="2321" y="1727"/>
                </a:lnTo>
                <a:lnTo>
                  <a:pt x="2312" y="1731"/>
                </a:lnTo>
                <a:lnTo>
                  <a:pt x="2301" y="1736"/>
                </a:lnTo>
                <a:lnTo>
                  <a:pt x="2289" y="1738"/>
                </a:lnTo>
                <a:lnTo>
                  <a:pt x="2279" y="1740"/>
                </a:lnTo>
                <a:lnTo>
                  <a:pt x="2256" y="1743"/>
                </a:lnTo>
                <a:lnTo>
                  <a:pt x="2243" y="1740"/>
                </a:lnTo>
                <a:lnTo>
                  <a:pt x="2238" y="1760"/>
                </a:lnTo>
                <a:lnTo>
                  <a:pt x="2233" y="1779"/>
                </a:lnTo>
                <a:lnTo>
                  <a:pt x="2227" y="1797"/>
                </a:lnTo>
                <a:lnTo>
                  <a:pt x="2219" y="1814"/>
                </a:lnTo>
                <a:lnTo>
                  <a:pt x="2211" y="1830"/>
                </a:lnTo>
                <a:lnTo>
                  <a:pt x="2202" y="1845"/>
                </a:lnTo>
                <a:lnTo>
                  <a:pt x="2193" y="1859"/>
                </a:lnTo>
                <a:lnTo>
                  <a:pt x="2183" y="1871"/>
                </a:lnTo>
                <a:lnTo>
                  <a:pt x="2172" y="1882"/>
                </a:lnTo>
                <a:lnTo>
                  <a:pt x="2161" y="1893"/>
                </a:lnTo>
                <a:lnTo>
                  <a:pt x="2148" y="1902"/>
                </a:lnTo>
                <a:lnTo>
                  <a:pt x="2136" y="1907"/>
                </a:lnTo>
                <a:lnTo>
                  <a:pt x="2124" y="1914"/>
                </a:lnTo>
                <a:lnTo>
                  <a:pt x="2111" y="1919"/>
                </a:lnTo>
                <a:lnTo>
                  <a:pt x="2097" y="1922"/>
                </a:lnTo>
                <a:lnTo>
                  <a:pt x="2082" y="1922"/>
                </a:lnTo>
                <a:lnTo>
                  <a:pt x="2067" y="1922"/>
                </a:lnTo>
                <a:lnTo>
                  <a:pt x="2051" y="1918"/>
                </a:lnTo>
                <a:lnTo>
                  <a:pt x="2036" y="1912"/>
                </a:lnTo>
                <a:lnTo>
                  <a:pt x="2022" y="1905"/>
                </a:lnTo>
                <a:lnTo>
                  <a:pt x="2009" y="1895"/>
                </a:lnTo>
                <a:lnTo>
                  <a:pt x="2002" y="1889"/>
                </a:lnTo>
                <a:lnTo>
                  <a:pt x="1996" y="1884"/>
                </a:lnTo>
                <a:lnTo>
                  <a:pt x="1990" y="1877"/>
                </a:lnTo>
                <a:lnTo>
                  <a:pt x="1983" y="1871"/>
                </a:lnTo>
                <a:lnTo>
                  <a:pt x="1977" y="1862"/>
                </a:lnTo>
                <a:lnTo>
                  <a:pt x="1970" y="1855"/>
                </a:lnTo>
                <a:lnTo>
                  <a:pt x="1963" y="1879"/>
                </a:lnTo>
                <a:lnTo>
                  <a:pt x="1959" y="1891"/>
                </a:lnTo>
                <a:lnTo>
                  <a:pt x="1953" y="1900"/>
                </a:lnTo>
                <a:lnTo>
                  <a:pt x="1947" y="1911"/>
                </a:lnTo>
                <a:lnTo>
                  <a:pt x="1941" y="1919"/>
                </a:lnTo>
                <a:lnTo>
                  <a:pt x="1934" y="1928"/>
                </a:lnTo>
                <a:lnTo>
                  <a:pt x="1928" y="1935"/>
                </a:lnTo>
                <a:lnTo>
                  <a:pt x="1920" y="1943"/>
                </a:lnTo>
                <a:lnTo>
                  <a:pt x="1913" y="1948"/>
                </a:lnTo>
                <a:lnTo>
                  <a:pt x="1904" y="1954"/>
                </a:lnTo>
                <a:lnTo>
                  <a:pt x="1897" y="1959"/>
                </a:lnTo>
                <a:lnTo>
                  <a:pt x="1892" y="1960"/>
                </a:lnTo>
                <a:lnTo>
                  <a:pt x="1890" y="1960"/>
                </a:lnTo>
                <a:lnTo>
                  <a:pt x="1880" y="1965"/>
                </a:lnTo>
                <a:lnTo>
                  <a:pt x="1870" y="1965"/>
                </a:lnTo>
                <a:lnTo>
                  <a:pt x="1862" y="1966"/>
                </a:lnTo>
                <a:lnTo>
                  <a:pt x="1847" y="1965"/>
                </a:lnTo>
                <a:lnTo>
                  <a:pt x="1838" y="1964"/>
                </a:lnTo>
                <a:lnTo>
                  <a:pt x="1832" y="1960"/>
                </a:lnTo>
                <a:lnTo>
                  <a:pt x="1818" y="1954"/>
                </a:lnTo>
                <a:lnTo>
                  <a:pt x="1805" y="1946"/>
                </a:lnTo>
                <a:lnTo>
                  <a:pt x="1798" y="1964"/>
                </a:lnTo>
                <a:lnTo>
                  <a:pt x="1790" y="1980"/>
                </a:lnTo>
                <a:lnTo>
                  <a:pt x="1781" y="1998"/>
                </a:lnTo>
                <a:lnTo>
                  <a:pt x="1771" y="2012"/>
                </a:lnTo>
                <a:lnTo>
                  <a:pt x="1760" y="2028"/>
                </a:lnTo>
                <a:lnTo>
                  <a:pt x="1749" y="2041"/>
                </a:lnTo>
                <a:lnTo>
                  <a:pt x="1738" y="2053"/>
                </a:lnTo>
                <a:lnTo>
                  <a:pt x="1726" y="2065"/>
                </a:lnTo>
                <a:lnTo>
                  <a:pt x="1713" y="2076"/>
                </a:lnTo>
                <a:lnTo>
                  <a:pt x="1700" y="2085"/>
                </a:lnTo>
                <a:lnTo>
                  <a:pt x="1686" y="2094"/>
                </a:lnTo>
                <a:lnTo>
                  <a:pt x="1674" y="2100"/>
                </a:lnTo>
                <a:lnTo>
                  <a:pt x="1660" y="2105"/>
                </a:lnTo>
                <a:lnTo>
                  <a:pt x="1644" y="2110"/>
                </a:lnTo>
                <a:lnTo>
                  <a:pt x="1630" y="2112"/>
                </a:lnTo>
                <a:lnTo>
                  <a:pt x="1614" y="2112"/>
                </a:lnTo>
                <a:lnTo>
                  <a:pt x="1600" y="2112"/>
                </a:lnTo>
                <a:lnTo>
                  <a:pt x="1585" y="2110"/>
                </a:lnTo>
                <a:lnTo>
                  <a:pt x="1572" y="2105"/>
                </a:lnTo>
                <a:lnTo>
                  <a:pt x="1558" y="2100"/>
                </a:lnTo>
                <a:lnTo>
                  <a:pt x="1543" y="2094"/>
                </a:lnTo>
                <a:lnTo>
                  <a:pt x="1531" y="2087"/>
                </a:lnTo>
                <a:lnTo>
                  <a:pt x="1518" y="2080"/>
                </a:lnTo>
                <a:lnTo>
                  <a:pt x="1506" y="2068"/>
                </a:lnTo>
                <a:lnTo>
                  <a:pt x="1495" y="2057"/>
                </a:lnTo>
                <a:lnTo>
                  <a:pt x="1483" y="2046"/>
                </a:lnTo>
                <a:lnTo>
                  <a:pt x="1473" y="2033"/>
                </a:lnTo>
                <a:lnTo>
                  <a:pt x="1462" y="2017"/>
                </a:lnTo>
                <a:lnTo>
                  <a:pt x="1452" y="2001"/>
                </a:lnTo>
                <a:lnTo>
                  <a:pt x="1443" y="1987"/>
                </a:lnTo>
                <a:lnTo>
                  <a:pt x="1440" y="1978"/>
                </a:lnTo>
                <a:lnTo>
                  <a:pt x="1434" y="1970"/>
                </a:lnTo>
                <a:lnTo>
                  <a:pt x="1427" y="1952"/>
                </a:lnTo>
                <a:lnTo>
                  <a:pt x="1423" y="1970"/>
                </a:lnTo>
                <a:lnTo>
                  <a:pt x="1417" y="1987"/>
                </a:lnTo>
                <a:lnTo>
                  <a:pt x="1411" y="2001"/>
                </a:lnTo>
                <a:lnTo>
                  <a:pt x="1405" y="2017"/>
                </a:lnTo>
                <a:lnTo>
                  <a:pt x="1397" y="2030"/>
                </a:lnTo>
                <a:lnTo>
                  <a:pt x="1390" y="2044"/>
                </a:lnTo>
                <a:lnTo>
                  <a:pt x="1380" y="2053"/>
                </a:lnTo>
                <a:lnTo>
                  <a:pt x="1370" y="2068"/>
                </a:lnTo>
                <a:lnTo>
                  <a:pt x="1365" y="2071"/>
                </a:lnTo>
                <a:lnTo>
                  <a:pt x="1361" y="2076"/>
                </a:lnTo>
                <a:lnTo>
                  <a:pt x="1350" y="2085"/>
                </a:lnTo>
                <a:lnTo>
                  <a:pt x="1341" y="2094"/>
                </a:lnTo>
                <a:lnTo>
                  <a:pt x="1328" y="2100"/>
                </a:lnTo>
                <a:lnTo>
                  <a:pt x="1317" y="2105"/>
                </a:lnTo>
                <a:lnTo>
                  <a:pt x="1305" y="2110"/>
                </a:lnTo>
                <a:lnTo>
                  <a:pt x="1294" y="2112"/>
                </a:lnTo>
                <a:lnTo>
                  <a:pt x="1281" y="2112"/>
                </a:lnTo>
                <a:lnTo>
                  <a:pt x="1269" y="2112"/>
                </a:lnTo>
                <a:lnTo>
                  <a:pt x="1259" y="2110"/>
                </a:lnTo>
                <a:lnTo>
                  <a:pt x="1248" y="2105"/>
                </a:lnTo>
                <a:lnTo>
                  <a:pt x="1236" y="2100"/>
                </a:lnTo>
                <a:lnTo>
                  <a:pt x="1227" y="2097"/>
                </a:lnTo>
                <a:lnTo>
                  <a:pt x="1216" y="2089"/>
                </a:lnTo>
                <a:lnTo>
                  <a:pt x="1207" y="2081"/>
                </a:lnTo>
                <a:lnTo>
                  <a:pt x="1197" y="2074"/>
                </a:lnTo>
                <a:lnTo>
                  <a:pt x="1189" y="2064"/>
                </a:lnTo>
                <a:lnTo>
                  <a:pt x="1185" y="2059"/>
                </a:lnTo>
                <a:lnTo>
                  <a:pt x="1180" y="2053"/>
                </a:lnTo>
                <a:lnTo>
                  <a:pt x="1176" y="2048"/>
                </a:lnTo>
                <a:lnTo>
                  <a:pt x="1173" y="2041"/>
                </a:lnTo>
                <a:lnTo>
                  <a:pt x="1164" y="2030"/>
                </a:lnTo>
                <a:lnTo>
                  <a:pt x="1161" y="2024"/>
                </a:lnTo>
                <a:lnTo>
                  <a:pt x="1158" y="2017"/>
                </a:lnTo>
                <a:lnTo>
                  <a:pt x="1152" y="2005"/>
                </a:lnTo>
                <a:lnTo>
                  <a:pt x="1146" y="1989"/>
                </a:lnTo>
                <a:lnTo>
                  <a:pt x="1141" y="1975"/>
                </a:lnTo>
                <a:lnTo>
                  <a:pt x="1133" y="1989"/>
                </a:lnTo>
                <a:lnTo>
                  <a:pt x="1125" y="2001"/>
                </a:lnTo>
                <a:lnTo>
                  <a:pt x="1116" y="2016"/>
                </a:lnTo>
                <a:lnTo>
                  <a:pt x="1107" y="2027"/>
                </a:lnTo>
                <a:lnTo>
                  <a:pt x="1097" y="2037"/>
                </a:lnTo>
                <a:lnTo>
                  <a:pt x="1088" y="2048"/>
                </a:lnTo>
                <a:lnTo>
                  <a:pt x="1077" y="2057"/>
                </a:lnTo>
                <a:lnTo>
                  <a:pt x="1065" y="2065"/>
                </a:lnTo>
                <a:lnTo>
                  <a:pt x="1044" y="2081"/>
                </a:lnTo>
                <a:lnTo>
                  <a:pt x="1032" y="2087"/>
                </a:lnTo>
                <a:lnTo>
                  <a:pt x="1019" y="2092"/>
                </a:lnTo>
                <a:lnTo>
                  <a:pt x="995" y="2098"/>
                </a:lnTo>
                <a:lnTo>
                  <a:pt x="982" y="2100"/>
                </a:lnTo>
                <a:lnTo>
                  <a:pt x="970" y="2100"/>
                </a:lnTo>
                <a:lnTo>
                  <a:pt x="956" y="2100"/>
                </a:lnTo>
                <a:lnTo>
                  <a:pt x="942" y="2098"/>
                </a:lnTo>
                <a:lnTo>
                  <a:pt x="927" y="2094"/>
                </a:lnTo>
                <a:lnTo>
                  <a:pt x="913" y="2089"/>
                </a:lnTo>
                <a:lnTo>
                  <a:pt x="900" y="2082"/>
                </a:lnTo>
                <a:lnTo>
                  <a:pt x="888" y="2076"/>
                </a:lnTo>
                <a:lnTo>
                  <a:pt x="875" y="2068"/>
                </a:lnTo>
                <a:lnTo>
                  <a:pt x="863" y="2057"/>
                </a:lnTo>
                <a:lnTo>
                  <a:pt x="851" y="2048"/>
                </a:lnTo>
                <a:lnTo>
                  <a:pt x="839" y="2035"/>
                </a:lnTo>
                <a:lnTo>
                  <a:pt x="830" y="2023"/>
                </a:lnTo>
                <a:lnTo>
                  <a:pt x="818" y="2009"/>
                </a:lnTo>
                <a:lnTo>
                  <a:pt x="814" y="2001"/>
                </a:lnTo>
                <a:lnTo>
                  <a:pt x="809" y="1995"/>
                </a:lnTo>
                <a:lnTo>
                  <a:pt x="800" y="1980"/>
                </a:lnTo>
                <a:lnTo>
                  <a:pt x="792" y="1964"/>
                </a:lnTo>
                <a:lnTo>
                  <a:pt x="784" y="1946"/>
                </a:lnTo>
                <a:lnTo>
                  <a:pt x="770" y="1965"/>
                </a:lnTo>
                <a:lnTo>
                  <a:pt x="764" y="1975"/>
                </a:lnTo>
                <a:lnTo>
                  <a:pt x="756" y="1982"/>
                </a:lnTo>
                <a:lnTo>
                  <a:pt x="748" y="1989"/>
                </a:lnTo>
                <a:lnTo>
                  <a:pt x="739" y="1998"/>
                </a:lnTo>
                <a:lnTo>
                  <a:pt x="723" y="2009"/>
                </a:lnTo>
                <a:lnTo>
                  <a:pt x="713" y="2016"/>
                </a:lnTo>
                <a:lnTo>
                  <a:pt x="704" y="2019"/>
                </a:lnTo>
                <a:lnTo>
                  <a:pt x="695" y="2024"/>
                </a:lnTo>
                <a:lnTo>
                  <a:pt x="686" y="2027"/>
                </a:lnTo>
                <a:lnTo>
                  <a:pt x="676" y="2030"/>
                </a:lnTo>
                <a:lnTo>
                  <a:pt x="666" y="2030"/>
                </a:lnTo>
                <a:lnTo>
                  <a:pt x="646" y="2033"/>
                </a:lnTo>
                <a:lnTo>
                  <a:pt x="627" y="2030"/>
                </a:lnTo>
                <a:lnTo>
                  <a:pt x="607" y="2027"/>
                </a:lnTo>
                <a:lnTo>
                  <a:pt x="597" y="2024"/>
                </a:lnTo>
                <a:lnTo>
                  <a:pt x="588" y="2019"/>
                </a:lnTo>
                <a:lnTo>
                  <a:pt x="580" y="2016"/>
                </a:lnTo>
                <a:lnTo>
                  <a:pt x="571" y="2009"/>
                </a:lnTo>
                <a:lnTo>
                  <a:pt x="554" y="1995"/>
                </a:lnTo>
                <a:lnTo>
                  <a:pt x="538" y="1982"/>
                </a:lnTo>
                <a:lnTo>
                  <a:pt x="522" y="1965"/>
                </a:lnTo>
                <a:lnTo>
                  <a:pt x="515" y="1954"/>
                </a:lnTo>
                <a:lnTo>
                  <a:pt x="508" y="1946"/>
                </a:lnTo>
                <a:lnTo>
                  <a:pt x="495" y="1923"/>
                </a:lnTo>
                <a:lnTo>
                  <a:pt x="485" y="1900"/>
                </a:lnTo>
                <a:lnTo>
                  <a:pt x="475" y="1876"/>
                </a:lnTo>
                <a:lnTo>
                  <a:pt x="465" y="1849"/>
                </a:lnTo>
                <a:lnTo>
                  <a:pt x="459" y="1820"/>
                </a:lnTo>
                <a:lnTo>
                  <a:pt x="457" y="1806"/>
                </a:lnTo>
                <a:lnTo>
                  <a:pt x="454" y="1792"/>
                </a:lnTo>
                <a:lnTo>
                  <a:pt x="450" y="1761"/>
                </a:lnTo>
                <a:lnTo>
                  <a:pt x="450" y="1731"/>
                </a:lnTo>
                <a:lnTo>
                  <a:pt x="450" y="1709"/>
                </a:lnTo>
                <a:lnTo>
                  <a:pt x="437" y="1719"/>
                </a:lnTo>
                <a:lnTo>
                  <a:pt x="430" y="1722"/>
                </a:lnTo>
                <a:lnTo>
                  <a:pt x="423" y="1725"/>
                </a:lnTo>
                <a:lnTo>
                  <a:pt x="407" y="1730"/>
                </a:lnTo>
                <a:lnTo>
                  <a:pt x="391" y="1731"/>
                </a:lnTo>
                <a:lnTo>
                  <a:pt x="379" y="1730"/>
                </a:lnTo>
                <a:lnTo>
                  <a:pt x="366" y="1727"/>
                </a:lnTo>
                <a:lnTo>
                  <a:pt x="354" y="1722"/>
                </a:lnTo>
                <a:lnTo>
                  <a:pt x="341" y="1716"/>
                </a:lnTo>
                <a:lnTo>
                  <a:pt x="330" y="1708"/>
                </a:lnTo>
                <a:lnTo>
                  <a:pt x="319" y="1697"/>
                </a:lnTo>
                <a:lnTo>
                  <a:pt x="309" y="1686"/>
                </a:lnTo>
                <a:lnTo>
                  <a:pt x="300" y="1672"/>
                </a:lnTo>
                <a:lnTo>
                  <a:pt x="295" y="1667"/>
                </a:lnTo>
                <a:lnTo>
                  <a:pt x="291" y="1657"/>
                </a:lnTo>
                <a:lnTo>
                  <a:pt x="282" y="1642"/>
                </a:lnTo>
                <a:lnTo>
                  <a:pt x="276" y="1627"/>
                </a:lnTo>
                <a:lnTo>
                  <a:pt x="272" y="1609"/>
                </a:lnTo>
                <a:lnTo>
                  <a:pt x="268" y="1590"/>
                </a:lnTo>
                <a:lnTo>
                  <a:pt x="264" y="1569"/>
                </a:lnTo>
                <a:lnTo>
                  <a:pt x="262" y="1551"/>
                </a:lnTo>
                <a:lnTo>
                  <a:pt x="261" y="1531"/>
                </a:ln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7600" y="3733920"/>
            <a:ext cx="16002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-48/STM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347920" y="3935520"/>
            <a:ext cx="892080" cy="7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276880" y="3994200"/>
            <a:ext cx="1158840" cy="15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38680" y="3276720"/>
            <a:ext cx="9381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320000">
            <a:off x="1255320" y="3282480"/>
            <a:ext cx="1131840" cy="676440"/>
          </a:xfrm>
          <a:prstGeom prst="leftArrow">
            <a:avLst>
              <a:gd name="adj1" fmla="val 50000"/>
              <a:gd name="adj2" fmla="val 83654"/>
            </a:avLst>
          </a:prstGeom>
          <a:solidFill>
            <a:srgbClr val="c9e0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3505320"/>
            <a:ext cx="944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66"/>
                </a:solidFill>
                <a:latin typeface="Arial"/>
              </a:rPr>
              <a:t>56K/64K 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480000">
            <a:off x="1253880" y="4064040"/>
            <a:ext cx="1146240" cy="652320"/>
          </a:xfrm>
          <a:prstGeom prst="rightArrow">
            <a:avLst>
              <a:gd name="adj1" fmla="val 50000"/>
              <a:gd name="adj2" fmla="val 87867"/>
            </a:avLst>
          </a:prstGeom>
          <a:solidFill>
            <a:srgbClr val="c9e0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900840" y="3581280"/>
            <a:ext cx="795240" cy="717840"/>
          </a:xfrm>
          <a:prstGeom prst="rightArrow">
            <a:avLst>
              <a:gd name="adj1" fmla="val 50000"/>
              <a:gd name="adj2" fmla="val 55396"/>
            </a:avLst>
          </a:prstGeom>
          <a:solidFill>
            <a:srgbClr val="c9e0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0" y="3809880"/>
            <a:ext cx="1076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66"/>
                </a:solidFill>
                <a:latin typeface="Arial"/>
              </a:rPr>
              <a:t>56K/DS1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192400" y="3641760"/>
            <a:ext cx="487440" cy="699840"/>
            <a:chOff x="2192400" y="3641760"/>
            <a:chExt cx="487440" cy="699840"/>
          </a:xfrm>
        </p:grpSpPr>
        <p:sp>
          <p:nvSpPr>
            <p:cNvPr id="389" name=""/>
            <p:cNvSpPr/>
            <p:nvPr/>
          </p:nvSpPr>
          <p:spPr>
            <a:xfrm>
              <a:off x="2192400" y="3641760"/>
              <a:ext cx="466560" cy="696600"/>
            </a:xfrm>
            <a:custGeom>
              <a:avLst/>
              <a:gdLst/>
              <a:ahLst/>
              <a:rect l="l" t="t" r="r" b="b"/>
              <a:pathLst>
                <a:path w="385" h="569">
                  <a:moveTo>
                    <a:pt x="0" y="0"/>
                  </a:moveTo>
                  <a:lnTo>
                    <a:pt x="0" y="568"/>
                  </a:lnTo>
                  <a:lnTo>
                    <a:pt x="384" y="568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58960" y="3641760"/>
              <a:ext cx="20880" cy="699840"/>
            </a:xfrm>
            <a:custGeom>
              <a:avLst/>
              <a:gdLst/>
              <a:ahLst/>
              <a:rect l="l" t="t" r="r" b="b"/>
              <a:pathLst>
                <a:path w="17" h="572">
                  <a:moveTo>
                    <a:pt x="0" y="0"/>
                  </a:moveTo>
                  <a:lnTo>
                    <a:pt x="0" y="571"/>
                  </a:lnTo>
                  <a:lnTo>
                    <a:pt x="16" y="515"/>
                  </a:lnTo>
                  <a:lnTo>
                    <a:pt x="16" y="33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6800" y="3659040"/>
              <a:ext cx="426960" cy="495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09680" y="3665520"/>
              <a:ext cx="417600" cy="4903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20840" y="3692520"/>
              <a:ext cx="20880" cy="381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0"/>
                  </a:lnTo>
                  <a:lnTo>
                    <a:pt x="8" y="30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11480" y="3746520"/>
              <a:ext cx="409320" cy="586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16160" y="3755880"/>
              <a:ext cx="403200" cy="381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225520" y="3768480"/>
              <a:ext cx="22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55760" y="3768480"/>
              <a:ext cx="22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2211480" y="4016160"/>
              <a:ext cx="420480" cy="19080"/>
              <a:chOff x="2211480" y="4016160"/>
              <a:chExt cx="420480" cy="19080"/>
            </a:xfrm>
          </p:grpSpPr>
          <p:sp>
            <p:nvSpPr>
              <p:cNvPr id="399" name=""/>
              <p:cNvSpPr/>
              <p:nvPr/>
            </p:nvSpPr>
            <p:spPr>
              <a:xfrm>
                <a:off x="2211480" y="401616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216160" y="401724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2211480" y="4049640"/>
              <a:ext cx="420480" cy="19080"/>
              <a:chOff x="2211480" y="4049640"/>
              <a:chExt cx="420480" cy="19080"/>
            </a:xfrm>
          </p:grpSpPr>
          <p:sp>
            <p:nvSpPr>
              <p:cNvPr id="402" name=""/>
              <p:cNvSpPr/>
              <p:nvPr/>
            </p:nvSpPr>
            <p:spPr>
              <a:xfrm>
                <a:off x="2211480" y="404964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216160" y="405072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211480" y="4081320"/>
              <a:ext cx="420480" cy="20160"/>
              <a:chOff x="2211480" y="4081320"/>
              <a:chExt cx="420480" cy="20160"/>
            </a:xfrm>
          </p:grpSpPr>
          <p:sp>
            <p:nvSpPr>
              <p:cNvPr id="405" name=""/>
              <p:cNvSpPr/>
              <p:nvPr/>
            </p:nvSpPr>
            <p:spPr>
              <a:xfrm>
                <a:off x="2211480" y="408240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16160" y="408132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211480" y="4114800"/>
              <a:ext cx="420480" cy="19080"/>
              <a:chOff x="2211480" y="4114800"/>
              <a:chExt cx="420480" cy="19080"/>
            </a:xfrm>
          </p:grpSpPr>
          <p:sp>
            <p:nvSpPr>
              <p:cNvPr id="408" name=""/>
              <p:cNvSpPr/>
              <p:nvPr/>
            </p:nvSpPr>
            <p:spPr>
              <a:xfrm>
                <a:off x="2211480" y="411480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216160" y="4118040"/>
                <a:ext cx="409320" cy="97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211480" y="4149720"/>
              <a:ext cx="420480" cy="19080"/>
              <a:chOff x="2211480" y="4149720"/>
              <a:chExt cx="420480" cy="19080"/>
            </a:xfrm>
          </p:grpSpPr>
          <p:sp>
            <p:nvSpPr>
              <p:cNvPr id="411" name=""/>
              <p:cNvSpPr/>
              <p:nvPr/>
            </p:nvSpPr>
            <p:spPr>
              <a:xfrm>
                <a:off x="2211480" y="414972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216160" y="414972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2200320" y="4168800"/>
              <a:ext cx="436680" cy="75960"/>
              <a:chOff x="2200320" y="4168800"/>
              <a:chExt cx="436680" cy="75960"/>
            </a:xfrm>
          </p:grpSpPr>
          <p:sp>
            <p:nvSpPr>
              <p:cNvPr id="414" name=""/>
              <p:cNvSpPr/>
              <p:nvPr/>
            </p:nvSpPr>
            <p:spPr>
              <a:xfrm>
                <a:off x="2200320" y="4168800"/>
                <a:ext cx="436680" cy="75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206080" y="4178520"/>
                <a:ext cx="421920" cy="54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556000" y="4189320"/>
              <a:ext cx="33120" cy="316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67160" y="4203720"/>
              <a:ext cx="93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200320" y="4249440"/>
              <a:ext cx="436680" cy="74880"/>
              <a:chOff x="2200320" y="4249440"/>
              <a:chExt cx="436680" cy="74880"/>
            </a:xfrm>
          </p:grpSpPr>
          <p:sp>
            <p:nvSpPr>
              <p:cNvPr id="419" name=""/>
              <p:cNvSpPr/>
              <p:nvPr/>
            </p:nvSpPr>
            <p:spPr>
              <a:xfrm>
                <a:off x="2200320" y="4249440"/>
                <a:ext cx="436680" cy="748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206080" y="4259160"/>
                <a:ext cx="421920" cy="55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2556000" y="4270320"/>
              <a:ext cx="33120" cy="30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67160" y="4282920"/>
              <a:ext cx="9360" cy="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09920" y="3892320"/>
              <a:ext cx="90360" cy="7956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74" y="0"/>
                  </a:moveTo>
                  <a:lnTo>
                    <a:pt x="0" y="0"/>
                  </a:lnTo>
                  <a:lnTo>
                    <a:pt x="37" y="64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1447920" y="4251240"/>
            <a:ext cx="8506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66"/>
                </a:solidFill>
                <a:latin typeface="Arial"/>
              </a:rPr>
              <a:t>DS1/E1 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29400" y="3352680"/>
            <a:ext cx="803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3352680"/>
            <a:ext cx="82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5392800" y="2876400"/>
            <a:ext cx="641160" cy="1059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51480" y="4111560"/>
            <a:ext cx="582480" cy="706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rot="12120000">
            <a:off x="6209280" y="4884120"/>
            <a:ext cx="1146240" cy="709920"/>
          </a:xfrm>
          <a:prstGeom prst="rightArrow">
            <a:avLst>
              <a:gd name="adj1" fmla="val 50000"/>
              <a:gd name="adj2" fmla="val 80737"/>
            </a:avLst>
          </a:prstGeom>
          <a:solidFill>
            <a:srgbClr val="c9e0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53080" y="5105520"/>
            <a:ext cx="7621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66"/>
                </a:solidFill>
                <a:latin typeface="Arial"/>
              </a:rPr>
              <a:t>E3/DS3 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033960" y="4818240"/>
            <a:ext cx="406080" cy="469800"/>
            <a:chOff x="6033960" y="4818240"/>
            <a:chExt cx="406080" cy="469800"/>
          </a:xfrm>
        </p:grpSpPr>
        <p:sp>
          <p:nvSpPr>
            <p:cNvPr id="432" name=""/>
            <p:cNvSpPr/>
            <p:nvPr/>
          </p:nvSpPr>
          <p:spPr>
            <a:xfrm>
              <a:off x="6033960" y="4818240"/>
              <a:ext cx="397080" cy="466920"/>
            </a:xfrm>
            <a:custGeom>
              <a:avLst/>
              <a:gdLst/>
              <a:ahLst/>
              <a:rect l="l" t="t" r="r" b="b"/>
              <a:pathLst>
                <a:path w="666" h="792">
                  <a:moveTo>
                    <a:pt x="0" y="0"/>
                  </a:moveTo>
                  <a:lnTo>
                    <a:pt x="0" y="791"/>
                  </a:lnTo>
                  <a:lnTo>
                    <a:pt x="665" y="791"/>
                  </a:lnTo>
                  <a:lnTo>
                    <a:pt x="665" y="0"/>
                  </a:lnTo>
                  <a:lnTo>
                    <a:pt x="0" y="0"/>
                  </a:lnTo>
                </a:path>
              </a:pathLst>
            </a:custGeom>
            <a:solidFill>
              <a:srgbClr val="1c1c1c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29960" y="4818240"/>
              <a:ext cx="10080" cy="469800"/>
            </a:xfrm>
            <a:custGeom>
              <a:avLst/>
              <a:gdLst/>
              <a:ahLst/>
              <a:rect l="l" t="t" r="r" b="b"/>
              <a:pathLst>
                <a:path w="17" h="797">
                  <a:moveTo>
                    <a:pt x="0" y="0"/>
                  </a:moveTo>
                  <a:lnTo>
                    <a:pt x="0" y="796"/>
                  </a:lnTo>
                  <a:lnTo>
                    <a:pt x="16" y="719"/>
                  </a:lnTo>
                  <a:lnTo>
                    <a:pt x="16" y="47"/>
                  </a:lnTo>
                  <a:lnTo>
                    <a:pt x="0" y="0"/>
                  </a:lnTo>
                </a:path>
              </a:pathLst>
            </a:custGeom>
            <a:solidFill>
              <a:srgbClr val="1c1c1c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44040" y="4838400"/>
              <a:ext cx="365400" cy="32436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45840" y="4826160"/>
              <a:ext cx="358200" cy="33768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057720" y="4851720"/>
              <a:ext cx="360" cy="2520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0"/>
                  </a:move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49440" y="4887720"/>
              <a:ext cx="350640" cy="396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52320" y="4893840"/>
              <a:ext cx="344880" cy="2844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61680" y="4902840"/>
              <a:ext cx="19440" cy="147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88680" y="4902840"/>
              <a:ext cx="20160" cy="147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6050520" y="5068440"/>
              <a:ext cx="356040" cy="6120"/>
              <a:chOff x="6050520" y="5068440"/>
              <a:chExt cx="356040" cy="6120"/>
            </a:xfrm>
          </p:grpSpPr>
          <p:sp>
            <p:nvSpPr>
              <p:cNvPr id="442" name=""/>
              <p:cNvSpPr/>
              <p:nvPr/>
            </p:nvSpPr>
            <p:spPr>
              <a:xfrm>
                <a:off x="6050520" y="5069880"/>
                <a:ext cx="356040" cy="46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6052680" y="5068080"/>
                <a:ext cx="350640" cy="36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6050520" y="5090040"/>
              <a:ext cx="356040" cy="6480"/>
              <a:chOff x="6050520" y="5090040"/>
              <a:chExt cx="356040" cy="6480"/>
            </a:xfrm>
          </p:grpSpPr>
          <p:sp>
            <p:nvSpPr>
              <p:cNvPr id="445" name=""/>
              <p:cNvSpPr/>
              <p:nvPr/>
            </p:nvSpPr>
            <p:spPr>
              <a:xfrm>
                <a:off x="6050520" y="5092560"/>
                <a:ext cx="356040" cy="396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6052680" y="5089680"/>
                <a:ext cx="350640" cy="36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6050520" y="5111640"/>
              <a:ext cx="356040" cy="4320"/>
              <a:chOff x="6050520" y="5111640"/>
              <a:chExt cx="356040" cy="4320"/>
            </a:xfrm>
          </p:grpSpPr>
          <p:sp>
            <p:nvSpPr>
              <p:cNvPr id="448" name=""/>
              <p:cNvSpPr/>
              <p:nvPr/>
            </p:nvSpPr>
            <p:spPr>
              <a:xfrm>
                <a:off x="6050520" y="5113800"/>
                <a:ext cx="356040" cy="216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052680" y="5111640"/>
                <a:ext cx="350640" cy="36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6050520" y="5134680"/>
              <a:ext cx="356040" cy="6120"/>
              <a:chOff x="6050520" y="5134680"/>
              <a:chExt cx="356040" cy="6120"/>
            </a:xfrm>
          </p:grpSpPr>
          <p:sp>
            <p:nvSpPr>
              <p:cNvPr id="451" name=""/>
              <p:cNvSpPr/>
              <p:nvPr/>
            </p:nvSpPr>
            <p:spPr>
              <a:xfrm>
                <a:off x="6050520" y="5136480"/>
                <a:ext cx="356040" cy="432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6052680" y="5134320"/>
                <a:ext cx="350640" cy="252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6050520" y="5155920"/>
              <a:ext cx="356040" cy="7200"/>
              <a:chOff x="6050520" y="5155920"/>
              <a:chExt cx="356040" cy="7200"/>
            </a:xfrm>
          </p:grpSpPr>
          <p:sp>
            <p:nvSpPr>
              <p:cNvPr id="454" name=""/>
              <p:cNvSpPr/>
              <p:nvPr/>
            </p:nvSpPr>
            <p:spPr>
              <a:xfrm>
                <a:off x="6050520" y="5158080"/>
                <a:ext cx="356040" cy="504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6052680" y="5155920"/>
                <a:ext cx="350640" cy="144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"/>
            <p:cNvGrpSpPr/>
            <p:nvPr/>
          </p:nvGrpSpPr>
          <p:grpSpPr>
            <a:xfrm>
              <a:off x="6039360" y="5173200"/>
              <a:ext cx="371160" cy="50040"/>
              <a:chOff x="6039360" y="5173200"/>
              <a:chExt cx="371160" cy="50040"/>
            </a:xfrm>
          </p:grpSpPr>
          <p:sp>
            <p:nvSpPr>
              <p:cNvPr id="457" name=""/>
              <p:cNvSpPr/>
              <p:nvPr/>
            </p:nvSpPr>
            <p:spPr>
              <a:xfrm>
                <a:off x="6039360" y="5173200"/>
                <a:ext cx="371160" cy="5004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045120" y="5178960"/>
                <a:ext cx="358920" cy="35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6340680" y="5185080"/>
              <a:ext cx="30240" cy="2232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350040" y="5194080"/>
              <a:ext cx="8280" cy="36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6039360" y="5226480"/>
              <a:ext cx="371160" cy="50040"/>
              <a:chOff x="6039360" y="5226480"/>
              <a:chExt cx="371160" cy="50040"/>
            </a:xfrm>
          </p:grpSpPr>
          <p:sp>
            <p:nvSpPr>
              <p:cNvPr id="462" name=""/>
              <p:cNvSpPr/>
              <p:nvPr/>
            </p:nvSpPr>
            <p:spPr>
              <a:xfrm>
                <a:off x="6039360" y="5226480"/>
                <a:ext cx="371160" cy="5004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45120" y="5233320"/>
                <a:ext cx="358920" cy="3564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340680" y="5237640"/>
              <a:ext cx="30240" cy="2304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350040" y="5248440"/>
              <a:ext cx="8280" cy="288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 flipH="1" flipV="1" rot="9480000">
            <a:off x="6266880" y="2100600"/>
            <a:ext cx="1145880" cy="707760"/>
          </a:xfrm>
          <a:prstGeom prst="rightArrow">
            <a:avLst>
              <a:gd name="adj1" fmla="val 50000"/>
              <a:gd name="adj2" fmla="val 80958"/>
            </a:avLst>
          </a:prstGeom>
          <a:solidFill>
            <a:srgbClr val="c9e0f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24480" y="2282760"/>
            <a:ext cx="992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0066"/>
                </a:solidFill>
                <a:latin typeface="Arial"/>
              </a:rPr>
              <a:t>STM1/OC3, STM4/OC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975280" y="2406600"/>
            <a:ext cx="407520" cy="469800"/>
            <a:chOff x="5975280" y="2406600"/>
            <a:chExt cx="407520" cy="469800"/>
          </a:xfrm>
        </p:grpSpPr>
        <p:sp>
          <p:nvSpPr>
            <p:cNvPr id="469" name=""/>
            <p:cNvSpPr/>
            <p:nvPr/>
          </p:nvSpPr>
          <p:spPr>
            <a:xfrm>
              <a:off x="5975280" y="2406600"/>
              <a:ext cx="398520" cy="466920"/>
            </a:xfrm>
            <a:custGeom>
              <a:avLst/>
              <a:gdLst/>
              <a:ahLst/>
              <a:rect l="l" t="t" r="r" b="b"/>
              <a:pathLst>
                <a:path w="666" h="792">
                  <a:moveTo>
                    <a:pt x="0" y="0"/>
                  </a:moveTo>
                  <a:lnTo>
                    <a:pt x="0" y="791"/>
                  </a:lnTo>
                  <a:lnTo>
                    <a:pt x="665" y="791"/>
                  </a:lnTo>
                  <a:lnTo>
                    <a:pt x="665" y="0"/>
                  </a:lnTo>
                  <a:lnTo>
                    <a:pt x="0" y="0"/>
                  </a:lnTo>
                </a:path>
              </a:pathLst>
            </a:custGeom>
            <a:solidFill>
              <a:srgbClr val="1c1c1c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72720" y="2406600"/>
              <a:ext cx="10080" cy="469800"/>
            </a:xfrm>
            <a:custGeom>
              <a:avLst/>
              <a:gdLst/>
              <a:ahLst/>
              <a:rect l="l" t="t" r="r" b="b"/>
              <a:pathLst>
                <a:path w="17" h="797">
                  <a:moveTo>
                    <a:pt x="0" y="0"/>
                  </a:moveTo>
                  <a:lnTo>
                    <a:pt x="0" y="796"/>
                  </a:lnTo>
                  <a:lnTo>
                    <a:pt x="16" y="719"/>
                  </a:lnTo>
                  <a:lnTo>
                    <a:pt x="16" y="47"/>
                  </a:lnTo>
                  <a:lnTo>
                    <a:pt x="0" y="0"/>
                  </a:lnTo>
                </a:path>
              </a:pathLst>
            </a:custGeom>
            <a:solidFill>
              <a:srgbClr val="1c1c1c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85360" y="2426760"/>
              <a:ext cx="366840" cy="32436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87160" y="2414520"/>
              <a:ext cx="359280" cy="33768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99400" y="2440080"/>
              <a:ext cx="360" cy="25200"/>
            </a:xfrm>
            <a:custGeom>
              <a:avLst/>
              <a:gdLst/>
              <a:ahLst/>
              <a:rect l="l" t="t" r="r" b="b"/>
              <a:pathLst>
                <a:path w="1" h="44">
                  <a:moveTo>
                    <a:pt x="0" y="0"/>
                  </a:moveTo>
                  <a:lnTo>
                    <a:pt x="0" y="43"/>
                  </a:lnTo>
                  <a:lnTo>
                    <a:pt x="0" y="0"/>
                  </a:lnTo>
                </a:path>
              </a:pathLst>
            </a:cu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91120" y="2476080"/>
              <a:ext cx="351720" cy="396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993640" y="2482200"/>
              <a:ext cx="346320" cy="2844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03000" y="2491200"/>
              <a:ext cx="19440" cy="147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30000" y="2491200"/>
              <a:ext cx="20520" cy="1476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5991840" y="2656800"/>
              <a:ext cx="357480" cy="6120"/>
              <a:chOff x="5991840" y="2656800"/>
              <a:chExt cx="357480" cy="6120"/>
            </a:xfrm>
          </p:grpSpPr>
          <p:sp>
            <p:nvSpPr>
              <p:cNvPr id="479" name=""/>
              <p:cNvSpPr/>
              <p:nvPr/>
            </p:nvSpPr>
            <p:spPr>
              <a:xfrm>
                <a:off x="5991840" y="2658240"/>
                <a:ext cx="357480" cy="46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994000" y="2656440"/>
                <a:ext cx="352080" cy="36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991840" y="2678400"/>
              <a:ext cx="357480" cy="6480"/>
              <a:chOff x="5991840" y="2678400"/>
              <a:chExt cx="357480" cy="6480"/>
            </a:xfrm>
          </p:grpSpPr>
          <p:sp>
            <p:nvSpPr>
              <p:cNvPr id="482" name=""/>
              <p:cNvSpPr/>
              <p:nvPr/>
            </p:nvSpPr>
            <p:spPr>
              <a:xfrm>
                <a:off x="5991840" y="2680920"/>
                <a:ext cx="357480" cy="396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994000" y="2678040"/>
                <a:ext cx="352080" cy="36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5991840" y="2700000"/>
              <a:ext cx="357480" cy="4320"/>
              <a:chOff x="5991840" y="2700000"/>
              <a:chExt cx="357480" cy="4320"/>
            </a:xfrm>
          </p:grpSpPr>
          <p:sp>
            <p:nvSpPr>
              <p:cNvPr id="485" name=""/>
              <p:cNvSpPr/>
              <p:nvPr/>
            </p:nvSpPr>
            <p:spPr>
              <a:xfrm>
                <a:off x="5991840" y="2702160"/>
                <a:ext cx="357480" cy="216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94000" y="2700000"/>
                <a:ext cx="352080" cy="36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5991840" y="2723040"/>
              <a:ext cx="357480" cy="6120"/>
              <a:chOff x="5991840" y="2723040"/>
              <a:chExt cx="357480" cy="6120"/>
            </a:xfrm>
          </p:grpSpPr>
          <p:sp>
            <p:nvSpPr>
              <p:cNvPr id="488" name=""/>
              <p:cNvSpPr/>
              <p:nvPr/>
            </p:nvSpPr>
            <p:spPr>
              <a:xfrm>
                <a:off x="5991840" y="2724840"/>
                <a:ext cx="357480" cy="432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5994000" y="2722680"/>
                <a:ext cx="352080" cy="252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5991840" y="2744280"/>
              <a:ext cx="357480" cy="7200"/>
              <a:chOff x="5991840" y="2744280"/>
              <a:chExt cx="357480" cy="7200"/>
            </a:xfrm>
          </p:grpSpPr>
          <p:sp>
            <p:nvSpPr>
              <p:cNvPr id="491" name=""/>
              <p:cNvSpPr/>
              <p:nvPr/>
            </p:nvSpPr>
            <p:spPr>
              <a:xfrm>
                <a:off x="5991840" y="2746440"/>
                <a:ext cx="357480" cy="504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5994000" y="2744280"/>
                <a:ext cx="352080" cy="1440"/>
              </a:xfrm>
              <a:prstGeom prst="rect">
                <a:avLst/>
              </a:prstGeom>
              <a:solidFill>
                <a:srgbClr val="1c1c1c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5980680" y="2761560"/>
              <a:ext cx="372600" cy="50040"/>
              <a:chOff x="5980680" y="2761560"/>
              <a:chExt cx="372600" cy="50040"/>
            </a:xfrm>
          </p:grpSpPr>
          <p:sp>
            <p:nvSpPr>
              <p:cNvPr id="494" name=""/>
              <p:cNvSpPr/>
              <p:nvPr/>
            </p:nvSpPr>
            <p:spPr>
              <a:xfrm>
                <a:off x="5980680" y="2761560"/>
                <a:ext cx="372600" cy="5004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86440" y="2767320"/>
                <a:ext cx="360000" cy="3528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6283080" y="2773440"/>
              <a:ext cx="30600" cy="2232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92440" y="2782440"/>
              <a:ext cx="8280" cy="360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5980680" y="2814840"/>
              <a:ext cx="372600" cy="50040"/>
              <a:chOff x="5980680" y="2814840"/>
              <a:chExt cx="372600" cy="50040"/>
            </a:xfrm>
          </p:grpSpPr>
          <p:sp>
            <p:nvSpPr>
              <p:cNvPr id="499" name=""/>
              <p:cNvSpPr/>
              <p:nvPr/>
            </p:nvSpPr>
            <p:spPr>
              <a:xfrm>
                <a:off x="5980680" y="2814840"/>
                <a:ext cx="372600" cy="5004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86440" y="2821680"/>
                <a:ext cx="360000" cy="35640"/>
              </a:xfrm>
              <a:prstGeom prst="rect">
                <a:avLst/>
              </a:prstGeom>
              <a:solidFill>
                <a:srgbClr val="1c1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6283080" y="2826000"/>
              <a:ext cx="30600" cy="2304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292440" y="2836800"/>
              <a:ext cx="8280" cy="2880"/>
            </a:xfrm>
            <a:prstGeom prst="rect">
              <a:avLst/>
            </a:prstGeom>
            <a:solidFill>
              <a:srgbClr val="1c1c1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6807240" y="1876320"/>
            <a:ext cx="14986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N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63640" y="440388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 Naviga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5320" y="3276720"/>
            <a:ext cx="1904760" cy="1295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4572000" y="2971440"/>
            <a:ext cx="1440" cy="228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199680" y="1542600"/>
            <a:ext cx="2688480" cy="1340640"/>
            <a:chOff x="3199680" y="1542600"/>
            <a:chExt cx="2688480" cy="1340640"/>
          </a:xfrm>
        </p:grpSpPr>
        <p:sp>
          <p:nvSpPr>
            <p:cNvPr id="508" name=""/>
            <p:cNvSpPr/>
            <p:nvPr/>
          </p:nvSpPr>
          <p:spPr>
            <a:xfrm rot="16200000">
              <a:off x="4050360" y="1568520"/>
              <a:ext cx="803160" cy="750960"/>
            </a:xfrm>
            <a:prstGeom prst="rightArrow">
              <a:avLst>
                <a:gd name="adj1" fmla="val 50000"/>
                <a:gd name="adj2" fmla="val 53480"/>
              </a:avLst>
            </a:prstGeom>
            <a:solidFill>
              <a:srgbClr val="c9e0f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210200" y="1771560"/>
              <a:ext cx="5745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AT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320000">
              <a:off x="3293640" y="2006280"/>
              <a:ext cx="1046160" cy="706320"/>
            </a:xfrm>
            <a:prstGeom prst="leftArrow">
              <a:avLst>
                <a:gd name="adj1" fmla="val 50000"/>
                <a:gd name="adj2" fmla="val 74050"/>
              </a:avLst>
            </a:prstGeom>
            <a:solidFill>
              <a:srgbClr val="c9e0f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86240" y="2247840"/>
              <a:ext cx="8650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Fr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 rot="9480000">
              <a:off x="4528080" y="2014560"/>
              <a:ext cx="1060560" cy="651240"/>
            </a:xfrm>
            <a:prstGeom prst="rightArrow">
              <a:avLst>
                <a:gd name="adj1" fmla="val 50000"/>
                <a:gd name="adj2" fmla="val 81434"/>
              </a:avLst>
            </a:prstGeom>
            <a:solidFill>
              <a:srgbClr val="c9e0f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48280" y="2152440"/>
              <a:ext cx="839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3200760" y="3276720"/>
            <a:ext cx="53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X 5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32640" y="4343400"/>
            <a:ext cx="564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-STD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657600" y="2629080"/>
            <a:ext cx="59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BX 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19200" y="2863800"/>
            <a:ext cx="39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019200" y="5334120"/>
            <a:ext cx="39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724280" y="2362320"/>
            <a:ext cx="712800" cy="838080"/>
            <a:chOff x="4724280" y="2362320"/>
            <a:chExt cx="712800" cy="838080"/>
          </a:xfrm>
        </p:grpSpPr>
        <p:sp>
          <p:nvSpPr>
            <p:cNvPr id="520" name=""/>
            <p:cNvSpPr/>
            <p:nvPr/>
          </p:nvSpPr>
          <p:spPr>
            <a:xfrm>
              <a:off x="4724280" y="2362320"/>
              <a:ext cx="699480" cy="838080"/>
            </a:xfrm>
            <a:custGeom>
              <a:avLst/>
              <a:gdLst>
                <a:gd name="textAreaLeft" fmla="*/ 159480 w 699480"/>
                <a:gd name="textAreaRight" fmla="*/ 540000 w 699480"/>
                <a:gd name="textAreaTop" fmla="*/ 191160 h 838080"/>
                <a:gd name="textAreaBottom" fmla="*/ 64692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67480" y="2658960"/>
              <a:ext cx="669600" cy="30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E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371600" y="1905120"/>
            <a:ext cx="847800" cy="689760"/>
            <a:chOff x="1371600" y="1905120"/>
            <a:chExt cx="847800" cy="689760"/>
          </a:xfrm>
        </p:grpSpPr>
        <p:grpSp>
          <p:nvGrpSpPr>
            <p:cNvPr id="523" name=""/>
            <p:cNvGrpSpPr/>
            <p:nvPr/>
          </p:nvGrpSpPr>
          <p:grpSpPr>
            <a:xfrm>
              <a:off x="1536120" y="2273400"/>
              <a:ext cx="541800" cy="213120"/>
              <a:chOff x="1536120" y="2273400"/>
              <a:chExt cx="541800" cy="21312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1536120" y="2273400"/>
                <a:ext cx="541800" cy="213120"/>
                <a:chOff x="1536120" y="2273400"/>
                <a:chExt cx="541800" cy="21312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1536120" y="2273400"/>
                  <a:ext cx="541800" cy="213120"/>
                  <a:chOff x="1536120" y="2273400"/>
                  <a:chExt cx="541800" cy="213120"/>
                </a:xfrm>
              </p:grpSpPr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1536120" y="2273400"/>
                    <a:ext cx="538920" cy="213120"/>
                    <a:chOff x="1536120" y="2273400"/>
                    <a:chExt cx="538920" cy="213120"/>
                  </a:xfrm>
                </p:grpSpPr>
                <p:grpSp>
                  <p:nvGrpSpPr>
                    <p:cNvPr id="527" name=""/>
                    <p:cNvGrpSpPr/>
                    <p:nvPr/>
                  </p:nvGrpSpPr>
                  <p:grpSpPr>
                    <a:xfrm>
                      <a:off x="1536120" y="2273400"/>
                      <a:ext cx="538920" cy="213120"/>
                      <a:chOff x="1536120" y="2273400"/>
                      <a:chExt cx="538920" cy="213120"/>
                    </a:xfrm>
                  </p:grpSpPr>
                  <p:sp>
                    <p:nvSpPr>
                      <p:cNvPr id="528" name=""/>
                      <p:cNvSpPr/>
                      <p:nvPr/>
                    </p:nvSpPr>
                    <p:spPr>
                      <a:xfrm>
                        <a:off x="1538280" y="2329200"/>
                        <a:ext cx="528480" cy="15732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>
                        <a:off x="1536120" y="2273400"/>
                        <a:ext cx="538920" cy="5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71" h="39">
                            <a:moveTo>
                              <a:pt x="0" y="38"/>
                            </a:moveTo>
                            <a:lnTo>
                              <a:pt x="470" y="38"/>
                            </a:lnTo>
                            <a:lnTo>
                              <a:pt x="425" y="0"/>
                            </a:lnTo>
                            <a:lnTo>
                              <a:pt x="49" y="0"/>
                            </a:lnTo>
                            <a:lnTo>
                              <a:pt x="0" y="3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1545120" y="2315520"/>
                      <a:ext cx="5216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1556280" y="2450520"/>
                    <a:ext cx="521640" cy="31680"/>
                    <a:chOff x="1556280" y="2450520"/>
                    <a:chExt cx="521640" cy="31680"/>
                  </a:xfrm>
                </p:grpSpPr>
                <p:grpSp>
                  <p:nvGrpSpPr>
                    <p:cNvPr id="532" name=""/>
                    <p:cNvGrpSpPr/>
                    <p:nvPr/>
                  </p:nvGrpSpPr>
                  <p:grpSpPr>
                    <a:xfrm>
                      <a:off x="1556280" y="2450520"/>
                      <a:ext cx="258480" cy="31680"/>
                      <a:chOff x="1556280" y="2450520"/>
                      <a:chExt cx="258480" cy="31680"/>
                    </a:xfrm>
                  </p:grpSpPr>
                  <p:grpSp>
                    <p:nvGrpSpPr>
                      <p:cNvPr id="533" name=""/>
                      <p:cNvGrpSpPr/>
                      <p:nvPr/>
                    </p:nvGrpSpPr>
                    <p:grpSpPr>
                      <a:xfrm>
                        <a:off x="1556280" y="2450520"/>
                        <a:ext cx="123840" cy="31680"/>
                        <a:chOff x="1556280" y="2450520"/>
                        <a:chExt cx="123840" cy="31680"/>
                      </a:xfrm>
                    </p:grpSpPr>
                    <p:grpSp>
                      <p:nvGrpSpPr>
                        <p:cNvPr id="534" name=""/>
                        <p:cNvGrpSpPr/>
                        <p:nvPr/>
                      </p:nvGrpSpPr>
                      <p:grpSpPr>
                        <a:xfrm>
                          <a:off x="1556280" y="2450520"/>
                          <a:ext cx="56160" cy="31680"/>
                          <a:chOff x="1556280" y="2450520"/>
                          <a:chExt cx="56160" cy="31680"/>
                        </a:xfrm>
                      </p:grpSpPr>
                      <p:grpSp>
                        <p:nvGrpSpPr>
                          <p:cNvPr id="535" name=""/>
                          <p:cNvGrpSpPr/>
                          <p:nvPr/>
                        </p:nvGrpSpPr>
                        <p:grpSpPr>
                          <a:xfrm>
                            <a:off x="1556280" y="2450520"/>
                            <a:ext cx="36000" cy="31680"/>
                            <a:chOff x="1556280" y="2450520"/>
                            <a:chExt cx="36000" cy="31680"/>
                          </a:xfrm>
                        </p:grpSpPr>
                        <p:grpSp>
                          <p:nvGrpSpPr>
                            <p:cNvPr id="536" name=""/>
                            <p:cNvGrpSpPr/>
                            <p:nvPr/>
                          </p:nvGrpSpPr>
                          <p:grpSpPr>
                            <a:xfrm>
                              <a:off x="1556280" y="2450520"/>
                              <a:ext cx="8640" cy="31680"/>
                              <a:chOff x="1556280" y="2450520"/>
                              <a:chExt cx="8640" cy="31680"/>
                            </a:xfrm>
                          </p:grpSpPr>
                          <p:sp>
                            <p:nvSpPr>
                              <p:cNvPr id="537" name=""/>
                              <p:cNvSpPr/>
                              <p:nvPr/>
                            </p:nvSpPr>
                            <p:spPr>
                              <a:xfrm>
                                <a:off x="155628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38" name=""/>
                              <p:cNvSpPr/>
                              <p:nvPr/>
                            </p:nvSpPr>
                            <p:spPr>
                              <a:xfrm>
                                <a:off x="156384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39" name=""/>
                            <p:cNvGrpSpPr/>
                            <p:nvPr/>
                          </p:nvGrpSpPr>
                          <p:grpSpPr>
                            <a:xfrm>
                              <a:off x="1572120" y="2450520"/>
                              <a:ext cx="20160" cy="31680"/>
                              <a:chOff x="1572120" y="2450520"/>
                              <a:chExt cx="20160" cy="31680"/>
                            </a:xfrm>
                          </p:grpSpPr>
                          <p:sp>
                            <p:nvSpPr>
                              <p:cNvPr id="540" name=""/>
                              <p:cNvSpPr/>
                              <p:nvPr/>
                            </p:nvSpPr>
                            <p:spPr>
                              <a:xfrm>
                                <a:off x="157212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1" name=""/>
                              <p:cNvSpPr/>
                              <p:nvPr/>
                            </p:nvSpPr>
                            <p:spPr>
                              <a:xfrm>
                                <a:off x="158004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42" name=""/>
                          <p:cNvGrpSpPr/>
                          <p:nvPr/>
                        </p:nvGrpSpPr>
                        <p:grpSpPr>
                          <a:xfrm>
                            <a:off x="1588320" y="2450520"/>
                            <a:ext cx="24120" cy="31680"/>
                            <a:chOff x="1588320" y="2450520"/>
                            <a:chExt cx="24120" cy="31680"/>
                          </a:xfrm>
                        </p:grpSpPr>
                        <p:grpSp>
                          <p:nvGrpSpPr>
                            <p:cNvPr id="543" name=""/>
                            <p:cNvGrpSpPr/>
                            <p:nvPr/>
                          </p:nvGrpSpPr>
                          <p:grpSpPr>
                            <a:xfrm>
                              <a:off x="1588320" y="2450520"/>
                              <a:ext cx="20160" cy="31680"/>
                              <a:chOff x="1588320" y="2450520"/>
                              <a:chExt cx="20160" cy="31680"/>
                            </a:xfrm>
                          </p:grpSpPr>
                          <p:sp>
                            <p:nvSpPr>
                              <p:cNvPr id="544" name=""/>
                              <p:cNvSpPr/>
                              <p:nvPr/>
                            </p:nvSpPr>
                            <p:spPr>
                              <a:xfrm>
                                <a:off x="158832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5" name=""/>
                              <p:cNvSpPr/>
                              <p:nvPr/>
                            </p:nvSpPr>
                            <p:spPr>
                              <a:xfrm>
                                <a:off x="159624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46" name=""/>
                            <p:cNvGrpSpPr/>
                            <p:nvPr/>
                          </p:nvGrpSpPr>
                          <p:grpSpPr>
                            <a:xfrm>
                              <a:off x="1603800" y="2450520"/>
                              <a:ext cx="8640" cy="31680"/>
                              <a:chOff x="1603800" y="2450520"/>
                              <a:chExt cx="8640" cy="31680"/>
                            </a:xfrm>
                          </p:grpSpPr>
                          <p:sp>
                            <p:nvSpPr>
                              <p:cNvPr id="547" name=""/>
                              <p:cNvSpPr/>
                              <p:nvPr/>
                            </p:nvSpPr>
                            <p:spPr>
                              <a:xfrm>
                                <a:off x="160380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48" name=""/>
                              <p:cNvSpPr/>
                              <p:nvPr/>
                            </p:nvSpPr>
                            <p:spPr>
                              <a:xfrm>
                                <a:off x="161136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49" name=""/>
                        <p:cNvGrpSpPr/>
                        <p:nvPr/>
                      </p:nvGrpSpPr>
                      <p:grpSpPr>
                        <a:xfrm>
                          <a:off x="1618920" y="2450520"/>
                          <a:ext cx="61200" cy="31680"/>
                          <a:chOff x="1618920" y="2450520"/>
                          <a:chExt cx="61200" cy="31680"/>
                        </a:xfrm>
                      </p:grpSpPr>
                      <p:grpSp>
                        <p:nvGrpSpPr>
                          <p:cNvPr id="550" name=""/>
                          <p:cNvGrpSpPr/>
                          <p:nvPr/>
                        </p:nvGrpSpPr>
                        <p:grpSpPr>
                          <a:xfrm>
                            <a:off x="1618920" y="2450520"/>
                            <a:ext cx="36000" cy="31680"/>
                            <a:chOff x="1618920" y="2450520"/>
                            <a:chExt cx="36000" cy="31680"/>
                          </a:xfrm>
                        </p:grpSpPr>
                        <p:grpSp>
                          <p:nvGrpSpPr>
                            <p:cNvPr id="551" name=""/>
                            <p:cNvGrpSpPr/>
                            <p:nvPr/>
                          </p:nvGrpSpPr>
                          <p:grpSpPr>
                            <a:xfrm>
                              <a:off x="1618920" y="2450520"/>
                              <a:ext cx="28800" cy="31680"/>
                              <a:chOff x="1618920" y="2450520"/>
                              <a:chExt cx="28800" cy="31680"/>
                            </a:xfrm>
                          </p:grpSpPr>
                          <p:sp>
                            <p:nvSpPr>
                              <p:cNvPr id="552" name=""/>
                              <p:cNvSpPr/>
                              <p:nvPr/>
                            </p:nvSpPr>
                            <p:spPr>
                              <a:xfrm>
                                <a:off x="161892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3" name=""/>
                              <p:cNvSpPr/>
                              <p:nvPr/>
                            </p:nvSpPr>
                            <p:spPr>
                              <a:xfrm>
                                <a:off x="162756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54" name=""/>
                            <p:cNvGrpSpPr/>
                            <p:nvPr/>
                          </p:nvGrpSpPr>
                          <p:grpSpPr>
                            <a:xfrm>
                              <a:off x="1634760" y="2450520"/>
                              <a:ext cx="20160" cy="31680"/>
                              <a:chOff x="1634760" y="2450520"/>
                              <a:chExt cx="20160" cy="31680"/>
                            </a:xfrm>
                          </p:grpSpPr>
                          <p:sp>
                            <p:nvSpPr>
                              <p:cNvPr id="555" name=""/>
                              <p:cNvSpPr/>
                              <p:nvPr/>
                            </p:nvSpPr>
                            <p:spPr>
                              <a:xfrm>
                                <a:off x="163476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56" name=""/>
                              <p:cNvSpPr/>
                              <p:nvPr/>
                            </p:nvSpPr>
                            <p:spPr>
                              <a:xfrm>
                                <a:off x="164340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57" name=""/>
                          <p:cNvGrpSpPr/>
                          <p:nvPr/>
                        </p:nvGrpSpPr>
                        <p:grpSpPr>
                          <a:xfrm>
                            <a:off x="1652040" y="2450520"/>
                            <a:ext cx="28080" cy="31680"/>
                            <a:chOff x="1652040" y="2450520"/>
                            <a:chExt cx="28080" cy="31680"/>
                          </a:xfrm>
                        </p:grpSpPr>
                        <p:grpSp>
                          <p:nvGrpSpPr>
                            <p:cNvPr id="558" name=""/>
                            <p:cNvGrpSpPr/>
                            <p:nvPr/>
                          </p:nvGrpSpPr>
                          <p:grpSpPr>
                            <a:xfrm>
                              <a:off x="1652040" y="2450520"/>
                              <a:ext cx="28080" cy="31680"/>
                              <a:chOff x="1652040" y="2450520"/>
                              <a:chExt cx="28080" cy="31680"/>
                            </a:xfrm>
                          </p:grpSpPr>
                          <p:sp>
                            <p:nvSpPr>
                              <p:cNvPr id="559" name=""/>
                              <p:cNvSpPr/>
                              <p:nvPr/>
                            </p:nvSpPr>
                            <p:spPr>
                              <a:xfrm>
                                <a:off x="165204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0" name=""/>
                              <p:cNvSpPr/>
                              <p:nvPr/>
                            </p:nvSpPr>
                            <p:spPr>
                              <a:xfrm>
                                <a:off x="165996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61" name=""/>
                            <p:cNvGrpSpPr/>
                            <p:nvPr/>
                          </p:nvGrpSpPr>
                          <p:grpSpPr>
                            <a:xfrm>
                              <a:off x="1667520" y="2450520"/>
                              <a:ext cx="7560" cy="31680"/>
                              <a:chOff x="1667520" y="2450520"/>
                              <a:chExt cx="7560" cy="31680"/>
                            </a:xfrm>
                          </p:grpSpPr>
                          <p:sp>
                            <p:nvSpPr>
                              <p:cNvPr id="562" name=""/>
                              <p:cNvSpPr/>
                              <p:nvPr/>
                            </p:nvSpPr>
                            <p:spPr>
                              <a:xfrm>
                                <a:off x="166752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3" name=""/>
                              <p:cNvSpPr/>
                              <p:nvPr/>
                            </p:nvSpPr>
                            <p:spPr>
                              <a:xfrm>
                                <a:off x="167436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564" name=""/>
                      <p:cNvGrpSpPr/>
                      <p:nvPr/>
                    </p:nvGrpSpPr>
                    <p:grpSpPr>
                      <a:xfrm>
                        <a:off x="1684080" y="2450520"/>
                        <a:ext cx="130680" cy="31680"/>
                        <a:chOff x="1684080" y="2450520"/>
                        <a:chExt cx="130680" cy="31680"/>
                      </a:xfrm>
                    </p:grpSpPr>
                    <p:grpSp>
                      <p:nvGrpSpPr>
                        <p:cNvPr id="565" name=""/>
                        <p:cNvGrpSpPr/>
                        <p:nvPr/>
                      </p:nvGrpSpPr>
                      <p:grpSpPr>
                        <a:xfrm>
                          <a:off x="1684080" y="2450520"/>
                          <a:ext cx="74520" cy="31680"/>
                          <a:chOff x="1684080" y="2450520"/>
                          <a:chExt cx="74520" cy="31680"/>
                        </a:xfrm>
                      </p:grpSpPr>
                      <p:grpSp>
                        <p:nvGrpSpPr>
                          <p:cNvPr id="566" name=""/>
                          <p:cNvGrpSpPr/>
                          <p:nvPr/>
                        </p:nvGrpSpPr>
                        <p:grpSpPr>
                          <a:xfrm>
                            <a:off x="1684080" y="2450520"/>
                            <a:ext cx="27000" cy="31680"/>
                            <a:chOff x="1684080" y="2450520"/>
                            <a:chExt cx="27000" cy="31680"/>
                          </a:xfrm>
                        </p:grpSpPr>
                        <p:grpSp>
                          <p:nvGrpSpPr>
                            <p:cNvPr id="567" name=""/>
                            <p:cNvGrpSpPr/>
                            <p:nvPr/>
                          </p:nvGrpSpPr>
                          <p:grpSpPr>
                            <a:xfrm>
                              <a:off x="1684080" y="2450520"/>
                              <a:ext cx="27000" cy="31680"/>
                              <a:chOff x="1684080" y="2450520"/>
                              <a:chExt cx="27000" cy="31680"/>
                            </a:xfrm>
                          </p:grpSpPr>
                          <p:sp>
                            <p:nvSpPr>
                              <p:cNvPr id="568" name=""/>
                              <p:cNvSpPr/>
                              <p:nvPr/>
                            </p:nvSpPr>
                            <p:spPr>
                              <a:xfrm>
                                <a:off x="168408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69" name=""/>
                              <p:cNvSpPr/>
                              <p:nvPr/>
                            </p:nvSpPr>
                            <p:spPr>
                              <a:xfrm>
                                <a:off x="169092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70" name=""/>
                            <p:cNvGrpSpPr/>
                            <p:nvPr/>
                          </p:nvGrpSpPr>
                          <p:grpSpPr>
                            <a:xfrm>
                              <a:off x="1699920" y="2450520"/>
                              <a:ext cx="7560" cy="31680"/>
                              <a:chOff x="1699920" y="2450520"/>
                              <a:chExt cx="7560" cy="31680"/>
                            </a:xfrm>
                          </p:grpSpPr>
                          <p:sp>
                            <p:nvSpPr>
                              <p:cNvPr id="571" name=""/>
                              <p:cNvSpPr/>
                              <p:nvPr/>
                            </p:nvSpPr>
                            <p:spPr>
                              <a:xfrm>
                                <a:off x="169992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2" name=""/>
                              <p:cNvSpPr/>
                              <p:nvPr/>
                            </p:nvSpPr>
                            <p:spPr>
                              <a:xfrm>
                                <a:off x="170640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73" name=""/>
                          <p:cNvGrpSpPr/>
                          <p:nvPr/>
                        </p:nvGrpSpPr>
                        <p:grpSpPr>
                          <a:xfrm>
                            <a:off x="1716120" y="2450520"/>
                            <a:ext cx="42480" cy="31680"/>
                            <a:chOff x="1716120" y="2450520"/>
                            <a:chExt cx="42480" cy="31680"/>
                          </a:xfrm>
                        </p:grpSpPr>
                        <p:grpSp>
                          <p:nvGrpSpPr>
                            <p:cNvPr id="574" name=""/>
                            <p:cNvGrpSpPr/>
                            <p:nvPr/>
                          </p:nvGrpSpPr>
                          <p:grpSpPr>
                            <a:xfrm>
                              <a:off x="1716120" y="2450520"/>
                              <a:ext cx="7200" cy="31680"/>
                              <a:chOff x="1716120" y="2450520"/>
                              <a:chExt cx="7200" cy="31680"/>
                            </a:xfrm>
                          </p:grpSpPr>
                          <p:sp>
                            <p:nvSpPr>
                              <p:cNvPr id="575" name=""/>
                              <p:cNvSpPr/>
                              <p:nvPr/>
                            </p:nvSpPr>
                            <p:spPr>
                              <a:xfrm>
                                <a:off x="171612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6" name=""/>
                              <p:cNvSpPr/>
                              <p:nvPr/>
                            </p:nvSpPr>
                            <p:spPr>
                              <a:xfrm>
                                <a:off x="172260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77" name=""/>
                            <p:cNvGrpSpPr/>
                            <p:nvPr/>
                          </p:nvGrpSpPr>
                          <p:grpSpPr>
                            <a:xfrm>
                              <a:off x="1731600" y="2450520"/>
                              <a:ext cx="27000" cy="31680"/>
                              <a:chOff x="1731600" y="2450520"/>
                              <a:chExt cx="27000" cy="31680"/>
                            </a:xfrm>
                          </p:grpSpPr>
                          <p:sp>
                            <p:nvSpPr>
                              <p:cNvPr id="578" name=""/>
                              <p:cNvSpPr/>
                              <p:nvPr/>
                            </p:nvSpPr>
                            <p:spPr>
                              <a:xfrm>
                                <a:off x="1731600" y="245052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79" name=""/>
                              <p:cNvSpPr/>
                              <p:nvPr/>
                            </p:nvSpPr>
                            <p:spPr>
                              <a:xfrm>
                                <a:off x="173844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580" name=""/>
                        <p:cNvGrpSpPr/>
                        <p:nvPr/>
                      </p:nvGrpSpPr>
                      <p:grpSpPr>
                        <a:xfrm>
                          <a:off x="1747080" y="2450520"/>
                          <a:ext cx="67680" cy="31680"/>
                          <a:chOff x="1747080" y="2450520"/>
                          <a:chExt cx="67680" cy="31680"/>
                        </a:xfrm>
                      </p:grpSpPr>
                      <p:grpSp>
                        <p:nvGrpSpPr>
                          <p:cNvPr id="581" name=""/>
                          <p:cNvGrpSpPr/>
                          <p:nvPr/>
                        </p:nvGrpSpPr>
                        <p:grpSpPr>
                          <a:xfrm>
                            <a:off x="1747080" y="2450520"/>
                            <a:ext cx="25200" cy="31680"/>
                            <a:chOff x="1747080" y="2450520"/>
                            <a:chExt cx="25200" cy="31680"/>
                          </a:xfrm>
                        </p:grpSpPr>
                        <p:grpSp>
                          <p:nvGrpSpPr>
                            <p:cNvPr id="582" name=""/>
                            <p:cNvGrpSpPr/>
                            <p:nvPr/>
                          </p:nvGrpSpPr>
                          <p:grpSpPr>
                            <a:xfrm>
                              <a:off x="1747080" y="2450520"/>
                              <a:ext cx="9360" cy="31680"/>
                              <a:chOff x="1747080" y="2450520"/>
                              <a:chExt cx="9360" cy="31680"/>
                            </a:xfrm>
                          </p:grpSpPr>
                          <p:sp>
                            <p:nvSpPr>
                              <p:cNvPr id="583" name=""/>
                              <p:cNvSpPr/>
                              <p:nvPr/>
                            </p:nvSpPr>
                            <p:spPr>
                              <a:xfrm>
                                <a:off x="174708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4" name=""/>
                              <p:cNvSpPr/>
                              <p:nvPr/>
                            </p:nvSpPr>
                            <p:spPr>
                              <a:xfrm>
                                <a:off x="175572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85" name=""/>
                            <p:cNvGrpSpPr/>
                            <p:nvPr/>
                          </p:nvGrpSpPr>
                          <p:grpSpPr>
                            <a:xfrm>
                              <a:off x="1762560" y="2450520"/>
                              <a:ext cx="9720" cy="31680"/>
                              <a:chOff x="1762560" y="2450520"/>
                              <a:chExt cx="9720" cy="31680"/>
                            </a:xfrm>
                          </p:grpSpPr>
                          <p:sp>
                            <p:nvSpPr>
                              <p:cNvPr id="586" name=""/>
                              <p:cNvSpPr/>
                              <p:nvPr/>
                            </p:nvSpPr>
                            <p:spPr>
                              <a:xfrm>
                                <a:off x="176256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87" name=""/>
                              <p:cNvSpPr/>
                              <p:nvPr/>
                            </p:nvSpPr>
                            <p:spPr>
                              <a:xfrm>
                                <a:off x="177156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588" name=""/>
                          <p:cNvGrpSpPr/>
                          <p:nvPr/>
                        </p:nvGrpSpPr>
                        <p:grpSpPr>
                          <a:xfrm>
                            <a:off x="1778760" y="2450520"/>
                            <a:ext cx="36000" cy="31680"/>
                            <a:chOff x="1778760" y="2450520"/>
                            <a:chExt cx="36000" cy="31680"/>
                          </a:xfrm>
                        </p:grpSpPr>
                        <p:grpSp>
                          <p:nvGrpSpPr>
                            <p:cNvPr id="589" name=""/>
                            <p:cNvGrpSpPr/>
                            <p:nvPr/>
                          </p:nvGrpSpPr>
                          <p:grpSpPr>
                            <a:xfrm>
                              <a:off x="1778760" y="2450520"/>
                              <a:ext cx="29520" cy="31680"/>
                              <a:chOff x="1778760" y="2450520"/>
                              <a:chExt cx="29520" cy="31680"/>
                            </a:xfrm>
                          </p:grpSpPr>
                          <p:sp>
                            <p:nvSpPr>
                              <p:cNvPr id="590" name=""/>
                              <p:cNvSpPr/>
                              <p:nvPr/>
                            </p:nvSpPr>
                            <p:spPr>
                              <a:xfrm>
                                <a:off x="177876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91" name=""/>
                              <p:cNvSpPr/>
                              <p:nvPr/>
                            </p:nvSpPr>
                            <p:spPr>
                              <a:xfrm>
                                <a:off x="1787760" y="245052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592" name=""/>
                            <p:cNvGrpSpPr/>
                            <p:nvPr/>
                          </p:nvGrpSpPr>
                          <p:grpSpPr>
                            <a:xfrm>
                              <a:off x="1794600" y="2450520"/>
                              <a:ext cx="20160" cy="31680"/>
                              <a:chOff x="1794600" y="2450520"/>
                              <a:chExt cx="20160" cy="31680"/>
                            </a:xfrm>
                          </p:grpSpPr>
                          <p:sp>
                            <p:nvSpPr>
                              <p:cNvPr id="593" name=""/>
                              <p:cNvSpPr/>
                              <p:nvPr/>
                            </p:nvSpPr>
                            <p:spPr>
                              <a:xfrm>
                                <a:off x="179460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594" name=""/>
                              <p:cNvSpPr/>
                              <p:nvPr/>
                            </p:nvSpPr>
                            <p:spPr>
                              <a:xfrm>
                                <a:off x="180252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595" name=""/>
                    <p:cNvGrpSpPr/>
                    <p:nvPr/>
                  </p:nvGrpSpPr>
                  <p:grpSpPr>
                    <a:xfrm>
                      <a:off x="1811520" y="2450520"/>
                      <a:ext cx="266400" cy="31680"/>
                      <a:chOff x="1811520" y="2450520"/>
                      <a:chExt cx="266400" cy="31680"/>
                    </a:xfrm>
                  </p:grpSpPr>
                  <p:grpSp>
                    <p:nvGrpSpPr>
                      <p:cNvPr id="596" name=""/>
                      <p:cNvGrpSpPr/>
                      <p:nvPr/>
                    </p:nvGrpSpPr>
                    <p:grpSpPr>
                      <a:xfrm>
                        <a:off x="1811520" y="2450520"/>
                        <a:ext cx="138240" cy="31680"/>
                        <a:chOff x="1811520" y="2450520"/>
                        <a:chExt cx="138240" cy="31680"/>
                      </a:xfrm>
                    </p:grpSpPr>
                    <p:grpSp>
                      <p:nvGrpSpPr>
                        <p:cNvPr id="597" name=""/>
                        <p:cNvGrpSpPr/>
                        <p:nvPr/>
                      </p:nvGrpSpPr>
                      <p:grpSpPr>
                        <a:xfrm>
                          <a:off x="1811520" y="2450520"/>
                          <a:ext cx="59760" cy="31680"/>
                          <a:chOff x="1811520" y="2450520"/>
                          <a:chExt cx="59760" cy="31680"/>
                        </a:xfrm>
                      </p:grpSpPr>
                      <p:grpSp>
                        <p:nvGrpSpPr>
                          <p:cNvPr id="598" name=""/>
                          <p:cNvGrpSpPr/>
                          <p:nvPr/>
                        </p:nvGrpSpPr>
                        <p:grpSpPr>
                          <a:xfrm>
                            <a:off x="1811520" y="2450520"/>
                            <a:ext cx="24120" cy="31680"/>
                            <a:chOff x="1811520" y="2450520"/>
                            <a:chExt cx="24120" cy="31680"/>
                          </a:xfrm>
                        </p:grpSpPr>
                        <p:grpSp>
                          <p:nvGrpSpPr>
                            <p:cNvPr id="599" name=""/>
                            <p:cNvGrpSpPr/>
                            <p:nvPr/>
                          </p:nvGrpSpPr>
                          <p:grpSpPr>
                            <a:xfrm>
                              <a:off x="1811520" y="2450520"/>
                              <a:ext cx="8640" cy="31680"/>
                              <a:chOff x="1811520" y="2450520"/>
                              <a:chExt cx="8640" cy="31680"/>
                            </a:xfrm>
                          </p:grpSpPr>
                          <p:sp>
                            <p:nvSpPr>
                              <p:cNvPr id="600" name=""/>
                              <p:cNvSpPr/>
                              <p:nvPr/>
                            </p:nvSpPr>
                            <p:spPr>
                              <a:xfrm>
                                <a:off x="181152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1" name=""/>
                              <p:cNvSpPr/>
                              <p:nvPr/>
                            </p:nvSpPr>
                            <p:spPr>
                              <a:xfrm>
                                <a:off x="181908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02" name=""/>
                            <p:cNvGrpSpPr/>
                            <p:nvPr/>
                          </p:nvGrpSpPr>
                          <p:grpSpPr>
                            <a:xfrm>
                              <a:off x="1827000" y="2450520"/>
                              <a:ext cx="8640" cy="31680"/>
                              <a:chOff x="1827000" y="2450520"/>
                              <a:chExt cx="8640" cy="31680"/>
                            </a:xfrm>
                          </p:grpSpPr>
                          <p:sp>
                            <p:nvSpPr>
                              <p:cNvPr id="603" name=""/>
                              <p:cNvSpPr/>
                              <p:nvPr/>
                            </p:nvSpPr>
                            <p:spPr>
                              <a:xfrm>
                                <a:off x="182700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4" name=""/>
                              <p:cNvSpPr/>
                              <p:nvPr/>
                            </p:nvSpPr>
                            <p:spPr>
                              <a:xfrm>
                                <a:off x="183456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05" name=""/>
                          <p:cNvGrpSpPr/>
                          <p:nvPr/>
                        </p:nvGrpSpPr>
                        <p:grpSpPr>
                          <a:xfrm>
                            <a:off x="1843200" y="2450520"/>
                            <a:ext cx="28080" cy="31680"/>
                            <a:chOff x="1843200" y="2450520"/>
                            <a:chExt cx="28080" cy="31680"/>
                          </a:xfrm>
                        </p:grpSpPr>
                        <p:grpSp>
                          <p:nvGrpSpPr>
                            <p:cNvPr id="606" name=""/>
                            <p:cNvGrpSpPr/>
                            <p:nvPr/>
                          </p:nvGrpSpPr>
                          <p:grpSpPr>
                            <a:xfrm>
                              <a:off x="1843200" y="2450520"/>
                              <a:ext cx="28080" cy="31680"/>
                              <a:chOff x="1843200" y="2450520"/>
                              <a:chExt cx="28080" cy="31680"/>
                            </a:xfrm>
                          </p:grpSpPr>
                          <p:sp>
                            <p:nvSpPr>
                              <p:cNvPr id="607" name=""/>
                              <p:cNvSpPr/>
                              <p:nvPr/>
                            </p:nvSpPr>
                            <p:spPr>
                              <a:xfrm>
                                <a:off x="184320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08" name=""/>
                              <p:cNvSpPr/>
                              <p:nvPr/>
                            </p:nvSpPr>
                            <p:spPr>
                              <a:xfrm>
                                <a:off x="185112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09" name=""/>
                            <p:cNvGrpSpPr/>
                            <p:nvPr/>
                          </p:nvGrpSpPr>
                          <p:grpSpPr>
                            <a:xfrm>
                              <a:off x="1859040" y="2450520"/>
                              <a:ext cx="8280" cy="31680"/>
                              <a:chOff x="1859040" y="2450520"/>
                              <a:chExt cx="8280" cy="31680"/>
                            </a:xfrm>
                          </p:grpSpPr>
                          <p:sp>
                            <p:nvSpPr>
                              <p:cNvPr id="610" name=""/>
                              <p:cNvSpPr/>
                              <p:nvPr/>
                            </p:nvSpPr>
                            <p:spPr>
                              <a:xfrm>
                                <a:off x="185904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1" name=""/>
                              <p:cNvSpPr/>
                              <p:nvPr/>
                            </p:nvSpPr>
                            <p:spPr>
                              <a:xfrm>
                                <a:off x="186660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12" name=""/>
                        <p:cNvGrpSpPr/>
                        <p:nvPr/>
                      </p:nvGrpSpPr>
                      <p:grpSpPr>
                        <a:xfrm>
                          <a:off x="1874160" y="2450520"/>
                          <a:ext cx="75600" cy="31680"/>
                          <a:chOff x="1874160" y="2450520"/>
                          <a:chExt cx="75600" cy="31680"/>
                        </a:xfrm>
                      </p:grpSpPr>
                      <p:grpSp>
                        <p:nvGrpSpPr>
                          <p:cNvPr id="613" name=""/>
                          <p:cNvGrpSpPr/>
                          <p:nvPr/>
                        </p:nvGrpSpPr>
                        <p:grpSpPr>
                          <a:xfrm>
                            <a:off x="1874160" y="2450520"/>
                            <a:ext cx="29520" cy="31680"/>
                            <a:chOff x="1874160" y="2450520"/>
                            <a:chExt cx="29520" cy="31680"/>
                          </a:xfrm>
                        </p:grpSpPr>
                        <p:grpSp>
                          <p:nvGrpSpPr>
                            <p:cNvPr id="614" name=""/>
                            <p:cNvGrpSpPr/>
                            <p:nvPr/>
                          </p:nvGrpSpPr>
                          <p:grpSpPr>
                            <a:xfrm>
                              <a:off x="1874160" y="2450520"/>
                              <a:ext cx="29520" cy="31680"/>
                              <a:chOff x="1874160" y="2450520"/>
                              <a:chExt cx="29520" cy="31680"/>
                            </a:xfrm>
                          </p:grpSpPr>
                          <p:sp>
                            <p:nvSpPr>
                              <p:cNvPr id="615" name=""/>
                              <p:cNvSpPr/>
                              <p:nvPr/>
                            </p:nvSpPr>
                            <p:spPr>
                              <a:xfrm>
                                <a:off x="1874160" y="245052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6" name=""/>
                              <p:cNvSpPr/>
                              <p:nvPr/>
                            </p:nvSpPr>
                            <p:spPr>
                              <a:xfrm>
                                <a:off x="1883160" y="245052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17" name=""/>
                            <p:cNvGrpSpPr/>
                            <p:nvPr/>
                          </p:nvGrpSpPr>
                          <p:grpSpPr>
                            <a:xfrm>
                              <a:off x="1891080" y="2450520"/>
                              <a:ext cx="8640" cy="31680"/>
                              <a:chOff x="1891080" y="2450520"/>
                              <a:chExt cx="8640" cy="31680"/>
                            </a:xfrm>
                          </p:grpSpPr>
                          <p:sp>
                            <p:nvSpPr>
                              <p:cNvPr id="618" name=""/>
                              <p:cNvSpPr/>
                              <p:nvPr/>
                            </p:nvSpPr>
                            <p:spPr>
                              <a:xfrm>
                                <a:off x="189108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19" name=""/>
                              <p:cNvSpPr/>
                              <p:nvPr/>
                            </p:nvSpPr>
                            <p:spPr>
                              <a:xfrm>
                                <a:off x="189864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20" name=""/>
                          <p:cNvGrpSpPr/>
                          <p:nvPr/>
                        </p:nvGrpSpPr>
                        <p:grpSpPr>
                          <a:xfrm>
                            <a:off x="1906200" y="2450520"/>
                            <a:ext cx="43560" cy="31680"/>
                            <a:chOff x="1906200" y="2450520"/>
                            <a:chExt cx="43560" cy="31680"/>
                          </a:xfrm>
                        </p:grpSpPr>
                        <p:grpSp>
                          <p:nvGrpSpPr>
                            <p:cNvPr id="621" name=""/>
                            <p:cNvGrpSpPr/>
                            <p:nvPr/>
                          </p:nvGrpSpPr>
                          <p:grpSpPr>
                            <a:xfrm>
                              <a:off x="1906200" y="2450520"/>
                              <a:ext cx="20160" cy="31680"/>
                              <a:chOff x="1906200" y="2450520"/>
                              <a:chExt cx="20160" cy="31680"/>
                            </a:xfrm>
                          </p:grpSpPr>
                          <p:sp>
                            <p:nvSpPr>
                              <p:cNvPr id="622" name=""/>
                              <p:cNvSpPr/>
                              <p:nvPr/>
                            </p:nvSpPr>
                            <p:spPr>
                              <a:xfrm>
                                <a:off x="190620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3" name=""/>
                              <p:cNvSpPr/>
                              <p:nvPr/>
                            </p:nvSpPr>
                            <p:spPr>
                              <a:xfrm>
                                <a:off x="191376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24" name=""/>
                            <p:cNvGrpSpPr/>
                            <p:nvPr/>
                          </p:nvGrpSpPr>
                          <p:grpSpPr>
                            <a:xfrm>
                              <a:off x="1923120" y="2450520"/>
                              <a:ext cx="26640" cy="31680"/>
                              <a:chOff x="1923120" y="2450520"/>
                              <a:chExt cx="26640" cy="31680"/>
                            </a:xfrm>
                          </p:grpSpPr>
                          <p:sp>
                            <p:nvSpPr>
                              <p:cNvPr id="625" name=""/>
                              <p:cNvSpPr/>
                              <p:nvPr/>
                            </p:nvSpPr>
                            <p:spPr>
                              <a:xfrm>
                                <a:off x="192312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6" name=""/>
                              <p:cNvSpPr/>
                              <p:nvPr/>
                            </p:nvSpPr>
                            <p:spPr>
                              <a:xfrm>
                                <a:off x="192960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27" name=""/>
                      <p:cNvGrpSpPr/>
                      <p:nvPr/>
                    </p:nvGrpSpPr>
                    <p:grpSpPr>
                      <a:xfrm>
                        <a:off x="1939680" y="2450520"/>
                        <a:ext cx="138240" cy="31680"/>
                        <a:chOff x="1939680" y="2450520"/>
                        <a:chExt cx="138240" cy="31680"/>
                      </a:xfrm>
                    </p:grpSpPr>
                    <p:grpSp>
                      <p:nvGrpSpPr>
                        <p:cNvPr id="628" name=""/>
                        <p:cNvGrpSpPr/>
                        <p:nvPr/>
                      </p:nvGrpSpPr>
                      <p:grpSpPr>
                        <a:xfrm>
                          <a:off x="1939680" y="2450520"/>
                          <a:ext cx="66600" cy="31680"/>
                          <a:chOff x="1939680" y="2450520"/>
                          <a:chExt cx="66600" cy="31680"/>
                        </a:xfrm>
                      </p:grpSpPr>
                      <p:grpSp>
                        <p:nvGrpSpPr>
                          <p:cNvPr id="629" name=""/>
                          <p:cNvGrpSpPr/>
                          <p:nvPr/>
                        </p:nvGrpSpPr>
                        <p:grpSpPr>
                          <a:xfrm>
                            <a:off x="1939680" y="2450520"/>
                            <a:ext cx="36000" cy="31680"/>
                            <a:chOff x="1939680" y="2450520"/>
                            <a:chExt cx="36000" cy="31680"/>
                          </a:xfrm>
                        </p:grpSpPr>
                        <p:grpSp>
                          <p:nvGrpSpPr>
                            <p:cNvPr id="630" name=""/>
                            <p:cNvGrpSpPr/>
                            <p:nvPr/>
                          </p:nvGrpSpPr>
                          <p:grpSpPr>
                            <a:xfrm>
                              <a:off x="1939680" y="2450520"/>
                              <a:ext cx="26640" cy="31680"/>
                              <a:chOff x="1939680" y="2450520"/>
                              <a:chExt cx="26640" cy="31680"/>
                            </a:xfrm>
                          </p:grpSpPr>
                          <p:sp>
                            <p:nvSpPr>
                              <p:cNvPr id="631" name=""/>
                              <p:cNvSpPr/>
                              <p:nvPr/>
                            </p:nvSpPr>
                            <p:spPr>
                              <a:xfrm>
                                <a:off x="193968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2" name=""/>
                              <p:cNvSpPr/>
                              <p:nvPr/>
                            </p:nvSpPr>
                            <p:spPr>
                              <a:xfrm>
                                <a:off x="194616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3" name=""/>
                            <p:cNvGrpSpPr/>
                            <p:nvPr/>
                          </p:nvGrpSpPr>
                          <p:grpSpPr>
                            <a:xfrm>
                              <a:off x="1955160" y="2450520"/>
                              <a:ext cx="20520" cy="31680"/>
                              <a:chOff x="1955160" y="2450520"/>
                              <a:chExt cx="20520" cy="31680"/>
                            </a:xfrm>
                          </p:grpSpPr>
                          <p:sp>
                            <p:nvSpPr>
                              <p:cNvPr id="634" name=""/>
                              <p:cNvSpPr/>
                              <p:nvPr/>
                            </p:nvSpPr>
                            <p:spPr>
                              <a:xfrm>
                                <a:off x="1955160" y="245052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5" name=""/>
                              <p:cNvSpPr/>
                              <p:nvPr/>
                            </p:nvSpPr>
                            <p:spPr>
                              <a:xfrm>
                                <a:off x="196308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36" name=""/>
                          <p:cNvGrpSpPr/>
                          <p:nvPr/>
                        </p:nvGrpSpPr>
                        <p:grpSpPr>
                          <a:xfrm>
                            <a:off x="1971360" y="2450520"/>
                            <a:ext cx="34920" cy="31680"/>
                            <a:chOff x="1971360" y="2450520"/>
                            <a:chExt cx="34920" cy="31680"/>
                          </a:xfrm>
                        </p:grpSpPr>
                        <p:grpSp>
                          <p:nvGrpSpPr>
                            <p:cNvPr id="637" name=""/>
                            <p:cNvGrpSpPr/>
                            <p:nvPr/>
                          </p:nvGrpSpPr>
                          <p:grpSpPr>
                            <a:xfrm>
                              <a:off x="1971360" y="2450520"/>
                              <a:ext cx="27000" cy="31680"/>
                              <a:chOff x="1971360" y="2450520"/>
                              <a:chExt cx="27000" cy="31680"/>
                            </a:xfrm>
                          </p:grpSpPr>
                          <p:sp>
                            <p:nvSpPr>
                              <p:cNvPr id="638" name=""/>
                              <p:cNvSpPr/>
                              <p:nvPr/>
                            </p:nvSpPr>
                            <p:spPr>
                              <a:xfrm>
                                <a:off x="197136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9" name=""/>
                              <p:cNvSpPr/>
                              <p:nvPr/>
                            </p:nvSpPr>
                            <p:spPr>
                              <a:xfrm>
                                <a:off x="1977840" y="245052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0" name=""/>
                            <p:cNvGrpSpPr/>
                            <p:nvPr/>
                          </p:nvGrpSpPr>
                          <p:grpSpPr>
                            <a:xfrm>
                              <a:off x="1985760" y="2450520"/>
                              <a:ext cx="20520" cy="31680"/>
                              <a:chOff x="1985760" y="2450520"/>
                              <a:chExt cx="20520" cy="31680"/>
                            </a:xfrm>
                          </p:grpSpPr>
                          <p:sp>
                            <p:nvSpPr>
                              <p:cNvPr id="641" name=""/>
                              <p:cNvSpPr/>
                              <p:nvPr/>
                            </p:nvSpPr>
                            <p:spPr>
                              <a:xfrm>
                                <a:off x="1985760" y="245052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199476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643" name=""/>
                        <p:cNvGrpSpPr/>
                        <p:nvPr/>
                      </p:nvGrpSpPr>
                      <p:grpSpPr>
                        <a:xfrm>
                          <a:off x="2002320" y="2450520"/>
                          <a:ext cx="75600" cy="31680"/>
                          <a:chOff x="2002320" y="2450520"/>
                          <a:chExt cx="75600" cy="31680"/>
                        </a:xfrm>
                      </p:grpSpPr>
                      <p:grpSp>
                        <p:nvGrpSpPr>
                          <p:cNvPr id="644" name=""/>
                          <p:cNvGrpSpPr/>
                          <p:nvPr/>
                        </p:nvGrpSpPr>
                        <p:grpSpPr>
                          <a:xfrm>
                            <a:off x="2002320" y="2450520"/>
                            <a:ext cx="25200" cy="31680"/>
                            <a:chOff x="2002320" y="2450520"/>
                            <a:chExt cx="25200" cy="31680"/>
                          </a:xfrm>
                        </p:grpSpPr>
                        <p:grpSp>
                          <p:nvGrpSpPr>
                            <p:cNvPr id="645" name=""/>
                            <p:cNvGrpSpPr/>
                            <p:nvPr/>
                          </p:nvGrpSpPr>
                          <p:grpSpPr>
                            <a:xfrm>
                              <a:off x="2002320" y="2450520"/>
                              <a:ext cx="8640" cy="31680"/>
                              <a:chOff x="2002320" y="2450520"/>
                              <a:chExt cx="8640" cy="31680"/>
                            </a:xfrm>
                          </p:grpSpPr>
                          <p:sp>
                            <p:nvSpPr>
                              <p:cNvPr id="646" name=""/>
                              <p:cNvSpPr/>
                              <p:nvPr/>
                            </p:nvSpPr>
                            <p:spPr>
                              <a:xfrm>
                                <a:off x="200232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7" name=""/>
                              <p:cNvSpPr/>
                              <p:nvPr/>
                            </p:nvSpPr>
                            <p:spPr>
                              <a:xfrm>
                                <a:off x="201024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8" name=""/>
                            <p:cNvGrpSpPr/>
                            <p:nvPr/>
                          </p:nvGrpSpPr>
                          <p:grpSpPr>
                            <a:xfrm>
                              <a:off x="2018160" y="2450520"/>
                              <a:ext cx="9360" cy="31680"/>
                              <a:chOff x="2018160" y="2450520"/>
                              <a:chExt cx="9360" cy="31680"/>
                            </a:xfrm>
                          </p:grpSpPr>
                          <p:sp>
                            <p:nvSpPr>
                              <p:cNvPr id="649" name=""/>
                              <p:cNvSpPr/>
                              <p:nvPr/>
                            </p:nvSpPr>
                            <p:spPr>
                              <a:xfrm>
                                <a:off x="201816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0" name=""/>
                              <p:cNvSpPr/>
                              <p:nvPr/>
                            </p:nvSpPr>
                            <p:spPr>
                              <a:xfrm>
                                <a:off x="2026800" y="2450520"/>
                                <a:ext cx="7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51" name=""/>
                          <p:cNvGrpSpPr/>
                          <p:nvPr/>
                        </p:nvGrpSpPr>
                        <p:grpSpPr>
                          <a:xfrm>
                            <a:off x="2034360" y="2450520"/>
                            <a:ext cx="43560" cy="31680"/>
                            <a:chOff x="2034360" y="2450520"/>
                            <a:chExt cx="43560" cy="31680"/>
                          </a:xfrm>
                        </p:grpSpPr>
                        <p:grpSp>
                          <p:nvGrpSpPr>
                            <p:cNvPr id="652" name=""/>
                            <p:cNvGrpSpPr/>
                            <p:nvPr/>
                          </p:nvGrpSpPr>
                          <p:grpSpPr>
                            <a:xfrm>
                              <a:off x="2034360" y="2450520"/>
                              <a:ext cx="20160" cy="31680"/>
                              <a:chOff x="2034360" y="2450520"/>
                              <a:chExt cx="20160" cy="31680"/>
                            </a:xfrm>
                          </p:grpSpPr>
                          <p:sp>
                            <p:nvSpPr>
                              <p:cNvPr id="653" name=""/>
                              <p:cNvSpPr/>
                              <p:nvPr/>
                            </p:nvSpPr>
                            <p:spPr>
                              <a:xfrm>
                                <a:off x="203436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4" name=""/>
                              <p:cNvSpPr/>
                              <p:nvPr/>
                            </p:nvSpPr>
                            <p:spPr>
                              <a:xfrm>
                                <a:off x="2041920" y="2450520"/>
                                <a:ext cx="108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" h="24">
                                    <a:moveTo>
                                      <a:pt x="0" y="0"/>
                                    </a:move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55" name=""/>
                            <p:cNvGrpSpPr/>
                            <p:nvPr/>
                          </p:nvGrpSpPr>
                          <p:grpSpPr>
                            <a:xfrm>
                              <a:off x="2049840" y="2450520"/>
                              <a:ext cx="28080" cy="31680"/>
                              <a:chOff x="2049840" y="2450520"/>
                              <a:chExt cx="28080" cy="31680"/>
                            </a:xfrm>
                          </p:grpSpPr>
                          <p:sp>
                            <p:nvSpPr>
                              <p:cNvPr id="656" name=""/>
                              <p:cNvSpPr/>
                              <p:nvPr/>
                            </p:nvSpPr>
                            <p:spPr>
                              <a:xfrm>
                                <a:off x="2049840" y="2450520"/>
                                <a:ext cx="2052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0" y="0"/>
                                    </a:moveTo>
                                    <a:lnTo>
                                      <a:pt x="17" y="0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57" name=""/>
                              <p:cNvSpPr/>
                              <p:nvPr/>
                            </p:nvSpPr>
                            <p:spPr>
                              <a:xfrm>
                                <a:off x="2057760" y="2450520"/>
                                <a:ext cx="20160" cy="31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8" h="24">
                                    <a:moveTo>
                                      <a:pt x="17" y="0"/>
                                    </a:moveTo>
                                    <a:lnTo>
                                      <a:pt x="0" y="0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17" y="23"/>
                                    </a:lnTo>
                                    <a:lnTo>
                                      <a:pt x="17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5120" bIns="-15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  <p:grpSp>
              <p:nvGrpSpPr>
                <p:cNvPr id="658" name=""/>
                <p:cNvGrpSpPr/>
                <p:nvPr/>
              </p:nvGrpSpPr>
              <p:grpSpPr>
                <a:xfrm>
                  <a:off x="1551960" y="2342160"/>
                  <a:ext cx="500400" cy="74160"/>
                  <a:chOff x="1551960" y="2342160"/>
                  <a:chExt cx="500400" cy="7416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1551960" y="2342160"/>
                    <a:ext cx="100440" cy="741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1663920" y="2342160"/>
                    <a:ext cx="146160" cy="741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1819080" y="2342160"/>
                    <a:ext cx="160200" cy="741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1989720" y="2342160"/>
                    <a:ext cx="62640" cy="741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360" bIns="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3" name=""/>
              <p:cNvGrpSpPr/>
              <p:nvPr/>
            </p:nvGrpSpPr>
            <p:grpSpPr>
              <a:xfrm>
                <a:off x="1998000" y="2352960"/>
                <a:ext cx="38520" cy="38880"/>
                <a:chOff x="1998000" y="2352960"/>
                <a:chExt cx="38520" cy="388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2019600" y="2352960"/>
                  <a:ext cx="16920" cy="2880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023200" y="2364840"/>
                  <a:ext cx="11520" cy="1296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6" name=""/>
                <p:cNvGrpSpPr/>
                <p:nvPr/>
              </p:nvGrpSpPr>
              <p:grpSpPr>
                <a:xfrm>
                  <a:off x="1998000" y="2356560"/>
                  <a:ext cx="10080" cy="35280"/>
                  <a:chOff x="1998000" y="2356560"/>
                  <a:chExt cx="10080" cy="35280"/>
                </a:xfrm>
              </p:grpSpPr>
              <p:sp>
                <p:nvSpPr>
                  <p:cNvPr id="667" name=""/>
                  <p:cNvSpPr/>
                  <p:nvPr/>
                </p:nvSpPr>
                <p:spPr>
                  <a:xfrm>
                    <a:off x="1998000" y="2356560"/>
                    <a:ext cx="10080" cy="118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1998000" y="2378880"/>
                    <a:ext cx="10080" cy="129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69" name=""/>
              <p:cNvGrpSpPr/>
              <p:nvPr/>
            </p:nvGrpSpPr>
            <p:grpSpPr>
              <a:xfrm>
                <a:off x="1669680" y="2354040"/>
                <a:ext cx="134640" cy="55440"/>
                <a:chOff x="1669680" y="2354040"/>
                <a:chExt cx="134640" cy="55440"/>
              </a:xfrm>
            </p:grpSpPr>
            <p:grpSp>
              <p:nvGrpSpPr>
                <p:cNvPr id="670" name=""/>
                <p:cNvGrpSpPr/>
                <p:nvPr/>
              </p:nvGrpSpPr>
              <p:grpSpPr>
                <a:xfrm>
                  <a:off x="1669680" y="2354040"/>
                  <a:ext cx="134640" cy="32760"/>
                  <a:chOff x="1669680" y="2354040"/>
                  <a:chExt cx="134640" cy="32760"/>
                </a:xfrm>
              </p:grpSpPr>
              <p:sp>
                <p:nvSpPr>
                  <p:cNvPr id="671" name=""/>
                  <p:cNvSpPr/>
                  <p:nvPr/>
                </p:nvSpPr>
                <p:spPr>
                  <a:xfrm>
                    <a:off x="1715040" y="2354040"/>
                    <a:ext cx="43200" cy="1944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1715040" y="2368440"/>
                    <a:ext cx="43200" cy="1188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1669680" y="2364480"/>
                    <a:ext cx="134640" cy="2232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480" bIns="-24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4" name=""/>
                <p:cNvSpPr/>
                <p:nvPr/>
              </p:nvSpPr>
              <p:spPr>
                <a:xfrm>
                  <a:off x="1669680" y="2355480"/>
                  <a:ext cx="10080" cy="1152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1784880" y="2396160"/>
                  <a:ext cx="10080" cy="133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1557720" y="2401560"/>
                <a:ext cx="109800" cy="23400"/>
                <a:chOff x="1557720" y="2401560"/>
                <a:chExt cx="109800" cy="23400"/>
              </a:xfrm>
            </p:grpSpPr>
            <p:grpSp>
              <p:nvGrpSpPr>
                <p:cNvPr id="677" name=""/>
                <p:cNvGrpSpPr/>
                <p:nvPr/>
              </p:nvGrpSpPr>
              <p:grpSpPr>
                <a:xfrm>
                  <a:off x="1557720" y="2401560"/>
                  <a:ext cx="60480" cy="23400"/>
                  <a:chOff x="1557720" y="2401560"/>
                  <a:chExt cx="60480" cy="23400"/>
                </a:xfrm>
              </p:grpSpPr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1557720" y="2401560"/>
                    <a:ext cx="37800" cy="23400"/>
                    <a:chOff x="1557720" y="2401560"/>
                    <a:chExt cx="37800" cy="23400"/>
                  </a:xfrm>
                </p:grpSpPr>
                <p:grpSp>
                  <p:nvGrpSpPr>
                    <p:cNvPr id="679" name=""/>
                    <p:cNvGrpSpPr/>
                    <p:nvPr/>
                  </p:nvGrpSpPr>
                  <p:grpSpPr>
                    <a:xfrm>
                      <a:off x="1557720" y="2401560"/>
                      <a:ext cx="25560" cy="23400"/>
                      <a:chOff x="1557720" y="2401560"/>
                      <a:chExt cx="25560" cy="23400"/>
                    </a:xfrm>
                  </p:grpSpPr>
                  <p:sp>
                    <p:nvSpPr>
                      <p:cNvPr id="680" name=""/>
                      <p:cNvSpPr/>
                      <p:nvPr/>
                    </p:nvSpPr>
                    <p:spPr>
                      <a:xfrm>
                        <a:off x="155772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1" name=""/>
                      <p:cNvSpPr/>
                      <p:nvPr/>
                    </p:nvSpPr>
                    <p:spPr>
                      <a:xfrm>
                        <a:off x="156312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2" name=""/>
                    <p:cNvGrpSpPr/>
                    <p:nvPr/>
                  </p:nvGrpSpPr>
                  <p:grpSpPr>
                    <a:xfrm>
                      <a:off x="1568880" y="2401560"/>
                      <a:ext cx="26640" cy="23400"/>
                      <a:chOff x="1568880" y="2401560"/>
                      <a:chExt cx="26640" cy="23400"/>
                    </a:xfrm>
                  </p:grpSpPr>
                  <p:sp>
                    <p:nvSpPr>
                      <p:cNvPr id="683" name=""/>
                      <p:cNvSpPr/>
                      <p:nvPr/>
                    </p:nvSpPr>
                    <p:spPr>
                      <a:xfrm>
                        <a:off x="156888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4" name=""/>
                      <p:cNvSpPr/>
                      <p:nvPr/>
                    </p:nvSpPr>
                    <p:spPr>
                      <a:xfrm>
                        <a:off x="157536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1580400" y="2401560"/>
                    <a:ext cx="37800" cy="23400"/>
                    <a:chOff x="1580400" y="2401560"/>
                    <a:chExt cx="37800" cy="23400"/>
                  </a:xfrm>
                </p:grpSpPr>
                <p:grpSp>
                  <p:nvGrpSpPr>
                    <p:cNvPr id="686" name=""/>
                    <p:cNvGrpSpPr/>
                    <p:nvPr/>
                  </p:nvGrpSpPr>
                  <p:grpSpPr>
                    <a:xfrm>
                      <a:off x="1580400" y="2401560"/>
                      <a:ext cx="26640" cy="23400"/>
                      <a:chOff x="1580400" y="2401560"/>
                      <a:chExt cx="26640" cy="23400"/>
                    </a:xfrm>
                  </p:grpSpPr>
                  <p:sp>
                    <p:nvSpPr>
                      <p:cNvPr id="687" name=""/>
                      <p:cNvSpPr/>
                      <p:nvPr/>
                    </p:nvSpPr>
                    <p:spPr>
                      <a:xfrm>
                        <a:off x="158040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88" name=""/>
                      <p:cNvSpPr/>
                      <p:nvPr/>
                    </p:nvSpPr>
                    <p:spPr>
                      <a:xfrm>
                        <a:off x="158688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9" name=""/>
                    <p:cNvGrpSpPr/>
                    <p:nvPr/>
                  </p:nvGrpSpPr>
                  <p:grpSpPr>
                    <a:xfrm>
                      <a:off x="1592640" y="2401560"/>
                      <a:ext cx="25560" cy="23400"/>
                      <a:chOff x="1592640" y="2401560"/>
                      <a:chExt cx="25560" cy="23400"/>
                    </a:xfrm>
                  </p:grpSpPr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159264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1" name=""/>
                      <p:cNvSpPr/>
                      <p:nvPr/>
                    </p:nvSpPr>
                    <p:spPr>
                      <a:xfrm>
                        <a:off x="159804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92" name=""/>
                <p:cNvGrpSpPr/>
                <p:nvPr/>
              </p:nvGrpSpPr>
              <p:grpSpPr>
                <a:xfrm>
                  <a:off x="1605600" y="2401560"/>
                  <a:ext cx="61920" cy="23400"/>
                  <a:chOff x="1605600" y="2401560"/>
                  <a:chExt cx="61920" cy="23400"/>
                </a:xfrm>
              </p:grpSpPr>
              <p:grpSp>
                <p:nvGrpSpPr>
                  <p:cNvPr id="693" name=""/>
                  <p:cNvGrpSpPr/>
                  <p:nvPr/>
                </p:nvGrpSpPr>
                <p:grpSpPr>
                  <a:xfrm>
                    <a:off x="1605600" y="2401560"/>
                    <a:ext cx="38160" cy="23400"/>
                    <a:chOff x="1605600" y="2401560"/>
                    <a:chExt cx="38160" cy="23400"/>
                  </a:xfrm>
                </p:grpSpPr>
                <p:grpSp>
                  <p:nvGrpSpPr>
                    <p:cNvPr id="694" name=""/>
                    <p:cNvGrpSpPr/>
                    <p:nvPr/>
                  </p:nvGrpSpPr>
                  <p:grpSpPr>
                    <a:xfrm>
                      <a:off x="1605600" y="2401560"/>
                      <a:ext cx="25560" cy="23400"/>
                      <a:chOff x="1605600" y="2401560"/>
                      <a:chExt cx="25560" cy="23400"/>
                    </a:xfrm>
                  </p:grpSpPr>
                  <p:sp>
                    <p:nvSpPr>
                      <p:cNvPr id="695" name=""/>
                      <p:cNvSpPr/>
                      <p:nvPr/>
                    </p:nvSpPr>
                    <p:spPr>
                      <a:xfrm>
                        <a:off x="160560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161100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7" name=""/>
                    <p:cNvGrpSpPr/>
                    <p:nvPr/>
                  </p:nvGrpSpPr>
                  <p:grpSpPr>
                    <a:xfrm>
                      <a:off x="1616760" y="2401560"/>
                      <a:ext cx="27000" cy="23400"/>
                      <a:chOff x="1616760" y="2401560"/>
                      <a:chExt cx="27000" cy="23400"/>
                    </a:xfrm>
                  </p:grpSpPr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161676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1623240" y="2401560"/>
                        <a:ext cx="205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1629360" y="2401560"/>
                    <a:ext cx="38160" cy="23400"/>
                    <a:chOff x="1629360" y="2401560"/>
                    <a:chExt cx="38160" cy="23400"/>
                  </a:xfrm>
                </p:grpSpPr>
                <p:grpSp>
                  <p:nvGrpSpPr>
                    <p:cNvPr id="701" name=""/>
                    <p:cNvGrpSpPr/>
                    <p:nvPr/>
                  </p:nvGrpSpPr>
                  <p:grpSpPr>
                    <a:xfrm>
                      <a:off x="1629360" y="2401560"/>
                      <a:ext cx="25920" cy="23400"/>
                      <a:chOff x="1629360" y="2401560"/>
                      <a:chExt cx="25920" cy="23400"/>
                    </a:xfrm>
                  </p:grpSpPr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1629360" y="2401560"/>
                        <a:ext cx="205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"/>
                      <p:cNvSpPr/>
                      <p:nvPr/>
                    </p:nvSpPr>
                    <p:spPr>
                      <a:xfrm>
                        <a:off x="163512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4" name=""/>
                    <p:cNvGrpSpPr/>
                    <p:nvPr/>
                  </p:nvGrpSpPr>
                  <p:grpSpPr>
                    <a:xfrm>
                      <a:off x="1641960" y="2401560"/>
                      <a:ext cx="25560" cy="23400"/>
                      <a:chOff x="1641960" y="2401560"/>
                      <a:chExt cx="25560" cy="23400"/>
                    </a:xfrm>
                  </p:grpSpPr>
                  <p:sp>
                    <p:nvSpPr>
                      <p:cNvPr id="705" name=""/>
                      <p:cNvSpPr/>
                      <p:nvPr/>
                    </p:nvSpPr>
                    <p:spPr>
                      <a:xfrm>
                        <a:off x="164196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6" name=""/>
                      <p:cNvSpPr/>
                      <p:nvPr/>
                    </p:nvSpPr>
                    <p:spPr>
                      <a:xfrm>
                        <a:off x="1647360" y="2401560"/>
                        <a:ext cx="201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8">
                            <a:moveTo>
                              <a:pt x="17" y="0"/>
                            </a:moveTo>
                            <a:lnTo>
                              <a:pt x="0" y="0"/>
                            </a:lnTo>
                            <a:lnTo>
                              <a:pt x="0" y="17"/>
                            </a:lnTo>
                            <a:lnTo>
                              <a:pt x="17" y="17"/>
                            </a:lnTo>
                            <a:lnTo>
                              <a:pt x="1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707" name=""/>
              <p:cNvSpPr/>
              <p:nvPr/>
            </p:nvSpPr>
            <p:spPr>
              <a:xfrm>
                <a:off x="1549800" y="2385720"/>
                <a:ext cx="511200" cy="23760"/>
              </a:xfrm>
              <a:custGeom>
                <a:avLst/>
                <a:gdLst/>
                <a:ahLst/>
                <a:rect l="l" t="t" r="r" b="b"/>
                <a:pathLst>
                  <a:path w="447" h="18">
                    <a:moveTo>
                      <a:pt x="0" y="11"/>
                    </a:moveTo>
                    <a:lnTo>
                      <a:pt x="195" y="11"/>
                    </a:lnTo>
                    <a:lnTo>
                      <a:pt x="195" y="0"/>
                    </a:lnTo>
                    <a:lnTo>
                      <a:pt x="225" y="0"/>
                    </a:lnTo>
                    <a:lnTo>
                      <a:pt x="225" y="17"/>
                    </a:lnTo>
                    <a:lnTo>
                      <a:pt x="446" y="1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1371600" y="2480040"/>
              <a:ext cx="847800" cy="114840"/>
              <a:chOff x="1371600" y="2480040"/>
              <a:chExt cx="847800" cy="11484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1371600" y="2480040"/>
                <a:ext cx="847800" cy="114840"/>
                <a:chOff x="1371600" y="2480040"/>
                <a:chExt cx="847800" cy="11484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1375920" y="2583000"/>
                  <a:ext cx="835200" cy="1188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1371600" y="2480040"/>
                  <a:ext cx="847800" cy="100440"/>
                </a:xfrm>
                <a:custGeom>
                  <a:avLst/>
                  <a:gdLst/>
                  <a:ahLst/>
                  <a:rect l="l" t="t" r="r" b="b"/>
                  <a:pathLst>
                    <a:path w="741" h="76">
                      <a:moveTo>
                        <a:pt x="0" y="75"/>
                      </a:moveTo>
                      <a:lnTo>
                        <a:pt x="740" y="75"/>
                      </a:lnTo>
                      <a:lnTo>
                        <a:pt x="696" y="0"/>
                      </a:lnTo>
                      <a:lnTo>
                        <a:pt x="53" y="0"/>
                      </a:lnTo>
                      <a:lnTo>
                        <a:pt x="0" y="75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1395360" y="2491920"/>
                  <a:ext cx="795240" cy="76680"/>
                </a:xfrm>
                <a:custGeom>
                  <a:avLst/>
                  <a:gdLst/>
                  <a:ahLst/>
                  <a:rect l="l" t="t" r="r" b="b"/>
                  <a:pathLst>
                    <a:path w="695" h="58">
                      <a:moveTo>
                        <a:pt x="39" y="0"/>
                      </a:moveTo>
                      <a:lnTo>
                        <a:pt x="0" y="57"/>
                      </a:lnTo>
                      <a:lnTo>
                        <a:pt x="694" y="57"/>
                      </a:lnTo>
                      <a:lnTo>
                        <a:pt x="66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1465200" y="2490840"/>
                <a:ext cx="666720" cy="32400"/>
                <a:chOff x="1465200" y="2490840"/>
                <a:chExt cx="666720" cy="324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465200" y="249084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24" h="18">
                      <a:moveTo>
                        <a:pt x="5" y="0"/>
                      </a:moveTo>
                      <a:lnTo>
                        <a:pt x="23" y="0"/>
                      </a:lnTo>
                      <a:lnTo>
                        <a:pt x="16" y="17"/>
                      </a:lnTo>
                      <a:lnTo>
                        <a:pt x="0" y="17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528200" y="2490840"/>
                  <a:ext cx="107640" cy="23400"/>
                </a:xfrm>
                <a:custGeom>
                  <a:avLst/>
                  <a:gdLst/>
                  <a:ahLst/>
                  <a:rect l="l" t="t" r="r" b="b"/>
                  <a:pathLst>
                    <a:path w="94" h="18">
                      <a:moveTo>
                        <a:pt x="4" y="0"/>
                      </a:moveTo>
                      <a:lnTo>
                        <a:pt x="93" y="0"/>
                      </a:lnTo>
                      <a:lnTo>
                        <a:pt x="88" y="17"/>
                      </a:lnTo>
                      <a:lnTo>
                        <a:pt x="0" y="17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665360" y="2490840"/>
                  <a:ext cx="100440" cy="23400"/>
                </a:xfrm>
                <a:custGeom>
                  <a:avLst/>
                  <a:gdLst/>
                  <a:ahLst/>
                  <a:rect l="l" t="t" r="r" b="b"/>
                  <a:pathLst>
                    <a:path w="88" h="18">
                      <a:moveTo>
                        <a:pt x="2" y="0"/>
                      </a:moveTo>
                      <a:lnTo>
                        <a:pt x="87" y="0"/>
                      </a:lnTo>
                      <a:lnTo>
                        <a:pt x="85" y="17"/>
                      </a:lnTo>
                      <a:lnTo>
                        <a:pt x="0" y="17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784520" y="2490840"/>
                  <a:ext cx="104040" cy="23400"/>
                </a:xfrm>
                <a:custGeom>
                  <a:avLst/>
                  <a:gdLst/>
                  <a:ahLst/>
                  <a:rect l="l" t="t" r="r" b="b"/>
                  <a:pathLst>
                    <a:path w="91" h="18">
                      <a:moveTo>
                        <a:pt x="0" y="0"/>
                      </a:moveTo>
                      <a:lnTo>
                        <a:pt x="90" y="0"/>
                      </a:lnTo>
                      <a:lnTo>
                        <a:pt x="90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1909080" y="2490840"/>
                  <a:ext cx="90360" cy="23400"/>
                </a:xfrm>
                <a:custGeom>
                  <a:avLst/>
                  <a:gdLst/>
                  <a:ahLst/>
                  <a:rect l="l" t="t" r="r" b="b"/>
                  <a:pathLst>
                    <a:path w="79" h="18">
                      <a:moveTo>
                        <a:pt x="0" y="0"/>
                      </a:moveTo>
                      <a:lnTo>
                        <a:pt x="75" y="0"/>
                      </a:lnTo>
                      <a:lnTo>
                        <a:pt x="78" y="17"/>
                      </a:lnTo>
                      <a:lnTo>
                        <a:pt x="0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2019960" y="2498400"/>
                  <a:ext cx="111960" cy="24840"/>
                </a:xfrm>
                <a:custGeom>
                  <a:avLst/>
                  <a:gdLst/>
                  <a:ahLst/>
                  <a:rect l="l" t="t" r="r" b="b"/>
                  <a:pathLst>
                    <a:path w="98" h="19">
                      <a:moveTo>
                        <a:pt x="0" y="0"/>
                      </a:moveTo>
                      <a:lnTo>
                        <a:pt x="87" y="0"/>
                      </a:lnTo>
                      <a:lnTo>
                        <a:pt x="97" y="18"/>
                      </a:lnTo>
                      <a:lnTo>
                        <a:pt x="4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1440000" y="2515680"/>
                <a:ext cx="699840" cy="37800"/>
                <a:chOff x="1440000" y="2515680"/>
                <a:chExt cx="699840" cy="37800"/>
              </a:xfrm>
            </p:grpSpPr>
            <p:grpSp>
              <p:nvGrpSpPr>
                <p:cNvPr id="721" name=""/>
                <p:cNvGrpSpPr/>
                <p:nvPr/>
              </p:nvGrpSpPr>
              <p:grpSpPr>
                <a:xfrm>
                  <a:off x="1499400" y="2517120"/>
                  <a:ext cx="346320" cy="33840"/>
                  <a:chOff x="1499400" y="2517120"/>
                  <a:chExt cx="346320" cy="3384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>
                    <a:off x="1499400" y="2517120"/>
                    <a:ext cx="3279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1513080" y="2528640"/>
                    <a:ext cx="332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516320" y="2539080"/>
                    <a:ext cx="291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1523160" y="2550960"/>
                    <a:ext cx="388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1440000" y="2522160"/>
                  <a:ext cx="57240" cy="22320"/>
                  <a:chOff x="1440000" y="2522160"/>
                  <a:chExt cx="57240" cy="2232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1452600" y="2522160"/>
                    <a:ext cx="342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447920" y="2532600"/>
                    <a:ext cx="32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440000" y="2544480"/>
                    <a:ext cx="57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0" name=""/>
                <p:cNvGrpSpPr/>
                <p:nvPr/>
              </p:nvGrpSpPr>
              <p:grpSpPr>
                <a:xfrm>
                  <a:off x="1573560" y="2515680"/>
                  <a:ext cx="317520" cy="35280"/>
                  <a:chOff x="1573560" y="2515680"/>
                  <a:chExt cx="317520" cy="35280"/>
                </a:xfrm>
              </p:grpSpPr>
              <p:sp>
                <p:nvSpPr>
                  <p:cNvPr id="731" name=""/>
                  <p:cNvSpPr/>
                  <p:nvPr/>
                </p:nvSpPr>
                <p:spPr>
                  <a:xfrm>
                    <a:off x="1573560" y="2550960"/>
                    <a:ext cx="1976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843200" y="2515680"/>
                    <a:ext cx="45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854720" y="2528640"/>
                    <a:ext cx="363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829520" y="2540520"/>
                    <a:ext cx="6156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779480" y="2550960"/>
                    <a:ext cx="32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819080" y="2550960"/>
                    <a:ext cx="684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7" name=""/>
                <p:cNvGrpSpPr/>
                <p:nvPr/>
              </p:nvGrpSpPr>
              <p:grpSpPr>
                <a:xfrm>
                  <a:off x="1908000" y="2522160"/>
                  <a:ext cx="98280" cy="30240"/>
                  <a:chOff x="1908000" y="2522160"/>
                  <a:chExt cx="98280" cy="30240"/>
                </a:xfrm>
              </p:grpSpPr>
              <p:sp>
                <p:nvSpPr>
                  <p:cNvPr id="738" name=""/>
                  <p:cNvSpPr/>
                  <p:nvPr/>
                </p:nvSpPr>
                <p:spPr>
                  <a:xfrm>
                    <a:off x="1908000" y="2522160"/>
                    <a:ext cx="92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1920600" y="2535120"/>
                    <a:ext cx="81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921680" y="2552400"/>
                    <a:ext cx="846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41" name=""/>
                <p:cNvGrpSpPr/>
                <p:nvPr/>
              </p:nvGrpSpPr>
              <p:grpSpPr>
                <a:xfrm>
                  <a:off x="2022480" y="2522160"/>
                  <a:ext cx="117360" cy="31320"/>
                  <a:chOff x="2022480" y="2522160"/>
                  <a:chExt cx="117360" cy="31320"/>
                </a:xfrm>
              </p:grpSpPr>
              <p:sp>
                <p:nvSpPr>
                  <p:cNvPr id="742" name=""/>
                  <p:cNvSpPr/>
                  <p:nvPr/>
                </p:nvSpPr>
                <p:spPr>
                  <a:xfrm>
                    <a:off x="2031480" y="2522160"/>
                    <a:ext cx="889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2022480" y="2533680"/>
                    <a:ext cx="720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2031480" y="2544120"/>
                    <a:ext cx="67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2028960" y="2553480"/>
                    <a:ext cx="835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2110680" y="2535120"/>
                    <a:ext cx="22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2117160" y="2549520"/>
                    <a:ext cx="22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48" name=""/>
            <p:cNvGrpSpPr/>
            <p:nvPr/>
          </p:nvGrpSpPr>
          <p:grpSpPr>
            <a:xfrm>
              <a:off x="1619640" y="2233800"/>
              <a:ext cx="369360" cy="69480"/>
              <a:chOff x="1619640" y="2233800"/>
              <a:chExt cx="369360" cy="6948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1619640" y="2257200"/>
                <a:ext cx="369360" cy="46080"/>
                <a:chOff x="1619640" y="2257200"/>
                <a:chExt cx="369360" cy="46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1619640" y="2257200"/>
                  <a:ext cx="369360" cy="28800"/>
                </a:xfrm>
                <a:custGeom>
                  <a:avLst/>
                  <a:gdLst/>
                  <a:ahLst/>
                  <a:rect l="l" t="t" r="r" b="b"/>
                  <a:pathLst>
                    <a:path w="323" h="22">
                      <a:moveTo>
                        <a:pt x="0" y="21"/>
                      </a:moveTo>
                      <a:lnTo>
                        <a:pt x="322" y="21"/>
                      </a:lnTo>
                      <a:lnTo>
                        <a:pt x="302" y="0"/>
                      </a:lnTo>
                      <a:lnTo>
                        <a:pt x="19" y="0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623960" y="2288880"/>
                  <a:ext cx="356760" cy="14400"/>
                </a:xfrm>
                <a:prstGeom prst="rect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" name=""/>
              <p:cNvSpPr/>
              <p:nvPr/>
            </p:nvSpPr>
            <p:spPr>
              <a:xfrm>
                <a:off x="1705320" y="2233800"/>
                <a:ext cx="197640" cy="52560"/>
              </a:xfrm>
              <a:custGeom>
                <a:avLst/>
                <a:gdLst/>
                <a:ahLst/>
                <a:rect l="l" t="t" r="r" b="b"/>
                <a:pathLst>
                  <a:path w="173" h="40">
                    <a:moveTo>
                      <a:pt x="0" y="21"/>
                    </a:moveTo>
                    <a:lnTo>
                      <a:pt x="0" y="0"/>
                    </a:lnTo>
                    <a:lnTo>
                      <a:pt x="172" y="0"/>
                    </a:lnTo>
                    <a:lnTo>
                      <a:pt x="172" y="21"/>
                    </a:lnTo>
                    <a:lnTo>
                      <a:pt x="170" y="23"/>
                    </a:lnTo>
                    <a:lnTo>
                      <a:pt x="168" y="26"/>
                    </a:lnTo>
                    <a:lnTo>
                      <a:pt x="165" y="27"/>
                    </a:lnTo>
                    <a:lnTo>
                      <a:pt x="161" y="29"/>
                    </a:lnTo>
                    <a:lnTo>
                      <a:pt x="157" y="31"/>
                    </a:lnTo>
                    <a:lnTo>
                      <a:pt x="152" y="32"/>
                    </a:lnTo>
                    <a:lnTo>
                      <a:pt x="147" y="33"/>
                    </a:lnTo>
                    <a:lnTo>
                      <a:pt x="141" y="34"/>
                    </a:lnTo>
                    <a:lnTo>
                      <a:pt x="134" y="35"/>
                    </a:lnTo>
                    <a:lnTo>
                      <a:pt x="126" y="36"/>
                    </a:lnTo>
                    <a:lnTo>
                      <a:pt x="118" y="36"/>
                    </a:lnTo>
                    <a:lnTo>
                      <a:pt x="111" y="37"/>
                    </a:lnTo>
                    <a:lnTo>
                      <a:pt x="102" y="37"/>
                    </a:lnTo>
                    <a:lnTo>
                      <a:pt x="92" y="39"/>
                    </a:lnTo>
                    <a:lnTo>
                      <a:pt x="81" y="39"/>
                    </a:lnTo>
                    <a:lnTo>
                      <a:pt x="69" y="37"/>
                    </a:lnTo>
                    <a:lnTo>
                      <a:pt x="59" y="37"/>
                    </a:lnTo>
                    <a:lnTo>
                      <a:pt x="49" y="36"/>
                    </a:lnTo>
                    <a:lnTo>
                      <a:pt x="41" y="35"/>
                    </a:lnTo>
                    <a:lnTo>
                      <a:pt x="36" y="35"/>
                    </a:lnTo>
                    <a:lnTo>
                      <a:pt x="27" y="34"/>
                    </a:lnTo>
                    <a:lnTo>
                      <a:pt x="21" y="32"/>
                    </a:lnTo>
                    <a:lnTo>
                      <a:pt x="16" y="31"/>
                    </a:lnTo>
                    <a:lnTo>
                      <a:pt x="10" y="29"/>
                    </a:lnTo>
                    <a:lnTo>
                      <a:pt x="6" y="28"/>
                    </a:lnTo>
                    <a:lnTo>
                      <a:pt x="4" y="27"/>
                    </a:lnTo>
                    <a:lnTo>
                      <a:pt x="2" y="24"/>
                    </a:lnTo>
                    <a:lnTo>
                      <a:pt x="0" y="23"/>
                    </a:lnTo>
                    <a:lnTo>
                      <a:pt x="0" y="21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>
              <a:off x="1579680" y="1905120"/>
              <a:ext cx="446400" cy="332640"/>
            </a:xfrm>
            <a:prstGeom prst="roundRect">
              <a:avLst>
                <a:gd name="adj" fmla="val 12329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30080" y="1943280"/>
              <a:ext cx="345600" cy="255600"/>
            </a:xfrm>
            <a:prstGeom prst="roundRect">
              <a:avLst>
                <a:gd name="adj" fmla="val 12213"/>
              </a:avLst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50600" y="1956600"/>
              <a:ext cx="304200" cy="227880"/>
            </a:xfrm>
            <a:prstGeom prst="roundRect">
              <a:avLst>
                <a:gd name="adj" fmla="val 12231"/>
              </a:avLst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962000" y="2228400"/>
              <a:ext cx="10080" cy="11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920" bIns="-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524240" y="2590920"/>
            <a:ext cx="456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av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3429000" y="3562200"/>
            <a:ext cx="457200" cy="704880"/>
            <a:chOff x="3429000" y="3562200"/>
            <a:chExt cx="457200" cy="704880"/>
          </a:xfrm>
        </p:grpSpPr>
        <p:grpSp>
          <p:nvGrpSpPr>
            <p:cNvPr id="759" name=""/>
            <p:cNvGrpSpPr/>
            <p:nvPr/>
          </p:nvGrpSpPr>
          <p:grpSpPr>
            <a:xfrm>
              <a:off x="3429000" y="3562200"/>
              <a:ext cx="457200" cy="704880"/>
              <a:chOff x="3429000" y="3562200"/>
              <a:chExt cx="457200" cy="704880"/>
            </a:xfrm>
          </p:grpSpPr>
          <p:sp>
            <p:nvSpPr>
              <p:cNvPr id="760" name=""/>
              <p:cNvSpPr/>
              <p:nvPr/>
            </p:nvSpPr>
            <p:spPr>
              <a:xfrm>
                <a:off x="3429000" y="3562200"/>
                <a:ext cx="443520" cy="70092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72520" y="3562200"/>
                <a:ext cx="13680" cy="70488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2" name=""/>
              <p:cNvGrpSpPr/>
              <p:nvPr/>
            </p:nvGrpSpPr>
            <p:grpSpPr>
              <a:xfrm>
                <a:off x="3438000" y="4133160"/>
                <a:ext cx="421200" cy="120960"/>
                <a:chOff x="3438000" y="4133160"/>
                <a:chExt cx="421200" cy="12096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3438000" y="4133160"/>
                  <a:ext cx="421200" cy="120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444120" y="4137480"/>
                  <a:ext cx="408960" cy="111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" name=""/>
              <p:cNvSpPr/>
              <p:nvPr/>
            </p:nvSpPr>
            <p:spPr>
              <a:xfrm>
                <a:off x="3440880" y="3723120"/>
                <a:ext cx="417240" cy="396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43400" y="3723120"/>
                <a:ext cx="407520" cy="3963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441960" y="3777480"/>
                <a:ext cx="408240" cy="828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571920" y="372240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613320" y="371988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654720" y="371988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738240" y="372096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818880" y="372168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778920" y="372096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697920" y="372240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525480" y="3723120"/>
                <a:ext cx="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480840" y="3723120"/>
                <a:ext cx="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3465360" y="4154040"/>
                <a:ext cx="365400" cy="83880"/>
                <a:chOff x="3465360" y="4154040"/>
                <a:chExt cx="365400" cy="8388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3465360" y="415404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465360" y="417060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465360" y="418716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465360" y="420372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465360" y="422136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465360" y="423792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3438000" y="3567960"/>
                <a:ext cx="421200" cy="146520"/>
                <a:chOff x="3438000" y="3567960"/>
                <a:chExt cx="421200" cy="1465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3438000" y="3567960"/>
                  <a:ext cx="421200" cy="1465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444120" y="3573000"/>
                  <a:ext cx="408960" cy="135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3467880" y="3668040"/>
                <a:ext cx="365400" cy="33840"/>
                <a:chOff x="3467880" y="3668040"/>
                <a:chExt cx="365400" cy="3384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3467880" y="366804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467880" y="368460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467880" y="370188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3731040" y="3580920"/>
                <a:ext cx="79560" cy="63360"/>
                <a:chOff x="3731040" y="3580920"/>
                <a:chExt cx="79560" cy="6336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3731040" y="358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731040" y="3644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773880" y="3582360"/>
                  <a:ext cx="10440" cy="5868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5" name=""/>
            <p:cNvGrpSpPr/>
            <p:nvPr/>
          </p:nvGrpSpPr>
          <p:grpSpPr>
            <a:xfrm>
              <a:off x="3467880" y="3562200"/>
              <a:ext cx="77760" cy="108720"/>
              <a:chOff x="3467880" y="3562200"/>
              <a:chExt cx="77760" cy="108720"/>
            </a:xfrm>
          </p:grpSpPr>
          <p:sp>
            <p:nvSpPr>
              <p:cNvPr id="796" name=""/>
              <p:cNvSpPr/>
              <p:nvPr/>
            </p:nvSpPr>
            <p:spPr>
              <a:xfrm>
                <a:off x="3488040" y="360324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467880" y="3562200"/>
                <a:ext cx="38520" cy="7920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506400" y="3562200"/>
                <a:ext cx="38880" cy="7920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9" name=""/>
              <p:cNvGrpSpPr/>
              <p:nvPr/>
            </p:nvGrpSpPr>
            <p:grpSpPr>
              <a:xfrm>
                <a:off x="3467880" y="3646800"/>
                <a:ext cx="77760" cy="24120"/>
                <a:chOff x="3467880" y="3646800"/>
                <a:chExt cx="77760" cy="24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3496680" y="3646800"/>
                  <a:ext cx="6840" cy="2412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510720" y="3646800"/>
                  <a:ext cx="6120" cy="2376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523680" y="3646800"/>
                  <a:ext cx="7560" cy="2376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482640" y="3646800"/>
                  <a:ext cx="6840" cy="2412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467880" y="3646800"/>
                  <a:ext cx="7920" cy="2376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538440" y="3646800"/>
                  <a:ext cx="7200" cy="2376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06" name=""/>
          <p:cNvGrpSpPr/>
          <p:nvPr/>
        </p:nvGrpSpPr>
        <p:grpSpPr>
          <a:xfrm>
            <a:off x="3206880" y="3886200"/>
            <a:ext cx="761760" cy="838080"/>
            <a:chOff x="3206880" y="3886200"/>
            <a:chExt cx="761760" cy="838080"/>
          </a:xfrm>
        </p:grpSpPr>
        <p:sp>
          <p:nvSpPr>
            <p:cNvPr id="807" name=""/>
            <p:cNvSpPr/>
            <p:nvPr/>
          </p:nvSpPr>
          <p:spPr>
            <a:xfrm>
              <a:off x="3206880" y="3886200"/>
              <a:ext cx="761760" cy="838080"/>
            </a:xfrm>
            <a:custGeom>
              <a:avLst/>
              <a:gdLst>
                <a:gd name="textAreaLeft" fmla="*/ 173880 w 761760"/>
                <a:gd name="textAreaRight" fmla="*/ 587880 w 761760"/>
                <a:gd name="textAreaTop" fmla="*/ 191160 h 838080"/>
                <a:gd name="textAreaBottom" fmla="*/ 64692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53680" y="4182840"/>
              <a:ext cx="669600" cy="30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NE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267080" y="3067200"/>
            <a:ext cx="457200" cy="704880"/>
            <a:chOff x="4267080" y="3067200"/>
            <a:chExt cx="457200" cy="704880"/>
          </a:xfrm>
        </p:grpSpPr>
        <p:grpSp>
          <p:nvGrpSpPr>
            <p:cNvPr id="810" name=""/>
            <p:cNvGrpSpPr/>
            <p:nvPr/>
          </p:nvGrpSpPr>
          <p:grpSpPr>
            <a:xfrm>
              <a:off x="4267080" y="3067200"/>
              <a:ext cx="457200" cy="704880"/>
              <a:chOff x="4267080" y="3067200"/>
              <a:chExt cx="457200" cy="704880"/>
            </a:xfrm>
          </p:grpSpPr>
          <p:sp>
            <p:nvSpPr>
              <p:cNvPr id="811" name=""/>
              <p:cNvSpPr/>
              <p:nvPr/>
            </p:nvSpPr>
            <p:spPr>
              <a:xfrm>
                <a:off x="4267080" y="3067200"/>
                <a:ext cx="443520" cy="70092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710600" y="3067200"/>
                <a:ext cx="13680" cy="70488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3" name=""/>
              <p:cNvGrpSpPr/>
              <p:nvPr/>
            </p:nvGrpSpPr>
            <p:grpSpPr>
              <a:xfrm>
                <a:off x="4276080" y="3638160"/>
                <a:ext cx="421200" cy="120960"/>
                <a:chOff x="4276080" y="3638160"/>
                <a:chExt cx="421200" cy="120960"/>
              </a:xfrm>
            </p:grpSpPr>
            <p:sp>
              <p:nvSpPr>
                <p:cNvPr id="814" name=""/>
                <p:cNvSpPr/>
                <p:nvPr/>
              </p:nvSpPr>
              <p:spPr>
                <a:xfrm>
                  <a:off x="4276080" y="3638160"/>
                  <a:ext cx="421200" cy="120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4282200" y="3642480"/>
                  <a:ext cx="408960" cy="111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4278960" y="3228120"/>
                <a:ext cx="417240" cy="396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281480" y="3228120"/>
                <a:ext cx="407520" cy="3963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280040" y="3282480"/>
                <a:ext cx="408240" cy="828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4410000" y="322740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451400" y="322488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492800" y="322488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576320" y="322596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656960" y="322668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17000" y="322596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36000" y="322740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363560" y="3228120"/>
                <a:ext cx="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18920" y="3228120"/>
                <a:ext cx="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8" name=""/>
              <p:cNvGrpSpPr/>
              <p:nvPr/>
            </p:nvGrpSpPr>
            <p:grpSpPr>
              <a:xfrm>
                <a:off x="4303440" y="3659040"/>
                <a:ext cx="365400" cy="83880"/>
                <a:chOff x="4303440" y="3659040"/>
                <a:chExt cx="365400" cy="8388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4303440" y="365904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4303440" y="367560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4303440" y="369216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4303440" y="370872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4303440" y="372636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303440" y="374292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276080" y="3072960"/>
                <a:ext cx="421200" cy="146520"/>
                <a:chOff x="4276080" y="3072960"/>
                <a:chExt cx="421200" cy="1465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4276080" y="3072960"/>
                  <a:ext cx="421200" cy="1465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282200" y="3078000"/>
                  <a:ext cx="408960" cy="135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4305960" y="3173040"/>
                <a:ext cx="365400" cy="33840"/>
                <a:chOff x="4305960" y="3173040"/>
                <a:chExt cx="365400" cy="3384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4305960" y="317304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4305960" y="318960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4305960" y="320688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4569120" y="3085920"/>
                <a:ext cx="79560" cy="63360"/>
                <a:chOff x="4569120" y="3085920"/>
                <a:chExt cx="79560" cy="6336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4569120" y="308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4569120" y="3149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611960" y="3087360"/>
                  <a:ext cx="10440" cy="5868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6" name=""/>
            <p:cNvGrpSpPr/>
            <p:nvPr/>
          </p:nvGrpSpPr>
          <p:grpSpPr>
            <a:xfrm>
              <a:off x="4305960" y="3067200"/>
              <a:ext cx="77760" cy="108720"/>
              <a:chOff x="4305960" y="3067200"/>
              <a:chExt cx="77760" cy="108720"/>
            </a:xfrm>
          </p:grpSpPr>
          <p:sp>
            <p:nvSpPr>
              <p:cNvPr id="847" name=""/>
              <p:cNvSpPr/>
              <p:nvPr/>
            </p:nvSpPr>
            <p:spPr>
              <a:xfrm>
                <a:off x="4326120" y="310824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305960" y="3067200"/>
                <a:ext cx="38520" cy="7920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4344480" y="3067200"/>
                <a:ext cx="38880" cy="7920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4305960" y="3151800"/>
                <a:ext cx="77760" cy="24120"/>
                <a:chOff x="4305960" y="3151800"/>
                <a:chExt cx="77760" cy="24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4334760" y="3151800"/>
                  <a:ext cx="6840" cy="2412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4348800" y="3151800"/>
                  <a:ext cx="6120" cy="2376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4361760" y="3151800"/>
                  <a:ext cx="7560" cy="2376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4320720" y="3151800"/>
                  <a:ext cx="6840" cy="2412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305960" y="3151800"/>
                  <a:ext cx="7920" cy="2376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4376520" y="3151800"/>
                  <a:ext cx="7200" cy="2376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57" name=""/>
          <p:cNvGrpSpPr/>
          <p:nvPr/>
        </p:nvGrpSpPr>
        <p:grpSpPr>
          <a:xfrm>
            <a:off x="5105520" y="3657600"/>
            <a:ext cx="457200" cy="704880"/>
            <a:chOff x="5105520" y="3657600"/>
            <a:chExt cx="457200" cy="704880"/>
          </a:xfrm>
        </p:grpSpPr>
        <p:grpSp>
          <p:nvGrpSpPr>
            <p:cNvPr id="858" name=""/>
            <p:cNvGrpSpPr/>
            <p:nvPr/>
          </p:nvGrpSpPr>
          <p:grpSpPr>
            <a:xfrm>
              <a:off x="5105520" y="3657600"/>
              <a:ext cx="457200" cy="704880"/>
              <a:chOff x="5105520" y="3657600"/>
              <a:chExt cx="457200" cy="704880"/>
            </a:xfrm>
          </p:grpSpPr>
          <p:sp>
            <p:nvSpPr>
              <p:cNvPr id="859" name=""/>
              <p:cNvSpPr/>
              <p:nvPr/>
            </p:nvSpPr>
            <p:spPr>
              <a:xfrm>
                <a:off x="5105520" y="3657600"/>
                <a:ext cx="443520" cy="70092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549040" y="3657600"/>
                <a:ext cx="13680" cy="70488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5114520" y="4228560"/>
                <a:ext cx="421200" cy="120960"/>
                <a:chOff x="5114520" y="4228560"/>
                <a:chExt cx="421200" cy="12096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5114520" y="4228560"/>
                  <a:ext cx="421200" cy="120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120640" y="4232880"/>
                  <a:ext cx="408960" cy="111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"/>
              <p:cNvSpPr/>
              <p:nvPr/>
            </p:nvSpPr>
            <p:spPr>
              <a:xfrm>
                <a:off x="5117400" y="3818520"/>
                <a:ext cx="417240" cy="396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119920" y="3818520"/>
                <a:ext cx="407520" cy="3963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118480" y="3872880"/>
                <a:ext cx="408240" cy="828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248440" y="381780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289840" y="381528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331240" y="381528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414760" y="381636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495400" y="381708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455440" y="381636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374440" y="381780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202000" y="3818520"/>
                <a:ext cx="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157360" y="3818520"/>
                <a:ext cx="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"/>
              <p:cNvGrpSpPr/>
              <p:nvPr/>
            </p:nvGrpSpPr>
            <p:grpSpPr>
              <a:xfrm>
                <a:off x="5141880" y="4249440"/>
                <a:ext cx="365400" cy="83880"/>
                <a:chOff x="5141880" y="4249440"/>
                <a:chExt cx="365400" cy="8388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5141880" y="424944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141880" y="426600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141880" y="428256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141880" y="429912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141880" y="431676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5141880" y="433332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5114520" y="3663360"/>
                <a:ext cx="421200" cy="146520"/>
                <a:chOff x="5114520" y="3663360"/>
                <a:chExt cx="421200" cy="1465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5114520" y="3663360"/>
                  <a:ext cx="421200" cy="1465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120640" y="3668400"/>
                  <a:ext cx="408960" cy="135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5144400" y="3763440"/>
                <a:ext cx="365400" cy="33840"/>
                <a:chOff x="5144400" y="3763440"/>
                <a:chExt cx="365400" cy="3384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5144400" y="376344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144400" y="378000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5144400" y="379728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0" name=""/>
              <p:cNvGrpSpPr/>
              <p:nvPr/>
            </p:nvGrpSpPr>
            <p:grpSpPr>
              <a:xfrm>
                <a:off x="5407560" y="3676320"/>
                <a:ext cx="79560" cy="63360"/>
                <a:chOff x="5407560" y="3676320"/>
                <a:chExt cx="79560" cy="6336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407560" y="36763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407560" y="373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450400" y="3677760"/>
                  <a:ext cx="10440" cy="5868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"/>
            <p:cNvGrpSpPr/>
            <p:nvPr/>
          </p:nvGrpSpPr>
          <p:grpSpPr>
            <a:xfrm>
              <a:off x="5144400" y="3657600"/>
              <a:ext cx="77760" cy="108720"/>
              <a:chOff x="5144400" y="3657600"/>
              <a:chExt cx="77760" cy="108720"/>
            </a:xfrm>
          </p:grpSpPr>
          <p:sp>
            <p:nvSpPr>
              <p:cNvPr id="895" name=""/>
              <p:cNvSpPr/>
              <p:nvPr/>
            </p:nvSpPr>
            <p:spPr>
              <a:xfrm>
                <a:off x="5164560" y="369864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144400" y="3657600"/>
                <a:ext cx="38520" cy="7920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182920" y="3657600"/>
                <a:ext cx="38880" cy="7920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8" name=""/>
              <p:cNvGrpSpPr/>
              <p:nvPr/>
            </p:nvGrpSpPr>
            <p:grpSpPr>
              <a:xfrm>
                <a:off x="5144400" y="3742200"/>
                <a:ext cx="77760" cy="24120"/>
                <a:chOff x="5144400" y="3742200"/>
                <a:chExt cx="77760" cy="24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5173200" y="3742200"/>
                  <a:ext cx="6840" cy="2412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187240" y="3742200"/>
                  <a:ext cx="6120" cy="2376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200200" y="3742200"/>
                  <a:ext cx="7560" cy="2376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159160" y="3742200"/>
                  <a:ext cx="6840" cy="2412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144400" y="3742200"/>
                  <a:ext cx="7920" cy="2376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214960" y="3742200"/>
                  <a:ext cx="7200" cy="2376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05" name=""/>
          <p:cNvGrpSpPr/>
          <p:nvPr/>
        </p:nvGrpSpPr>
        <p:grpSpPr>
          <a:xfrm>
            <a:off x="6383160" y="3641760"/>
            <a:ext cx="487440" cy="699840"/>
            <a:chOff x="6383160" y="3641760"/>
            <a:chExt cx="487440" cy="699840"/>
          </a:xfrm>
        </p:grpSpPr>
        <p:sp>
          <p:nvSpPr>
            <p:cNvPr id="906" name=""/>
            <p:cNvSpPr/>
            <p:nvPr/>
          </p:nvSpPr>
          <p:spPr>
            <a:xfrm>
              <a:off x="6383160" y="3641760"/>
              <a:ext cx="466560" cy="696600"/>
            </a:xfrm>
            <a:custGeom>
              <a:avLst/>
              <a:gdLst/>
              <a:ahLst/>
              <a:rect l="l" t="t" r="r" b="b"/>
              <a:pathLst>
                <a:path w="385" h="569">
                  <a:moveTo>
                    <a:pt x="0" y="0"/>
                  </a:moveTo>
                  <a:lnTo>
                    <a:pt x="0" y="568"/>
                  </a:lnTo>
                  <a:lnTo>
                    <a:pt x="384" y="568"/>
                  </a:lnTo>
                  <a:lnTo>
                    <a:pt x="384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849720" y="3641760"/>
              <a:ext cx="20880" cy="699840"/>
            </a:xfrm>
            <a:custGeom>
              <a:avLst/>
              <a:gdLst/>
              <a:ahLst/>
              <a:rect l="l" t="t" r="r" b="b"/>
              <a:pathLst>
                <a:path w="17" h="572">
                  <a:moveTo>
                    <a:pt x="0" y="0"/>
                  </a:moveTo>
                  <a:lnTo>
                    <a:pt x="0" y="571"/>
                  </a:lnTo>
                  <a:lnTo>
                    <a:pt x="16" y="515"/>
                  </a:lnTo>
                  <a:lnTo>
                    <a:pt x="16" y="33"/>
                  </a:lnTo>
                  <a:lnTo>
                    <a:pt x="0" y="0"/>
                  </a:lnTo>
                </a:path>
              </a:pathLst>
            </a:custGeom>
            <a:solidFill>
              <a:srgbClr val="a0a0a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397560" y="3659040"/>
              <a:ext cx="426960" cy="49536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400440" y="3665520"/>
              <a:ext cx="417600" cy="49032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11600" y="3692520"/>
              <a:ext cx="20880" cy="381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0"/>
                  </a:moveTo>
                  <a:lnTo>
                    <a:pt x="0" y="0"/>
                  </a:lnTo>
                  <a:lnTo>
                    <a:pt x="8" y="30"/>
                  </a:lnTo>
                  <a:lnTo>
                    <a:pt x="1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02240" y="3746520"/>
              <a:ext cx="409320" cy="586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406920" y="3755880"/>
              <a:ext cx="403200" cy="381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16280" y="3768480"/>
              <a:ext cx="22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46520" y="3768480"/>
              <a:ext cx="22320" cy="2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5" name=""/>
            <p:cNvGrpSpPr/>
            <p:nvPr/>
          </p:nvGrpSpPr>
          <p:grpSpPr>
            <a:xfrm>
              <a:off x="6402240" y="4016160"/>
              <a:ext cx="420480" cy="19080"/>
              <a:chOff x="6402240" y="4016160"/>
              <a:chExt cx="420480" cy="19080"/>
            </a:xfrm>
          </p:grpSpPr>
          <p:sp>
            <p:nvSpPr>
              <p:cNvPr id="916" name=""/>
              <p:cNvSpPr/>
              <p:nvPr/>
            </p:nvSpPr>
            <p:spPr>
              <a:xfrm>
                <a:off x="6402240" y="401616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406920" y="401724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"/>
            <p:cNvGrpSpPr/>
            <p:nvPr/>
          </p:nvGrpSpPr>
          <p:grpSpPr>
            <a:xfrm>
              <a:off x="6402240" y="4049640"/>
              <a:ext cx="420480" cy="19080"/>
              <a:chOff x="6402240" y="4049640"/>
              <a:chExt cx="420480" cy="19080"/>
            </a:xfrm>
          </p:grpSpPr>
          <p:sp>
            <p:nvSpPr>
              <p:cNvPr id="919" name=""/>
              <p:cNvSpPr/>
              <p:nvPr/>
            </p:nvSpPr>
            <p:spPr>
              <a:xfrm>
                <a:off x="6402240" y="404964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406920" y="405072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"/>
            <p:cNvGrpSpPr/>
            <p:nvPr/>
          </p:nvGrpSpPr>
          <p:grpSpPr>
            <a:xfrm>
              <a:off x="6402240" y="4081320"/>
              <a:ext cx="420480" cy="20160"/>
              <a:chOff x="6402240" y="4081320"/>
              <a:chExt cx="420480" cy="20160"/>
            </a:xfrm>
          </p:grpSpPr>
          <p:sp>
            <p:nvSpPr>
              <p:cNvPr id="922" name=""/>
              <p:cNvSpPr/>
              <p:nvPr/>
            </p:nvSpPr>
            <p:spPr>
              <a:xfrm>
                <a:off x="6402240" y="408240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406920" y="408132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6402240" y="4114800"/>
              <a:ext cx="420480" cy="19080"/>
              <a:chOff x="6402240" y="4114800"/>
              <a:chExt cx="420480" cy="19080"/>
            </a:xfrm>
          </p:grpSpPr>
          <p:sp>
            <p:nvSpPr>
              <p:cNvPr id="925" name=""/>
              <p:cNvSpPr/>
              <p:nvPr/>
            </p:nvSpPr>
            <p:spPr>
              <a:xfrm>
                <a:off x="6402240" y="411480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406920" y="4118040"/>
                <a:ext cx="409320" cy="97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"/>
            <p:cNvGrpSpPr/>
            <p:nvPr/>
          </p:nvGrpSpPr>
          <p:grpSpPr>
            <a:xfrm>
              <a:off x="6402240" y="4149720"/>
              <a:ext cx="420480" cy="19080"/>
              <a:chOff x="6402240" y="4149720"/>
              <a:chExt cx="420480" cy="19080"/>
            </a:xfrm>
          </p:grpSpPr>
          <p:sp>
            <p:nvSpPr>
              <p:cNvPr id="928" name=""/>
              <p:cNvSpPr/>
              <p:nvPr/>
            </p:nvSpPr>
            <p:spPr>
              <a:xfrm>
                <a:off x="6402240" y="4149720"/>
                <a:ext cx="4204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406920" y="4149720"/>
                <a:ext cx="409320" cy="93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91919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6391080" y="4168800"/>
              <a:ext cx="436680" cy="75960"/>
              <a:chOff x="6391080" y="4168800"/>
              <a:chExt cx="436680" cy="75960"/>
            </a:xfrm>
          </p:grpSpPr>
          <p:sp>
            <p:nvSpPr>
              <p:cNvPr id="931" name=""/>
              <p:cNvSpPr/>
              <p:nvPr/>
            </p:nvSpPr>
            <p:spPr>
              <a:xfrm>
                <a:off x="6391080" y="4168800"/>
                <a:ext cx="436680" cy="75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6396840" y="4178520"/>
                <a:ext cx="421920" cy="54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3" name=""/>
            <p:cNvSpPr/>
            <p:nvPr/>
          </p:nvSpPr>
          <p:spPr>
            <a:xfrm>
              <a:off x="6746760" y="4189320"/>
              <a:ext cx="33120" cy="3168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757920" y="4203720"/>
              <a:ext cx="9360" cy="9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5" name=""/>
            <p:cNvGrpSpPr/>
            <p:nvPr/>
          </p:nvGrpSpPr>
          <p:grpSpPr>
            <a:xfrm>
              <a:off x="6391080" y="4249440"/>
              <a:ext cx="436680" cy="74880"/>
              <a:chOff x="6391080" y="4249440"/>
              <a:chExt cx="436680" cy="74880"/>
            </a:xfrm>
          </p:grpSpPr>
          <p:sp>
            <p:nvSpPr>
              <p:cNvPr id="936" name=""/>
              <p:cNvSpPr/>
              <p:nvPr/>
            </p:nvSpPr>
            <p:spPr>
              <a:xfrm>
                <a:off x="6391080" y="4249440"/>
                <a:ext cx="436680" cy="748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396840" y="4259160"/>
                <a:ext cx="421920" cy="55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8" name=""/>
            <p:cNvSpPr/>
            <p:nvPr/>
          </p:nvSpPr>
          <p:spPr>
            <a:xfrm>
              <a:off x="6746760" y="4270320"/>
              <a:ext cx="33120" cy="3024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757920" y="4282920"/>
              <a:ext cx="9360" cy="97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0680" y="3892320"/>
              <a:ext cx="90360" cy="79560"/>
            </a:xfrm>
            <a:custGeom>
              <a:avLst/>
              <a:gdLst/>
              <a:ahLst/>
              <a:rect l="l" t="t" r="r" b="b"/>
              <a:pathLst>
                <a:path w="75" h="65">
                  <a:moveTo>
                    <a:pt x="74" y="0"/>
                  </a:moveTo>
                  <a:lnTo>
                    <a:pt x="0" y="0"/>
                  </a:lnTo>
                  <a:lnTo>
                    <a:pt x="37" y="64"/>
                  </a:lnTo>
                  <a:lnTo>
                    <a:pt x="74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4210200" y="2247840"/>
            <a:ext cx="479880" cy="663480"/>
            <a:chOff x="4210200" y="2247840"/>
            <a:chExt cx="479880" cy="663480"/>
          </a:xfrm>
        </p:grpSpPr>
        <p:grpSp>
          <p:nvGrpSpPr>
            <p:cNvPr id="942" name=""/>
            <p:cNvGrpSpPr/>
            <p:nvPr/>
          </p:nvGrpSpPr>
          <p:grpSpPr>
            <a:xfrm>
              <a:off x="4210200" y="2247840"/>
              <a:ext cx="479880" cy="663480"/>
              <a:chOff x="4210200" y="2247840"/>
              <a:chExt cx="479880" cy="663480"/>
            </a:xfrm>
          </p:grpSpPr>
          <p:sp>
            <p:nvSpPr>
              <p:cNvPr id="943" name=""/>
              <p:cNvSpPr/>
              <p:nvPr/>
            </p:nvSpPr>
            <p:spPr>
              <a:xfrm>
                <a:off x="4210200" y="2254680"/>
                <a:ext cx="456120" cy="652680"/>
              </a:xfrm>
              <a:custGeom>
                <a:avLst/>
                <a:gdLst/>
                <a:ahLst/>
                <a:rect l="l" t="t" r="r" b="b"/>
                <a:pathLst>
                  <a:path w="461" h="697">
                    <a:moveTo>
                      <a:pt x="0" y="0"/>
                    </a:moveTo>
                    <a:lnTo>
                      <a:pt x="0" y="696"/>
                    </a:lnTo>
                    <a:lnTo>
                      <a:pt x="460" y="696"/>
                    </a:lnTo>
                    <a:lnTo>
                      <a:pt x="46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4666320" y="2254680"/>
                <a:ext cx="16920" cy="656640"/>
              </a:xfrm>
              <a:custGeom>
                <a:avLst/>
                <a:gdLst/>
                <a:ahLst/>
                <a:rect l="l" t="t" r="r" b="b"/>
                <a:pathLst>
                  <a:path w="17" h="701">
                    <a:moveTo>
                      <a:pt x="0" y="0"/>
                    </a:moveTo>
                    <a:lnTo>
                      <a:pt x="0" y="700"/>
                    </a:lnTo>
                    <a:lnTo>
                      <a:pt x="16" y="631"/>
                    </a:lnTo>
                    <a:lnTo>
                      <a:pt x="16" y="4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223160" y="2295720"/>
                <a:ext cx="418320" cy="367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225680" y="2295720"/>
                <a:ext cx="410760" cy="3672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4237920" y="2301120"/>
                <a:ext cx="16920" cy="35280"/>
              </a:xfrm>
              <a:custGeom>
                <a:avLst/>
                <a:gdLst/>
                <a:ahLst/>
                <a:rect l="l" t="t" r="r" b="b"/>
                <a:pathLst>
                  <a:path w="17" h="38">
                    <a:moveTo>
                      <a:pt x="16" y="0"/>
                    </a:moveTo>
                    <a:lnTo>
                      <a:pt x="0" y="0"/>
                    </a:lnTo>
                    <a:lnTo>
                      <a:pt x="0" y="37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4219200" y="2758680"/>
                <a:ext cx="426960" cy="61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225320" y="2764440"/>
                <a:ext cx="4132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567680" y="277380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4578120" y="278676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219200" y="2831760"/>
                <a:ext cx="426960" cy="651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225320" y="2838960"/>
                <a:ext cx="413280" cy="51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67680" y="2847960"/>
                <a:ext cx="33480" cy="30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578120" y="2861640"/>
                <a:ext cx="7560" cy="7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19200" y="2681640"/>
                <a:ext cx="426960" cy="64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225320" y="2690280"/>
                <a:ext cx="4132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539960" y="2268360"/>
                <a:ext cx="91800" cy="1080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546080" y="2247840"/>
                <a:ext cx="144000" cy="8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9600" rIns="39600" tIns="20520" bIns="2052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7840"/>
                    <a:tab algn="l" pos="355680"/>
                    <a:tab algn="l" pos="533520"/>
                    <a:tab algn="l" pos="711360"/>
                    <a:tab algn="l" pos="888840"/>
                    <a:tab algn="l" pos="1066680"/>
                    <a:tab algn="l" pos="1244520"/>
                    <a:tab algn="l" pos="1422360"/>
                    <a:tab algn="l" pos="1600200"/>
                    <a:tab algn="l" pos="1778040"/>
                    <a:tab algn="l" pos="1955880"/>
                    <a:tab algn="l" pos="2133720"/>
                    <a:tab algn="l" pos="2311560"/>
                    <a:tab algn="l" pos="2489040"/>
                    <a:tab algn="l" pos="2666880"/>
                    <a:tab algn="l" pos="2844720"/>
                    <a:tab algn="l" pos="3022560"/>
                    <a:tab algn="l" pos="3200400"/>
                    <a:tab algn="l" pos="3378240"/>
                    <a:tab algn="l" pos="355608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Book Antiqua"/>
                  </a:rPr>
                  <a:t>500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390200" y="2297520"/>
                <a:ext cx="52920" cy="576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3880" y="2297520"/>
                <a:ext cx="411840" cy="550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388040" y="2293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42960" y="229248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65280" y="2293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88320" y="2291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13160" y="2291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33680" y="2291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59240" y="2291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474440" y="229248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501800" y="229248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558320" y="2293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87840" y="22935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530600" y="2293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616280" y="2291760"/>
                <a:ext cx="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19000" y="2293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19720" y="2356560"/>
                <a:ext cx="50400" cy="3092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45280" y="2293560"/>
                <a:ext cx="0" cy="37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4550760" y="2680920"/>
              <a:ext cx="65520" cy="58320"/>
              <a:chOff x="4550760" y="2680920"/>
              <a:chExt cx="65520" cy="58320"/>
            </a:xfrm>
          </p:grpSpPr>
          <p:sp>
            <p:nvSpPr>
              <p:cNvPr id="979" name=""/>
              <p:cNvSpPr/>
              <p:nvPr/>
            </p:nvSpPr>
            <p:spPr>
              <a:xfrm>
                <a:off x="4567680" y="270288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50760" y="2680920"/>
                <a:ext cx="32400" cy="4248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83160" y="2680920"/>
                <a:ext cx="32760" cy="4248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4550760" y="2726280"/>
                <a:ext cx="65520" cy="12960"/>
                <a:chOff x="4550760" y="2726280"/>
                <a:chExt cx="65520" cy="1296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4574880" y="272628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4587120" y="2726280"/>
                  <a:ext cx="5040" cy="1296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597920" y="2726280"/>
                  <a:ext cx="6480" cy="1296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4563360" y="2726280"/>
                  <a:ext cx="5760" cy="1296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4550760" y="2726280"/>
                  <a:ext cx="6840" cy="1296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610160" y="2726280"/>
                  <a:ext cx="6120" cy="1296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89" name=""/>
          <p:cNvSpPr/>
          <p:nvPr/>
        </p:nvSpPr>
        <p:spPr>
          <a:xfrm>
            <a:off x="2209680" y="2552760"/>
            <a:ext cx="1219320" cy="104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2286000" y="4647960"/>
            <a:ext cx="20574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4248000" y="4362480"/>
            <a:ext cx="457200" cy="704880"/>
            <a:chOff x="4248000" y="4362480"/>
            <a:chExt cx="457200" cy="704880"/>
          </a:xfrm>
        </p:grpSpPr>
        <p:grpSp>
          <p:nvGrpSpPr>
            <p:cNvPr id="992" name=""/>
            <p:cNvGrpSpPr/>
            <p:nvPr/>
          </p:nvGrpSpPr>
          <p:grpSpPr>
            <a:xfrm>
              <a:off x="4248000" y="4362480"/>
              <a:ext cx="457200" cy="704880"/>
              <a:chOff x="4248000" y="4362480"/>
              <a:chExt cx="457200" cy="704880"/>
            </a:xfrm>
          </p:grpSpPr>
          <p:sp>
            <p:nvSpPr>
              <p:cNvPr id="993" name=""/>
              <p:cNvSpPr/>
              <p:nvPr/>
            </p:nvSpPr>
            <p:spPr>
              <a:xfrm>
                <a:off x="4248000" y="4362480"/>
                <a:ext cx="443520" cy="70092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91520" y="4362480"/>
                <a:ext cx="13680" cy="70488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5" name=""/>
              <p:cNvGrpSpPr/>
              <p:nvPr/>
            </p:nvGrpSpPr>
            <p:grpSpPr>
              <a:xfrm>
                <a:off x="4257000" y="4933440"/>
                <a:ext cx="421200" cy="120960"/>
                <a:chOff x="4257000" y="4933440"/>
                <a:chExt cx="421200" cy="12096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4257000" y="4933440"/>
                  <a:ext cx="421200" cy="1209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263120" y="4937760"/>
                  <a:ext cx="408960" cy="111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8" name=""/>
              <p:cNvSpPr/>
              <p:nvPr/>
            </p:nvSpPr>
            <p:spPr>
              <a:xfrm>
                <a:off x="4259880" y="4523400"/>
                <a:ext cx="417240" cy="3963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262400" y="4523400"/>
                <a:ext cx="407520" cy="39636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260960" y="4577760"/>
                <a:ext cx="408240" cy="828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390920" y="452268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432320" y="452016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473720" y="452016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557240" y="452124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637880" y="452196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597920" y="45212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16920" y="4522680"/>
                <a:ext cx="0" cy="39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344480" y="4523400"/>
                <a:ext cx="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299840" y="4523400"/>
                <a:ext cx="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0" name=""/>
              <p:cNvGrpSpPr/>
              <p:nvPr/>
            </p:nvGrpSpPr>
            <p:grpSpPr>
              <a:xfrm>
                <a:off x="4284360" y="4954320"/>
                <a:ext cx="365400" cy="83880"/>
                <a:chOff x="4284360" y="4954320"/>
                <a:chExt cx="365400" cy="83880"/>
              </a:xfrm>
            </p:grpSpPr>
            <p:sp>
              <p:nvSpPr>
                <p:cNvPr id="1011" name=""/>
                <p:cNvSpPr/>
                <p:nvPr/>
              </p:nvSpPr>
              <p:spPr>
                <a:xfrm>
                  <a:off x="4284360" y="495432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284360" y="497088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284360" y="498744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284360" y="500400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284360" y="502164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284360" y="503820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4257000" y="4368240"/>
                <a:ext cx="421200" cy="146520"/>
                <a:chOff x="4257000" y="4368240"/>
                <a:chExt cx="421200" cy="14652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4257000" y="4368240"/>
                  <a:ext cx="421200" cy="1465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263120" y="4373280"/>
                  <a:ext cx="408960" cy="1353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4286880" y="4468320"/>
                <a:ext cx="365400" cy="33840"/>
                <a:chOff x="4286880" y="4468320"/>
                <a:chExt cx="365400" cy="3384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286880" y="446832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286880" y="448488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286880" y="4502160"/>
                  <a:ext cx="3654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4" name=""/>
              <p:cNvGrpSpPr/>
              <p:nvPr/>
            </p:nvGrpSpPr>
            <p:grpSpPr>
              <a:xfrm>
                <a:off x="4550040" y="4381200"/>
                <a:ext cx="79560" cy="63360"/>
                <a:chOff x="4550040" y="4381200"/>
                <a:chExt cx="79560" cy="6336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4550040" y="4381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550040" y="4444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592880" y="4382640"/>
                  <a:ext cx="10440" cy="5868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8" name=""/>
            <p:cNvGrpSpPr/>
            <p:nvPr/>
          </p:nvGrpSpPr>
          <p:grpSpPr>
            <a:xfrm>
              <a:off x="4286880" y="4362480"/>
              <a:ext cx="77760" cy="108720"/>
              <a:chOff x="4286880" y="4362480"/>
              <a:chExt cx="77760" cy="108720"/>
            </a:xfrm>
          </p:grpSpPr>
          <p:sp>
            <p:nvSpPr>
              <p:cNvPr id="1029" name=""/>
              <p:cNvSpPr/>
              <p:nvPr/>
            </p:nvSpPr>
            <p:spPr>
              <a:xfrm>
                <a:off x="4307040" y="4403520"/>
                <a:ext cx="37440" cy="3816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286880" y="4362480"/>
                <a:ext cx="38520" cy="7920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325400" y="4362480"/>
                <a:ext cx="38880" cy="7920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2" name=""/>
              <p:cNvGrpSpPr/>
              <p:nvPr/>
            </p:nvGrpSpPr>
            <p:grpSpPr>
              <a:xfrm>
                <a:off x="4286880" y="4447080"/>
                <a:ext cx="77760" cy="24120"/>
                <a:chOff x="4286880" y="4447080"/>
                <a:chExt cx="77760" cy="2412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4315680" y="4447080"/>
                  <a:ext cx="6840" cy="2412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329720" y="4447080"/>
                  <a:ext cx="6120" cy="2376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342680" y="4447080"/>
                  <a:ext cx="7560" cy="2376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301640" y="4447080"/>
                  <a:ext cx="6840" cy="2412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286880" y="4447080"/>
                  <a:ext cx="7920" cy="2376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357440" y="4447080"/>
                  <a:ext cx="7200" cy="2376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39" name=""/>
          <p:cNvGrpSpPr/>
          <p:nvPr/>
        </p:nvGrpSpPr>
        <p:grpSpPr>
          <a:xfrm>
            <a:off x="676080" y="5112000"/>
            <a:ext cx="2173320" cy="1530360"/>
            <a:chOff x="676080" y="5112000"/>
            <a:chExt cx="2173320" cy="1530360"/>
          </a:xfrm>
        </p:grpSpPr>
        <p:grpSp>
          <p:nvGrpSpPr>
            <p:cNvPr id="1040" name=""/>
            <p:cNvGrpSpPr/>
            <p:nvPr/>
          </p:nvGrpSpPr>
          <p:grpSpPr>
            <a:xfrm>
              <a:off x="676080" y="5112000"/>
              <a:ext cx="1820520" cy="1530360"/>
              <a:chOff x="676080" y="5112000"/>
              <a:chExt cx="1820520" cy="1530360"/>
            </a:xfrm>
          </p:grpSpPr>
          <p:sp>
            <p:nvSpPr>
              <p:cNvPr id="1041" name=""/>
              <p:cNvSpPr/>
              <p:nvPr/>
            </p:nvSpPr>
            <p:spPr>
              <a:xfrm rot="9208800">
                <a:off x="761400" y="5333400"/>
                <a:ext cx="1145880" cy="652680"/>
              </a:xfrm>
              <a:prstGeom prst="rightArrow">
                <a:avLst>
                  <a:gd name="adj1" fmla="val 50000"/>
                  <a:gd name="adj2" fmla="val 87791"/>
                </a:avLst>
              </a:prstGeom>
              <a:solidFill>
                <a:srgbClr val="c9e0f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7275600">
                <a:off x="1124280" y="5656680"/>
                <a:ext cx="1146240" cy="652320"/>
              </a:xfrm>
              <a:prstGeom prst="rightArrow">
                <a:avLst>
                  <a:gd name="adj1" fmla="val 50000"/>
                  <a:gd name="adj2" fmla="val 87867"/>
                </a:avLst>
              </a:prstGeom>
              <a:solidFill>
                <a:srgbClr val="c9e0f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rot="5427600">
                <a:off x="1581480" y="5733000"/>
                <a:ext cx="1145880" cy="652320"/>
              </a:xfrm>
              <a:prstGeom prst="rightArrow">
                <a:avLst>
                  <a:gd name="adj1" fmla="val 50000"/>
                  <a:gd name="adj2" fmla="val 87839"/>
                </a:avLst>
              </a:prstGeom>
              <a:solidFill>
                <a:srgbClr val="c9e0f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4" name=""/>
              <p:cNvGrpSpPr/>
              <p:nvPr/>
            </p:nvGrpSpPr>
            <p:grpSpPr>
              <a:xfrm>
                <a:off x="1719000" y="5257800"/>
                <a:ext cx="777600" cy="303120"/>
                <a:chOff x="1719000" y="5257800"/>
                <a:chExt cx="777600" cy="303120"/>
              </a:xfrm>
            </p:grpSpPr>
            <p:grpSp>
              <p:nvGrpSpPr>
                <p:cNvPr id="1045" name=""/>
                <p:cNvGrpSpPr/>
                <p:nvPr/>
              </p:nvGrpSpPr>
              <p:grpSpPr>
                <a:xfrm>
                  <a:off x="1719000" y="5257800"/>
                  <a:ext cx="777600" cy="303120"/>
                  <a:chOff x="1719000" y="5257800"/>
                  <a:chExt cx="777600" cy="30312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1720440" y="5313240"/>
                    <a:ext cx="693360" cy="238320"/>
                  </a:xfrm>
                  <a:prstGeom prst="rect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1719000" y="5259600"/>
                    <a:ext cx="7776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0" h="31">
                        <a:moveTo>
                          <a:pt x="49" y="0"/>
                        </a:moveTo>
                        <a:lnTo>
                          <a:pt x="489" y="0"/>
                        </a:lnTo>
                        <a:lnTo>
                          <a:pt x="438" y="30"/>
                        </a:lnTo>
                        <a:lnTo>
                          <a:pt x="0" y="30"/>
                        </a:lnTo>
                        <a:lnTo>
                          <a:pt x="49" y="0"/>
                        </a:lnTo>
                      </a:path>
                    </a:pathLst>
                  </a:custGeom>
                  <a:solidFill>
                    <a:srgbClr val="969696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2412360" y="5257800"/>
                    <a:ext cx="8388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91">
                        <a:moveTo>
                          <a:pt x="0" y="190"/>
                        </a:moveTo>
                        <a:lnTo>
                          <a:pt x="52" y="158"/>
                        </a:lnTo>
                        <a:lnTo>
                          <a:pt x="52" y="0"/>
                        </a:lnTo>
                        <a:lnTo>
                          <a:pt x="0" y="31"/>
                        </a:lnTo>
                        <a:lnTo>
                          <a:pt x="0" y="190"/>
                        </a:lnTo>
                      </a:path>
                    </a:pathLst>
                  </a:custGeom>
                  <a:solidFill>
                    <a:srgbClr val="969696"/>
                  </a:solidFill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9" name=""/>
                <p:cNvGrpSpPr/>
                <p:nvPr/>
              </p:nvGrpSpPr>
              <p:grpSpPr>
                <a:xfrm>
                  <a:off x="1765080" y="5389560"/>
                  <a:ext cx="480960" cy="91800"/>
                  <a:chOff x="1765080" y="5389560"/>
                  <a:chExt cx="480960" cy="9180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1765080" y="5389560"/>
                    <a:ext cx="131760" cy="91800"/>
                  </a:xfrm>
                  <a:prstGeom prst="rect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1939680" y="5389560"/>
                    <a:ext cx="131760" cy="91800"/>
                  </a:xfrm>
                  <a:prstGeom prst="rect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2112840" y="5389560"/>
                    <a:ext cx="133200" cy="91800"/>
                  </a:xfrm>
                  <a:prstGeom prst="rect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3" name=""/>
              <p:cNvSpPr/>
              <p:nvPr/>
            </p:nvSpPr>
            <p:spPr>
              <a:xfrm>
                <a:off x="1002960" y="5546520"/>
                <a:ext cx="94428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0066"/>
                    </a:solidFill>
                    <a:latin typeface="Arial"/>
                  </a:rPr>
                  <a:t>Voi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384200" y="5943600"/>
                <a:ext cx="9439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660066"/>
                    </a:solidFill>
                    <a:latin typeface="Arial"/>
                  </a:rPr>
                  <a:t>Vide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5" name=""/>
            <p:cNvSpPr/>
            <p:nvPr/>
          </p:nvSpPr>
          <p:spPr>
            <a:xfrm>
              <a:off x="1905120" y="6019920"/>
              <a:ext cx="9442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6" name=""/>
          <p:cNvSpPr/>
          <p:nvPr/>
        </p:nvSpPr>
        <p:spPr>
          <a:xfrm>
            <a:off x="1829160" y="4952880"/>
            <a:ext cx="610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 1/6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Multiservice CBX 500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5830920" y="1676520"/>
            <a:ext cx="3317760" cy="32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1012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Total Slots/14 I/O Sl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ndant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ndant F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ndant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-plane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buClr>
                <a:srgbClr val="fc0128"/>
              </a:buClr>
              <a:buSzPct val="80000"/>
              <a:buFont typeface="Wingdings" charset="2"/>
              <a:buChar char="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12"/>
              </a:spcAft>
              <a:buClr>
                <a:srgbClr val="fc0128"/>
              </a:buClr>
              <a:buSzPct val="135000"/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H="1">
            <a:off x="2255400" y="230508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57200" y="1676520"/>
            <a:ext cx="2971800" cy="45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rt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6 OC3/STM1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2 DS3/E3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2 T1/E1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OC12/STM4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84 DS3/E3 Frame relay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56 10/100 BaseT (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568 DS1 Frame relay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1176 DS1 IMA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3433680" y="1600200"/>
            <a:ext cx="2128680" cy="3247920"/>
            <a:chOff x="3433680" y="1600200"/>
            <a:chExt cx="2128680" cy="3247920"/>
          </a:xfrm>
        </p:grpSpPr>
        <p:grpSp>
          <p:nvGrpSpPr>
            <p:cNvPr id="1062" name=""/>
            <p:cNvGrpSpPr/>
            <p:nvPr/>
          </p:nvGrpSpPr>
          <p:grpSpPr>
            <a:xfrm>
              <a:off x="3433680" y="1600200"/>
              <a:ext cx="2128680" cy="3247920"/>
              <a:chOff x="3433680" y="1600200"/>
              <a:chExt cx="2128680" cy="3247920"/>
            </a:xfrm>
          </p:grpSpPr>
          <p:sp>
            <p:nvSpPr>
              <p:cNvPr id="1063" name=""/>
              <p:cNvSpPr/>
              <p:nvPr/>
            </p:nvSpPr>
            <p:spPr>
              <a:xfrm>
                <a:off x="3433680" y="1646280"/>
                <a:ext cx="2079360" cy="3184560"/>
              </a:xfrm>
              <a:custGeom>
                <a:avLst/>
                <a:gdLst/>
                <a:ahLst/>
                <a:rect l="l" t="t" r="r" b="b"/>
                <a:pathLst>
                  <a:path w="1310" h="2006">
                    <a:moveTo>
                      <a:pt x="0" y="0"/>
                    </a:moveTo>
                    <a:lnTo>
                      <a:pt x="0" y="2005"/>
                    </a:lnTo>
                    <a:lnTo>
                      <a:pt x="1309" y="2005"/>
                    </a:lnTo>
                    <a:lnTo>
                      <a:pt x="130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14840" y="1646280"/>
                <a:ext cx="47520" cy="3201840"/>
              </a:xfrm>
              <a:custGeom>
                <a:avLst/>
                <a:gdLst/>
                <a:ahLst/>
                <a:rect l="l" t="t" r="r" b="b"/>
                <a:pathLst>
                  <a:path w="30" h="2017">
                    <a:moveTo>
                      <a:pt x="0" y="0"/>
                    </a:moveTo>
                    <a:lnTo>
                      <a:pt x="0" y="2016"/>
                    </a:lnTo>
                    <a:lnTo>
                      <a:pt x="29" y="1820"/>
                    </a:lnTo>
                    <a:lnTo>
                      <a:pt x="29" y="1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481200" y="1834920"/>
                <a:ext cx="1933560" cy="1816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495600" y="1834920"/>
                <a:ext cx="1893600" cy="18162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558960" y="1874880"/>
                <a:ext cx="31680" cy="171360"/>
              </a:xfrm>
              <a:custGeom>
                <a:avLst/>
                <a:gdLst/>
                <a:ahLst/>
                <a:rect l="l" t="t" r="r" b="b"/>
                <a:pathLst>
                  <a:path w="20" h="108">
                    <a:moveTo>
                      <a:pt x="19" y="0"/>
                    </a:moveTo>
                    <a:lnTo>
                      <a:pt x="0" y="0"/>
                    </a:lnTo>
                    <a:lnTo>
                      <a:pt x="9" y="107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477960" y="4103640"/>
                <a:ext cx="1947960" cy="3110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501720" y="4135320"/>
                <a:ext cx="1887480" cy="246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052960" y="4165560"/>
                <a:ext cx="176040" cy="17784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100480" y="4232160"/>
                <a:ext cx="55440" cy="46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3477960" y="4464000"/>
                <a:ext cx="1947960" cy="318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501720" y="4497480"/>
                <a:ext cx="1887480" cy="255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052960" y="4530600"/>
                <a:ext cx="176040" cy="17460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100480" y="4599000"/>
                <a:ext cx="55440" cy="41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477960" y="3733560"/>
                <a:ext cx="1947960" cy="314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501720" y="3770280"/>
                <a:ext cx="1887480" cy="245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038560" y="3817800"/>
                <a:ext cx="189000" cy="163440"/>
              </a:xfrm>
              <a:custGeom>
                <a:avLst/>
                <a:gdLst/>
                <a:ahLst/>
                <a:rect l="l" t="t" r="r" b="b"/>
                <a:pathLst>
                  <a:path w="119" h="103">
                    <a:moveTo>
                      <a:pt x="118" y="0"/>
                    </a:moveTo>
                    <a:lnTo>
                      <a:pt x="0" y="0"/>
                    </a:lnTo>
                    <a:lnTo>
                      <a:pt x="60" y="102"/>
                    </a:lnTo>
                    <a:lnTo>
                      <a:pt x="1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938480" y="1682640"/>
                <a:ext cx="444600" cy="9360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943520" y="1600200"/>
                <a:ext cx="44460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4480" rIns="114480" tIns="57240" bIns="572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355760"/>
                    <a:tab algn="l" pos="2711520"/>
                    <a:tab algn="l" pos="4067280"/>
                    <a:tab algn="l" pos="5423040"/>
                    <a:tab algn="l" pos="6778800"/>
                    <a:tab algn="l" pos="8134200"/>
                    <a:tab algn="l" pos="9489960"/>
                    <a:tab algn="l" pos="1084572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Book Antiqua"/>
                  </a:rPr>
                  <a:t>50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257360" y="1851120"/>
                <a:ext cx="241560" cy="28548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485880" y="1841400"/>
                <a:ext cx="190044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246200" y="1834920"/>
                <a:ext cx="0" cy="18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584520" y="183024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687480" y="183492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794040" y="182700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902040" y="182700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000320" y="182700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119480" y="182700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638600" y="1828800"/>
                <a:ext cx="0" cy="18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767120" y="183024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024160" y="1834920"/>
                <a:ext cx="0" cy="18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159160" y="1838160"/>
                <a:ext cx="0" cy="181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895640" y="183492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284440" y="182700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384440" y="1834920"/>
                <a:ext cx="0" cy="181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395600" y="2143080"/>
                <a:ext cx="228600" cy="150984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509720" y="1834920"/>
                <a:ext cx="0" cy="181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9" name=""/>
            <p:cNvGrpSpPr/>
            <p:nvPr/>
          </p:nvGrpSpPr>
          <p:grpSpPr>
            <a:xfrm>
              <a:off x="5033880" y="3733560"/>
              <a:ext cx="228600" cy="228240"/>
              <a:chOff x="5033880" y="3733560"/>
              <a:chExt cx="228600" cy="228240"/>
            </a:xfrm>
          </p:grpSpPr>
          <p:sp>
            <p:nvSpPr>
              <p:cNvPr id="1100" name=""/>
              <p:cNvSpPr/>
              <p:nvPr/>
            </p:nvSpPr>
            <p:spPr>
              <a:xfrm>
                <a:off x="5033880" y="3733560"/>
                <a:ext cx="228600" cy="2282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055120" y="3749760"/>
                <a:ext cx="186840" cy="204480"/>
              </a:xfrm>
              <a:prstGeom prst="rect">
                <a:avLst/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050080" y="3749760"/>
                <a:ext cx="194760" cy="2044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08760" y="3852360"/>
                <a:ext cx="79920" cy="90360"/>
              </a:xfrm>
              <a:prstGeom prst="ellipse">
                <a:avLst/>
              </a:prstGeom>
              <a:solidFill>
                <a:srgbClr val="ffcc00"/>
              </a:solidFill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ultiservice CBX 500 IO Modul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1599840" y="1295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 port OC12/STM-4 ATM UNI (622 Mb/s) - (IR/LR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 port OC-3/STM-1 ATM UNI module (155 Mb/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mode, single-mode optics and G.703 electr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 port DS3/E3 ATM UNI module (45/34 Mb/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 port T1/E1 ATM UNI module (1.5/2.0 Mb/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33"/>
                </a:solidFill>
                <a:latin typeface="Arial"/>
              </a:rPr>
              <a:t>6-port DS3 FR/IP module (45/34 Mb/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33"/>
                </a:solidFill>
                <a:latin typeface="Arial"/>
              </a:rPr>
              <a:t>4-port Ethernet 10/100 BaseT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33"/>
                </a:solidFill>
                <a:latin typeface="Arial"/>
              </a:rPr>
              <a:t>IP Server modul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33"/>
                </a:solidFill>
                <a:latin typeface="Arial"/>
              </a:rPr>
              <a:t>4-port Channelized DS3 (3/1) FR/IP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550"/>
              </a:spcBef>
              <a:buClr>
                <a:srgbClr val="a50021"/>
              </a:buClr>
              <a:buFont typeface="Marlett" charset="2"/>
              <a:buChar char="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ture software upgradable to support up to 16 T1’s of DS0 capacity 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33"/>
                </a:solidFill>
                <a:latin typeface="Arial"/>
              </a:rPr>
              <a:t>3-port Channelized DS3 (3/1) T1 IMA Mo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304920" y="3867120"/>
            <a:ext cx="1371600" cy="1619280"/>
            <a:chOff x="304920" y="3867120"/>
            <a:chExt cx="1371600" cy="1619280"/>
          </a:xfrm>
        </p:grpSpPr>
        <p:sp>
          <p:nvSpPr>
            <p:cNvPr id="1107" name=""/>
            <p:cNvSpPr/>
            <p:nvPr/>
          </p:nvSpPr>
          <p:spPr>
            <a:xfrm>
              <a:off x="304920" y="3867120"/>
              <a:ext cx="1371600" cy="1619280"/>
            </a:xfrm>
            <a:prstGeom prst="irregularSeal2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9131600">
              <a:off x="513000" y="43995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w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ntroducing the GX 550   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ATM “Smart” Core switch that provides capacity and scalability with the ATM service capabilities and cost-effectiveness of an Edge switch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cend first to deliver OC-48/STM-16 trun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800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mized for intelligent transport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formation typ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24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s high availability features required by service provid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24"/>
              </a:spcBef>
              <a:buClr>
                <a:srgbClr val="a50021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s end-to-end QoS needed for a multi-service, multi-user core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238880" y="304920"/>
            <a:ext cx="1078200" cy="1077840"/>
          </a:xfrm>
          <a:custGeom>
            <a:avLst/>
            <a:gdLst>
              <a:gd name="textAreaLeft" fmla="*/ 245880 w 1078200"/>
              <a:gd name="textAreaRight" fmla="*/ 832320 w 1078200"/>
              <a:gd name="textAreaTop" fmla="*/ 245880 h 1077840"/>
              <a:gd name="textAreaBottom" fmla="*/ 831960 h 10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391520" y="68580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W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6095880" y="2133720"/>
            <a:ext cx="2868480" cy="2730240"/>
            <a:chOff x="6095880" y="2133720"/>
            <a:chExt cx="2868480" cy="2730240"/>
          </a:xfrm>
        </p:grpSpPr>
        <p:sp>
          <p:nvSpPr>
            <p:cNvPr id="1114" name=""/>
            <p:cNvSpPr/>
            <p:nvPr/>
          </p:nvSpPr>
          <p:spPr>
            <a:xfrm>
              <a:off x="6095880" y="2133720"/>
              <a:ext cx="2868480" cy="273024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5" name=""/>
            <p:cNvGrpSpPr/>
            <p:nvPr/>
          </p:nvGrpSpPr>
          <p:grpSpPr>
            <a:xfrm>
              <a:off x="6529320" y="2209680"/>
              <a:ext cx="1931760" cy="2208960"/>
              <a:chOff x="6529320" y="2209680"/>
              <a:chExt cx="1931760" cy="2208960"/>
            </a:xfrm>
          </p:grpSpPr>
          <p:sp>
            <p:nvSpPr>
              <p:cNvPr id="1116" name=""/>
              <p:cNvSpPr/>
              <p:nvPr/>
            </p:nvSpPr>
            <p:spPr>
              <a:xfrm>
                <a:off x="6553080" y="2579040"/>
                <a:ext cx="1908000" cy="18396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067520" y="3060000"/>
                <a:ext cx="879480" cy="877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146720" y="2209680"/>
                <a:ext cx="8226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214400" y="2709360"/>
                <a:ext cx="63972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dg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203960" y="3306240"/>
                <a:ext cx="60444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o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529320" y="2480760"/>
                <a:ext cx="662040" cy="6854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2" name=""/>
          <p:cNvGrpSpPr/>
          <p:nvPr/>
        </p:nvGrpSpPr>
        <p:grpSpPr>
          <a:xfrm>
            <a:off x="7238880" y="3657600"/>
            <a:ext cx="533160" cy="781200"/>
            <a:chOff x="7238880" y="3657600"/>
            <a:chExt cx="533160" cy="781200"/>
          </a:xfrm>
        </p:grpSpPr>
        <p:grpSp>
          <p:nvGrpSpPr>
            <p:cNvPr id="1123" name=""/>
            <p:cNvGrpSpPr/>
            <p:nvPr/>
          </p:nvGrpSpPr>
          <p:grpSpPr>
            <a:xfrm>
              <a:off x="7238880" y="3657600"/>
              <a:ext cx="533160" cy="781200"/>
              <a:chOff x="7238880" y="3657600"/>
              <a:chExt cx="533160" cy="781200"/>
            </a:xfrm>
          </p:grpSpPr>
          <p:sp>
            <p:nvSpPr>
              <p:cNvPr id="1124" name=""/>
              <p:cNvSpPr/>
              <p:nvPr/>
            </p:nvSpPr>
            <p:spPr>
              <a:xfrm>
                <a:off x="7238880" y="3657600"/>
                <a:ext cx="517320" cy="776880"/>
              </a:xfrm>
              <a:custGeom>
                <a:avLst/>
                <a:gdLst/>
                <a:ahLst/>
                <a:rect l="l" t="t" r="r" b="b"/>
                <a:pathLst>
                  <a:path w="546" h="927">
                    <a:moveTo>
                      <a:pt x="0" y="0"/>
                    </a:moveTo>
                    <a:lnTo>
                      <a:pt x="0" y="926"/>
                    </a:lnTo>
                    <a:lnTo>
                      <a:pt x="545" y="926"/>
                    </a:lnTo>
                    <a:lnTo>
                      <a:pt x="54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756200" y="3657600"/>
                <a:ext cx="15840" cy="781200"/>
              </a:xfrm>
              <a:custGeom>
                <a:avLst/>
                <a:gdLst/>
                <a:ahLst/>
                <a:rect l="l" t="t" r="r" b="b"/>
                <a:pathLst>
                  <a:path w="17" h="932">
                    <a:moveTo>
                      <a:pt x="0" y="0"/>
                    </a:moveTo>
                    <a:lnTo>
                      <a:pt x="0" y="931"/>
                    </a:lnTo>
                    <a:lnTo>
                      <a:pt x="16" y="840"/>
                    </a:lnTo>
                    <a:lnTo>
                      <a:pt x="16" y="5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6" name=""/>
              <p:cNvGrpSpPr/>
              <p:nvPr/>
            </p:nvGrpSpPr>
            <p:grpSpPr>
              <a:xfrm>
                <a:off x="7249320" y="4290480"/>
                <a:ext cx="491400" cy="133920"/>
                <a:chOff x="7249320" y="4290480"/>
                <a:chExt cx="491400" cy="13392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7249320" y="4290480"/>
                  <a:ext cx="491400" cy="13392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256520" y="4295160"/>
                  <a:ext cx="477360" cy="1231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9" name=""/>
              <p:cNvSpPr/>
              <p:nvPr/>
            </p:nvSpPr>
            <p:spPr>
              <a:xfrm>
                <a:off x="7252920" y="3835800"/>
                <a:ext cx="487080" cy="4392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255800" y="3835800"/>
                <a:ext cx="475560" cy="43920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254000" y="3896280"/>
                <a:ext cx="476640" cy="9000"/>
              </a:xfrm>
              <a:prstGeom prst="rect">
                <a:avLst/>
              </a:prstGeom>
              <a:solidFill>
                <a:srgbClr val="00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05560" y="3835080"/>
                <a:ext cx="0" cy="44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53800" y="3832560"/>
                <a:ext cx="0" cy="44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502040" y="3832560"/>
                <a:ext cx="0" cy="44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599600" y="3833640"/>
                <a:ext cx="0" cy="44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693560" y="3834360"/>
                <a:ext cx="0" cy="44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47120" y="3833640"/>
                <a:ext cx="0" cy="44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52440" y="3835080"/>
                <a:ext cx="0" cy="442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351560" y="3835800"/>
                <a:ext cx="0" cy="43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299360" y="3835800"/>
                <a:ext cx="0" cy="43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1" name=""/>
              <p:cNvGrpSpPr/>
              <p:nvPr/>
            </p:nvGrpSpPr>
            <p:grpSpPr>
              <a:xfrm>
                <a:off x="7281360" y="4313520"/>
                <a:ext cx="426600" cy="92880"/>
                <a:chOff x="7281360" y="4313520"/>
                <a:chExt cx="426600" cy="9288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7281360" y="4313520"/>
                  <a:ext cx="426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7281360" y="4331880"/>
                  <a:ext cx="426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7281360" y="4350240"/>
                  <a:ext cx="426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281360" y="4368600"/>
                  <a:ext cx="426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7281360" y="4388040"/>
                  <a:ext cx="426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7281360" y="4406400"/>
                  <a:ext cx="4266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7249320" y="3664080"/>
                <a:ext cx="491400" cy="162360"/>
                <a:chOff x="7249320" y="3664080"/>
                <a:chExt cx="491400" cy="1623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7249320" y="3664080"/>
                  <a:ext cx="491400" cy="16236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7256520" y="3669840"/>
                  <a:ext cx="477360" cy="14976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7284240" y="3774600"/>
                <a:ext cx="426240" cy="37440"/>
                <a:chOff x="7284240" y="3774600"/>
                <a:chExt cx="426240" cy="3744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7284240" y="3774600"/>
                  <a:ext cx="426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7284240" y="3792960"/>
                  <a:ext cx="426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7284240" y="3812040"/>
                  <a:ext cx="426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7591320" y="3678480"/>
                <a:ext cx="92880" cy="70200"/>
                <a:chOff x="7591320" y="3678480"/>
                <a:chExt cx="92880" cy="702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7591320" y="3678480"/>
                  <a:ext cx="9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7591320" y="3748680"/>
                  <a:ext cx="92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7641360" y="3679920"/>
                  <a:ext cx="12240" cy="65160"/>
                </a:xfrm>
                <a:prstGeom prst="rect">
                  <a:avLst/>
                </a:prstGeom>
                <a:solidFill>
                  <a:srgbClr val="00ff6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9" name=""/>
            <p:cNvGrpSpPr/>
            <p:nvPr/>
          </p:nvGrpSpPr>
          <p:grpSpPr>
            <a:xfrm>
              <a:off x="7284240" y="3657600"/>
              <a:ext cx="90720" cy="120240"/>
              <a:chOff x="7284240" y="3657600"/>
              <a:chExt cx="90720" cy="120240"/>
            </a:xfrm>
          </p:grpSpPr>
          <p:sp>
            <p:nvSpPr>
              <p:cNvPr id="1160" name=""/>
              <p:cNvSpPr/>
              <p:nvPr/>
            </p:nvSpPr>
            <p:spPr>
              <a:xfrm>
                <a:off x="7307640" y="3702960"/>
                <a:ext cx="43920" cy="42120"/>
              </a:xfrm>
              <a:custGeom>
                <a:avLst/>
                <a:gdLst/>
                <a:ahLst/>
                <a:rect l="l" t="t" r="r" b="b"/>
                <a:pathLst>
                  <a:path w="202" h="201">
                    <a:moveTo>
                      <a:pt x="100" y="200"/>
                    </a:moveTo>
                    <a:lnTo>
                      <a:pt x="110" y="200"/>
                    </a:lnTo>
                    <a:lnTo>
                      <a:pt x="120" y="197"/>
                    </a:lnTo>
                    <a:lnTo>
                      <a:pt x="130" y="195"/>
                    </a:lnTo>
                    <a:lnTo>
                      <a:pt x="139" y="191"/>
                    </a:lnTo>
                    <a:lnTo>
                      <a:pt x="148" y="187"/>
                    </a:lnTo>
                    <a:lnTo>
                      <a:pt x="156" y="182"/>
                    </a:lnTo>
                    <a:lnTo>
                      <a:pt x="163" y="177"/>
                    </a:lnTo>
                    <a:lnTo>
                      <a:pt x="171" y="170"/>
                    </a:lnTo>
                    <a:lnTo>
                      <a:pt x="177" y="164"/>
                    </a:lnTo>
                    <a:lnTo>
                      <a:pt x="183" y="156"/>
                    </a:lnTo>
                    <a:lnTo>
                      <a:pt x="188" y="148"/>
                    </a:lnTo>
                    <a:lnTo>
                      <a:pt x="192" y="139"/>
                    </a:lnTo>
                    <a:lnTo>
                      <a:pt x="196" y="130"/>
                    </a:lnTo>
                    <a:lnTo>
                      <a:pt x="197" y="120"/>
                    </a:lnTo>
                    <a:lnTo>
                      <a:pt x="200" y="110"/>
                    </a:lnTo>
                    <a:lnTo>
                      <a:pt x="201" y="101"/>
                    </a:lnTo>
                    <a:lnTo>
                      <a:pt x="200" y="90"/>
                    </a:lnTo>
                    <a:lnTo>
                      <a:pt x="197" y="80"/>
                    </a:lnTo>
                    <a:lnTo>
                      <a:pt x="196" y="69"/>
                    </a:lnTo>
                    <a:lnTo>
                      <a:pt x="192" y="61"/>
                    </a:lnTo>
                    <a:lnTo>
                      <a:pt x="188" y="51"/>
                    </a:lnTo>
                    <a:lnTo>
                      <a:pt x="183" y="44"/>
                    </a:lnTo>
                    <a:lnTo>
                      <a:pt x="177" y="35"/>
                    </a:lnTo>
                    <a:lnTo>
                      <a:pt x="171" y="29"/>
                    </a:lnTo>
                    <a:lnTo>
                      <a:pt x="163" y="22"/>
                    </a:lnTo>
                    <a:lnTo>
                      <a:pt x="156" y="17"/>
                    </a:lnTo>
                    <a:lnTo>
                      <a:pt x="148" y="12"/>
                    </a:lnTo>
                    <a:lnTo>
                      <a:pt x="139" y="8"/>
                    </a:lnTo>
                    <a:lnTo>
                      <a:pt x="130" y="4"/>
                    </a:lnTo>
                    <a:lnTo>
                      <a:pt x="120" y="2"/>
                    </a:lnTo>
                    <a:lnTo>
                      <a:pt x="110" y="0"/>
                    </a:lnTo>
                    <a:lnTo>
                      <a:pt x="100" y="0"/>
                    </a:lnTo>
                    <a:lnTo>
                      <a:pt x="89" y="0"/>
                    </a:lnTo>
                    <a:lnTo>
                      <a:pt x="79" y="2"/>
                    </a:lnTo>
                    <a:lnTo>
                      <a:pt x="69" y="4"/>
                    </a:lnTo>
                    <a:lnTo>
                      <a:pt x="61" y="8"/>
                    </a:lnTo>
                    <a:lnTo>
                      <a:pt x="52" y="12"/>
                    </a:lnTo>
                    <a:lnTo>
                      <a:pt x="43" y="17"/>
                    </a:lnTo>
                    <a:lnTo>
                      <a:pt x="36" y="22"/>
                    </a:lnTo>
                    <a:lnTo>
                      <a:pt x="29" y="29"/>
                    </a:lnTo>
                    <a:lnTo>
                      <a:pt x="22" y="35"/>
                    </a:lnTo>
                    <a:lnTo>
                      <a:pt x="17" y="44"/>
                    </a:lnTo>
                    <a:lnTo>
                      <a:pt x="11" y="51"/>
                    </a:lnTo>
                    <a:lnTo>
                      <a:pt x="8" y="61"/>
                    </a:lnTo>
                    <a:lnTo>
                      <a:pt x="4" y="69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1"/>
                    </a:lnTo>
                    <a:lnTo>
                      <a:pt x="0" y="110"/>
                    </a:lnTo>
                    <a:lnTo>
                      <a:pt x="2" y="120"/>
                    </a:lnTo>
                    <a:lnTo>
                      <a:pt x="4" y="130"/>
                    </a:lnTo>
                    <a:lnTo>
                      <a:pt x="8" y="139"/>
                    </a:lnTo>
                    <a:lnTo>
                      <a:pt x="11" y="148"/>
                    </a:lnTo>
                    <a:lnTo>
                      <a:pt x="17" y="156"/>
                    </a:lnTo>
                    <a:lnTo>
                      <a:pt x="22" y="164"/>
                    </a:lnTo>
                    <a:lnTo>
                      <a:pt x="29" y="170"/>
                    </a:lnTo>
                    <a:lnTo>
                      <a:pt x="36" y="177"/>
                    </a:lnTo>
                    <a:lnTo>
                      <a:pt x="43" y="182"/>
                    </a:lnTo>
                    <a:lnTo>
                      <a:pt x="52" y="187"/>
                    </a:lnTo>
                    <a:lnTo>
                      <a:pt x="61" y="191"/>
                    </a:lnTo>
                    <a:lnTo>
                      <a:pt x="69" y="195"/>
                    </a:lnTo>
                    <a:lnTo>
                      <a:pt x="79" y="197"/>
                    </a:lnTo>
                    <a:lnTo>
                      <a:pt x="89" y="200"/>
                    </a:lnTo>
                    <a:lnTo>
                      <a:pt x="100" y="200"/>
                    </a:lnTo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284240" y="3657600"/>
                <a:ext cx="45000" cy="87840"/>
              </a:xfrm>
              <a:custGeom>
                <a:avLst/>
                <a:gdLst/>
                <a:ahLst/>
                <a:rect l="l" t="t" r="r" b="b"/>
                <a:pathLst>
                  <a:path w="207" h="417">
                    <a:moveTo>
                      <a:pt x="206" y="0"/>
                    </a:moveTo>
                    <a:lnTo>
                      <a:pt x="0" y="0"/>
                    </a:lnTo>
                    <a:lnTo>
                      <a:pt x="0" y="416"/>
                    </a:lnTo>
                    <a:lnTo>
                      <a:pt x="206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329240" y="3657600"/>
                <a:ext cx="45720" cy="87840"/>
              </a:xfrm>
              <a:custGeom>
                <a:avLst/>
                <a:gdLst/>
                <a:ahLst/>
                <a:rect l="l" t="t" r="r" b="b"/>
                <a:pathLst>
                  <a:path w="210" h="417">
                    <a:moveTo>
                      <a:pt x="209" y="416"/>
                    </a:moveTo>
                    <a:lnTo>
                      <a:pt x="209" y="0"/>
                    </a:lnTo>
                    <a:lnTo>
                      <a:pt x="0" y="0"/>
                    </a:lnTo>
                    <a:lnTo>
                      <a:pt x="209" y="416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3" name=""/>
              <p:cNvGrpSpPr/>
              <p:nvPr/>
            </p:nvGrpSpPr>
            <p:grpSpPr>
              <a:xfrm>
                <a:off x="7284240" y="3751200"/>
                <a:ext cx="90720" cy="26640"/>
                <a:chOff x="7284240" y="3751200"/>
                <a:chExt cx="90720" cy="2664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7317720" y="3751200"/>
                  <a:ext cx="7920" cy="26640"/>
                </a:xfrm>
                <a:custGeom>
                  <a:avLst/>
                  <a:gdLst/>
                  <a:ahLst/>
                  <a:rect l="l" t="t" r="r" b="b"/>
                  <a:pathLst>
                    <a:path w="37" h="128">
                      <a:moveTo>
                        <a:pt x="20" y="43"/>
                      </a:moveTo>
                      <a:lnTo>
                        <a:pt x="20" y="21"/>
                      </a:lnTo>
                      <a:lnTo>
                        <a:pt x="20" y="20"/>
                      </a:lnTo>
                      <a:lnTo>
                        <a:pt x="20" y="19"/>
                      </a:lnTo>
                      <a:lnTo>
                        <a:pt x="20" y="19"/>
                      </a:lnTo>
                      <a:lnTo>
                        <a:pt x="20" y="18"/>
                      </a:lnTo>
                      <a:lnTo>
                        <a:pt x="20" y="17"/>
                      </a:lnTo>
                      <a:lnTo>
                        <a:pt x="20" y="16"/>
                      </a:lnTo>
                      <a:lnTo>
                        <a:pt x="20" y="16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8" y="14"/>
                      </a:lnTo>
                      <a:lnTo>
                        <a:pt x="18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5" y="14"/>
                      </a:lnTo>
                      <a:lnTo>
                        <a:pt x="14" y="14"/>
                      </a:lnTo>
                      <a:lnTo>
                        <a:pt x="14" y="14"/>
                      </a:lnTo>
                      <a:lnTo>
                        <a:pt x="14" y="16"/>
                      </a:lnTo>
                      <a:lnTo>
                        <a:pt x="14" y="16"/>
                      </a:lnTo>
                      <a:lnTo>
                        <a:pt x="14" y="17"/>
                      </a:lnTo>
                      <a:lnTo>
                        <a:pt x="14" y="18"/>
                      </a:lnTo>
                      <a:lnTo>
                        <a:pt x="14" y="19"/>
                      </a:lnTo>
                      <a:lnTo>
                        <a:pt x="14" y="19"/>
                      </a:lnTo>
                      <a:lnTo>
                        <a:pt x="14" y="20"/>
                      </a:lnTo>
                      <a:lnTo>
                        <a:pt x="14" y="21"/>
                      </a:lnTo>
                      <a:lnTo>
                        <a:pt x="14" y="108"/>
                      </a:lnTo>
                      <a:lnTo>
                        <a:pt x="14" y="109"/>
                      </a:lnTo>
                      <a:lnTo>
                        <a:pt x="14" y="111"/>
                      </a:lnTo>
                      <a:lnTo>
                        <a:pt x="14" y="111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4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5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0" y="109"/>
                      </a:lnTo>
                      <a:lnTo>
                        <a:pt x="20" y="108"/>
                      </a:lnTo>
                      <a:lnTo>
                        <a:pt x="20" y="107"/>
                      </a:lnTo>
                      <a:lnTo>
                        <a:pt x="20" y="107"/>
                      </a:lnTo>
                      <a:lnTo>
                        <a:pt x="20" y="106"/>
                      </a:lnTo>
                      <a:lnTo>
                        <a:pt x="20" y="105"/>
                      </a:lnTo>
                      <a:lnTo>
                        <a:pt x="20" y="103"/>
                      </a:lnTo>
                      <a:lnTo>
                        <a:pt x="20" y="76"/>
                      </a:lnTo>
                      <a:lnTo>
                        <a:pt x="36" y="76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2"/>
                      </a:lnTo>
                      <a:lnTo>
                        <a:pt x="35" y="114"/>
                      </a:lnTo>
                      <a:lnTo>
                        <a:pt x="34" y="117"/>
                      </a:lnTo>
                      <a:lnTo>
                        <a:pt x="32" y="118"/>
                      </a:lnTo>
                      <a:lnTo>
                        <a:pt x="32" y="120"/>
                      </a:lnTo>
                      <a:lnTo>
                        <a:pt x="31" y="122"/>
                      </a:lnTo>
                      <a:lnTo>
                        <a:pt x="30" y="123"/>
                      </a:lnTo>
                      <a:lnTo>
                        <a:pt x="28" y="124"/>
                      </a:lnTo>
                      <a:lnTo>
                        <a:pt x="27" y="125"/>
                      </a:lnTo>
                      <a:lnTo>
                        <a:pt x="25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0" y="126"/>
                      </a:lnTo>
                      <a:lnTo>
                        <a:pt x="19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4" y="126"/>
                      </a:lnTo>
                      <a:lnTo>
                        <a:pt x="12" y="126"/>
                      </a:lnTo>
                      <a:lnTo>
                        <a:pt x="10" y="126"/>
                      </a:lnTo>
                      <a:lnTo>
                        <a:pt x="9" y="125"/>
                      </a:lnTo>
                      <a:lnTo>
                        <a:pt x="8" y="125"/>
                      </a:lnTo>
                      <a:lnTo>
                        <a:pt x="6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2" y="120"/>
                      </a:lnTo>
                      <a:lnTo>
                        <a:pt x="1" y="118"/>
                      </a:lnTo>
                      <a:lnTo>
                        <a:pt x="0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0" y="12"/>
                      </a:lnTo>
                      <a:lnTo>
                        <a:pt x="0" y="9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2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7" y="1"/>
                      </a:lnTo>
                      <a:lnTo>
                        <a:pt x="28" y="2"/>
                      </a:lnTo>
                      <a:lnTo>
                        <a:pt x="29" y="3"/>
                      </a:lnTo>
                      <a:lnTo>
                        <a:pt x="31" y="4"/>
                      </a:lnTo>
                      <a:lnTo>
                        <a:pt x="32" y="5"/>
                      </a:lnTo>
                      <a:lnTo>
                        <a:pt x="32" y="7"/>
                      </a:lnTo>
                      <a:lnTo>
                        <a:pt x="34" y="9"/>
                      </a:lnTo>
                      <a:lnTo>
                        <a:pt x="35" y="12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6" y="43"/>
                      </a:lnTo>
                      <a:lnTo>
                        <a:pt x="20" y="4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7334280" y="3751200"/>
                  <a:ext cx="6840" cy="26280"/>
                </a:xfrm>
                <a:custGeom>
                  <a:avLst/>
                  <a:gdLst/>
                  <a:ahLst/>
                  <a:rect l="l" t="t" r="r" b="b"/>
                  <a:pathLst>
                    <a:path w="33" h="126">
                      <a:moveTo>
                        <a:pt x="0" y="125"/>
                      </a:moveTo>
                      <a:lnTo>
                        <a:pt x="0" y="0"/>
                      </a:lnTo>
                      <a:lnTo>
                        <a:pt x="31" y="0"/>
                      </a:lnTo>
                      <a:lnTo>
                        <a:pt x="31" y="15"/>
                      </a:lnTo>
                      <a:lnTo>
                        <a:pt x="15" y="15"/>
                      </a:lnTo>
                      <a:lnTo>
                        <a:pt x="15" y="52"/>
                      </a:lnTo>
                      <a:lnTo>
                        <a:pt x="31" y="52"/>
                      </a:lnTo>
                      <a:lnTo>
                        <a:pt x="31" y="67"/>
                      </a:lnTo>
                      <a:lnTo>
                        <a:pt x="15" y="72"/>
                      </a:lnTo>
                      <a:lnTo>
                        <a:pt x="15" y="108"/>
                      </a:lnTo>
                      <a:lnTo>
                        <a:pt x="32" y="108"/>
                      </a:lnTo>
                      <a:lnTo>
                        <a:pt x="32" y="125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7349400" y="3751200"/>
                  <a:ext cx="9000" cy="26280"/>
                </a:xfrm>
                <a:custGeom>
                  <a:avLst/>
                  <a:gdLst/>
                  <a:ahLst/>
                  <a:rect l="l" t="t" r="r" b="b"/>
                  <a:pathLst>
                    <a:path w="42" h="126">
                      <a:moveTo>
                        <a:pt x="28" y="80"/>
                      </a:moveTo>
                      <a:lnTo>
                        <a:pt x="28" y="0"/>
                      </a:lnTo>
                      <a:lnTo>
                        <a:pt x="41" y="0"/>
                      </a:lnTo>
                      <a:lnTo>
                        <a:pt x="41" y="125"/>
                      </a:lnTo>
                      <a:lnTo>
                        <a:pt x="24" y="125"/>
                      </a:lnTo>
                      <a:lnTo>
                        <a:pt x="10" y="36"/>
                      </a:lnTo>
                      <a:lnTo>
                        <a:pt x="1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  <a:lnTo>
                        <a:pt x="18" y="0"/>
                      </a:lnTo>
                      <a:lnTo>
                        <a:pt x="28" y="8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7301520" y="3751200"/>
                  <a:ext cx="7920" cy="26640"/>
                </a:xfrm>
                <a:custGeom>
                  <a:avLst/>
                  <a:gdLst/>
                  <a:ahLst/>
                  <a:rect l="l" t="t" r="r" b="b"/>
                  <a:pathLst>
                    <a:path w="38" h="128">
                      <a:moveTo>
                        <a:pt x="15" y="103"/>
                      </a:moveTo>
                      <a:lnTo>
                        <a:pt x="15" y="105"/>
                      </a:lnTo>
                      <a:lnTo>
                        <a:pt x="15" y="106"/>
                      </a:lnTo>
                      <a:lnTo>
                        <a:pt x="15" y="107"/>
                      </a:lnTo>
                      <a:lnTo>
                        <a:pt x="15" y="108"/>
                      </a:lnTo>
                      <a:lnTo>
                        <a:pt x="15" y="108"/>
                      </a:lnTo>
                      <a:lnTo>
                        <a:pt x="15" y="109"/>
                      </a:lnTo>
                      <a:lnTo>
                        <a:pt x="15" y="109"/>
                      </a:lnTo>
                      <a:lnTo>
                        <a:pt x="15" y="111"/>
                      </a:lnTo>
                      <a:lnTo>
                        <a:pt x="16" y="111"/>
                      </a:lnTo>
                      <a:lnTo>
                        <a:pt x="16" y="111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6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11"/>
                      </a:lnTo>
                      <a:lnTo>
                        <a:pt x="20" y="109"/>
                      </a:lnTo>
                      <a:lnTo>
                        <a:pt x="21" y="109"/>
                      </a:lnTo>
                      <a:lnTo>
                        <a:pt x="21" y="108"/>
                      </a:lnTo>
                      <a:lnTo>
                        <a:pt x="21" y="108"/>
                      </a:lnTo>
                      <a:lnTo>
                        <a:pt x="21" y="107"/>
                      </a:lnTo>
                      <a:lnTo>
                        <a:pt x="21" y="106"/>
                      </a:lnTo>
                      <a:lnTo>
                        <a:pt x="21" y="105"/>
                      </a:lnTo>
                      <a:lnTo>
                        <a:pt x="21" y="103"/>
                      </a:lnTo>
                      <a:lnTo>
                        <a:pt x="21" y="84"/>
                      </a:lnTo>
                      <a:lnTo>
                        <a:pt x="21" y="83"/>
                      </a:lnTo>
                      <a:lnTo>
                        <a:pt x="20" y="79"/>
                      </a:lnTo>
                      <a:lnTo>
                        <a:pt x="20" y="77"/>
                      </a:lnTo>
                      <a:lnTo>
                        <a:pt x="19" y="75"/>
                      </a:lnTo>
                      <a:lnTo>
                        <a:pt x="16" y="72"/>
                      </a:lnTo>
                      <a:lnTo>
                        <a:pt x="15" y="70"/>
                      </a:lnTo>
                      <a:lnTo>
                        <a:pt x="13" y="68"/>
                      </a:lnTo>
                      <a:lnTo>
                        <a:pt x="11" y="65"/>
                      </a:lnTo>
                      <a:lnTo>
                        <a:pt x="9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4" y="56"/>
                      </a:lnTo>
                      <a:lnTo>
                        <a:pt x="3" y="53"/>
                      </a:lnTo>
                      <a:lnTo>
                        <a:pt x="2" y="51"/>
                      </a:lnTo>
                      <a:lnTo>
                        <a:pt x="0" y="48"/>
                      </a:lnTo>
                      <a:lnTo>
                        <a:pt x="0" y="45"/>
                      </a:lnTo>
                      <a:lnTo>
                        <a:pt x="0" y="20"/>
                      </a:lnTo>
                      <a:lnTo>
                        <a:pt x="0" y="17"/>
                      </a:lnTo>
                      <a:lnTo>
                        <a:pt x="2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9" y="1"/>
                      </a:lnTo>
                      <a:lnTo>
                        <a:pt x="11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28" y="1"/>
                      </a:lnTo>
                      <a:lnTo>
                        <a:pt x="30" y="2"/>
                      </a:lnTo>
                      <a:lnTo>
                        <a:pt x="31" y="3"/>
                      </a:lnTo>
                      <a:lnTo>
                        <a:pt x="32" y="4"/>
                      </a:lnTo>
                      <a:lnTo>
                        <a:pt x="32" y="6"/>
                      </a:lnTo>
                      <a:lnTo>
                        <a:pt x="33" y="7"/>
                      </a:lnTo>
                      <a:lnTo>
                        <a:pt x="34" y="9"/>
                      </a:lnTo>
                      <a:lnTo>
                        <a:pt x="36" y="12"/>
                      </a:lnTo>
                      <a:lnTo>
                        <a:pt x="37" y="14"/>
                      </a:lnTo>
                      <a:lnTo>
                        <a:pt x="37" y="17"/>
                      </a:lnTo>
                      <a:lnTo>
                        <a:pt x="37" y="20"/>
                      </a:lnTo>
                      <a:lnTo>
                        <a:pt x="37" y="42"/>
                      </a:lnTo>
                      <a:lnTo>
                        <a:pt x="22" y="42"/>
                      </a:lnTo>
                      <a:lnTo>
                        <a:pt x="22" y="22"/>
                      </a:lnTo>
                      <a:lnTo>
                        <a:pt x="22" y="21"/>
                      </a:lnTo>
                      <a:lnTo>
                        <a:pt x="22" y="19"/>
                      </a:lnTo>
                      <a:lnTo>
                        <a:pt x="22" y="19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7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5"/>
                      </a:lnTo>
                      <a:lnTo>
                        <a:pt x="21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7" y="14"/>
                      </a:lnTo>
                      <a:lnTo>
                        <a:pt x="16" y="14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5"/>
                      </a:lnTo>
                      <a:lnTo>
                        <a:pt x="16" y="17"/>
                      </a:lnTo>
                      <a:lnTo>
                        <a:pt x="16" y="17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6" y="19"/>
                      </a:lnTo>
                      <a:lnTo>
                        <a:pt x="16" y="19"/>
                      </a:lnTo>
                      <a:lnTo>
                        <a:pt x="15" y="21"/>
                      </a:lnTo>
                      <a:lnTo>
                        <a:pt x="15" y="22"/>
                      </a:lnTo>
                      <a:lnTo>
                        <a:pt x="15" y="39"/>
                      </a:lnTo>
                      <a:lnTo>
                        <a:pt x="16" y="41"/>
                      </a:lnTo>
                      <a:lnTo>
                        <a:pt x="16" y="42"/>
                      </a:lnTo>
                      <a:lnTo>
                        <a:pt x="17" y="44"/>
                      </a:lnTo>
                      <a:lnTo>
                        <a:pt x="19" y="47"/>
                      </a:lnTo>
                      <a:lnTo>
                        <a:pt x="20" y="48"/>
                      </a:lnTo>
                      <a:lnTo>
                        <a:pt x="22" y="50"/>
                      </a:lnTo>
                      <a:lnTo>
                        <a:pt x="24" y="52"/>
                      </a:lnTo>
                      <a:lnTo>
                        <a:pt x="26" y="54"/>
                      </a:lnTo>
                      <a:lnTo>
                        <a:pt x="28" y="56"/>
                      </a:lnTo>
                      <a:lnTo>
                        <a:pt x="30" y="59"/>
                      </a:lnTo>
                      <a:lnTo>
                        <a:pt x="32" y="61"/>
                      </a:lnTo>
                      <a:lnTo>
                        <a:pt x="32" y="62"/>
                      </a:lnTo>
                      <a:lnTo>
                        <a:pt x="34" y="65"/>
                      </a:lnTo>
                      <a:lnTo>
                        <a:pt x="36" y="67"/>
                      </a:lnTo>
                      <a:lnTo>
                        <a:pt x="37" y="70"/>
                      </a:lnTo>
                      <a:lnTo>
                        <a:pt x="37" y="72"/>
                      </a:lnTo>
                      <a:lnTo>
                        <a:pt x="37" y="106"/>
                      </a:lnTo>
                      <a:lnTo>
                        <a:pt x="37" y="108"/>
                      </a:lnTo>
                      <a:lnTo>
                        <a:pt x="36" y="112"/>
                      </a:lnTo>
                      <a:lnTo>
                        <a:pt x="36" y="114"/>
                      </a:lnTo>
                      <a:lnTo>
                        <a:pt x="34" y="117"/>
                      </a:lnTo>
                      <a:lnTo>
                        <a:pt x="33" y="118"/>
                      </a:lnTo>
                      <a:lnTo>
                        <a:pt x="32" y="120"/>
                      </a:lnTo>
                      <a:lnTo>
                        <a:pt x="32" y="122"/>
                      </a:lnTo>
                      <a:lnTo>
                        <a:pt x="31" y="123"/>
                      </a:lnTo>
                      <a:lnTo>
                        <a:pt x="28" y="124"/>
                      </a:lnTo>
                      <a:lnTo>
                        <a:pt x="28" y="125"/>
                      </a:lnTo>
                      <a:lnTo>
                        <a:pt x="26" y="125"/>
                      </a:lnTo>
                      <a:lnTo>
                        <a:pt x="24" y="126"/>
                      </a:lnTo>
                      <a:lnTo>
                        <a:pt x="23" y="126"/>
                      </a:lnTo>
                      <a:lnTo>
                        <a:pt x="21" y="126"/>
                      </a:lnTo>
                      <a:lnTo>
                        <a:pt x="20" y="126"/>
                      </a:lnTo>
                      <a:lnTo>
                        <a:pt x="17" y="127"/>
                      </a:lnTo>
                      <a:lnTo>
                        <a:pt x="16" y="126"/>
                      </a:lnTo>
                      <a:lnTo>
                        <a:pt x="15" y="126"/>
                      </a:lnTo>
                      <a:lnTo>
                        <a:pt x="13" y="126"/>
                      </a:lnTo>
                      <a:lnTo>
                        <a:pt x="12" y="126"/>
                      </a:lnTo>
                      <a:lnTo>
                        <a:pt x="10" y="125"/>
                      </a:lnTo>
                      <a:lnTo>
                        <a:pt x="8" y="125"/>
                      </a:lnTo>
                      <a:lnTo>
                        <a:pt x="8" y="124"/>
                      </a:lnTo>
                      <a:lnTo>
                        <a:pt x="5" y="123"/>
                      </a:lnTo>
                      <a:lnTo>
                        <a:pt x="4" y="122"/>
                      </a:lnTo>
                      <a:lnTo>
                        <a:pt x="4" y="120"/>
                      </a:lnTo>
                      <a:lnTo>
                        <a:pt x="3" y="118"/>
                      </a:lnTo>
                      <a:lnTo>
                        <a:pt x="2" y="117"/>
                      </a:lnTo>
                      <a:lnTo>
                        <a:pt x="0" y="114"/>
                      </a:lnTo>
                      <a:lnTo>
                        <a:pt x="0" y="112"/>
                      </a:lnTo>
                      <a:lnTo>
                        <a:pt x="0" y="108"/>
                      </a:lnTo>
                      <a:lnTo>
                        <a:pt x="0" y="106"/>
                      </a:lnTo>
                      <a:lnTo>
                        <a:pt x="0" y="76"/>
                      </a:lnTo>
                      <a:lnTo>
                        <a:pt x="15" y="76"/>
                      </a:lnTo>
                      <a:lnTo>
                        <a:pt x="15" y="103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7284240" y="3751200"/>
                  <a:ext cx="9360" cy="26280"/>
                </a:xfrm>
                <a:custGeom>
                  <a:avLst/>
                  <a:gdLst/>
                  <a:ahLst/>
                  <a:rect l="l" t="t" r="r" b="b"/>
                  <a:pathLst>
                    <a:path w="44" h="126">
                      <a:moveTo>
                        <a:pt x="9" y="0"/>
                      </a:moveTo>
                      <a:lnTo>
                        <a:pt x="33" y="0"/>
                      </a:lnTo>
                      <a:lnTo>
                        <a:pt x="43" y="125"/>
                      </a:lnTo>
                      <a:lnTo>
                        <a:pt x="27" y="125"/>
                      </a:lnTo>
                      <a:lnTo>
                        <a:pt x="25" y="93"/>
                      </a:lnTo>
                      <a:lnTo>
                        <a:pt x="24" y="78"/>
                      </a:lnTo>
                      <a:lnTo>
                        <a:pt x="20" y="16"/>
                      </a:lnTo>
                      <a:lnTo>
                        <a:pt x="19" y="16"/>
                      </a:lnTo>
                      <a:lnTo>
                        <a:pt x="14" y="78"/>
                      </a:lnTo>
                      <a:lnTo>
                        <a:pt x="24" y="78"/>
                      </a:lnTo>
                      <a:lnTo>
                        <a:pt x="25" y="93"/>
                      </a:lnTo>
                      <a:lnTo>
                        <a:pt x="14" y="93"/>
                      </a:lnTo>
                      <a:lnTo>
                        <a:pt x="12" y="125"/>
                      </a:lnTo>
                      <a:lnTo>
                        <a:pt x="0" y="125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7366680" y="3751200"/>
                  <a:ext cx="8280" cy="26280"/>
                </a:xfrm>
                <a:custGeom>
                  <a:avLst/>
                  <a:gdLst/>
                  <a:ahLst/>
                  <a:rect l="l" t="t" r="r" b="b"/>
                  <a:pathLst>
                    <a:path w="39" h="126">
                      <a:moveTo>
                        <a:pt x="0" y="0"/>
                      </a:moveTo>
                      <a:lnTo>
                        <a:pt x="17" y="0"/>
                      </a:lnTo>
                      <a:lnTo>
                        <a:pt x="20" y="0"/>
                      </a:lnTo>
                      <a:lnTo>
                        <a:pt x="22" y="0"/>
                      </a:lnTo>
                      <a:lnTo>
                        <a:pt x="23" y="0"/>
                      </a:lnTo>
                      <a:lnTo>
                        <a:pt x="26" y="0"/>
                      </a:lnTo>
                      <a:lnTo>
                        <a:pt x="28" y="1"/>
                      </a:lnTo>
                      <a:lnTo>
                        <a:pt x="29" y="2"/>
                      </a:lnTo>
                      <a:lnTo>
                        <a:pt x="30" y="4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4" y="10"/>
                      </a:lnTo>
                      <a:lnTo>
                        <a:pt x="35" y="11"/>
                      </a:lnTo>
                      <a:lnTo>
                        <a:pt x="35" y="14"/>
                      </a:lnTo>
                      <a:lnTo>
                        <a:pt x="36" y="17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8" y="28"/>
                      </a:lnTo>
                      <a:lnTo>
                        <a:pt x="38" y="102"/>
                      </a:lnTo>
                      <a:lnTo>
                        <a:pt x="38" y="104"/>
                      </a:lnTo>
                      <a:lnTo>
                        <a:pt x="36" y="106"/>
                      </a:lnTo>
                      <a:lnTo>
                        <a:pt x="36" y="108"/>
                      </a:lnTo>
                      <a:lnTo>
                        <a:pt x="35" y="111"/>
                      </a:lnTo>
                      <a:lnTo>
                        <a:pt x="35" y="113"/>
                      </a:lnTo>
                      <a:lnTo>
                        <a:pt x="34" y="114"/>
                      </a:lnTo>
                      <a:lnTo>
                        <a:pt x="33" y="115"/>
                      </a:lnTo>
                      <a:lnTo>
                        <a:pt x="33" y="118"/>
                      </a:lnTo>
                      <a:lnTo>
                        <a:pt x="32" y="119"/>
                      </a:lnTo>
                      <a:lnTo>
                        <a:pt x="30" y="120"/>
                      </a:lnTo>
                      <a:lnTo>
                        <a:pt x="28" y="121"/>
                      </a:lnTo>
                      <a:lnTo>
                        <a:pt x="28" y="123"/>
                      </a:lnTo>
                      <a:lnTo>
                        <a:pt x="26" y="124"/>
                      </a:lnTo>
                      <a:lnTo>
                        <a:pt x="23" y="124"/>
                      </a:lnTo>
                      <a:lnTo>
                        <a:pt x="22" y="125"/>
                      </a:lnTo>
                      <a:lnTo>
                        <a:pt x="20" y="125"/>
                      </a:lnTo>
                      <a:lnTo>
                        <a:pt x="15" y="112"/>
                      </a:lnTo>
                      <a:lnTo>
                        <a:pt x="17" y="112"/>
                      </a:lnTo>
                      <a:lnTo>
                        <a:pt x="17" y="112"/>
                      </a:lnTo>
                      <a:lnTo>
                        <a:pt x="18" y="112"/>
                      </a:lnTo>
                      <a:lnTo>
                        <a:pt x="18" y="112"/>
                      </a:lnTo>
                      <a:lnTo>
                        <a:pt x="19" y="112"/>
                      </a:lnTo>
                      <a:lnTo>
                        <a:pt x="19" y="112"/>
                      </a:lnTo>
                      <a:lnTo>
                        <a:pt x="20" y="112"/>
                      </a:lnTo>
                      <a:lnTo>
                        <a:pt x="20" y="111"/>
                      </a:lnTo>
                      <a:lnTo>
                        <a:pt x="21" y="111"/>
                      </a:lnTo>
                      <a:lnTo>
                        <a:pt x="21" y="109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2" y="108"/>
                      </a:lnTo>
                      <a:lnTo>
                        <a:pt x="22" y="107"/>
                      </a:lnTo>
                      <a:lnTo>
                        <a:pt x="22" y="106"/>
                      </a:lnTo>
                      <a:lnTo>
                        <a:pt x="22" y="105"/>
                      </a:lnTo>
                      <a:lnTo>
                        <a:pt x="22" y="104"/>
                      </a:lnTo>
                      <a:lnTo>
                        <a:pt x="22" y="20"/>
                      </a:lnTo>
                      <a:lnTo>
                        <a:pt x="22" y="20"/>
                      </a:lnTo>
                      <a:lnTo>
                        <a:pt x="22" y="18"/>
                      </a:lnTo>
                      <a:lnTo>
                        <a:pt x="22" y="17"/>
                      </a:lnTo>
                      <a:lnTo>
                        <a:pt x="22" y="16"/>
                      </a:lnTo>
                      <a:lnTo>
                        <a:pt x="22" y="15"/>
                      </a:lnTo>
                      <a:lnTo>
                        <a:pt x="21" y="14"/>
                      </a:lnTo>
                      <a:lnTo>
                        <a:pt x="21" y="14"/>
                      </a:lnTo>
                      <a:lnTo>
                        <a:pt x="21" y="13"/>
                      </a:lnTo>
                      <a:lnTo>
                        <a:pt x="20" y="13"/>
                      </a:lnTo>
                      <a:lnTo>
                        <a:pt x="20" y="12"/>
                      </a:lnTo>
                      <a:lnTo>
                        <a:pt x="19" y="12"/>
                      </a:lnTo>
                      <a:lnTo>
                        <a:pt x="19" y="12"/>
                      </a:lnTo>
                      <a:lnTo>
                        <a:pt x="18" y="12"/>
                      </a:lnTo>
                      <a:lnTo>
                        <a:pt x="18" y="12"/>
                      </a:lnTo>
                      <a:lnTo>
                        <a:pt x="17" y="12"/>
                      </a:lnTo>
                      <a:lnTo>
                        <a:pt x="17" y="12"/>
                      </a:lnTo>
                      <a:lnTo>
                        <a:pt x="15" y="12"/>
                      </a:lnTo>
                      <a:lnTo>
                        <a:pt x="15" y="112"/>
                      </a:lnTo>
                      <a:lnTo>
                        <a:pt x="20" y="125"/>
                      </a:lnTo>
                      <a:lnTo>
                        <a:pt x="0" y="1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401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scend Communications, Inc. Confidential and Proprietar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17:52:34Z</dcterms:created>
  <dc:creator>Ellen Mondro - Core Switching</dc:creator>
  <dc:description/>
  <dc:language>en-US</dc:language>
  <cp:lastModifiedBy>Ascend Authorized User</cp:lastModifiedBy>
  <cp:lastPrinted>1998-02-03T20:41:04Z</cp:lastPrinted>
  <dcterms:modified xsi:type="dcterms:W3CDTF">1998-03-30T20:42:34Z</dcterms:modified>
  <cp:revision>62</cp:revision>
  <dc:subject/>
  <dc:title>TTYM.,M  </dc:title>
</cp:coreProperties>
</file>