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392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064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8756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392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064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61880" y="228240"/>
            <a:ext cx="7095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960" cy="6146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804160" y="6095880"/>
            <a:ext cx="3398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1d2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f9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9000"/>
              </a:lnSpc>
              <a:spcBef>
                <a:spcPts val="901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9000"/>
              </a:lnSpc>
              <a:spcBef>
                <a:spcPts val="901"/>
              </a:spcBef>
              <a:buClr>
                <a:srgbClr val="6633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59720" y="6705720"/>
            <a:ext cx="571680" cy="1396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80" y="3301920"/>
            <a:ext cx="82440" cy="28260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482760" y="762120"/>
            <a:ext cx="546120" cy="736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4344840" y="6653160"/>
            <a:ext cx="4143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1997   Ascend Communications, Inc. / BAD-BACKGROUND / - 06/18/97 - Page </a:t>
            </a:r>
            <a:fld id="{B18AC026-3335-4EC6-B1DB-114889908565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35160" cy="558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15400" y="0"/>
            <a:ext cx="216000" cy="66168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498680"/>
            <a:ext cx="5943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f94"/>
                </a:solidFill>
                <a:latin typeface="Arial"/>
              </a:rPr>
              <a:t>Broadband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Market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0560" y="851040"/>
            <a:ext cx="1033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91480" y="831960"/>
            <a:ext cx="2233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73800"/>
            <a:ext cx="2286000" cy="393480"/>
          </a:xfrm>
          <a:prstGeom prst="rect">
            <a:avLst/>
          </a:prstGeom>
          <a:solidFill>
            <a:srgbClr val="99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0" y="5427720"/>
            <a:ext cx="20304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191440" y="5880240"/>
            <a:ext cx="5461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Frame Relay &amp; ATM Timeline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28760" y="1598760"/>
          <a:ext cx="8715240" cy="44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598760"/>
                    <a:ext cx="8715240" cy="44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1120320" y="2206800"/>
            <a:ext cx="5180400" cy="2676240"/>
            <a:chOff x="1120320" y="2206800"/>
            <a:chExt cx="5180400" cy="2676240"/>
          </a:xfrm>
        </p:grpSpPr>
        <p:sp>
          <p:nvSpPr>
            <p:cNvPr id="138" name=""/>
            <p:cNvSpPr/>
            <p:nvPr/>
          </p:nvSpPr>
          <p:spPr>
            <a:xfrm>
              <a:off x="1120320" y="4592520"/>
              <a:ext cx="20592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ame Relay Concep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4080" y="4280040"/>
              <a:ext cx="1821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rame Relay Foru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31320" y="3946680"/>
              <a:ext cx="72396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ria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2600" y="3565440"/>
              <a:ext cx="114480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arly Adopte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7440" y="2941560"/>
              <a:ext cx="18921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rastructure Market Begi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56040" y="2206800"/>
              <a:ext cx="14446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ff0033"/>
                </a:buClr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ainstream Market Begi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25640" y="4114800"/>
              <a:ext cx="1108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3 Years La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98840" y="4484520"/>
              <a:ext cx="10987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072560" y="5923080"/>
            <a:ext cx="1433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scend Broadb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orldwide Frame Relay - Market Forecas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63520" y="1906560"/>
          <a:ext cx="749304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906560"/>
                    <a:ext cx="749304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541560" y="5935680"/>
            <a:ext cx="201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Vertical Systems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hanges in the Interne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50280" y="1568520"/>
            <a:ext cx="6225480" cy="4666320"/>
            <a:chOff x="1250280" y="1568520"/>
            <a:chExt cx="6225480" cy="4666320"/>
          </a:xfrm>
        </p:grpSpPr>
        <p:sp>
          <p:nvSpPr>
            <p:cNvPr id="153" name=""/>
            <p:cNvSpPr/>
            <p:nvPr/>
          </p:nvSpPr>
          <p:spPr>
            <a:xfrm>
              <a:off x="2220840" y="1711440"/>
              <a:ext cx="0" cy="386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76560" y="557676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76560" y="364320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6560" y="171144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840" y="5576760"/>
              <a:ext cx="461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220840" y="5576400"/>
              <a:ext cx="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760920" y="5576400"/>
              <a:ext cx="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292720" y="5576400"/>
              <a:ext cx="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6832440" y="5576400"/>
              <a:ext cx="0" cy="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20840" y="2678040"/>
              <a:ext cx="4613400" cy="2900520"/>
            </a:xfrm>
            <a:custGeom>
              <a:avLst/>
              <a:gdLst/>
              <a:ahLst/>
              <a:rect l="l" t="t" r="r" b="b"/>
              <a:pathLst>
                <a:path w="2906" h="1827">
                  <a:moveTo>
                    <a:pt x="0" y="1826"/>
                  </a:moveTo>
                  <a:lnTo>
                    <a:pt x="970" y="1217"/>
                  </a:lnTo>
                  <a:lnTo>
                    <a:pt x="1935" y="608"/>
                  </a:lnTo>
                  <a:lnTo>
                    <a:pt x="2905" y="0"/>
                  </a:lnTo>
                </a:path>
              </a:pathLst>
            </a:custGeom>
            <a:noFill/>
            <a:ln cap="rnd"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93840" y="5543640"/>
              <a:ext cx="55800" cy="6804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17" y="0"/>
                  </a:moveTo>
                  <a:lnTo>
                    <a:pt x="34" y="21"/>
                  </a:lnTo>
                  <a:lnTo>
                    <a:pt x="17" y="42"/>
                  </a:lnTo>
                  <a:lnTo>
                    <a:pt x="0" y="21"/>
                  </a:lnTo>
                  <a:lnTo>
                    <a:pt x="17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33920" y="4576680"/>
              <a:ext cx="56880" cy="68400"/>
            </a:xfrm>
            <a:custGeom>
              <a:avLst/>
              <a:gdLst/>
              <a:ahLst/>
              <a:rect l="l" t="t" r="r" b="b"/>
              <a:pathLst>
                <a:path w="36" h="43">
                  <a:moveTo>
                    <a:pt x="17" y="0"/>
                  </a:moveTo>
                  <a:lnTo>
                    <a:pt x="35" y="21"/>
                  </a:lnTo>
                  <a:lnTo>
                    <a:pt x="17" y="42"/>
                  </a:lnTo>
                  <a:lnTo>
                    <a:pt x="0" y="21"/>
                  </a:lnTo>
                  <a:lnTo>
                    <a:pt x="17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65720" y="3611520"/>
              <a:ext cx="55440" cy="6660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17" y="0"/>
                  </a:moveTo>
                  <a:lnTo>
                    <a:pt x="34" y="20"/>
                  </a:lnTo>
                  <a:lnTo>
                    <a:pt x="17" y="41"/>
                  </a:lnTo>
                  <a:lnTo>
                    <a:pt x="0" y="20"/>
                  </a:lnTo>
                  <a:lnTo>
                    <a:pt x="17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05440" y="2644920"/>
              <a:ext cx="55800" cy="66600"/>
            </a:xfrm>
            <a:custGeom>
              <a:avLst/>
              <a:gdLst/>
              <a:ahLst/>
              <a:rect l="l" t="t" r="r" b="b"/>
              <a:pathLst>
                <a:path w="35" h="42">
                  <a:moveTo>
                    <a:pt x="17" y="0"/>
                  </a:moveTo>
                  <a:lnTo>
                    <a:pt x="34" y="21"/>
                  </a:lnTo>
                  <a:lnTo>
                    <a:pt x="17" y="41"/>
                  </a:lnTo>
                  <a:lnTo>
                    <a:pt x="0" y="21"/>
                  </a:lnTo>
                  <a:lnTo>
                    <a:pt x="17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9600" y="5435640"/>
              <a:ext cx="284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66160" y="3502080"/>
              <a:ext cx="482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2360" y="1568520"/>
              <a:ext cx="680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19520" y="569916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-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61520" y="5699160"/>
              <a:ext cx="1460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B Brow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54880" y="5699160"/>
              <a:ext cx="1283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ava Appl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59400" y="5699160"/>
              <a:ext cx="1116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ava Vid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78200" y="5929200"/>
              <a:ext cx="83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l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05000" y="2341440"/>
              <a:ext cx="883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raf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50280" y="2627280"/>
              <a:ext cx="101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Volu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orldwide Internet Users - Market Forecas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12720" y="1905120"/>
          <a:ext cx="827892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905120"/>
                    <a:ext cx="827892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393240" y="5783400"/>
            <a:ext cx="198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Montgomery Secur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6520" y="2049480"/>
            <a:ext cx="1829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pperplate Gothic Bold"/>
              </a:rPr>
              <a:t>CAGR - Internet Users:  58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TM Market Overview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03600" y="1264680"/>
            <a:ext cx="7067160" cy="4478760"/>
            <a:chOff x="903600" y="1264680"/>
            <a:chExt cx="7067160" cy="4478760"/>
          </a:xfrm>
        </p:grpSpPr>
        <p:sp>
          <p:nvSpPr>
            <p:cNvPr id="184" name=""/>
            <p:cNvSpPr/>
            <p:nvPr/>
          </p:nvSpPr>
          <p:spPr>
            <a:xfrm rot="20340000">
              <a:off x="991800" y="2239920"/>
              <a:ext cx="57308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0033"/>
                  </a:solidFill>
                  <a:latin typeface="Arial"/>
                </a:rPr>
                <a:t>It’s BIG!!!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4770360" y="2917800"/>
            <a:ext cx="3200400" cy="2825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70360" y="2917800"/>
                      <a:ext cx="3200400" cy="28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orldwide ATM - Market Forecas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046160" y="1839960"/>
          <a:ext cx="7761240" cy="41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1839960"/>
                    <a:ext cx="776124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6237000" y="6087960"/>
            <a:ext cx="201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Vertical Systems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orldwide WAN ATM Switch - Market Forecast</a:t>
            </a:r>
            <a:r>
              <a:rPr b="1" lang="en-US" sz="3600" spc="-1" strike="noStrike">
                <a:solidFill>
                  <a:srgbClr val="151f9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41320" y="1828800"/>
          <a:ext cx="758664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828800"/>
                    <a:ext cx="75866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7530480" y="5783400"/>
            <a:ext cx="909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I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2240" y="22824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AN ATM &amp; Frame Relay Switching - Market Forecas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84120" y="1600200"/>
          <a:ext cx="875844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1600200"/>
                    <a:ext cx="875844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302960" y="5249880"/>
            <a:ext cx="126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Data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36960" y="1973160"/>
            <a:ext cx="2757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GR - Frame Relay Switch Revenues:  2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GR - WAN ATM Switches Revenues: 61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TM in Productio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1760400"/>
          <a:ext cx="80773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60400"/>
                    <a:ext cx="8077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90920" y="6060960"/>
            <a:ext cx="166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orrester Research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TM Connected to WAN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1836720"/>
          <a:ext cx="807696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36720"/>
                    <a:ext cx="807696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165440" y="5068800"/>
            <a:ext cx="1667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orrester Research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hy Integrated Access Over ATM?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0192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ctr">
              <a:lnSpc>
                <a:spcPct val="89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"9 out of 10 users intend to purchase ATM services from carriers instead of  building private networks."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04240" y="4367160"/>
            <a:ext cx="374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33"/>
                </a:solidFill>
                <a:latin typeface="Arial"/>
              </a:rPr>
              <a:t>Forrester Research 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Broadband Access Marke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09480" y="1666800"/>
          <a:ext cx="779148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66800"/>
                    <a:ext cx="77914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344200" y="3506760"/>
            <a:ext cx="359424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band Access Incl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 Swi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DM 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urvey 200 Users for Multimedia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09480" y="1679400"/>
          <a:ext cx="7848720" cy="44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9400"/>
                    <a:ext cx="784872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44320" y="5389560"/>
            <a:ext cx="103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Data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35160" cy="5587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915400" y="0"/>
            <a:ext cx="216000" cy="66168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498680"/>
            <a:ext cx="5943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e94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10560" y="851040"/>
            <a:ext cx="1033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91480" y="831960"/>
            <a:ext cx="2233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473800"/>
            <a:ext cx="2286000" cy="393480"/>
          </a:xfrm>
          <a:prstGeom prst="rect">
            <a:avLst/>
          </a:prstGeom>
          <a:solidFill>
            <a:srgbClr val="99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0" y="5427720"/>
            <a:ext cx="20304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191440" y="5880240"/>
            <a:ext cx="5461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ervice Provider Deregulation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20760" y="2211480"/>
            <a:ext cx="7770960" cy="25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BOCs are becoming competi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Cs are bypassing RBO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/ALTs are providing local compet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TOs markets are ope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6720" y="5043600"/>
            <a:ext cx="4011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33"/>
                </a:solidFill>
                <a:latin typeface="Arial"/>
              </a:rPr>
              <a:t>"The WAR has Begu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ide Area ATM Usage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2640" y="2003400"/>
            <a:ext cx="7924680" cy="32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ice Providers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new markets or peri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infrastructure will be wireless and fiber 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M will be the weapon used by service providers to open new mar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TM Critical Event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222200" y="1714680"/>
            <a:ext cx="7220160" cy="4213800"/>
            <a:chOff x="1222200" y="1714680"/>
            <a:chExt cx="7220160" cy="4213800"/>
          </a:xfrm>
        </p:grpSpPr>
        <p:sp>
          <p:nvSpPr>
            <p:cNvPr id="72" name=""/>
            <p:cNvSpPr/>
            <p:nvPr/>
          </p:nvSpPr>
          <p:spPr>
            <a:xfrm>
              <a:off x="141372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33"/>
                  </a:solidFill>
                  <a:latin typeface="Arial"/>
                </a:rPr>
                <a:t>199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9464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7412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5216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3308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1112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9060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70080" y="5576760"/>
              <a:ext cx="66672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22200" y="1714680"/>
              <a:ext cx="4037040" cy="3816000"/>
            </a:xfrm>
            <a:custGeom>
              <a:avLst/>
              <a:gdLst/>
              <a:ahLst/>
              <a:rect l="l" t="t" r="r" b="b"/>
              <a:pathLst>
                <a:path w="2543" h="2404">
                  <a:moveTo>
                    <a:pt x="2542" y="0"/>
                  </a:moveTo>
                  <a:lnTo>
                    <a:pt x="0" y="0"/>
                  </a:lnTo>
                  <a:lnTo>
                    <a:pt x="0" y="2403"/>
                  </a:lnTo>
                  <a:lnTo>
                    <a:pt x="2542" y="2403"/>
                  </a:lnTo>
                  <a:lnTo>
                    <a:pt x="2542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14680"/>
              <a:ext cx="3184560" cy="3816000"/>
            </a:xfrm>
            <a:custGeom>
              <a:avLst/>
              <a:gdLst/>
              <a:ahLst/>
              <a:rect l="l" t="t" r="r" b="b"/>
              <a:pathLst>
                <a:path w="2006" h="2404">
                  <a:moveTo>
                    <a:pt x="2005" y="0"/>
                  </a:moveTo>
                  <a:lnTo>
                    <a:pt x="0" y="0"/>
                  </a:lnTo>
                  <a:lnTo>
                    <a:pt x="0" y="2403"/>
                  </a:lnTo>
                  <a:lnTo>
                    <a:pt x="2005" y="2403"/>
                  </a:lnTo>
                  <a:lnTo>
                    <a:pt x="2005" y="0"/>
                  </a:lnTo>
                </a:path>
              </a:pathLst>
            </a:custGeom>
            <a:solidFill>
              <a:srgbClr val="ff00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74456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62404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350352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38300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26248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14196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2144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7900920" y="5452920"/>
              <a:ext cx="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2200" y="5216400"/>
              <a:ext cx="4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22200" y="4579920"/>
              <a:ext cx="4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2200" y="3943440"/>
              <a:ext cx="4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2200" y="3306600"/>
              <a:ext cx="4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2200" y="2668680"/>
              <a:ext cx="4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2200" y="2031840"/>
              <a:ext cx="4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22200" y="553572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22200" y="489744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2200" y="426096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2200" y="362412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2200" y="298764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22200" y="235116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2200" y="1714680"/>
              <a:ext cx="8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50800" y="4660920"/>
              <a:ext cx="1768680" cy="728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94160" y="4818240"/>
              <a:ext cx="12848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AN price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ras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46200" y="3903840"/>
              <a:ext cx="3166920" cy="728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10960" y="4060800"/>
              <a:ext cx="21718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regulation unleash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arrier ATM investme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71880" y="4251240"/>
              <a:ext cx="2019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45040" y="3586320"/>
              <a:ext cx="8542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05520" y="4226040"/>
              <a:ext cx="2381400" cy="1143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27280" y="4626000"/>
              <a:ext cx="19616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sumer ATM  hi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55760" y="1792440"/>
              <a:ext cx="381960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34320" y="1969920"/>
              <a:ext cx="1678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oice ATM work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6280" y="2521080"/>
              <a:ext cx="2732040" cy="88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2400" y="2651040"/>
              <a:ext cx="173052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icrosof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mbedded ATM AP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 softwa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64280" y="1792440"/>
              <a:ext cx="311148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9640" y="1969920"/>
              <a:ext cx="19526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M PBX Integ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2240" y="75960"/>
            <a:ext cx="7324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he State of High Speed Network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88960" y="1758960"/>
          <a:ext cx="832644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1758960"/>
                    <a:ext cx="8326440" cy="4660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a2c1fe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85560" y="151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Where is the ATM Market?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141640" y="1406520"/>
          <a:ext cx="6649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1640" y="1406520"/>
                    <a:ext cx="6649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39640" y="3403440"/>
          <a:ext cx="844416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403440"/>
                    <a:ext cx="84441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ATM Based Provision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04880" y="1525680"/>
          <a:ext cx="822168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525680"/>
                    <a:ext cx="822168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7288560" y="5021280"/>
            <a:ext cx="1433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Ascend Broadb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68040" y="5664240"/>
            <a:ext cx="733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AT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i="1" lang="en-US" sz="2000" spc="-1" strike="noStrike">
                <a:solidFill>
                  <a:srgbClr val="ff0033"/>
                </a:solidFill>
                <a:latin typeface="Arial"/>
              </a:rPr>
              <a:t>the Underlying Technology for Broadb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hift in Processing Power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8040" y="1595520"/>
          <a:ext cx="8050320" cy="43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1595520"/>
                    <a:ext cx="80503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7148880" y="5465880"/>
            <a:ext cx="1393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e Yankee Gro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9T22:36:16Z</dcterms:created>
  <dc:creator>TKraskey</dc:creator>
  <dc:description/>
  <cp:keywords>Master</cp:keywords>
  <dc:language>en-US</dc:language>
  <cp:lastModifiedBy>Timothy J. Kraskey</cp:lastModifiedBy>
  <cp:lastPrinted>1997-02-24T20:51:34Z</cp:lastPrinted>
  <dcterms:modified xsi:type="dcterms:W3CDTF">1997-08-10T17:39:02Z</dcterms:modified>
  <cp:revision>206</cp:revision>
  <dc:subject>Sahara Slide Master</dc:subject>
  <dc:title>Sahara Networks, Inc.</dc:title>
</cp:coreProperties>
</file>