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6159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35244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699400" cy="7632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1800" cy="29196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480" y="3301920"/>
            <a:ext cx="82440" cy="282564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82760" y="762120"/>
            <a:ext cx="558720" cy="749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 txBox="1"/>
          <p:nvPr/>
        </p:nvSpPr>
        <p:spPr>
          <a:xfrm>
            <a:off x="4332240" y="6651720"/>
            <a:ext cx="41688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©1997, Ascend Communications, Inc. / Pipeline 85 Presentation- 10/30/97 - Page </a:t>
            </a:r>
            <a:fld id="{7351E97F-F393-4C79-94D1-7C4F1C4879A8}" type="slidenum"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1d29c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image" Target="../media/image56.wmf"/><Relationship Id="rId14" Type="http://schemas.openxmlformats.org/officeDocument/2006/relationships/image" Target="../media/image57.wmf"/><Relationship Id="rId15" Type="http://schemas.openxmlformats.org/officeDocument/2006/relationships/image" Target="../media/image58.wmf"/><Relationship Id="rId16" Type="http://schemas.openxmlformats.org/officeDocument/2006/relationships/image" Target="../media/image59.wmf"/><Relationship Id="rId17" Type="http://schemas.openxmlformats.org/officeDocument/2006/relationships/image" Target="../media/image60.wmf"/><Relationship Id="rId18" Type="http://schemas.openxmlformats.org/officeDocument/2006/relationships/image" Target="../media/image61.wmf"/><Relationship Id="rId19" Type="http://schemas.openxmlformats.org/officeDocument/2006/relationships/image" Target="../media/image62.wmf"/><Relationship Id="rId20" Type="http://schemas.openxmlformats.org/officeDocument/2006/relationships/image" Target="../media/image63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48120" cy="5600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0"/>
            <a:ext cx="76212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174840" y="1498680"/>
            <a:ext cx="5375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151e94"/>
                </a:solidFill>
                <a:latin typeface="Arial"/>
                <a:ea typeface="Arial"/>
              </a:rPr>
              <a:t>The Pipe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151e94"/>
                </a:solidFill>
                <a:latin typeface="Arial"/>
                <a:ea typeface="Arial"/>
              </a:rPr>
              <a:t>Product Fami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37200" y="851040"/>
            <a:ext cx="981360" cy="0"/>
          </a:xfrm>
          <a:prstGeom prst="line">
            <a:avLst/>
          </a:prstGeom>
          <a:ln w="38160">
            <a:solidFill>
              <a:srgbClr val="ebb1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99400" y="831960"/>
            <a:ext cx="2219040" cy="0"/>
          </a:xfrm>
          <a:prstGeom prst="line">
            <a:avLst/>
          </a:prstGeom>
          <a:ln w="12600">
            <a:solidFill>
              <a:srgbClr val="ebb1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8360" y="5756400"/>
            <a:ext cx="7365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473800"/>
            <a:ext cx="1944720" cy="24912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00" y="549900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1d29c5"/>
                </a:solidFill>
                <a:latin typeface="Arial"/>
                <a:ea typeface="Arial"/>
              </a:rPr>
              <a:t>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8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9-2-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880" y="5448240"/>
            <a:ext cx="1838520" cy="0"/>
          </a:xfrm>
          <a:prstGeom prst="line">
            <a:avLst/>
          </a:prstGeom>
          <a:ln w="38160">
            <a:solidFill>
              <a:srgbClr val="ebb1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40" y="5427720"/>
            <a:ext cx="2016000" cy="0"/>
          </a:xfrm>
          <a:prstGeom prst="line">
            <a:avLst/>
          </a:prstGeom>
          <a:ln w="12600">
            <a:solidFill>
              <a:srgbClr val="ebb1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1d29c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104840" cy="43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58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7176960" y="1798560"/>
            <a:ext cx="1687680" cy="9968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7112160" y="2182680"/>
            <a:ext cx="2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130</a:t>
            </a:r>
            <a:br>
              <a:rPr sz="3200"/>
            </a:br>
            <a:r>
              <a:rPr b="1" lang="en-US" sz="2000" spc="-1" strike="noStrike">
                <a:solidFill>
                  <a:srgbClr val="151f94"/>
                </a:solidFill>
                <a:latin typeface="Arial"/>
                <a:ea typeface="Arial"/>
              </a:rPr>
              <a:t>Mission-Critical Remote Networking &amp; Internet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82520" y="4241880"/>
            <a:ext cx="51134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sed line access with dial-up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d CSU/D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MP, telnet, sys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HCP server sp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838760" y="4241880"/>
            <a:ext cx="411480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v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Sec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C 4:1 data compres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ver BRI)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327400" y="2165400"/>
            <a:ext cx="2260440" cy="184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328840" y="2171520"/>
            <a:ext cx="2270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486320" y="283212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79600" y="2913120"/>
            <a:ext cx="434016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3540240" y="2620800"/>
            <a:ext cx="957240" cy="397440"/>
            <a:chOff x="3540240" y="2620800"/>
            <a:chExt cx="957240" cy="397440"/>
          </a:xfrm>
        </p:grpSpPr>
        <p:sp>
          <p:nvSpPr>
            <p:cNvPr id="725" name=""/>
            <p:cNvSpPr/>
            <p:nvPr/>
          </p:nvSpPr>
          <p:spPr>
            <a:xfrm>
              <a:off x="3770280" y="2981160"/>
              <a:ext cx="717840" cy="9720"/>
            </a:xfrm>
            <a:custGeom>
              <a:avLst/>
              <a:gdLst/>
              <a:ahLst/>
              <a:rect l="0" t="0" r="r" b="b"/>
              <a:pathLst>
                <a:path w="1994" h="27">
                  <a:moveTo>
                    <a:pt x="0" y="27"/>
                  </a:moveTo>
                  <a:lnTo>
                    <a:pt x="0" y="0"/>
                  </a:lnTo>
                  <a:lnTo>
                    <a:pt x="1994" y="0"/>
                  </a:lnTo>
                  <a:lnTo>
                    <a:pt x="1985" y="14"/>
                  </a:lnTo>
                  <a:lnTo>
                    <a:pt x="198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06c6e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71720" y="2987640"/>
              <a:ext cx="714600" cy="30600"/>
            </a:xfrm>
            <a:custGeom>
              <a:avLst/>
              <a:gdLst/>
              <a:ahLst/>
              <a:rect l="0" t="0" r="r" b="b"/>
              <a:pathLst>
                <a:path w="1985" h="85">
                  <a:moveTo>
                    <a:pt x="1976" y="85"/>
                  </a:moveTo>
                  <a:lnTo>
                    <a:pt x="1980" y="85"/>
                  </a:lnTo>
                  <a:lnTo>
                    <a:pt x="1985" y="85"/>
                  </a:lnTo>
                  <a:lnTo>
                    <a:pt x="1985" y="81"/>
                  </a:lnTo>
                  <a:lnTo>
                    <a:pt x="1985" y="76"/>
                  </a:lnTo>
                  <a:lnTo>
                    <a:pt x="1985" y="0"/>
                  </a:lnTo>
                  <a:lnTo>
                    <a:pt x="1958" y="0"/>
                  </a:lnTo>
                  <a:lnTo>
                    <a:pt x="1897" y="0"/>
                  </a:lnTo>
                  <a:lnTo>
                    <a:pt x="1800" y="0"/>
                  </a:lnTo>
                  <a:lnTo>
                    <a:pt x="1676" y="0"/>
                  </a:lnTo>
                  <a:lnTo>
                    <a:pt x="1526" y="0"/>
                  </a:lnTo>
                  <a:lnTo>
                    <a:pt x="1363" y="0"/>
                  </a:lnTo>
                  <a:lnTo>
                    <a:pt x="1187" y="0"/>
                  </a:lnTo>
                  <a:lnTo>
                    <a:pt x="1006" y="0"/>
                  </a:lnTo>
                  <a:lnTo>
                    <a:pt x="824" y="0"/>
                  </a:lnTo>
                  <a:lnTo>
                    <a:pt x="648" y="0"/>
                  </a:lnTo>
                  <a:lnTo>
                    <a:pt x="480" y="0"/>
                  </a:lnTo>
                  <a:lnTo>
                    <a:pt x="330" y="0"/>
                  </a:lnTo>
                  <a:lnTo>
                    <a:pt x="202" y="0"/>
                  </a:lnTo>
                  <a:lnTo>
                    <a:pt x="10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97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71720" y="2809800"/>
              <a:ext cx="725760" cy="173520"/>
            </a:xfrm>
            <a:custGeom>
              <a:avLst/>
              <a:gdLst/>
              <a:ahLst/>
              <a:rect l="0" t="0" r="r" b="b"/>
              <a:pathLst>
                <a:path w="2016" h="482">
                  <a:moveTo>
                    <a:pt x="1985" y="482"/>
                  </a:moveTo>
                  <a:lnTo>
                    <a:pt x="1985" y="478"/>
                  </a:lnTo>
                  <a:lnTo>
                    <a:pt x="1989" y="473"/>
                  </a:lnTo>
                  <a:lnTo>
                    <a:pt x="1994" y="465"/>
                  </a:lnTo>
                  <a:lnTo>
                    <a:pt x="1998" y="456"/>
                  </a:lnTo>
                  <a:lnTo>
                    <a:pt x="1998" y="447"/>
                  </a:lnTo>
                  <a:lnTo>
                    <a:pt x="2003" y="438"/>
                  </a:lnTo>
                  <a:lnTo>
                    <a:pt x="2003" y="420"/>
                  </a:lnTo>
                  <a:lnTo>
                    <a:pt x="2007" y="412"/>
                  </a:lnTo>
                  <a:lnTo>
                    <a:pt x="2007" y="398"/>
                  </a:lnTo>
                  <a:lnTo>
                    <a:pt x="2011" y="385"/>
                  </a:lnTo>
                  <a:lnTo>
                    <a:pt x="2011" y="368"/>
                  </a:lnTo>
                  <a:lnTo>
                    <a:pt x="2016" y="353"/>
                  </a:lnTo>
                  <a:lnTo>
                    <a:pt x="2016" y="344"/>
                  </a:lnTo>
                  <a:lnTo>
                    <a:pt x="2016" y="331"/>
                  </a:lnTo>
                  <a:lnTo>
                    <a:pt x="2016" y="318"/>
                  </a:lnTo>
                  <a:lnTo>
                    <a:pt x="2016" y="309"/>
                  </a:lnTo>
                  <a:lnTo>
                    <a:pt x="2003" y="309"/>
                  </a:lnTo>
                  <a:lnTo>
                    <a:pt x="2003" y="265"/>
                  </a:lnTo>
                  <a:lnTo>
                    <a:pt x="2016" y="265"/>
                  </a:lnTo>
                  <a:lnTo>
                    <a:pt x="2016" y="256"/>
                  </a:lnTo>
                  <a:lnTo>
                    <a:pt x="2016" y="243"/>
                  </a:lnTo>
                  <a:lnTo>
                    <a:pt x="2016" y="230"/>
                  </a:lnTo>
                  <a:lnTo>
                    <a:pt x="2011" y="217"/>
                  </a:lnTo>
                  <a:lnTo>
                    <a:pt x="2011" y="203"/>
                  </a:lnTo>
                  <a:lnTo>
                    <a:pt x="2011" y="186"/>
                  </a:lnTo>
                  <a:lnTo>
                    <a:pt x="2007" y="172"/>
                  </a:lnTo>
                  <a:lnTo>
                    <a:pt x="2007" y="155"/>
                  </a:lnTo>
                  <a:lnTo>
                    <a:pt x="2003" y="142"/>
                  </a:lnTo>
                  <a:lnTo>
                    <a:pt x="2003" y="128"/>
                  </a:lnTo>
                  <a:lnTo>
                    <a:pt x="1998" y="119"/>
                  </a:lnTo>
                  <a:lnTo>
                    <a:pt x="1998" y="105"/>
                  </a:lnTo>
                  <a:lnTo>
                    <a:pt x="1994" y="97"/>
                  </a:lnTo>
                  <a:lnTo>
                    <a:pt x="1989" y="88"/>
                  </a:lnTo>
                  <a:lnTo>
                    <a:pt x="1985" y="79"/>
                  </a:lnTo>
                  <a:lnTo>
                    <a:pt x="1985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4" y="83"/>
                  </a:lnTo>
                  <a:lnTo>
                    <a:pt x="8" y="92"/>
                  </a:lnTo>
                  <a:lnTo>
                    <a:pt x="13" y="101"/>
                  </a:lnTo>
                  <a:lnTo>
                    <a:pt x="17" y="110"/>
                  </a:lnTo>
                  <a:lnTo>
                    <a:pt x="17" y="124"/>
                  </a:lnTo>
                  <a:lnTo>
                    <a:pt x="22" y="137"/>
                  </a:lnTo>
                  <a:lnTo>
                    <a:pt x="26" y="146"/>
                  </a:lnTo>
                  <a:lnTo>
                    <a:pt x="26" y="164"/>
                  </a:lnTo>
                  <a:lnTo>
                    <a:pt x="30" y="177"/>
                  </a:lnTo>
                  <a:lnTo>
                    <a:pt x="30" y="190"/>
                  </a:lnTo>
                  <a:lnTo>
                    <a:pt x="35" y="203"/>
                  </a:lnTo>
                  <a:lnTo>
                    <a:pt x="35" y="221"/>
                  </a:lnTo>
                  <a:lnTo>
                    <a:pt x="35" y="234"/>
                  </a:lnTo>
                  <a:lnTo>
                    <a:pt x="35" y="252"/>
                  </a:lnTo>
                  <a:lnTo>
                    <a:pt x="35" y="265"/>
                  </a:lnTo>
                  <a:lnTo>
                    <a:pt x="35" y="309"/>
                  </a:lnTo>
                  <a:lnTo>
                    <a:pt x="35" y="318"/>
                  </a:lnTo>
                  <a:lnTo>
                    <a:pt x="35" y="327"/>
                  </a:lnTo>
                  <a:lnTo>
                    <a:pt x="35" y="340"/>
                  </a:lnTo>
                  <a:lnTo>
                    <a:pt x="35" y="349"/>
                  </a:lnTo>
                  <a:lnTo>
                    <a:pt x="35" y="358"/>
                  </a:lnTo>
                  <a:lnTo>
                    <a:pt x="30" y="368"/>
                  </a:lnTo>
                  <a:lnTo>
                    <a:pt x="30" y="381"/>
                  </a:lnTo>
                  <a:lnTo>
                    <a:pt x="30" y="390"/>
                  </a:lnTo>
                  <a:lnTo>
                    <a:pt x="26" y="403"/>
                  </a:lnTo>
                  <a:lnTo>
                    <a:pt x="26" y="412"/>
                  </a:lnTo>
                  <a:lnTo>
                    <a:pt x="22" y="420"/>
                  </a:lnTo>
                  <a:lnTo>
                    <a:pt x="17" y="434"/>
                  </a:lnTo>
                  <a:lnTo>
                    <a:pt x="13" y="447"/>
                  </a:lnTo>
                  <a:lnTo>
                    <a:pt x="8" y="456"/>
                  </a:lnTo>
                  <a:lnTo>
                    <a:pt x="4" y="469"/>
                  </a:lnTo>
                  <a:lnTo>
                    <a:pt x="0" y="482"/>
                  </a:lnTo>
                  <a:lnTo>
                    <a:pt x="1985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40240" y="2625840"/>
              <a:ext cx="227520" cy="389160"/>
            </a:xfrm>
            <a:custGeom>
              <a:avLst/>
              <a:gdLst/>
              <a:ahLst/>
              <a:rect l="0" t="0" r="r" b="b"/>
              <a:pathLst>
                <a:path w="632" h="1081">
                  <a:moveTo>
                    <a:pt x="632" y="502"/>
                  </a:moveTo>
                  <a:lnTo>
                    <a:pt x="0" y="0"/>
                  </a:lnTo>
                  <a:lnTo>
                    <a:pt x="0" y="552"/>
                  </a:lnTo>
                  <a:lnTo>
                    <a:pt x="0" y="556"/>
                  </a:lnTo>
                  <a:lnTo>
                    <a:pt x="0" y="561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4"/>
                  </a:lnTo>
                  <a:lnTo>
                    <a:pt x="0" y="578"/>
                  </a:lnTo>
                  <a:lnTo>
                    <a:pt x="4" y="578"/>
                  </a:lnTo>
                  <a:lnTo>
                    <a:pt x="4" y="583"/>
                  </a:lnTo>
                  <a:lnTo>
                    <a:pt x="8" y="587"/>
                  </a:lnTo>
                  <a:lnTo>
                    <a:pt x="13" y="587"/>
                  </a:lnTo>
                  <a:lnTo>
                    <a:pt x="17" y="596"/>
                  </a:lnTo>
                  <a:lnTo>
                    <a:pt x="35" y="609"/>
                  </a:lnTo>
                  <a:lnTo>
                    <a:pt x="66" y="631"/>
                  </a:lnTo>
                  <a:lnTo>
                    <a:pt x="105" y="662"/>
                  </a:lnTo>
                  <a:lnTo>
                    <a:pt x="149" y="702"/>
                  </a:lnTo>
                  <a:lnTo>
                    <a:pt x="203" y="741"/>
                  </a:lnTo>
                  <a:lnTo>
                    <a:pt x="256" y="785"/>
                  </a:lnTo>
                  <a:lnTo>
                    <a:pt x="314" y="830"/>
                  </a:lnTo>
                  <a:lnTo>
                    <a:pt x="371" y="874"/>
                  </a:lnTo>
                  <a:lnTo>
                    <a:pt x="424" y="918"/>
                  </a:lnTo>
                  <a:lnTo>
                    <a:pt x="482" y="962"/>
                  </a:lnTo>
                  <a:lnTo>
                    <a:pt x="526" y="997"/>
                  </a:lnTo>
                  <a:lnTo>
                    <a:pt x="566" y="1028"/>
                  </a:lnTo>
                  <a:lnTo>
                    <a:pt x="601" y="1054"/>
                  </a:lnTo>
                  <a:lnTo>
                    <a:pt x="623" y="1072"/>
                  </a:lnTo>
                  <a:lnTo>
                    <a:pt x="632" y="1081"/>
                  </a:lnTo>
                  <a:lnTo>
                    <a:pt x="632" y="502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935520" y="28828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94120" y="288288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52720" y="28828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1680" y="288288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84680" y="2906640"/>
              <a:ext cx="711720" cy="12960"/>
            </a:xfrm>
            <a:custGeom>
              <a:avLst/>
              <a:gdLst/>
              <a:ahLst/>
              <a:rect l="0" t="0" r="r" b="b"/>
              <a:pathLst>
                <a:path w="1977" h="36">
                  <a:moveTo>
                    <a:pt x="0" y="36"/>
                  </a:moveTo>
                  <a:lnTo>
                    <a:pt x="0" y="0"/>
                  </a:lnTo>
                  <a:lnTo>
                    <a:pt x="1977" y="0"/>
                  </a:lnTo>
                  <a:lnTo>
                    <a:pt x="197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6873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95960" y="2889360"/>
              <a:ext cx="36720" cy="65520"/>
            </a:xfrm>
            <a:custGeom>
              <a:avLst/>
              <a:gdLst/>
              <a:ahLst/>
              <a:rect l="0" t="0" r="r" b="b"/>
              <a:pathLst>
                <a:path w="102" h="182">
                  <a:moveTo>
                    <a:pt x="102" y="182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102" y="1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00640" y="290196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0" y="94"/>
                  </a:moveTo>
                  <a:lnTo>
                    <a:pt x="36" y="0"/>
                  </a:lnTo>
                  <a:lnTo>
                    <a:pt x="76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10000" y="291924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14" y="32"/>
                  </a:moveTo>
                  <a:lnTo>
                    <a:pt x="18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40240" y="2620800"/>
              <a:ext cx="945000" cy="184680"/>
            </a:xfrm>
            <a:custGeom>
              <a:avLst/>
              <a:gdLst/>
              <a:ahLst/>
              <a:rect l="0" t="0" r="r" b="b"/>
              <a:pathLst>
                <a:path w="2625" h="513">
                  <a:moveTo>
                    <a:pt x="2621" y="500"/>
                  </a:moveTo>
                  <a:lnTo>
                    <a:pt x="2625" y="504"/>
                  </a:lnTo>
                  <a:lnTo>
                    <a:pt x="2625" y="509"/>
                  </a:lnTo>
                  <a:lnTo>
                    <a:pt x="2621" y="513"/>
                  </a:lnTo>
                  <a:lnTo>
                    <a:pt x="2616" y="513"/>
                  </a:lnTo>
                  <a:lnTo>
                    <a:pt x="652" y="513"/>
                  </a:lnTo>
                  <a:lnTo>
                    <a:pt x="648" y="513"/>
                  </a:lnTo>
                  <a:lnTo>
                    <a:pt x="643" y="513"/>
                  </a:lnTo>
                  <a:lnTo>
                    <a:pt x="639" y="513"/>
                  </a:lnTo>
                  <a:lnTo>
                    <a:pt x="639" y="509"/>
                  </a:lnTo>
                  <a:lnTo>
                    <a:pt x="635" y="509"/>
                  </a:lnTo>
                  <a:lnTo>
                    <a:pt x="630" y="504"/>
                  </a:lnTo>
                  <a:lnTo>
                    <a:pt x="626" y="500"/>
                  </a:lnTo>
                  <a:lnTo>
                    <a:pt x="621" y="500"/>
                  </a:lnTo>
                  <a:lnTo>
                    <a:pt x="617" y="495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892" y="0"/>
                  </a:lnTo>
                  <a:lnTo>
                    <a:pt x="1897" y="0"/>
                  </a:lnTo>
                  <a:lnTo>
                    <a:pt x="1901" y="0"/>
                  </a:lnTo>
                  <a:lnTo>
                    <a:pt x="1906" y="0"/>
                  </a:lnTo>
                  <a:lnTo>
                    <a:pt x="1906" y="4"/>
                  </a:lnTo>
                  <a:lnTo>
                    <a:pt x="1910" y="4"/>
                  </a:lnTo>
                  <a:lnTo>
                    <a:pt x="1914" y="4"/>
                  </a:lnTo>
                  <a:lnTo>
                    <a:pt x="1919" y="4"/>
                  </a:lnTo>
                  <a:lnTo>
                    <a:pt x="1919" y="8"/>
                  </a:lnTo>
                  <a:lnTo>
                    <a:pt x="1923" y="8"/>
                  </a:lnTo>
                  <a:lnTo>
                    <a:pt x="1928" y="8"/>
                  </a:lnTo>
                  <a:lnTo>
                    <a:pt x="1932" y="13"/>
                  </a:lnTo>
                  <a:lnTo>
                    <a:pt x="1936" y="13"/>
                  </a:lnTo>
                  <a:lnTo>
                    <a:pt x="2621" y="500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71720" y="2836800"/>
              <a:ext cx="8280" cy="146520"/>
            </a:xfrm>
            <a:custGeom>
              <a:avLst/>
              <a:gdLst/>
              <a:ahLst/>
              <a:rect l="0" t="0" r="r" b="b"/>
              <a:pathLst>
                <a:path w="23" h="407">
                  <a:moveTo>
                    <a:pt x="14" y="70"/>
                  </a:moveTo>
                  <a:lnTo>
                    <a:pt x="14" y="61"/>
                  </a:lnTo>
                  <a:lnTo>
                    <a:pt x="14" y="57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8" y="44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4" y="394"/>
                  </a:lnTo>
                  <a:lnTo>
                    <a:pt x="8" y="376"/>
                  </a:lnTo>
                  <a:lnTo>
                    <a:pt x="8" y="363"/>
                  </a:lnTo>
                  <a:lnTo>
                    <a:pt x="14" y="350"/>
                  </a:lnTo>
                  <a:lnTo>
                    <a:pt x="14" y="332"/>
                  </a:lnTo>
                  <a:lnTo>
                    <a:pt x="18" y="315"/>
                  </a:lnTo>
                  <a:lnTo>
                    <a:pt x="18" y="300"/>
                  </a:lnTo>
                  <a:lnTo>
                    <a:pt x="18" y="287"/>
                  </a:lnTo>
                  <a:lnTo>
                    <a:pt x="18" y="269"/>
                  </a:lnTo>
                  <a:lnTo>
                    <a:pt x="23" y="256"/>
                  </a:lnTo>
                  <a:lnTo>
                    <a:pt x="23" y="243"/>
                  </a:lnTo>
                  <a:lnTo>
                    <a:pt x="23" y="230"/>
                  </a:lnTo>
                  <a:lnTo>
                    <a:pt x="23" y="221"/>
                  </a:lnTo>
                  <a:lnTo>
                    <a:pt x="23" y="212"/>
                  </a:lnTo>
                  <a:lnTo>
                    <a:pt x="23" y="203"/>
                  </a:lnTo>
                  <a:lnTo>
                    <a:pt x="23" y="199"/>
                  </a:lnTo>
                  <a:lnTo>
                    <a:pt x="23" y="190"/>
                  </a:lnTo>
                  <a:lnTo>
                    <a:pt x="23" y="186"/>
                  </a:lnTo>
                  <a:lnTo>
                    <a:pt x="23" y="177"/>
                  </a:lnTo>
                  <a:lnTo>
                    <a:pt x="23" y="168"/>
                  </a:lnTo>
                  <a:lnTo>
                    <a:pt x="23" y="159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18" y="137"/>
                  </a:lnTo>
                  <a:lnTo>
                    <a:pt x="18" y="128"/>
                  </a:lnTo>
                  <a:lnTo>
                    <a:pt x="18" y="120"/>
                  </a:lnTo>
                  <a:lnTo>
                    <a:pt x="18" y="111"/>
                  </a:lnTo>
                  <a:lnTo>
                    <a:pt x="18" y="101"/>
                  </a:lnTo>
                  <a:lnTo>
                    <a:pt x="18" y="97"/>
                  </a:lnTo>
                  <a:lnTo>
                    <a:pt x="18" y="88"/>
                  </a:lnTo>
                  <a:lnTo>
                    <a:pt x="18" y="74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40240" y="2712960"/>
              <a:ext cx="240120" cy="206640"/>
            </a:xfrm>
            <a:custGeom>
              <a:avLst/>
              <a:gdLst/>
              <a:ahLst/>
              <a:rect l="0" t="0" r="r" b="b"/>
              <a:pathLst>
                <a:path w="667" h="574">
                  <a:moveTo>
                    <a:pt x="667" y="547"/>
                  </a:moveTo>
                  <a:lnTo>
                    <a:pt x="667" y="543"/>
                  </a:lnTo>
                  <a:lnTo>
                    <a:pt x="667" y="538"/>
                  </a:lnTo>
                  <a:lnTo>
                    <a:pt x="667" y="534"/>
                  </a:lnTo>
                  <a:lnTo>
                    <a:pt x="667" y="530"/>
                  </a:lnTo>
                  <a:lnTo>
                    <a:pt x="667" y="52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667" y="574"/>
                  </a:lnTo>
                  <a:lnTo>
                    <a:pt x="667" y="569"/>
                  </a:lnTo>
                  <a:lnTo>
                    <a:pt x="667" y="565"/>
                  </a:lnTo>
                  <a:lnTo>
                    <a:pt x="667" y="561"/>
                  </a:lnTo>
                  <a:lnTo>
                    <a:pt x="667" y="556"/>
                  </a:lnTo>
                  <a:lnTo>
                    <a:pt x="667" y="552"/>
                  </a:lnTo>
                  <a:lnTo>
                    <a:pt x="667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43120" y="2798640"/>
              <a:ext cx="230400" cy="190800"/>
            </a:xfrm>
            <a:custGeom>
              <a:avLst/>
              <a:gdLst/>
              <a:ahLst/>
              <a:rect l="0" t="0" r="r" b="b"/>
              <a:pathLst>
                <a:path w="640" h="530">
                  <a:moveTo>
                    <a:pt x="640" y="512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40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44920" y="2660760"/>
              <a:ext cx="228960" cy="190800"/>
            </a:xfrm>
            <a:custGeom>
              <a:avLst/>
              <a:gdLst/>
              <a:ahLst/>
              <a:rect l="0" t="0" r="r" b="b"/>
              <a:pathLst>
                <a:path w="636" h="530">
                  <a:moveTo>
                    <a:pt x="632" y="508"/>
                  </a:moveTo>
                  <a:lnTo>
                    <a:pt x="628" y="508"/>
                  </a:lnTo>
                  <a:lnTo>
                    <a:pt x="628" y="503"/>
                  </a:lnTo>
                  <a:lnTo>
                    <a:pt x="623" y="499"/>
                  </a:lnTo>
                  <a:lnTo>
                    <a:pt x="619" y="499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36" y="525"/>
                  </a:lnTo>
                  <a:lnTo>
                    <a:pt x="636" y="521"/>
                  </a:lnTo>
                  <a:lnTo>
                    <a:pt x="636" y="516"/>
                  </a:lnTo>
                  <a:lnTo>
                    <a:pt x="632" y="516"/>
                  </a:lnTo>
                  <a:lnTo>
                    <a:pt x="632" y="512"/>
                  </a:lnTo>
                  <a:lnTo>
                    <a:pt x="632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"/>
          <p:cNvSpPr txBox="1"/>
          <p:nvPr/>
        </p:nvSpPr>
        <p:spPr>
          <a:xfrm>
            <a:off x="4464000" y="2370240"/>
            <a:ext cx="86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3925800" y="3051000"/>
            <a:ext cx="4636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140600" y="1805040"/>
            <a:ext cx="17859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176960" y="3019320"/>
            <a:ext cx="1687680" cy="9968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140600" y="3025800"/>
            <a:ext cx="17859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7112160" y="3375000"/>
            <a:ext cx="2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8325000" y="2465280"/>
            <a:ext cx="441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325000" y="3659040"/>
            <a:ext cx="441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261120" y="3622680"/>
            <a:ext cx="6253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73040" y="2438280"/>
            <a:ext cx="1386000" cy="969840"/>
            <a:chOff x="473040" y="2438280"/>
            <a:chExt cx="1386000" cy="969840"/>
          </a:xfrm>
        </p:grpSpPr>
        <p:grpSp>
          <p:nvGrpSpPr>
            <p:cNvPr id="752" name=""/>
            <p:cNvGrpSpPr/>
            <p:nvPr/>
          </p:nvGrpSpPr>
          <p:grpSpPr>
            <a:xfrm>
              <a:off x="490680" y="2438280"/>
              <a:ext cx="1368360" cy="969840"/>
              <a:chOff x="490680" y="2438280"/>
              <a:chExt cx="1368360" cy="9698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500040" y="2443320"/>
                <a:ext cx="1335240" cy="896760"/>
                <a:chOff x="500040" y="2443320"/>
                <a:chExt cx="1335240" cy="89676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33320" y="2443320"/>
                  <a:ext cx="588960" cy="51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00040" y="2681280"/>
                  <a:ext cx="484200" cy="44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30360" y="2935440"/>
                  <a:ext cx="503280" cy="34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93800" y="2803680"/>
                  <a:ext cx="584280" cy="536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236600" y="2752560"/>
                  <a:ext cx="444600" cy="371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495440" y="2732040"/>
                  <a:ext cx="339840" cy="28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87280" y="2514600"/>
                  <a:ext cx="317520" cy="372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440000" y="2630520"/>
                  <a:ext cx="204840" cy="21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680" y="243828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3" name=""/>
            <p:cNvSpPr txBox="1"/>
            <p:nvPr/>
          </p:nvSpPr>
          <p:spPr>
            <a:xfrm>
              <a:off x="473040" y="277956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 txBox="1"/>
          <p:nvPr/>
        </p:nvSpPr>
        <p:spPr>
          <a:xfrm>
            <a:off x="6149880" y="1835280"/>
            <a:ext cx="7732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314440" y="2779560"/>
            <a:ext cx="914400" cy="476280"/>
            <a:chOff x="2314440" y="2779560"/>
            <a:chExt cx="914400" cy="476280"/>
          </a:xfrm>
        </p:grpSpPr>
        <p:sp>
          <p:nvSpPr>
            <p:cNvPr id="766" name=""/>
            <p:cNvSpPr txBox="1"/>
            <p:nvPr/>
          </p:nvSpPr>
          <p:spPr>
            <a:xfrm>
              <a:off x="2314440" y="3014640"/>
              <a:ext cx="9144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1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390760" y="2779560"/>
              <a:ext cx="684720" cy="236880"/>
              <a:chOff x="2390760" y="2779560"/>
              <a:chExt cx="684720" cy="236880"/>
            </a:xfrm>
          </p:grpSpPr>
          <p:sp>
            <p:nvSpPr>
              <p:cNvPr id="768" name=""/>
              <p:cNvSpPr/>
              <p:nvPr/>
            </p:nvSpPr>
            <p:spPr>
              <a:xfrm>
                <a:off x="2612880" y="2960640"/>
                <a:ext cx="462240" cy="54360"/>
              </a:xfrm>
              <a:custGeom>
                <a:avLst/>
                <a:gdLst/>
                <a:ahLst/>
                <a:rect l="0" t="0" r="r" b="b"/>
                <a:pathLst>
                  <a:path w="1284" h="151">
                    <a:moveTo>
                      <a:pt x="0" y="138"/>
                    </a:moveTo>
                    <a:lnTo>
                      <a:pt x="0" y="143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4" y="151"/>
                    </a:lnTo>
                    <a:lnTo>
                      <a:pt x="8" y="151"/>
                    </a:lnTo>
                    <a:lnTo>
                      <a:pt x="1266" y="151"/>
                    </a:lnTo>
                    <a:lnTo>
                      <a:pt x="1271" y="151"/>
                    </a:lnTo>
                    <a:lnTo>
                      <a:pt x="1275" y="151"/>
                    </a:lnTo>
                    <a:lnTo>
                      <a:pt x="1279" y="151"/>
                    </a:lnTo>
                    <a:lnTo>
                      <a:pt x="1279" y="147"/>
                    </a:lnTo>
                    <a:lnTo>
                      <a:pt x="1279" y="143"/>
                    </a:lnTo>
                    <a:lnTo>
                      <a:pt x="1284" y="143"/>
                    </a:lnTo>
                    <a:lnTo>
                      <a:pt x="1284" y="138"/>
                    </a:lnTo>
                    <a:lnTo>
                      <a:pt x="1284" y="13"/>
                    </a:lnTo>
                    <a:lnTo>
                      <a:pt x="1284" y="8"/>
                    </a:lnTo>
                    <a:lnTo>
                      <a:pt x="1279" y="8"/>
                    </a:lnTo>
                    <a:lnTo>
                      <a:pt x="1279" y="4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390760" y="2779560"/>
                <a:ext cx="219600" cy="236880"/>
              </a:xfrm>
              <a:custGeom>
                <a:avLst/>
                <a:gdLst/>
                <a:ahLst/>
                <a:rect l="0" t="0" r="r" b="b"/>
                <a:pathLst>
                  <a:path w="610" h="658">
                    <a:moveTo>
                      <a:pt x="0" y="13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606" y="490"/>
                    </a:lnTo>
                    <a:lnTo>
                      <a:pt x="610" y="490"/>
                    </a:lnTo>
                    <a:lnTo>
                      <a:pt x="610" y="494"/>
                    </a:lnTo>
                    <a:lnTo>
                      <a:pt x="606" y="499"/>
                    </a:lnTo>
                    <a:lnTo>
                      <a:pt x="606" y="503"/>
                    </a:lnTo>
                    <a:lnTo>
                      <a:pt x="606" y="508"/>
                    </a:lnTo>
                    <a:lnTo>
                      <a:pt x="606" y="649"/>
                    </a:lnTo>
                    <a:lnTo>
                      <a:pt x="606" y="653"/>
                    </a:lnTo>
                    <a:lnTo>
                      <a:pt x="601" y="653"/>
                    </a:lnTo>
                    <a:lnTo>
                      <a:pt x="601" y="658"/>
                    </a:lnTo>
                    <a:lnTo>
                      <a:pt x="597" y="658"/>
                    </a:lnTo>
                    <a:lnTo>
                      <a:pt x="597" y="653"/>
                    </a:lnTo>
                    <a:lnTo>
                      <a:pt x="592" y="653"/>
                    </a:lnTo>
                    <a:lnTo>
                      <a:pt x="13" y="176"/>
                    </a:lnTo>
                    <a:lnTo>
                      <a:pt x="8" y="176"/>
                    </a:lnTo>
                    <a:lnTo>
                      <a:pt x="8" y="171"/>
                    </a:lnTo>
                    <a:lnTo>
                      <a:pt x="4" y="167"/>
                    </a:lnTo>
                    <a:lnTo>
                      <a:pt x="4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78280" y="296064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w="270" h="67">
                    <a:moveTo>
                      <a:pt x="0" y="67"/>
                    </a:move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3"/>
                    </a:lnTo>
                    <a:lnTo>
                      <a:pt x="270" y="49"/>
                    </a:lnTo>
                    <a:lnTo>
                      <a:pt x="270" y="45"/>
                    </a:lnTo>
                    <a:lnTo>
                      <a:pt x="270" y="40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2"/>
                    </a:lnTo>
                    <a:lnTo>
                      <a:pt x="270" y="17"/>
                    </a:lnTo>
                    <a:lnTo>
                      <a:pt x="270" y="13"/>
                    </a:lnTo>
                    <a:lnTo>
                      <a:pt x="270" y="8"/>
                    </a:lnTo>
                    <a:lnTo>
                      <a:pt x="266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7" y="0"/>
                    </a:lnTo>
                    <a:lnTo>
                      <a:pt x="253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94120" y="2995560"/>
                <a:ext cx="77760" cy="0"/>
              </a:xfrm>
              <a:prstGeom prst="line">
                <a:avLst/>
              </a:prstGeom>
              <a:ln w="12600">
                <a:solidFill>
                  <a:srgbClr val="6968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617920" y="2962440"/>
                <a:ext cx="351360" cy="38520"/>
              </a:xfrm>
              <a:custGeom>
                <a:avLst/>
                <a:gdLst/>
                <a:ahLst/>
                <a:rect l="0" t="0" r="r" b="b"/>
                <a:pathLst>
                  <a:path w="976" h="107">
                    <a:moveTo>
                      <a:pt x="976" y="71"/>
                    </a:moveTo>
                    <a:lnTo>
                      <a:pt x="870" y="90"/>
                    </a:lnTo>
                    <a:lnTo>
                      <a:pt x="773" y="94"/>
                    </a:lnTo>
                    <a:lnTo>
                      <a:pt x="675" y="103"/>
                    </a:lnTo>
                    <a:lnTo>
                      <a:pt x="587" y="107"/>
                    </a:lnTo>
                    <a:lnTo>
                      <a:pt x="499" y="107"/>
                    </a:lnTo>
                    <a:lnTo>
                      <a:pt x="419" y="107"/>
                    </a:lnTo>
                    <a:lnTo>
                      <a:pt x="349" y="107"/>
                    </a:lnTo>
                    <a:lnTo>
                      <a:pt x="278" y="103"/>
                    </a:lnTo>
                    <a:lnTo>
                      <a:pt x="220" y="99"/>
                    </a:lnTo>
                    <a:lnTo>
                      <a:pt x="163" y="94"/>
                    </a:lnTo>
                    <a:lnTo>
                      <a:pt x="119" y="94"/>
                    </a:lnTo>
                    <a:lnTo>
                      <a:pt x="79" y="85"/>
                    </a:lnTo>
                    <a:lnTo>
                      <a:pt x="52" y="81"/>
                    </a:lnTo>
                    <a:lnTo>
                      <a:pt x="30" y="75"/>
                    </a:lnTo>
                    <a:lnTo>
                      <a:pt x="13" y="75"/>
                    </a:lnTo>
                    <a:lnTo>
                      <a:pt x="8" y="75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30" y="4"/>
                    </a:lnTo>
                    <a:lnTo>
                      <a:pt x="52" y="8"/>
                    </a:lnTo>
                    <a:lnTo>
                      <a:pt x="88" y="13"/>
                    </a:lnTo>
                    <a:lnTo>
                      <a:pt x="132" y="13"/>
                    </a:lnTo>
                    <a:lnTo>
                      <a:pt x="180" y="17"/>
                    </a:lnTo>
                    <a:lnTo>
                      <a:pt x="242" y="22"/>
                    </a:lnTo>
                    <a:lnTo>
                      <a:pt x="305" y="26"/>
                    </a:lnTo>
                    <a:lnTo>
                      <a:pt x="375" y="26"/>
                    </a:lnTo>
                    <a:lnTo>
                      <a:pt x="450" y="31"/>
                    </a:lnTo>
                    <a:lnTo>
                      <a:pt x="530" y="31"/>
                    </a:lnTo>
                    <a:lnTo>
                      <a:pt x="609" y="26"/>
                    </a:lnTo>
                    <a:lnTo>
                      <a:pt x="702" y="22"/>
                    </a:lnTo>
                    <a:lnTo>
                      <a:pt x="791" y="17"/>
                    </a:lnTo>
                    <a:lnTo>
                      <a:pt x="883" y="13"/>
                    </a:lnTo>
                    <a:lnTo>
                      <a:pt x="976" y="0"/>
                    </a:lnTo>
                    <a:lnTo>
                      <a:pt x="97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617920" y="2995560"/>
                <a:ext cx="360720" cy="16200"/>
              </a:xfrm>
              <a:custGeom>
                <a:avLst/>
                <a:gdLst/>
                <a:ahLst/>
                <a:rect l="0" t="0" r="r" b="b"/>
                <a:pathLst>
                  <a:path fill="none" w="1002" h="45">
                    <a:moveTo>
                      <a:pt x="1002" y="0"/>
                    </a:moveTo>
                    <a:lnTo>
                      <a:pt x="891" y="17"/>
                    </a:lnTo>
                    <a:lnTo>
                      <a:pt x="794" y="31"/>
                    </a:lnTo>
                    <a:lnTo>
                      <a:pt x="693" y="40"/>
                    </a:lnTo>
                    <a:lnTo>
                      <a:pt x="600" y="45"/>
                    </a:lnTo>
                    <a:lnTo>
                      <a:pt x="508" y="45"/>
                    </a:lnTo>
                    <a:lnTo>
                      <a:pt x="427" y="45"/>
                    </a:lnTo>
                    <a:lnTo>
                      <a:pt x="352" y="45"/>
                    </a:lnTo>
                    <a:lnTo>
                      <a:pt x="282" y="40"/>
                    </a:lnTo>
                    <a:lnTo>
                      <a:pt x="216" y="36"/>
                    </a:lnTo>
                    <a:lnTo>
                      <a:pt x="167" y="31"/>
                    </a:lnTo>
                    <a:lnTo>
                      <a:pt x="114" y="27"/>
                    </a:lnTo>
                    <a:lnTo>
                      <a:pt x="74" y="13"/>
                    </a:lnTo>
                    <a:lnTo>
                      <a:pt x="44" y="8"/>
                    </a:lnTo>
                    <a:lnTo>
                      <a:pt x="17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78280" y="299232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0" y="0"/>
                    </a:moveTo>
                    <a:lnTo>
                      <a:pt x="9" y="0"/>
                    </a:lnTo>
                    <a:lnTo>
                      <a:pt x="14" y="18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12880" y="299232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5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19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025800" y="2970360"/>
                <a:ext cx="9720" cy="20880"/>
              </a:xfrm>
              <a:custGeom>
                <a:avLst/>
                <a:gdLst/>
                <a:ahLst/>
                <a:rect l="0" t="0" r="r" b="b"/>
                <a:pathLst>
                  <a:path w="27" h="58">
                    <a:moveTo>
                      <a:pt x="27" y="58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25800" y="2970360"/>
                <a:ext cx="9720" cy="12960"/>
              </a:xfrm>
              <a:custGeom>
                <a:avLst/>
                <a:gdLst/>
                <a:ahLst/>
                <a:rect l="0" t="0" r="r" b="b"/>
                <a:pathLst>
                  <a:path w="27" h="36">
                    <a:moveTo>
                      <a:pt x="0" y="36"/>
                    </a:moveTo>
                    <a:lnTo>
                      <a:pt x="14" y="0"/>
                    </a:lnTo>
                    <a:lnTo>
                      <a:pt x="2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029040" y="298116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390760" y="2814480"/>
                <a:ext cx="217800" cy="174960"/>
              </a:xfrm>
              <a:custGeom>
                <a:avLst/>
                <a:gdLst/>
                <a:ahLst/>
                <a:rect l="0" t="0" r="r" b="b"/>
                <a:pathLst>
                  <a:path w="605" h="486">
                    <a:moveTo>
                      <a:pt x="605" y="472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05" y="486"/>
                    </a:lnTo>
                    <a:lnTo>
                      <a:pt x="605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590920" y="299232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81200" y="298296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570040" y="2976480"/>
                <a:ext cx="6840" cy="9720"/>
              </a:xfrm>
              <a:custGeom>
                <a:avLst/>
                <a:gdLst/>
                <a:ahLst/>
                <a:rect l="0" t="0" r="r" b="b"/>
                <a:pathLst>
                  <a:path w="19" h="27">
                    <a:moveTo>
                      <a:pt x="19" y="0"/>
                    </a:moveTo>
                    <a:lnTo>
                      <a:pt x="19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560680" y="296712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550960" y="296064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540160" y="2951280"/>
                <a:ext cx="5040" cy="11520"/>
              </a:xfrm>
              <a:custGeom>
                <a:avLst/>
                <a:gdLst/>
                <a:ahLst/>
                <a:rect l="0" t="0" r="r" b="b"/>
                <a:pathLst>
                  <a:path w="14" h="32">
                    <a:moveTo>
                      <a:pt x="14" y="0"/>
                    </a:moveTo>
                    <a:lnTo>
                      <a:pt x="14" y="28"/>
                    </a:lnTo>
                    <a:lnTo>
                      <a:pt x="0" y="32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392200" y="2779560"/>
                <a:ext cx="679680" cy="184680"/>
              </a:xfrm>
              <a:custGeom>
                <a:avLst/>
                <a:gdLst/>
                <a:ahLst/>
                <a:rect l="0" t="0" r="r" b="b"/>
                <a:pathLst>
                  <a:path w="1888" h="513">
                    <a:moveTo>
                      <a:pt x="621" y="482"/>
                    </a:moveTo>
                    <a:lnTo>
                      <a:pt x="643" y="487"/>
                    </a:lnTo>
                    <a:lnTo>
                      <a:pt x="670" y="491"/>
                    </a:lnTo>
                    <a:lnTo>
                      <a:pt x="696" y="491"/>
                    </a:lnTo>
                    <a:lnTo>
                      <a:pt x="718" y="495"/>
                    </a:lnTo>
                    <a:lnTo>
                      <a:pt x="749" y="500"/>
                    </a:lnTo>
                    <a:lnTo>
                      <a:pt x="780" y="500"/>
                    </a:lnTo>
                    <a:lnTo>
                      <a:pt x="811" y="504"/>
                    </a:lnTo>
                    <a:lnTo>
                      <a:pt x="846" y="504"/>
                    </a:lnTo>
                    <a:lnTo>
                      <a:pt x="877" y="509"/>
                    </a:lnTo>
                    <a:lnTo>
                      <a:pt x="912" y="509"/>
                    </a:lnTo>
                    <a:lnTo>
                      <a:pt x="953" y="513"/>
                    </a:lnTo>
                    <a:lnTo>
                      <a:pt x="993" y="513"/>
                    </a:lnTo>
                    <a:lnTo>
                      <a:pt x="1028" y="513"/>
                    </a:lnTo>
                    <a:lnTo>
                      <a:pt x="1068" y="513"/>
                    </a:lnTo>
                    <a:lnTo>
                      <a:pt x="1112" y="513"/>
                    </a:lnTo>
                    <a:lnTo>
                      <a:pt x="1151" y="513"/>
                    </a:lnTo>
                    <a:lnTo>
                      <a:pt x="1182" y="513"/>
                    </a:lnTo>
                    <a:lnTo>
                      <a:pt x="1213" y="513"/>
                    </a:lnTo>
                    <a:lnTo>
                      <a:pt x="1244" y="513"/>
                    </a:lnTo>
                    <a:lnTo>
                      <a:pt x="1275" y="513"/>
                    </a:lnTo>
                    <a:lnTo>
                      <a:pt x="1306" y="509"/>
                    </a:lnTo>
                    <a:lnTo>
                      <a:pt x="1337" y="509"/>
                    </a:lnTo>
                    <a:lnTo>
                      <a:pt x="1363" y="509"/>
                    </a:lnTo>
                    <a:lnTo>
                      <a:pt x="1390" y="504"/>
                    </a:lnTo>
                    <a:lnTo>
                      <a:pt x="1420" y="504"/>
                    </a:lnTo>
                    <a:lnTo>
                      <a:pt x="1451" y="500"/>
                    </a:lnTo>
                    <a:lnTo>
                      <a:pt x="1478" y="500"/>
                    </a:lnTo>
                    <a:lnTo>
                      <a:pt x="1504" y="495"/>
                    </a:lnTo>
                    <a:lnTo>
                      <a:pt x="1531" y="491"/>
                    </a:lnTo>
                    <a:lnTo>
                      <a:pt x="1557" y="487"/>
                    </a:lnTo>
                    <a:lnTo>
                      <a:pt x="1588" y="482"/>
                    </a:lnTo>
                    <a:lnTo>
                      <a:pt x="1614" y="478"/>
                    </a:lnTo>
                    <a:lnTo>
                      <a:pt x="1619" y="478"/>
                    </a:lnTo>
                    <a:lnTo>
                      <a:pt x="1628" y="478"/>
                    </a:lnTo>
                    <a:lnTo>
                      <a:pt x="1641" y="478"/>
                    </a:lnTo>
                    <a:lnTo>
                      <a:pt x="1654" y="478"/>
                    </a:lnTo>
                    <a:lnTo>
                      <a:pt x="1676" y="478"/>
                    </a:lnTo>
                    <a:lnTo>
                      <a:pt x="1698" y="478"/>
                    </a:lnTo>
                    <a:lnTo>
                      <a:pt x="1725" y="478"/>
                    </a:lnTo>
                    <a:lnTo>
                      <a:pt x="1751" y="478"/>
                    </a:lnTo>
                    <a:lnTo>
                      <a:pt x="1778" y="478"/>
                    </a:lnTo>
                    <a:lnTo>
                      <a:pt x="1804" y="478"/>
                    </a:lnTo>
                    <a:lnTo>
                      <a:pt x="1822" y="478"/>
                    </a:lnTo>
                    <a:lnTo>
                      <a:pt x="1844" y="478"/>
                    </a:lnTo>
                    <a:lnTo>
                      <a:pt x="1861" y="478"/>
                    </a:lnTo>
                    <a:lnTo>
                      <a:pt x="1875" y="478"/>
                    </a:lnTo>
                    <a:lnTo>
                      <a:pt x="1883" y="478"/>
                    </a:lnTo>
                    <a:lnTo>
                      <a:pt x="1888" y="478"/>
                    </a:lnTo>
                    <a:lnTo>
                      <a:pt x="1279" y="0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262" y="0"/>
                    </a:lnTo>
                    <a:lnTo>
                      <a:pt x="1257" y="0"/>
                    </a:lnTo>
                    <a:lnTo>
                      <a:pt x="1253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26" y="17"/>
                    </a:lnTo>
                    <a:lnTo>
                      <a:pt x="57" y="39"/>
                    </a:lnTo>
                    <a:lnTo>
                      <a:pt x="92" y="74"/>
                    </a:lnTo>
                    <a:lnTo>
                      <a:pt x="141" y="110"/>
                    </a:lnTo>
                    <a:lnTo>
                      <a:pt x="194" y="150"/>
                    </a:lnTo>
                    <a:lnTo>
                      <a:pt x="242" y="195"/>
                    </a:lnTo>
                    <a:lnTo>
                      <a:pt x="304" y="239"/>
                    </a:lnTo>
                    <a:lnTo>
                      <a:pt x="361" y="283"/>
                    </a:lnTo>
                    <a:lnTo>
                      <a:pt x="414" y="327"/>
                    </a:lnTo>
                    <a:lnTo>
                      <a:pt x="467" y="367"/>
                    </a:lnTo>
                    <a:lnTo>
                      <a:pt x="515" y="403"/>
                    </a:lnTo>
                    <a:lnTo>
                      <a:pt x="551" y="434"/>
                    </a:lnTo>
                    <a:lnTo>
                      <a:pt x="586" y="456"/>
                    </a:lnTo>
                    <a:lnTo>
                      <a:pt x="604" y="473"/>
                    </a:lnTo>
                    <a:lnTo>
                      <a:pt x="612" y="478"/>
                    </a:lnTo>
                    <a:lnTo>
                      <a:pt x="621" y="482"/>
                    </a:lnTo>
                    <a:close/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468520" y="2779560"/>
                <a:ext cx="230400" cy="182880"/>
              </a:xfrm>
              <a:custGeom>
                <a:avLst/>
                <a:gdLst/>
                <a:ahLst/>
                <a:rect l="0" t="0" r="r" b="b"/>
                <a:pathLst>
                  <a:path w="640" h="508">
                    <a:moveTo>
                      <a:pt x="0" y="0"/>
                    </a:moveTo>
                    <a:lnTo>
                      <a:pt x="613" y="503"/>
                    </a:lnTo>
                    <a:lnTo>
                      <a:pt x="618" y="503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27" y="508"/>
                    </a:lnTo>
                    <a:lnTo>
                      <a:pt x="631" y="508"/>
                    </a:lnTo>
                    <a:lnTo>
                      <a:pt x="636" y="508"/>
                    </a:lnTo>
                    <a:lnTo>
                      <a:pt x="640" y="508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14600" y="2779560"/>
                <a:ext cx="233640" cy="184680"/>
              </a:xfrm>
              <a:custGeom>
                <a:avLst/>
                <a:gdLst/>
                <a:ahLst/>
                <a:rect l="0" t="0" r="r" b="b"/>
                <a:pathLst>
                  <a:path w="649" h="513">
                    <a:moveTo>
                      <a:pt x="0" y="0"/>
                    </a:moveTo>
                    <a:lnTo>
                      <a:pt x="622" y="513"/>
                    </a:lnTo>
                    <a:lnTo>
                      <a:pt x="627" y="513"/>
                    </a:lnTo>
                    <a:lnTo>
                      <a:pt x="631" y="513"/>
                    </a:lnTo>
                    <a:lnTo>
                      <a:pt x="636" y="513"/>
                    </a:lnTo>
                    <a:lnTo>
                      <a:pt x="640" y="513"/>
                    </a:lnTo>
                    <a:lnTo>
                      <a:pt x="644" y="513"/>
                    </a:lnTo>
                    <a:lnTo>
                      <a:pt x="649" y="5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63920" y="277956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10000" y="277956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57520" y="2779560"/>
                <a:ext cx="228960" cy="182880"/>
              </a:xfrm>
              <a:custGeom>
                <a:avLst/>
                <a:gdLst/>
                <a:ahLst/>
                <a:rect l="0" t="0" r="r" b="b"/>
                <a:pathLst>
                  <a:path w="636" h="508">
                    <a:moveTo>
                      <a:pt x="0" y="0"/>
                    </a:moveTo>
                    <a:lnTo>
                      <a:pt x="613" y="508"/>
                    </a:lnTo>
                    <a:lnTo>
                      <a:pt x="618" y="508"/>
                    </a:lnTo>
                    <a:lnTo>
                      <a:pt x="622" y="508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31" y="503"/>
                    </a:lnTo>
                    <a:lnTo>
                      <a:pt x="636" y="50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862360" y="2949480"/>
                <a:ext cx="24120" cy="24120"/>
              </a:xfrm>
              <a:custGeom>
                <a:avLst/>
                <a:gdLst/>
                <a:ahLst/>
                <a:rect l="0" t="0" r="r" b="b"/>
                <a:pathLst>
                  <a:path w="67" h="67">
                    <a:moveTo>
                      <a:pt x="0" y="0"/>
                    </a:moveTo>
                    <a:lnTo>
                      <a:pt x="49" y="45"/>
                    </a:lnTo>
                    <a:lnTo>
                      <a:pt x="49" y="49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53" y="67"/>
                    </a:lnTo>
                    <a:lnTo>
                      <a:pt x="58" y="67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7" y="53"/>
                    </a:lnTo>
                    <a:lnTo>
                      <a:pt x="67" y="49"/>
                    </a:lnTo>
                    <a:lnTo>
                      <a:pt x="67" y="45"/>
                    </a:lnTo>
                    <a:lnTo>
                      <a:pt x="67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813040" y="2951280"/>
                <a:ext cx="28800" cy="24120"/>
              </a:xfrm>
              <a:custGeom>
                <a:avLst/>
                <a:gdLst/>
                <a:ahLst/>
                <a:rect l="0" t="0" r="r" b="b"/>
                <a:pathLst>
                  <a:path w="80" h="67">
                    <a:moveTo>
                      <a:pt x="0" y="0"/>
                    </a:moveTo>
                    <a:lnTo>
                      <a:pt x="62" y="40"/>
                    </a:ln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8"/>
                    </a:lnTo>
                    <a:lnTo>
                      <a:pt x="62" y="62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71" y="67"/>
                    </a:lnTo>
                    <a:lnTo>
                      <a:pt x="75" y="67"/>
                    </a:lnTo>
                    <a:lnTo>
                      <a:pt x="80" y="67"/>
                    </a:lnTo>
                    <a:lnTo>
                      <a:pt x="80" y="62"/>
                    </a:lnTo>
                    <a:lnTo>
                      <a:pt x="80" y="58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80" y="4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766960" y="295128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19440" y="294948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673360" y="2951280"/>
                <a:ext cx="25920" cy="22680"/>
              </a:xfrm>
              <a:custGeom>
                <a:avLst/>
                <a:gdLst/>
                <a:ahLst/>
                <a:rect l="0" t="0" r="r" b="b"/>
                <a:pathLst>
                  <a:path w="72" h="63">
                    <a:moveTo>
                      <a:pt x="0" y="0"/>
                    </a:moveTo>
                    <a:lnTo>
                      <a:pt x="53" y="40"/>
                    </a:lnTo>
                    <a:lnTo>
                      <a:pt x="53" y="45"/>
                    </a:lnTo>
                    <a:lnTo>
                      <a:pt x="53" y="50"/>
                    </a:lnTo>
                    <a:lnTo>
                      <a:pt x="53" y="54"/>
                    </a:lnTo>
                    <a:lnTo>
                      <a:pt x="53" y="59"/>
                    </a:lnTo>
                    <a:lnTo>
                      <a:pt x="53" y="63"/>
                    </a:lnTo>
                    <a:lnTo>
                      <a:pt x="59" y="63"/>
                    </a:lnTo>
                    <a:lnTo>
                      <a:pt x="63" y="63"/>
                    </a:lnTo>
                    <a:lnTo>
                      <a:pt x="68" y="63"/>
                    </a:lnTo>
                    <a:lnTo>
                      <a:pt x="72" y="63"/>
                    </a:lnTo>
                    <a:lnTo>
                      <a:pt x="72" y="59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698920" y="297324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c91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"/>
          <p:cNvSpPr txBox="1"/>
          <p:nvPr/>
        </p:nvSpPr>
        <p:spPr>
          <a:xfrm>
            <a:off x="1587600" y="2360520"/>
            <a:ext cx="86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ame Relay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48480" y="2262240"/>
            <a:ext cx="1981440" cy="524160"/>
          </a:xfrm>
          <a:custGeom>
            <a:avLst/>
            <a:gdLst/>
            <a:ahLst/>
            <a:rect l="0" t="0" r="r" b="b"/>
            <a:pathLst>
              <a:path fill="none" w="5504" h="1456">
                <a:moveTo>
                  <a:pt x="5504" y="0"/>
                </a:moveTo>
                <a:lnTo>
                  <a:pt x="0" y="0"/>
                </a:lnTo>
                <a:lnTo>
                  <a:pt x="0" y="1456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24440" y="2335320"/>
            <a:ext cx="1948320" cy="530640"/>
          </a:xfrm>
          <a:custGeom>
            <a:avLst/>
            <a:gdLst/>
            <a:ahLst/>
            <a:rect l="0" t="0" r="r" b="b"/>
            <a:pathLst>
              <a:path fill="none" w="5412" h="1474">
                <a:moveTo>
                  <a:pt x="5412" y="0"/>
                </a:moveTo>
                <a:lnTo>
                  <a:pt x="0" y="0"/>
                </a:lnTo>
                <a:lnTo>
                  <a:pt x="0" y="1474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48480" y="3054240"/>
            <a:ext cx="1981440" cy="524160"/>
          </a:xfrm>
          <a:custGeom>
            <a:avLst/>
            <a:gdLst/>
            <a:ahLst/>
            <a:rect l="0" t="0" r="r" b="b"/>
            <a:pathLst>
              <a:path fill="none" w="5504" h="1456">
                <a:moveTo>
                  <a:pt x="5504" y="1456"/>
                </a:moveTo>
                <a:lnTo>
                  <a:pt x="0" y="1456"/>
                </a:lnTo>
                <a:lnTo>
                  <a:pt x="0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24440" y="2976480"/>
            <a:ext cx="1872000" cy="530640"/>
          </a:xfrm>
          <a:custGeom>
            <a:avLst/>
            <a:gdLst/>
            <a:ahLst/>
            <a:rect l="0" t="0" r="r" b="b"/>
            <a:pathLst>
              <a:path fill="none" w="5200" h="1474">
                <a:moveTo>
                  <a:pt x="5200" y="1474"/>
                </a:moveTo>
                <a:lnTo>
                  <a:pt x="0" y="1474"/>
                </a:lnTo>
                <a:lnTo>
                  <a:pt x="0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087880" y="2438280"/>
            <a:ext cx="1368360" cy="969840"/>
            <a:chOff x="5087880" y="2438280"/>
            <a:chExt cx="1368360" cy="969840"/>
          </a:xfrm>
        </p:grpSpPr>
        <p:grpSp>
          <p:nvGrpSpPr>
            <p:cNvPr id="804" name=""/>
            <p:cNvGrpSpPr/>
            <p:nvPr/>
          </p:nvGrpSpPr>
          <p:grpSpPr>
            <a:xfrm>
              <a:off x="5087880" y="2438280"/>
              <a:ext cx="1368360" cy="969840"/>
              <a:chOff x="5087880" y="2438280"/>
              <a:chExt cx="1368360" cy="96984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5097600" y="2443320"/>
                <a:ext cx="1335240" cy="896760"/>
                <a:chOff x="5097600" y="2443320"/>
                <a:chExt cx="1335240" cy="8967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330880" y="2443320"/>
                  <a:ext cx="588960" cy="51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097600" y="2681280"/>
                  <a:ext cx="484200" cy="44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227560" y="2935440"/>
                  <a:ext cx="503280" cy="34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91000" y="2803680"/>
                  <a:ext cx="584280" cy="536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834160" y="2752560"/>
                  <a:ext cx="444600" cy="371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093000" y="2732040"/>
                  <a:ext cx="339840" cy="28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784840" y="2514600"/>
                  <a:ext cx="317520" cy="372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037200" y="2630520"/>
                  <a:ext cx="204840" cy="21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7880" y="243828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5" name=""/>
            <p:cNvSpPr txBox="1"/>
            <p:nvPr/>
          </p:nvSpPr>
          <p:spPr>
            <a:xfrm>
              <a:off x="5094360" y="267660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H="1" flipV="1">
            <a:off x="3178080" y="2735280"/>
            <a:ext cx="596880" cy="4557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349800" y="3036960"/>
            <a:ext cx="236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000240" y="2765520"/>
            <a:ext cx="2304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65320" y="272412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309840" y="299232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160800" y="3591000"/>
            <a:ext cx="11127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ity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3587760" y="3141720"/>
            <a:ext cx="290520" cy="4906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 txBox="1"/>
          <p:nvPr/>
        </p:nvSpPr>
        <p:spPr>
          <a:xfrm>
            <a:off x="2401920" y="3274920"/>
            <a:ext cx="703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rn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686720" y="2138400"/>
            <a:ext cx="1022400" cy="366480"/>
            <a:chOff x="7686720" y="2138400"/>
            <a:chExt cx="1022400" cy="366480"/>
          </a:xfrm>
        </p:grpSpPr>
        <p:sp>
          <p:nvSpPr>
            <p:cNvPr id="825" name=""/>
            <p:cNvSpPr/>
            <p:nvPr/>
          </p:nvSpPr>
          <p:spPr>
            <a:xfrm>
              <a:off x="8137440" y="2219400"/>
              <a:ext cx="309600" cy="22536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42120" y="2192400"/>
              <a:ext cx="13500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86720" y="2330280"/>
              <a:ext cx="76356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497800" y="2463840"/>
              <a:ext cx="12852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621640" y="240660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458200" y="227484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77120" y="213840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686720" y="3313080"/>
            <a:ext cx="1022400" cy="366480"/>
            <a:chOff x="7686720" y="3313080"/>
            <a:chExt cx="1022400" cy="366480"/>
          </a:xfrm>
        </p:grpSpPr>
        <p:sp>
          <p:nvSpPr>
            <p:cNvPr id="833" name=""/>
            <p:cNvSpPr/>
            <p:nvPr/>
          </p:nvSpPr>
          <p:spPr>
            <a:xfrm>
              <a:off x="8137440" y="3394080"/>
              <a:ext cx="309600" cy="22536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42120" y="3367080"/>
              <a:ext cx="13500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86720" y="3505320"/>
              <a:ext cx="76356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97800" y="3638520"/>
              <a:ext cx="12852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621640" y="358128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458200" y="344952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77120" y="331308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291440" y="3408480"/>
            <a:ext cx="914400" cy="475920"/>
            <a:chOff x="7291440" y="3408480"/>
            <a:chExt cx="914400" cy="475920"/>
          </a:xfrm>
        </p:grpSpPr>
        <p:sp>
          <p:nvSpPr>
            <p:cNvPr id="841" name=""/>
            <p:cNvSpPr txBox="1"/>
            <p:nvPr/>
          </p:nvSpPr>
          <p:spPr>
            <a:xfrm>
              <a:off x="7291440" y="3643200"/>
              <a:ext cx="9144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1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7369200" y="3408480"/>
              <a:ext cx="684720" cy="236880"/>
              <a:chOff x="7369200" y="3408480"/>
              <a:chExt cx="684720" cy="236880"/>
            </a:xfrm>
          </p:grpSpPr>
          <p:sp>
            <p:nvSpPr>
              <p:cNvPr id="843" name=""/>
              <p:cNvSpPr/>
              <p:nvPr/>
            </p:nvSpPr>
            <p:spPr>
              <a:xfrm>
                <a:off x="7591320" y="3589200"/>
                <a:ext cx="462240" cy="54360"/>
              </a:xfrm>
              <a:custGeom>
                <a:avLst/>
                <a:gdLst/>
                <a:ahLst/>
                <a:rect l="0" t="0" r="r" b="b"/>
                <a:pathLst>
                  <a:path w="1284" h="151">
                    <a:moveTo>
                      <a:pt x="0" y="138"/>
                    </a:moveTo>
                    <a:lnTo>
                      <a:pt x="0" y="143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4" y="151"/>
                    </a:lnTo>
                    <a:lnTo>
                      <a:pt x="8" y="151"/>
                    </a:lnTo>
                    <a:lnTo>
                      <a:pt x="1266" y="151"/>
                    </a:lnTo>
                    <a:lnTo>
                      <a:pt x="1271" y="151"/>
                    </a:lnTo>
                    <a:lnTo>
                      <a:pt x="1275" y="151"/>
                    </a:lnTo>
                    <a:lnTo>
                      <a:pt x="1279" y="151"/>
                    </a:lnTo>
                    <a:lnTo>
                      <a:pt x="1279" y="147"/>
                    </a:lnTo>
                    <a:lnTo>
                      <a:pt x="1279" y="143"/>
                    </a:lnTo>
                    <a:lnTo>
                      <a:pt x="1284" y="143"/>
                    </a:lnTo>
                    <a:lnTo>
                      <a:pt x="1284" y="138"/>
                    </a:lnTo>
                    <a:lnTo>
                      <a:pt x="1284" y="13"/>
                    </a:lnTo>
                    <a:lnTo>
                      <a:pt x="1284" y="8"/>
                    </a:lnTo>
                    <a:lnTo>
                      <a:pt x="1279" y="8"/>
                    </a:lnTo>
                    <a:lnTo>
                      <a:pt x="1279" y="4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369200" y="3408480"/>
                <a:ext cx="219600" cy="236880"/>
              </a:xfrm>
              <a:custGeom>
                <a:avLst/>
                <a:gdLst/>
                <a:ahLst/>
                <a:rect l="0" t="0" r="r" b="b"/>
                <a:pathLst>
                  <a:path w="610" h="658">
                    <a:moveTo>
                      <a:pt x="0" y="13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606" y="490"/>
                    </a:lnTo>
                    <a:lnTo>
                      <a:pt x="610" y="490"/>
                    </a:lnTo>
                    <a:lnTo>
                      <a:pt x="610" y="494"/>
                    </a:lnTo>
                    <a:lnTo>
                      <a:pt x="606" y="499"/>
                    </a:lnTo>
                    <a:lnTo>
                      <a:pt x="606" y="503"/>
                    </a:lnTo>
                    <a:lnTo>
                      <a:pt x="606" y="508"/>
                    </a:lnTo>
                    <a:lnTo>
                      <a:pt x="606" y="649"/>
                    </a:lnTo>
                    <a:lnTo>
                      <a:pt x="606" y="653"/>
                    </a:lnTo>
                    <a:lnTo>
                      <a:pt x="601" y="653"/>
                    </a:lnTo>
                    <a:lnTo>
                      <a:pt x="601" y="658"/>
                    </a:lnTo>
                    <a:lnTo>
                      <a:pt x="597" y="658"/>
                    </a:lnTo>
                    <a:lnTo>
                      <a:pt x="597" y="653"/>
                    </a:lnTo>
                    <a:lnTo>
                      <a:pt x="592" y="653"/>
                    </a:lnTo>
                    <a:lnTo>
                      <a:pt x="13" y="176"/>
                    </a:lnTo>
                    <a:lnTo>
                      <a:pt x="8" y="176"/>
                    </a:lnTo>
                    <a:lnTo>
                      <a:pt x="8" y="171"/>
                    </a:lnTo>
                    <a:lnTo>
                      <a:pt x="4" y="167"/>
                    </a:lnTo>
                    <a:lnTo>
                      <a:pt x="4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956720" y="358920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w="270" h="67">
                    <a:moveTo>
                      <a:pt x="0" y="67"/>
                    </a:move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3"/>
                    </a:lnTo>
                    <a:lnTo>
                      <a:pt x="270" y="49"/>
                    </a:lnTo>
                    <a:lnTo>
                      <a:pt x="270" y="45"/>
                    </a:lnTo>
                    <a:lnTo>
                      <a:pt x="270" y="40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2"/>
                    </a:lnTo>
                    <a:lnTo>
                      <a:pt x="270" y="17"/>
                    </a:lnTo>
                    <a:lnTo>
                      <a:pt x="270" y="13"/>
                    </a:lnTo>
                    <a:lnTo>
                      <a:pt x="270" y="8"/>
                    </a:lnTo>
                    <a:lnTo>
                      <a:pt x="266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7" y="0"/>
                    </a:lnTo>
                    <a:lnTo>
                      <a:pt x="253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972560" y="3624120"/>
                <a:ext cx="77760" cy="0"/>
              </a:xfrm>
              <a:prstGeom prst="line">
                <a:avLst/>
              </a:prstGeom>
              <a:ln w="12600">
                <a:solidFill>
                  <a:srgbClr val="6968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96360" y="3591000"/>
                <a:ext cx="351360" cy="38520"/>
              </a:xfrm>
              <a:custGeom>
                <a:avLst/>
                <a:gdLst/>
                <a:ahLst/>
                <a:rect l="0" t="0" r="r" b="b"/>
                <a:pathLst>
                  <a:path w="976" h="107">
                    <a:moveTo>
                      <a:pt x="976" y="71"/>
                    </a:moveTo>
                    <a:lnTo>
                      <a:pt x="870" y="90"/>
                    </a:lnTo>
                    <a:lnTo>
                      <a:pt x="773" y="94"/>
                    </a:lnTo>
                    <a:lnTo>
                      <a:pt x="675" y="103"/>
                    </a:lnTo>
                    <a:lnTo>
                      <a:pt x="587" y="107"/>
                    </a:lnTo>
                    <a:lnTo>
                      <a:pt x="499" y="107"/>
                    </a:lnTo>
                    <a:lnTo>
                      <a:pt x="419" y="107"/>
                    </a:lnTo>
                    <a:lnTo>
                      <a:pt x="349" y="107"/>
                    </a:lnTo>
                    <a:lnTo>
                      <a:pt x="278" y="103"/>
                    </a:lnTo>
                    <a:lnTo>
                      <a:pt x="220" y="99"/>
                    </a:lnTo>
                    <a:lnTo>
                      <a:pt x="163" y="94"/>
                    </a:lnTo>
                    <a:lnTo>
                      <a:pt x="119" y="94"/>
                    </a:lnTo>
                    <a:lnTo>
                      <a:pt x="79" y="85"/>
                    </a:lnTo>
                    <a:lnTo>
                      <a:pt x="52" y="81"/>
                    </a:lnTo>
                    <a:lnTo>
                      <a:pt x="30" y="75"/>
                    </a:lnTo>
                    <a:lnTo>
                      <a:pt x="13" y="75"/>
                    </a:lnTo>
                    <a:lnTo>
                      <a:pt x="8" y="75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30" y="4"/>
                    </a:lnTo>
                    <a:lnTo>
                      <a:pt x="52" y="8"/>
                    </a:lnTo>
                    <a:lnTo>
                      <a:pt x="88" y="13"/>
                    </a:lnTo>
                    <a:lnTo>
                      <a:pt x="132" y="13"/>
                    </a:lnTo>
                    <a:lnTo>
                      <a:pt x="180" y="17"/>
                    </a:lnTo>
                    <a:lnTo>
                      <a:pt x="242" y="22"/>
                    </a:lnTo>
                    <a:lnTo>
                      <a:pt x="305" y="26"/>
                    </a:lnTo>
                    <a:lnTo>
                      <a:pt x="375" y="26"/>
                    </a:lnTo>
                    <a:lnTo>
                      <a:pt x="450" y="31"/>
                    </a:lnTo>
                    <a:lnTo>
                      <a:pt x="530" y="31"/>
                    </a:lnTo>
                    <a:lnTo>
                      <a:pt x="609" y="26"/>
                    </a:lnTo>
                    <a:lnTo>
                      <a:pt x="702" y="22"/>
                    </a:lnTo>
                    <a:lnTo>
                      <a:pt x="791" y="17"/>
                    </a:lnTo>
                    <a:lnTo>
                      <a:pt x="883" y="13"/>
                    </a:lnTo>
                    <a:lnTo>
                      <a:pt x="976" y="0"/>
                    </a:lnTo>
                    <a:lnTo>
                      <a:pt x="97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6360" y="3624120"/>
                <a:ext cx="360720" cy="16200"/>
              </a:xfrm>
              <a:custGeom>
                <a:avLst/>
                <a:gdLst/>
                <a:ahLst/>
                <a:rect l="0" t="0" r="r" b="b"/>
                <a:pathLst>
                  <a:path fill="none" w="1002" h="45">
                    <a:moveTo>
                      <a:pt x="1002" y="0"/>
                    </a:moveTo>
                    <a:lnTo>
                      <a:pt x="891" y="17"/>
                    </a:lnTo>
                    <a:lnTo>
                      <a:pt x="794" y="31"/>
                    </a:lnTo>
                    <a:lnTo>
                      <a:pt x="693" y="40"/>
                    </a:lnTo>
                    <a:lnTo>
                      <a:pt x="600" y="45"/>
                    </a:lnTo>
                    <a:lnTo>
                      <a:pt x="508" y="45"/>
                    </a:lnTo>
                    <a:lnTo>
                      <a:pt x="427" y="45"/>
                    </a:lnTo>
                    <a:lnTo>
                      <a:pt x="352" y="45"/>
                    </a:lnTo>
                    <a:lnTo>
                      <a:pt x="282" y="40"/>
                    </a:lnTo>
                    <a:lnTo>
                      <a:pt x="216" y="36"/>
                    </a:lnTo>
                    <a:lnTo>
                      <a:pt x="167" y="31"/>
                    </a:lnTo>
                    <a:lnTo>
                      <a:pt x="114" y="27"/>
                    </a:lnTo>
                    <a:lnTo>
                      <a:pt x="74" y="13"/>
                    </a:lnTo>
                    <a:lnTo>
                      <a:pt x="44" y="8"/>
                    </a:lnTo>
                    <a:lnTo>
                      <a:pt x="17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956720" y="362124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0" y="0"/>
                    </a:moveTo>
                    <a:lnTo>
                      <a:pt x="9" y="0"/>
                    </a:lnTo>
                    <a:lnTo>
                      <a:pt x="14" y="18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91320" y="362124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5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19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004240" y="3598920"/>
                <a:ext cx="9720" cy="20880"/>
              </a:xfrm>
              <a:custGeom>
                <a:avLst/>
                <a:gdLst/>
                <a:ahLst/>
                <a:rect l="0" t="0" r="r" b="b"/>
                <a:pathLst>
                  <a:path w="27" h="58">
                    <a:moveTo>
                      <a:pt x="27" y="58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004240" y="3598920"/>
                <a:ext cx="9720" cy="12960"/>
              </a:xfrm>
              <a:custGeom>
                <a:avLst/>
                <a:gdLst/>
                <a:ahLst/>
                <a:rect l="0" t="0" r="r" b="b"/>
                <a:pathLst>
                  <a:path w="27" h="36">
                    <a:moveTo>
                      <a:pt x="0" y="36"/>
                    </a:moveTo>
                    <a:lnTo>
                      <a:pt x="14" y="0"/>
                    </a:lnTo>
                    <a:lnTo>
                      <a:pt x="2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007480" y="361008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69200" y="3443400"/>
                <a:ext cx="217800" cy="174960"/>
              </a:xfrm>
              <a:custGeom>
                <a:avLst/>
                <a:gdLst/>
                <a:ahLst/>
                <a:rect l="0" t="0" r="r" b="b"/>
                <a:pathLst>
                  <a:path w="605" h="486">
                    <a:moveTo>
                      <a:pt x="605" y="472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05" y="486"/>
                    </a:lnTo>
                    <a:lnTo>
                      <a:pt x="605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569360" y="362124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59640" y="361152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48480" y="3605040"/>
                <a:ext cx="6840" cy="9720"/>
              </a:xfrm>
              <a:custGeom>
                <a:avLst/>
                <a:gdLst/>
                <a:ahLst/>
                <a:rect l="0" t="0" r="r" b="b"/>
                <a:pathLst>
                  <a:path w="19" h="27">
                    <a:moveTo>
                      <a:pt x="19" y="0"/>
                    </a:moveTo>
                    <a:lnTo>
                      <a:pt x="19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539120" y="359568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529400" y="358920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518240" y="3579840"/>
                <a:ext cx="5040" cy="11520"/>
              </a:xfrm>
              <a:custGeom>
                <a:avLst/>
                <a:gdLst/>
                <a:ahLst/>
                <a:rect l="0" t="0" r="r" b="b"/>
                <a:pathLst>
                  <a:path w="14" h="32">
                    <a:moveTo>
                      <a:pt x="14" y="0"/>
                    </a:moveTo>
                    <a:lnTo>
                      <a:pt x="14" y="28"/>
                    </a:lnTo>
                    <a:lnTo>
                      <a:pt x="0" y="32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70640" y="3408480"/>
                <a:ext cx="679680" cy="184680"/>
              </a:xfrm>
              <a:custGeom>
                <a:avLst/>
                <a:gdLst/>
                <a:ahLst/>
                <a:rect l="0" t="0" r="r" b="b"/>
                <a:pathLst>
                  <a:path w="1888" h="513">
                    <a:moveTo>
                      <a:pt x="621" y="482"/>
                    </a:moveTo>
                    <a:lnTo>
                      <a:pt x="643" y="487"/>
                    </a:lnTo>
                    <a:lnTo>
                      <a:pt x="670" y="491"/>
                    </a:lnTo>
                    <a:lnTo>
                      <a:pt x="696" y="491"/>
                    </a:lnTo>
                    <a:lnTo>
                      <a:pt x="718" y="495"/>
                    </a:lnTo>
                    <a:lnTo>
                      <a:pt x="749" y="500"/>
                    </a:lnTo>
                    <a:lnTo>
                      <a:pt x="780" y="500"/>
                    </a:lnTo>
                    <a:lnTo>
                      <a:pt x="811" y="504"/>
                    </a:lnTo>
                    <a:lnTo>
                      <a:pt x="846" y="504"/>
                    </a:lnTo>
                    <a:lnTo>
                      <a:pt x="877" y="509"/>
                    </a:lnTo>
                    <a:lnTo>
                      <a:pt x="912" y="509"/>
                    </a:lnTo>
                    <a:lnTo>
                      <a:pt x="953" y="513"/>
                    </a:lnTo>
                    <a:lnTo>
                      <a:pt x="993" y="513"/>
                    </a:lnTo>
                    <a:lnTo>
                      <a:pt x="1028" y="513"/>
                    </a:lnTo>
                    <a:lnTo>
                      <a:pt x="1068" y="513"/>
                    </a:lnTo>
                    <a:lnTo>
                      <a:pt x="1112" y="513"/>
                    </a:lnTo>
                    <a:lnTo>
                      <a:pt x="1151" y="513"/>
                    </a:lnTo>
                    <a:lnTo>
                      <a:pt x="1182" y="513"/>
                    </a:lnTo>
                    <a:lnTo>
                      <a:pt x="1213" y="513"/>
                    </a:lnTo>
                    <a:lnTo>
                      <a:pt x="1244" y="513"/>
                    </a:lnTo>
                    <a:lnTo>
                      <a:pt x="1275" y="513"/>
                    </a:lnTo>
                    <a:lnTo>
                      <a:pt x="1306" y="509"/>
                    </a:lnTo>
                    <a:lnTo>
                      <a:pt x="1337" y="509"/>
                    </a:lnTo>
                    <a:lnTo>
                      <a:pt x="1363" y="509"/>
                    </a:lnTo>
                    <a:lnTo>
                      <a:pt x="1390" y="504"/>
                    </a:lnTo>
                    <a:lnTo>
                      <a:pt x="1420" y="504"/>
                    </a:lnTo>
                    <a:lnTo>
                      <a:pt x="1451" y="500"/>
                    </a:lnTo>
                    <a:lnTo>
                      <a:pt x="1478" y="500"/>
                    </a:lnTo>
                    <a:lnTo>
                      <a:pt x="1504" y="495"/>
                    </a:lnTo>
                    <a:lnTo>
                      <a:pt x="1531" y="491"/>
                    </a:lnTo>
                    <a:lnTo>
                      <a:pt x="1557" y="487"/>
                    </a:lnTo>
                    <a:lnTo>
                      <a:pt x="1588" y="482"/>
                    </a:lnTo>
                    <a:lnTo>
                      <a:pt x="1614" y="478"/>
                    </a:lnTo>
                    <a:lnTo>
                      <a:pt x="1619" y="478"/>
                    </a:lnTo>
                    <a:lnTo>
                      <a:pt x="1628" y="478"/>
                    </a:lnTo>
                    <a:lnTo>
                      <a:pt x="1641" y="478"/>
                    </a:lnTo>
                    <a:lnTo>
                      <a:pt x="1654" y="478"/>
                    </a:lnTo>
                    <a:lnTo>
                      <a:pt x="1676" y="478"/>
                    </a:lnTo>
                    <a:lnTo>
                      <a:pt x="1698" y="478"/>
                    </a:lnTo>
                    <a:lnTo>
                      <a:pt x="1725" y="478"/>
                    </a:lnTo>
                    <a:lnTo>
                      <a:pt x="1751" y="478"/>
                    </a:lnTo>
                    <a:lnTo>
                      <a:pt x="1778" y="478"/>
                    </a:lnTo>
                    <a:lnTo>
                      <a:pt x="1804" y="478"/>
                    </a:lnTo>
                    <a:lnTo>
                      <a:pt x="1822" y="478"/>
                    </a:lnTo>
                    <a:lnTo>
                      <a:pt x="1844" y="478"/>
                    </a:lnTo>
                    <a:lnTo>
                      <a:pt x="1861" y="478"/>
                    </a:lnTo>
                    <a:lnTo>
                      <a:pt x="1875" y="478"/>
                    </a:lnTo>
                    <a:lnTo>
                      <a:pt x="1883" y="478"/>
                    </a:lnTo>
                    <a:lnTo>
                      <a:pt x="1888" y="478"/>
                    </a:lnTo>
                    <a:lnTo>
                      <a:pt x="1279" y="0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262" y="0"/>
                    </a:lnTo>
                    <a:lnTo>
                      <a:pt x="1257" y="0"/>
                    </a:lnTo>
                    <a:lnTo>
                      <a:pt x="1253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26" y="17"/>
                    </a:lnTo>
                    <a:lnTo>
                      <a:pt x="57" y="39"/>
                    </a:lnTo>
                    <a:lnTo>
                      <a:pt x="92" y="74"/>
                    </a:lnTo>
                    <a:lnTo>
                      <a:pt x="141" y="110"/>
                    </a:lnTo>
                    <a:lnTo>
                      <a:pt x="194" y="150"/>
                    </a:lnTo>
                    <a:lnTo>
                      <a:pt x="242" y="195"/>
                    </a:lnTo>
                    <a:lnTo>
                      <a:pt x="304" y="239"/>
                    </a:lnTo>
                    <a:lnTo>
                      <a:pt x="361" y="283"/>
                    </a:lnTo>
                    <a:lnTo>
                      <a:pt x="414" y="327"/>
                    </a:lnTo>
                    <a:lnTo>
                      <a:pt x="467" y="367"/>
                    </a:lnTo>
                    <a:lnTo>
                      <a:pt x="515" y="403"/>
                    </a:lnTo>
                    <a:lnTo>
                      <a:pt x="551" y="434"/>
                    </a:lnTo>
                    <a:lnTo>
                      <a:pt x="586" y="456"/>
                    </a:lnTo>
                    <a:lnTo>
                      <a:pt x="604" y="473"/>
                    </a:lnTo>
                    <a:lnTo>
                      <a:pt x="612" y="478"/>
                    </a:lnTo>
                    <a:lnTo>
                      <a:pt x="621" y="482"/>
                    </a:lnTo>
                    <a:close/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446960" y="3408480"/>
                <a:ext cx="230400" cy="182880"/>
              </a:xfrm>
              <a:custGeom>
                <a:avLst/>
                <a:gdLst/>
                <a:ahLst/>
                <a:rect l="0" t="0" r="r" b="b"/>
                <a:pathLst>
                  <a:path w="640" h="508">
                    <a:moveTo>
                      <a:pt x="0" y="0"/>
                    </a:moveTo>
                    <a:lnTo>
                      <a:pt x="613" y="503"/>
                    </a:lnTo>
                    <a:lnTo>
                      <a:pt x="618" y="503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27" y="508"/>
                    </a:lnTo>
                    <a:lnTo>
                      <a:pt x="631" y="508"/>
                    </a:lnTo>
                    <a:lnTo>
                      <a:pt x="636" y="508"/>
                    </a:lnTo>
                    <a:lnTo>
                      <a:pt x="640" y="508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493040" y="3408480"/>
                <a:ext cx="233640" cy="184680"/>
              </a:xfrm>
              <a:custGeom>
                <a:avLst/>
                <a:gdLst/>
                <a:ahLst/>
                <a:rect l="0" t="0" r="r" b="b"/>
                <a:pathLst>
                  <a:path w="649" h="513">
                    <a:moveTo>
                      <a:pt x="0" y="0"/>
                    </a:moveTo>
                    <a:lnTo>
                      <a:pt x="622" y="513"/>
                    </a:lnTo>
                    <a:lnTo>
                      <a:pt x="627" y="513"/>
                    </a:lnTo>
                    <a:lnTo>
                      <a:pt x="631" y="513"/>
                    </a:lnTo>
                    <a:lnTo>
                      <a:pt x="636" y="513"/>
                    </a:lnTo>
                    <a:lnTo>
                      <a:pt x="640" y="513"/>
                    </a:lnTo>
                    <a:lnTo>
                      <a:pt x="644" y="513"/>
                    </a:lnTo>
                    <a:lnTo>
                      <a:pt x="649" y="5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542360" y="340848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588080" y="340848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35960" y="3408480"/>
                <a:ext cx="228960" cy="182880"/>
              </a:xfrm>
              <a:custGeom>
                <a:avLst/>
                <a:gdLst/>
                <a:ahLst/>
                <a:rect l="0" t="0" r="r" b="b"/>
                <a:pathLst>
                  <a:path w="636" h="508">
                    <a:moveTo>
                      <a:pt x="0" y="0"/>
                    </a:moveTo>
                    <a:lnTo>
                      <a:pt x="613" y="508"/>
                    </a:lnTo>
                    <a:lnTo>
                      <a:pt x="618" y="508"/>
                    </a:lnTo>
                    <a:lnTo>
                      <a:pt x="622" y="508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31" y="503"/>
                    </a:lnTo>
                    <a:lnTo>
                      <a:pt x="636" y="50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840800" y="3578400"/>
                <a:ext cx="24120" cy="24120"/>
              </a:xfrm>
              <a:custGeom>
                <a:avLst/>
                <a:gdLst/>
                <a:ahLst/>
                <a:rect l="0" t="0" r="r" b="b"/>
                <a:pathLst>
                  <a:path w="67" h="67">
                    <a:moveTo>
                      <a:pt x="0" y="0"/>
                    </a:moveTo>
                    <a:lnTo>
                      <a:pt x="49" y="45"/>
                    </a:lnTo>
                    <a:lnTo>
                      <a:pt x="49" y="49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53" y="67"/>
                    </a:lnTo>
                    <a:lnTo>
                      <a:pt x="58" y="67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7" y="53"/>
                    </a:lnTo>
                    <a:lnTo>
                      <a:pt x="67" y="49"/>
                    </a:lnTo>
                    <a:lnTo>
                      <a:pt x="67" y="45"/>
                    </a:lnTo>
                    <a:lnTo>
                      <a:pt x="67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791480" y="3579840"/>
                <a:ext cx="28800" cy="24120"/>
              </a:xfrm>
              <a:custGeom>
                <a:avLst/>
                <a:gdLst/>
                <a:ahLst/>
                <a:rect l="0" t="0" r="r" b="b"/>
                <a:pathLst>
                  <a:path w="80" h="67">
                    <a:moveTo>
                      <a:pt x="0" y="0"/>
                    </a:moveTo>
                    <a:lnTo>
                      <a:pt x="62" y="40"/>
                    </a:ln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8"/>
                    </a:lnTo>
                    <a:lnTo>
                      <a:pt x="62" y="62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71" y="67"/>
                    </a:lnTo>
                    <a:lnTo>
                      <a:pt x="75" y="67"/>
                    </a:lnTo>
                    <a:lnTo>
                      <a:pt x="80" y="67"/>
                    </a:lnTo>
                    <a:lnTo>
                      <a:pt x="80" y="62"/>
                    </a:lnTo>
                    <a:lnTo>
                      <a:pt x="80" y="58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80" y="4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745400" y="357984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97880" y="357840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51800" y="3579840"/>
                <a:ext cx="25920" cy="22680"/>
              </a:xfrm>
              <a:custGeom>
                <a:avLst/>
                <a:gdLst/>
                <a:ahLst/>
                <a:rect l="0" t="0" r="r" b="b"/>
                <a:pathLst>
                  <a:path w="72" h="63">
                    <a:moveTo>
                      <a:pt x="0" y="0"/>
                    </a:moveTo>
                    <a:lnTo>
                      <a:pt x="53" y="40"/>
                    </a:lnTo>
                    <a:lnTo>
                      <a:pt x="53" y="45"/>
                    </a:lnTo>
                    <a:lnTo>
                      <a:pt x="53" y="50"/>
                    </a:lnTo>
                    <a:lnTo>
                      <a:pt x="53" y="54"/>
                    </a:lnTo>
                    <a:lnTo>
                      <a:pt x="53" y="59"/>
                    </a:lnTo>
                    <a:lnTo>
                      <a:pt x="53" y="63"/>
                    </a:lnTo>
                    <a:lnTo>
                      <a:pt x="59" y="63"/>
                    </a:lnTo>
                    <a:lnTo>
                      <a:pt x="63" y="63"/>
                    </a:lnTo>
                    <a:lnTo>
                      <a:pt x="68" y="63"/>
                    </a:lnTo>
                    <a:lnTo>
                      <a:pt x="72" y="63"/>
                    </a:lnTo>
                    <a:lnTo>
                      <a:pt x="72" y="59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77000" y="360216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c91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"/>
          <p:cNvSpPr txBox="1"/>
          <p:nvPr/>
        </p:nvSpPr>
        <p:spPr>
          <a:xfrm>
            <a:off x="6199200" y="2373480"/>
            <a:ext cx="936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/FT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168960" y="3191040"/>
            <a:ext cx="971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ame Re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292880" y="2200320"/>
            <a:ext cx="914400" cy="476280"/>
            <a:chOff x="7292880" y="2200320"/>
            <a:chExt cx="914400" cy="476280"/>
          </a:xfrm>
        </p:grpSpPr>
        <p:sp>
          <p:nvSpPr>
            <p:cNvPr id="876" name=""/>
            <p:cNvSpPr txBox="1"/>
            <p:nvPr/>
          </p:nvSpPr>
          <p:spPr>
            <a:xfrm>
              <a:off x="7292880" y="2435400"/>
              <a:ext cx="9144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1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7369200" y="2200320"/>
              <a:ext cx="684720" cy="236880"/>
              <a:chOff x="7369200" y="2200320"/>
              <a:chExt cx="684720" cy="236880"/>
            </a:xfrm>
          </p:grpSpPr>
          <p:sp>
            <p:nvSpPr>
              <p:cNvPr id="878" name=""/>
              <p:cNvSpPr/>
              <p:nvPr/>
            </p:nvSpPr>
            <p:spPr>
              <a:xfrm>
                <a:off x="7591320" y="2381400"/>
                <a:ext cx="462240" cy="54360"/>
              </a:xfrm>
              <a:custGeom>
                <a:avLst/>
                <a:gdLst/>
                <a:ahLst/>
                <a:rect l="0" t="0" r="r" b="b"/>
                <a:pathLst>
                  <a:path w="1284" h="151">
                    <a:moveTo>
                      <a:pt x="0" y="138"/>
                    </a:moveTo>
                    <a:lnTo>
                      <a:pt x="0" y="143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4" y="151"/>
                    </a:lnTo>
                    <a:lnTo>
                      <a:pt x="8" y="151"/>
                    </a:lnTo>
                    <a:lnTo>
                      <a:pt x="1266" y="151"/>
                    </a:lnTo>
                    <a:lnTo>
                      <a:pt x="1271" y="151"/>
                    </a:lnTo>
                    <a:lnTo>
                      <a:pt x="1275" y="151"/>
                    </a:lnTo>
                    <a:lnTo>
                      <a:pt x="1279" y="151"/>
                    </a:lnTo>
                    <a:lnTo>
                      <a:pt x="1279" y="147"/>
                    </a:lnTo>
                    <a:lnTo>
                      <a:pt x="1279" y="143"/>
                    </a:lnTo>
                    <a:lnTo>
                      <a:pt x="1284" y="143"/>
                    </a:lnTo>
                    <a:lnTo>
                      <a:pt x="1284" y="138"/>
                    </a:lnTo>
                    <a:lnTo>
                      <a:pt x="1284" y="13"/>
                    </a:lnTo>
                    <a:lnTo>
                      <a:pt x="1284" y="8"/>
                    </a:lnTo>
                    <a:lnTo>
                      <a:pt x="1279" y="8"/>
                    </a:lnTo>
                    <a:lnTo>
                      <a:pt x="1279" y="4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369200" y="2200320"/>
                <a:ext cx="219600" cy="236880"/>
              </a:xfrm>
              <a:custGeom>
                <a:avLst/>
                <a:gdLst/>
                <a:ahLst/>
                <a:rect l="0" t="0" r="r" b="b"/>
                <a:pathLst>
                  <a:path w="610" h="658">
                    <a:moveTo>
                      <a:pt x="0" y="13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606" y="490"/>
                    </a:lnTo>
                    <a:lnTo>
                      <a:pt x="610" y="490"/>
                    </a:lnTo>
                    <a:lnTo>
                      <a:pt x="610" y="494"/>
                    </a:lnTo>
                    <a:lnTo>
                      <a:pt x="606" y="499"/>
                    </a:lnTo>
                    <a:lnTo>
                      <a:pt x="606" y="503"/>
                    </a:lnTo>
                    <a:lnTo>
                      <a:pt x="606" y="508"/>
                    </a:lnTo>
                    <a:lnTo>
                      <a:pt x="606" y="649"/>
                    </a:lnTo>
                    <a:lnTo>
                      <a:pt x="606" y="653"/>
                    </a:lnTo>
                    <a:lnTo>
                      <a:pt x="601" y="653"/>
                    </a:lnTo>
                    <a:lnTo>
                      <a:pt x="601" y="658"/>
                    </a:lnTo>
                    <a:lnTo>
                      <a:pt x="597" y="658"/>
                    </a:lnTo>
                    <a:lnTo>
                      <a:pt x="597" y="653"/>
                    </a:lnTo>
                    <a:lnTo>
                      <a:pt x="592" y="653"/>
                    </a:lnTo>
                    <a:lnTo>
                      <a:pt x="13" y="176"/>
                    </a:lnTo>
                    <a:lnTo>
                      <a:pt x="8" y="176"/>
                    </a:lnTo>
                    <a:lnTo>
                      <a:pt x="8" y="171"/>
                    </a:lnTo>
                    <a:lnTo>
                      <a:pt x="4" y="167"/>
                    </a:lnTo>
                    <a:lnTo>
                      <a:pt x="4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956720" y="238140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w="270" h="67">
                    <a:moveTo>
                      <a:pt x="0" y="67"/>
                    </a:move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3"/>
                    </a:lnTo>
                    <a:lnTo>
                      <a:pt x="270" y="49"/>
                    </a:lnTo>
                    <a:lnTo>
                      <a:pt x="270" y="45"/>
                    </a:lnTo>
                    <a:lnTo>
                      <a:pt x="270" y="40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2"/>
                    </a:lnTo>
                    <a:lnTo>
                      <a:pt x="270" y="17"/>
                    </a:lnTo>
                    <a:lnTo>
                      <a:pt x="270" y="13"/>
                    </a:lnTo>
                    <a:lnTo>
                      <a:pt x="270" y="8"/>
                    </a:lnTo>
                    <a:lnTo>
                      <a:pt x="266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7" y="0"/>
                    </a:lnTo>
                    <a:lnTo>
                      <a:pt x="253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972560" y="2416320"/>
                <a:ext cx="77760" cy="0"/>
              </a:xfrm>
              <a:prstGeom prst="line">
                <a:avLst/>
              </a:prstGeom>
              <a:ln w="12600">
                <a:solidFill>
                  <a:srgbClr val="6968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596360" y="2382840"/>
                <a:ext cx="351360" cy="38520"/>
              </a:xfrm>
              <a:custGeom>
                <a:avLst/>
                <a:gdLst/>
                <a:ahLst/>
                <a:rect l="0" t="0" r="r" b="b"/>
                <a:pathLst>
                  <a:path w="976" h="107">
                    <a:moveTo>
                      <a:pt x="976" y="71"/>
                    </a:moveTo>
                    <a:lnTo>
                      <a:pt x="870" y="90"/>
                    </a:lnTo>
                    <a:lnTo>
                      <a:pt x="773" y="94"/>
                    </a:lnTo>
                    <a:lnTo>
                      <a:pt x="675" y="103"/>
                    </a:lnTo>
                    <a:lnTo>
                      <a:pt x="587" y="107"/>
                    </a:lnTo>
                    <a:lnTo>
                      <a:pt x="499" y="107"/>
                    </a:lnTo>
                    <a:lnTo>
                      <a:pt x="419" y="107"/>
                    </a:lnTo>
                    <a:lnTo>
                      <a:pt x="349" y="107"/>
                    </a:lnTo>
                    <a:lnTo>
                      <a:pt x="278" y="103"/>
                    </a:lnTo>
                    <a:lnTo>
                      <a:pt x="220" y="99"/>
                    </a:lnTo>
                    <a:lnTo>
                      <a:pt x="163" y="94"/>
                    </a:lnTo>
                    <a:lnTo>
                      <a:pt x="119" y="94"/>
                    </a:lnTo>
                    <a:lnTo>
                      <a:pt x="79" y="85"/>
                    </a:lnTo>
                    <a:lnTo>
                      <a:pt x="52" y="81"/>
                    </a:lnTo>
                    <a:lnTo>
                      <a:pt x="30" y="75"/>
                    </a:lnTo>
                    <a:lnTo>
                      <a:pt x="13" y="75"/>
                    </a:lnTo>
                    <a:lnTo>
                      <a:pt x="8" y="75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30" y="4"/>
                    </a:lnTo>
                    <a:lnTo>
                      <a:pt x="52" y="8"/>
                    </a:lnTo>
                    <a:lnTo>
                      <a:pt x="88" y="13"/>
                    </a:lnTo>
                    <a:lnTo>
                      <a:pt x="132" y="13"/>
                    </a:lnTo>
                    <a:lnTo>
                      <a:pt x="180" y="17"/>
                    </a:lnTo>
                    <a:lnTo>
                      <a:pt x="242" y="22"/>
                    </a:lnTo>
                    <a:lnTo>
                      <a:pt x="305" y="26"/>
                    </a:lnTo>
                    <a:lnTo>
                      <a:pt x="375" y="26"/>
                    </a:lnTo>
                    <a:lnTo>
                      <a:pt x="450" y="31"/>
                    </a:lnTo>
                    <a:lnTo>
                      <a:pt x="530" y="31"/>
                    </a:lnTo>
                    <a:lnTo>
                      <a:pt x="609" y="26"/>
                    </a:lnTo>
                    <a:lnTo>
                      <a:pt x="702" y="22"/>
                    </a:lnTo>
                    <a:lnTo>
                      <a:pt x="791" y="17"/>
                    </a:lnTo>
                    <a:lnTo>
                      <a:pt x="883" y="13"/>
                    </a:lnTo>
                    <a:lnTo>
                      <a:pt x="976" y="0"/>
                    </a:lnTo>
                    <a:lnTo>
                      <a:pt x="97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96360" y="2416320"/>
                <a:ext cx="360720" cy="16200"/>
              </a:xfrm>
              <a:custGeom>
                <a:avLst/>
                <a:gdLst/>
                <a:ahLst/>
                <a:rect l="0" t="0" r="r" b="b"/>
                <a:pathLst>
                  <a:path fill="none" w="1002" h="45">
                    <a:moveTo>
                      <a:pt x="1002" y="0"/>
                    </a:moveTo>
                    <a:lnTo>
                      <a:pt x="891" y="17"/>
                    </a:lnTo>
                    <a:lnTo>
                      <a:pt x="794" y="31"/>
                    </a:lnTo>
                    <a:lnTo>
                      <a:pt x="693" y="40"/>
                    </a:lnTo>
                    <a:lnTo>
                      <a:pt x="600" y="45"/>
                    </a:lnTo>
                    <a:lnTo>
                      <a:pt x="508" y="45"/>
                    </a:lnTo>
                    <a:lnTo>
                      <a:pt x="427" y="45"/>
                    </a:lnTo>
                    <a:lnTo>
                      <a:pt x="352" y="45"/>
                    </a:lnTo>
                    <a:lnTo>
                      <a:pt x="282" y="40"/>
                    </a:lnTo>
                    <a:lnTo>
                      <a:pt x="216" y="36"/>
                    </a:lnTo>
                    <a:lnTo>
                      <a:pt x="167" y="31"/>
                    </a:lnTo>
                    <a:lnTo>
                      <a:pt x="114" y="27"/>
                    </a:lnTo>
                    <a:lnTo>
                      <a:pt x="74" y="13"/>
                    </a:lnTo>
                    <a:lnTo>
                      <a:pt x="44" y="8"/>
                    </a:lnTo>
                    <a:lnTo>
                      <a:pt x="17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56720" y="241308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0" y="0"/>
                    </a:moveTo>
                    <a:lnTo>
                      <a:pt x="9" y="0"/>
                    </a:lnTo>
                    <a:lnTo>
                      <a:pt x="14" y="18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591320" y="241308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5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19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04240" y="2390760"/>
                <a:ext cx="9720" cy="20880"/>
              </a:xfrm>
              <a:custGeom>
                <a:avLst/>
                <a:gdLst/>
                <a:ahLst/>
                <a:rect l="0" t="0" r="r" b="b"/>
                <a:pathLst>
                  <a:path w="27" h="58">
                    <a:moveTo>
                      <a:pt x="27" y="58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04240" y="2390760"/>
                <a:ext cx="9720" cy="12960"/>
              </a:xfrm>
              <a:custGeom>
                <a:avLst/>
                <a:gdLst/>
                <a:ahLst/>
                <a:rect l="0" t="0" r="r" b="b"/>
                <a:pathLst>
                  <a:path w="27" h="36">
                    <a:moveTo>
                      <a:pt x="0" y="36"/>
                    </a:moveTo>
                    <a:lnTo>
                      <a:pt x="14" y="0"/>
                    </a:lnTo>
                    <a:lnTo>
                      <a:pt x="2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07480" y="24019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369200" y="2235240"/>
                <a:ext cx="217800" cy="174960"/>
              </a:xfrm>
              <a:custGeom>
                <a:avLst/>
                <a:gdLst/>
                <a:ahLst/>
                <a:rect l="0" t="0" r="r" b="b"/>
                <a:pathLst>
                  <a:path w="605" h="486">
                    <a:moveTo>
                      <a:pt x="605" y="472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05" y="486"/>
                    </a:lnTo>
                    <a:lnTo>
                      <a:pt x="605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569360" y="241308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559640" y="240336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548480" y="2397240"/>
                <a:ext cx="6840" cy="9720"/>
              </a:xfrm>
              <a:custGeom>
                <a:avLst/>
                <a:gdLst/>
                <a:ahLst/>
                <a:rect l="0" t="0" r="r" b="b"/>
                <a:pathLst>
                  <a:path w="19" h="27">
                    <a:moveTo>
                      <a:pt x="19" y="0"/>
                    </a:moveTo>
                    <a:lnTo>
                      <a:pt x="19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539120" y="238752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529400" y="238140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18240" y="2371680"/>
                <a:ext cx="5040" cy="11520"/>
              </a:xfrm>
              <a:custGeom>
                <a:avLst/>
                <a:gdLst/>
                <a:ahLst/>
                <a:rect l="0" t="0" r="r" b="b"/>
                <a:pathLst>
                  <a:path w="14" h="32">
                    <a:moveTo>
                      <a:pt x="14" y="0"/>
                    </a:moveTo>
                    <a:lnTo>
                      <a:pt x="14" y="28"/>
                    </a:lnTo>
                    <a:lnTo>
                      <a:pt x="0" y="32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70640" y="2200320"/>
                <a:ext cx="679680" cy="184680"/>
              </a:xfrm>
              <a:custGeom>
                <a:avLst/>
                <a:gdLst/>
                <a:ahLst/>
                <a:rect l="0" t="0" r="r" b="b"/>
                <a:pathLst>
                  <a:path w="1888" h="513">
                    <a:moveTo>
                      <a:pt x="621" y="482"/>
                    </a:moveTo>
                    <a:lnTo>
                      <a:pt x="643" y="487"/>
                    </a:lnTo>
                    <a:lnTo>
                      <a:pt x="670" y="491"/>
                    </a:lnTo>
                    <a:lnTo>
                      <a:pt x="696" y="491"/>
                    </a:lnTo>
                    <a:lnTo>
                      <a:pt x="718" y="495"/>
                    </a:lnTo>
                    <a:lnTo>
                      <a:pt x="749" y="500"/>
                    </a:lnTo>
                    <a:lnTo>
                      <a:pt x="780" y="500"/>
                    </a:lnTo>
                    <a:lnTo>
                      <a:pt x="811" y="504"/>
                    </a:lnTo>
                    <a:lnTo>
                      <a:pt x="846" y="504"/>
                    </a:lnTo>
                    <a:lnTo>
                      <a:pt x="877" y="509"/>
                    </a:lnTo>
                    <a:lnTo>
                      <a:pt x="912" y="509"/>
                    </a:lnTo>
                    <a:lnTo>
                      <a:pt x="953" y="513"/>
                    </a:lnTo>
                    <a:lnTo>
                      <a:pt x="993" y="513"/>
                    </a:lnTo>
                    <a:lnTo>
                      <a:pt x="1028" y="513"/>
                    </a:lnTo>
                    <a:lnTo>
                      <a:pt x="1068" y="513"/>
                    </a:lnTo>
                    <a:lnTo>
                      <a:pt x="1112" y="513"/>
                    </a:lnTo>
                    <a:lnTo>
                      <a:pt x="1151" y="513"/>
                    </a:lnTo>
                    <a:lnTo>
                      <a:pt x="1182" y="513"/>
                    </a:lnTo>
                    <a:lnTo>
                      <a:pt x="1213" y="513"/>
                    </a:lnTo>
                    <a:lnTo>
                      <a:pt x="1244" y="513"/>
                    </a:lnTo>
                    <a:lnTo>
                      <a:pt x="1275" y="513"/>
                    </a:lnTo>
                    <a:lnTo>
                      <a:pt x="1306" y="509"/>
                    </a:lnTo>
                    <a:lnTo>
                      <a:pt x="1337" y="509"/>
                    </a:lnTo>
                    <a:lnTo>
                      <a:pt x="1363" y="509"/>
                    </a:lnTo>
                    <a:lnTo>
                      <a:pt x="1390" y="504"/>
                    </a:lnTo>
                    <a:lnTo>
                      <a:pt x="1420" y="504"/>
                    </a:lnTo>
                    <a:lnTo>
                      <a:pt x="1451" y="500"/>
                    </a:lnTo>
                    <a:lnTo>
                      <a:pt x="1478" y="500"/>
                    </a:lnTo>
                    <a:lnTo>
                      <a:pt x="1504" y="495"/>
                    </a:lnTo>
                    <a:lnTo>
                      <a:pt x="1531" y="491"/>
                    </a:lnTo>
                    <a:lnTo>
                      <a:pt x="1557" y="487"/>
                    </a:lnTo>
                    <a:lnTo>
                      <a:pt x="1588" y="482"/>
                    </a:lnTo>
                    <a:lnTo>
                      <a:pt x="1614" y="478"/>
                    </a:lnTo>
                    <a:lnTo>
                      <a:pt x="1619" y="478"/>
                    </a:lnTo>
                    <a:lnTo>
                      <a:pt x="1628" y="478"/>
                    </a:lnTo>
                    <a:lnTo>
                      <a:pt x="1641" y="478"/>
                    </a:lnTo>
                    <a:lnTo>
                      <a:pt x="1654" y="478"/>
                    </a:lnTo>
                    <a:lnTo>
                      <a:pt x="1676" y="478"/>
                    </a:lnTo>
                    <a:lnTo>
                      <a:pt x="1698" y="478"/>
                    </a:lnTo>
                    <a:lnTo>
                      <a:pt x="1725" y="478"/>
                    </a:lnTo>
                    <a:lnTo>
                      <a:pt x="1751" y="478"/>
                    </a:lnTo>
                    <a:lnTo>
                      <a:pt x="1778" y="478"/>
                    </a:lnTo>
                    <a:lnTo>
                      <a:pt x="1804" y="478"/>
                    </a:lnTo>
                    <a:lnTo>
                      <a:pt x="1822" y="478"/>
                    </a:lnTo>
                    <a:lnTo>
                      <a:pt x="1844" y="478"/>
                    </a:lnTo>
                    <a:lnTo>
                      <a:pt x="1861" y="478"/>
                    </a:lnTo>
                    <a:lnTo>
                      <a:pt x="1875" y="478"/>
                    </a:lnTo>
                    <a:lnTo>
                      <a:pt x="1883" y="478"/>
                    </a:lnTo>
                    <a:lnTo>
                      <a:pt x="1888" y="478"/>
                    </a:lnTo>
                    <a:lnTo>
                      <a:pt x="1279" y="0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262" y="0"/>
                    </a:lnTo>
                    <a:lnTo>
                      <a:pt x="1257" y="0"/>
                    </a:lnTo>
                    <a:lnTo>
                      <a:pt x="1253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26" y="17"/>
                    </a:lnTo>
                    <a:lnTo>
                      <a:pt x="57" y="39"/>
                    </a:lnTo>
                    <a:lnTo>
                      <a:pt x="92" y="74"/>
                    </a:lnTo>
                    <a:lnTo>
                      <a:pt x="141" y="110"/>
                    </a:lnTo>
                    <a:lnTo>
                      <a:pt x="194" y="150"/>
                    </a:lnTo>
                    <a:lnTo>
                      <a:pt x="242" y="195"/>
                    </a:lnTo>
                    <a:lnTo>
                      <a:pt x="304" y="239"/>
                    </a:lnTo>
                    <a:lnTo>
                      <a:pt x="361" y="283"/>
                    </a:lnTo>
                    <a:lnTo>
                      <a:pt x="414" y="327"/>
                    </a:lnTo>
                    <a:lnTo>
                      <a:pt x="467" y="367"/>
                    </a:lnTo>
                    <a:lnTo>
                      <a:pt x="515" y="403"/>
                    </a:lnTo>
                    <a:lnTo>
                      <a:pt x="551" y="434"/>
                    </a:lnTo>
                    <a:lnTo>
                      <a:pt x="586" y="456"/>
                    </a:lnTo>
                    <a:lnTo>
                      <a:pt x="604" y="473"/>
                    </a:lnTo>
                    <a:lnTo>
                      <a:pt x="612" y="478"/>
                    </a:lnTo>
                    <a:lnTo>
                      <a:pt x="621" y="482"/>
                    </a:lnTo>
                    <a:close/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446960" y="2200320"/>
                <a:ext cx="230400" cy="182880"/>
              </a:xfrm>
              <a:custGeom>
                <a:avLst/>
                <a:gdLst/>
                <a:ahLst/>
                <a:rect l="0" t="0" r="r" b="b"/>
                <a:pathLst>
                  <a:path w="640" h="508">
                    <a:moveTo>
                      <a:pt x="0" y="0"/>
                    </a:moveTo>
                    <a:lnTo>
                      <a:pt x="613" y="503"/>
                    </a:lnTo>
                    <a:lnTo>
                      <a:pt x="618" y="503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27" y="508"/>
                    </a:lnTo>
                    <a:lnTo>
                      <a:pt x="631" y="508"/>
                    </a:lnTo>
                    <a:lnTo>
                      <a:pt x="636" y="508"/>
                    </a:lnTo>
                    <a:lnTo>
                      <a:pt x="640" y="508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93040" y="2200320"/>
                <a:ext cx="233640" cy="184680"/>
              </a:xfrm>
              <a:custGeom>
                <a:avLst/>
                <a:gdLst/>
                <a:ahLst/>
                <a:rect l="0" t="0" r="r" b="b"/>
                <a:pathLst>
                  <a:path w="649" h="513">
                    <a:moveTo>
                      <a:pt x="0" y="0"/>
                    </a:moveTo>
                    <a:lnTo>
                      <a:pt x="622" y="513"/>
                    </a:lnTo>
                    <a:lnTo>
                      <a:pt x="627" y="513"/>
                    </a:lnTo>
                    <a:lnTo>
                      <a:pt x="631" y="513"/>
                    </a:lnTo>
                    <a:lnTo>
                      <a:pt x="636" y="513"/>
                    </a:lnTo>
                    <a:lnTo>
                      <a:pt x="640" y="513"/>
                    </a:lnTo>
                    <a:lnTo>
                      <a:pt x="644" y="513"/>
                    </a:lnTo>
                    <a:lnTo>
                      <a:pt x="649" y="5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42360" y="220032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88080" y="220032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35960" y="2200320"/>
                <a:ext cx="228960" cy="182880"/>
              </a:xfrm>
              <a:custGeom>
                <a:avLst/>
                <a:gdLst/>
                <a:ahLst/>
                <a:rect l="0" t="0" r="r" b="b"/>
                <a:pathLst>
                  <a:path w="636" h="508">
                    <a:moveTo>
                      <a:pt x="0" y="0"/>
                    </a:moveTo>
                    <a:lnTo>
                      <a:pt x="613" y="508"/>
                    </a:lnTo>
                    <a:lnTo>
                      <a:pt x="618" y="508"/>
                    </a:lnTo>
                    <a:lnTo>
                      <a:pt x="622" y="508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31" y="503"/>
                    </a:lnTo>
                    <a:lnTo>
                      <a:pt x="636" y="50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40800" y="2370240"/>
                <a:ext cx="24120" cy="24120"/>
              </a:xfrm>
              <a:custGeom>
                <a:avLst/>
                <a:gdLst/>
                <a:ahLst/>
                <a:rect l="0" t="0" r="r" b="b"/>
                <a:pathLst>
                  <a:path w="67" h="67">
                    <a:moveTo>
                      <a:pt x="0" y="0"/>
                    </a:moveTo>
                    <a:lnTo>
                      <a:pt x="49" y="45"/>
                    </a:lnTo>
                    <a:lnTo>
                      <a:pt x="49" y="49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53" y="67"/>
                    </a:lnTo>
                    <a:lnTo>
                      <a:pt x="58" y="67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7" y="53"/>
                    </a:lnTo>
                    <a:lnTo>
                      <a:pt x="67" y="49"/>
                    </a:lnTo>
                    <a:lnTo>
                      <a:pt x="67" y="45"/>
                    </a:lnTo>
                    <a:lnTo>
                      <a:pt x="67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1480" y="2371680"/>
                <a:ext cx="28800" cy="24120"/>
              </a:xfrm>
              <a:custGeom>
                <a:avLst/>
                <a:gdLst/>
                <a:ahLst/>
                <a:rect l="0" t="0" r="r" b="b"/>
                <a:pathLst>
                  <a:path w="80" h="67">
                    <a:moveTo>
                      <a:pt x="0" y="0"/>
                    </a:moveTo>
                    <a:lnTo>
                      <a:pt x="62" y="40"/>
                    </a:ln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8"/>
                    </a:lnTo>
                    <a:lnTo>
                      <a:pt x="62" y="62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71" y="67"/>
                    </a:lnTo>
                    <a:lnTo>
                      <a:pt x="75" y="67"/>
                    </a:lnTo>
                    <a:lnTo>
                      <a:pt x="80" y="67"/>
                    </a:lnTo>
                    <a:lnTo>
                      <a:pt x="80" y="62"/>
                    </a:lnTo>
                    <a:lnTo>
                      <a:pt x="80" y="58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80" y="4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45400" y="237168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97880" y="237024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51800" y="2371680"/>
                <a:ext cx="25920" cy="22680"/>
              </a:xfrm>
              <a:custGeom>
                <a:avLst/>
                <a:gdLst/>
                <a:ahLst/>
                <a:rect l="0" t="0" r="r" b="b"/>
                <a:pathLst>
                  <a:path w="72" h="63">
                    <a:moveTo>
                      <a:pt x="0" y="0"/>
                    </a:moveTo>
                    <a:lnTo>
                      <a:pt x="53" y="40"/>
                    </a:lnTo>
                    <a:lnTo>
                      <a:pt x="53" y="45"/>
                    </a:lnTo>
                    <a:lnTo>
                      <a:pt x="53" y="50"/>
                    </a:lnTo>
                    <a:lnTo>
                      <a:pt x="53" y="54"/>
                    </a:lnTo>
                    <a:lnTo>
                      <a:pt x="53" y="59"/>
                    </a:lnTo>
                    <a:lnTo>
                      <a:pt x="53" y="63"/>
                    </a:lnTo>
                    <a:lnTo>
                      <a:pt x="59" y="63"/>
                    </a:lnTo>
                    <a:lnTo>
                      <a:pt x="63" y="63"/>
                    </a:lnTo>
                    <a:lnTo>
                      <a:pt x="68" y="63"/>
                    </a:lnTo>
                    <a:lnTo>
                      <a:pt x="72" y="63"/>
                    </a:lnTo>
                    <a:lnTo>
                      <a:pt x="72" y="59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77000" y="239400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c91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Family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Common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76200" y="2019240"/>
            <a:ext cx="4259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DN BRI WA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1/E1/V.35 - Pipeline 50 or Pipelin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thernet LA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ed 4-port Ethernet hub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Pipeline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ed bandwidth o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-Channels are added or subtracted based on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N Protocols: PPP, MP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P+, BA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 Address Translation (N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50, -75, -85, -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427640" y="2019240"/>
            <a:ext cx="4259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Ascend’s Remote Management (ARM)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ash EEP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s software upgrades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C 4:1 data com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rehensive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ustry standard - PAP, CH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tional Firewall - Pipeline 50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75, -85, -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HCP server spoo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50, -75, -85, -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6153120" y="3225960"/>
            <a:ext cx="2455920" cy="7034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953400" y="3673440"/>
            <a:ext cx="795600" cy="60840"/>
          </a:xfrm>
          <a:custGeom>
            <a:avLst/>
            <a:gdLst/>
            <a:ahLst/>
            <a:rect l="0" t="0" r="r" b="b"/>
            <a:pathLst>
              <a:path fill="none" w="2210" h="169">
                <a:moveTo>
                  <a:pt x="0" y="4"/>
                </a:moveTo>
                <a:lnTo>
                  <a:pt x="1009" y="0"/>
                </a:lnTo>
                <a:lnTo>
                  <a:pt x="1009" y="169"/>
                </a:lnTo>
                <a:lnTo>
                  <a:pt x="2210" y="16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153120" y="4022640"/>
            <a:ext cx="2455920" cy="773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064200" y="442764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97760" y="4883040"/>
            <a:ext cx="2411280" cy="83196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189840" y="4846680"/>
            <a:ext cx="24447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Bridged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153120" y="1571760"/>
            <a:ext cx="2455920" cy="773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6064200" y="197640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092240" y="495360"/>
            <a:ext cx="709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To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0" y="4502160"/>
            <a:ext cx="554976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Office - Dedicated Acces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 Office/Home Offic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commuter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Office - Dial-up acces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dged Acces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25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commuter/Internet Acces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89120" y="2281320"/>
            <a:ext cx="1947960" cy="170820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752400" y="2287440"/>
            <a:ext cx="2003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orpo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641680" y="312588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665440" y="3206880"/>
            <a:ext cx="12636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874800" y="2835360"/>
            <a:ext cx="669960" cy="695160"/>
            <a:chOff x="874800" y="2835360"/>
            <a:chExt cx="669960" cy="695160"/>
          </a:xfrm>
        </p:grpSpPr>
        <p:sp>
          <p:nvSpPr>
            <p:cNvPr id="926" name=""/>
            <p:cNvSpPr/>
            <p:nvPr/>
          </p:nvSpPr>
          <p:spPr>
            <a:xfrm>
              <a:off x="1474920" y="2973240"/>
              <a:ext cx="0" cy="44640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60480" y="2973240"/>
              <a:ext cx="0" cy="44640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955800" y="2928960"/>
              <a:ext cx="544320" cy="500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90720" y="2949480"/>
              <a:ext cx="438120" cy="4874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35000" y="345132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35000" y="292248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74800" y="283536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89240" y="283536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74800" y="335448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89240" y="335448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 txBox="1"/>
          <p:nvPr/>
        </p:nvSpPr>
        <p:spPr>
          <a:xfrm>
            <a:off x="2817720" y="2803680"/>
            <a:ext cx="8650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574640" y="3351240"/>
            <a:ext cx="11206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e Acc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828720" y="3552840"/>
            <a:ext cx="822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204040" y="5052960"/>
            <a:ext cx="182880" cy="567000"/>
          </a:xfrm>
          <a:custGeom>
            <a:avLst/>
            <a:gdLst/>
            <a:ahLst/>
            <a:rect l="0" t="0" r="r" b="b"/>
            <a:pathLst>
              <a:path fill="none" w="508" h="1575">
                <a:moveTo>
                  <a:pt x="503" y="0"/>
                </a:moveTo>
                <a:lnTo>
                  <a:pt x="0" y="0"/>
                </a:lnTo>
                <a:lnTo>
                  <a:pt x="0" y="1575"/>
                </a:lnTo>
                <a:lnTo>
                  <a:pt x="508" y="1575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228160" y="5241960"/>
            <a:ext cx="5868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249960" y="1751040"/>
            <a:ext cx="819000" cy="56520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931160" y="1943280"/>
            <a:ext cx="309600" cy="2253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935840" y="1916280"/>
            <a:ext cx="135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020000" y="2054160"/>
            <a:ext cx="1224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291520" y="2187720"/>
            <a:ext cx="128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415360" y="213048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251920" y="199872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070840" y="186228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586320" y="2155680"/>
            <a:ext cx="830520" cy="768600"/>
          </a:xfrm>
          <a:custGeom>
            <a:avLst/>
            <a:gdLst/>
            <a:ahLst/>
            <a:rect l="0" t="0" r="r" b="b"/>
            <a:pathLst>
              <a:path fill="none" w="2307" h="2135">
                <a:moveTo>
                  <a:pt x="2307" y="2135"/>
                </a:moveTo>
                <a:lnTo>
                  <a:pt x="2307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817720" y="1689120"/>
            <a:ext cx="1374840" cy="969840"/>
            <a:chOff x="2817720" y="1689120"/>
            <a:chExt cx="1374840" cy="969840"/>
          </a:xfrm>
        </p:grpSpPr>
        <p:grpSp>
          <p:nvGrpSpPr>
            <p:cNvPr id="951" name=""/>
            <p:cNvGrpSpPr/>
            <p:nvPr/>
          </p:nvGrpSpPr>
          <p:grpSpPr>
            <a:xfrm>
              <a:off x="2824200" y="1689120"/>
              <a:ext cx="1368360" cy="969840"/>
              <a:chOff x="2824200" y="1689120"/>
              <a:chExt cx="1368360" cy="9698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2833560" y="1693800"/>
                <a:ext cx="1335240" cy="896760"/>
                <a:chOff x="2833560" y="1693800"/>
                <a:chExt cx="1335240" cy="8967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067200" y="1693800"/>
                  <a:ext cx="588960" cy="51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833560" y="1932120"/>
                  <a:ext cx="484200" cy="44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963880" y="2185920"/>
                  <a:ext cx="503280" cy="34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127320" y="2054160"/>
                  <a:ext cx="584280" cy="536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570120" y="2003400"/>
                  <a:ext cx="444600" cy="371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828960" y="1982880"/>
                  <a:ext cx="339840" cy="28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521160" y="1765440"/>
                  <a:ext cx="317520" cy="372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773520" y="1881360"/>
                  <a:ext cx="204840" cy="21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24200" y="168912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2" name=""/>
            <p:cNvSpPr txBox="1"/>
            <p:nvPr/>
          </p:nvSpPr>
          <p:spPr>
            <a:xfrm>
              <a:off x="2817720" y="202896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 txBox="1"/>
          <p:nvPr/>
        </p:nvSpPr>
        <p:spPr>
          <a:xfrm>
            <a:off x="6632640" y="2106720"/>
            <a:ext cx="9507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1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145200" y="1535040"/>
            <a:ext cx="2489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99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dicated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153120" y="2432160"/>
            <a:ext cx="2455920" cy="7034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064200" y="275760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953400" y="2879640"/>
            <a:ext cx="795600" cy="60840"/>
          </a:xfrm>
          <a:custGeom>
            <a:avLst/>
            <a:gdLst/>
            <a:ahLst/>
            <a:rect l="0" t="0" r="r" b="b"/>
            <a:pathLst>
              <a:path fill="none" w="2210" h="169">
                <a:moveTo>
                  <a:pt x="0" y="4"/>
                </a:moveTo>
                <a:lnTo>
                  <a:pt x="1009" y="0"/>
                </a:lnTo>
                <a:lnTo>
                  <a:pt x="1009" y="169"/>
                </a:lnTo>
                <a:lnTo>
                  <a:pt x="2210" y="16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7596360" y="2859120"/>
            <a:ext cx="344520" cy="23508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4"/>
          <a:stretch/>
        </p:blipFill>
        <p:spPr>
          <a:xfrm>
            <a:off x="6249960" y="2540160"/>
            <a:ext cx="819000" cy="56520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6910560" y="2698920"/>
            <a:ext cx="838440" cy="68760"/>
          </a:xfrm>
          <a:custGeom>
            <a:avLst/>
            <a:gdLst/>
            <a:ahLst/>
            <a:rect l="0" t="0" r="r" b="b"/>
            <a:pathLst>
              <a:path fill="none" w="2329" h="191">
                <a:moveTo>
                  <a:pt x="0" y="191"/>
                </a:moveTo>
                <a:lnTo>
                  <a:pt x="1128" y="191"/>
                </a:lnTo>
                <a:lnTo>
                  <a:pt x="1128" y="0"/>
                </a:lnTo>
                <a:lnTo>
                  <a:pt x="2329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5"/>
          <a:stretch/>
        </p:blipFill>
        <p:spPr>
          <a:xfrm>
            <a:off x="7523280" y="2630520"/>
            <a:ext cx="317520" cy="1890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931160" y="2716200"/>
            <a:ext cx="309600" cy="2253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935840" y="2689200"/>
            <a:ext cx="135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020000" y="2827440"/>
            <a:ext cx="1224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291520" y="2960640"/>
            <a:ext cx="128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415360" y="290340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251920" y="277164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070840" y="263520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613560" y="2903400"/>
            <a:ext cx="8794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45200" y="2395440"/>
            <a:ext cx="24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SO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6064200" y="355140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108840" y="5261040"/>
            <a:ext cx="190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688080" y="5396040"/>
            <a:ext cx="1084680" cy="62280"/>
          </a:xfrm>
          <a:custGeom>
            <a:avLst/>
            <a:gdLst/>
            <a:ahLst/>
            <a:rect l="0" t="0" r="r" b="b"/>
            <a:pathLst>
              <a:path fill="none" w="3013" h="173">
                <a:moveTo>
                  <a:pt x="0" y="0"/>
                </a:moveTo>
                <a:lnTo>
                  <a:pt x="1835" y="4"/>
                </a:lnTo>
                <a:lnTo>
                  <a:pt x="1835" y="173"/>
                </a:lnTo>
                <a:lnTo>
                  <a:pt x="3013" y="173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6"/>
          <a:stretch/>
        </p:blipFill>
        <p:spPr>
          <a:xfrm>
            <a:off x="7640640" y="5376960"/>
            <a:ext cx="338040" cy="2350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6649920" y="5216400"/>
            <a:ext cx="1122840" cy="68760"/>
          </a:xfrm>
          <a:custGeom>
            <a:avLst/>
            <a:gdLst/>
            <a:ahLst/>
            <a:rect l="0" t="0" r="r" b="b"/>
            <a:pathLst>
              <a:path fill="none" w="3119" h="191">
                <a:moveTo>
                  <a:pt x="0" y="191"/>
                </a:moveTo>
                <a:lnTo>
                  <a:pt x="1941" y="191"/>
                </a:lnTo>
                <a:lnTo>
                  <a:pt x="1941" y="0"/>
                </a:lnTo>
                <a:lnTo>
                  <a:pt x="3119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7"/>
          <a:stretch/>
        </p:blipFill>
        <p:spPr>
          <a:xfrm>
            <a:off x="7567560" y="5140440"/>
            <a:ext cx="312840" cy="1890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6620040" y="5340240"/>
            <a:ext cx="154116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64280" y="5421240"/>
            <a:ext cx="1287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25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67520" y="5805360"/>
            <a:ext cx="2455920" cy="7034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6078600" y="613080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602400" y="6211800"/>
            <a:ext cx="14526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281640" y="6276960"/>
            <a:ext cx="8794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070680" y="5769000"/>
            <a:ext cx="24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Telecomm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8"/>
          <a:stretch/>
        </p:blipFill>
        <p:spPr>
          <a:xfrm>
            <a:off x="6249960" y="4202280"/>
            <a:ext cx="819000" cy="565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931160" y="4394160"/>
            <a:ext cx="309600" cy="2253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935840" y="4367160"/>
            <a:ext cx="135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020000" y="4505400"/>
            <a:ext cx="1224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291520" y="4638600"/>
            <a:ext cx="128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415360" y="458136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251920" y="444960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8070840" y="431316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667560" y="4549680"/>
            <a:ext cx="8794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145200" y="3986280"/>
            <a:ext cx="2489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99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l-up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9"/>
          <a:stretch/>
        </p:blipFill>
        <p:spPr>
          <a:xfrm>
            <a:off x="8290080" y="4933800"/>
            <a:ext cx="243000" cy="19224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10"/>
          <a:stretch/>
        </p:blipFill>
        <p:spPr>
          <a:xfrm>
            <a:off x="8290080" y="5124600"/>
            <a:ext cx="243000" cy="1922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11"/>
          <a:stretch/>
        </p:blipFill>
        <p:spPr>
          <a:xfrm>
            <a:off x="8290080" y="5504040"/>
            <a:ext cx="243000" cy="19224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8228160" y="5432400"/>
            <a:ext cx="5868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2"/>
          <a:stretch/>
        </p:blipFill>
        <p:spPr>
          <a:xfrm>
            <a:off x="8290080" y="5315040"/>
            <a:ext cx="243000" cy="19224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6634080" y="6262560"/>
            <a:ext cx="1105200" cy="62280"/>
          </a:xfrm>
          <a:custGeom>
            <a:avLst/>
            <a:gdLst/>
            <a:ahLst/>
            <a:rect l="0" t="0" r="r" b="b"/>
            <a:pathLst>
              <a:path fill="none" w="3070" h="173">
                <a:moveTo>
                  <a:pt x="0" y="0"/>
                </a:moveTo>
                <a:lnTo>
                  <a:pt x="1870" y="4"/>
                </a:lnTo>
                <a:lnTo>
                  <a:pt x="1870" y="173"/>
                </a:lnTo>
                <a:lnTo>
                  <a:pt x="3070" y="173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3"/>
          <a:stretch/>
        </p:blipFill>
        <p:spPr>
          <a:xfrm>
            <a:off x="7594560" y="6243480"/>
            <a:ext cx="344520" cy="23508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595920" y="6083280"/>
            <a:ext cx="1143360" cy="68760"/>
          </a:xfrm>
          <a:custGeom>
            <a:avLst/>
            <a:gdLst/>
            <a:ahLst/>
            <a:rect l="0" t="0" r="r" b="b"/>
            <a:pathLst>
              <a:path fill="none" w="3176" h="191">
                <a:moveTo>
                  <a:pt x="0" y="191"/>
                </a:moveTo>
                <a:lnTo>
                  <a:pt x="1976" y="191"/>
                </a:lnTo>
                <a:lnTo>
                  <a:pt x="1976" y="0"/>
                </a:lnTo>
                <a:lnTo>
                  <a:pt x="317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4"/>
          <a:stretch/>
        </p:blipFill>
        <p:spPr>
          <a:xfrm>
            <a:off x="7521480" y="6014880"/>
            <a:ext cx="317520" cy="1890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15"/>
          <a:stretch/>
        </p:blipFill>
        <p:spPr>
          <a:xfrm>
            <a:off x="8077320" y="6031080"/>
            <a:ext cx="438120" cy="33480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 flipH="1">
            <a:off x="1459080" y="3205080"/>
            <a:ext cx="63468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644480" y="2828880"/>
            <a:ext cx="1049400" cy="611280"/>
            <a:chOff x="1644480" y="2828880"/>
            <a:chExt cx="1049400" cy="611280"/>
          </a:xfrm>
        </p:grpSpPr>
        <p:pic>
          <p:nvPicPr>
            <p:cNvPr id="1016" name="" descr=""/>
            <p:cNvPicPr/>
            <p:nvPr/>
          </p:nvPicPr>
          <p:blipFill>
            <a:blip r:embed="rId16"/>
            <a:stretch/>
          </p:blipFill>
          <p:spPr>
            <a:xfrm>
              <a:off x="2192400" y="2828880"/>
              <a:ext cx="5014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"/>
            <p:cNvGrpSpPr/>
            <p:nvPr/>
          </p:nvGrpSpPr>
          <p:grpSpPr>
            <a:xfrm>
              <a:off x="1644480" y="2990880"/>
              <a:ext cx="864360" cy="359280"/>
              <a:chOff x="1644480" y="2990880"/>
              <a:chExt cx="864360" cy="359280"/>
            </a:xfrm>
          </p:grpSpPr>
          <p:sp>
            <p:nvSpPr>
              <p:cNvPr id="1018" name=""/>
              <p:cNvSpPr/>
              <p:nvPr/>
            </p:nvSpPr>
            <p:spPr>
              <a:xfrm>
                <a:off x="1852560" y="3316320"/>
                <a:ext cx="646560" cy="9720"/>
              </a:xfrm>
              <a:custGeom>
                <a:avLst/>
                <a:gdLst/>
                <a:ahLst/>
                <a:rect l="0" t="0" r="r" b="b"/>
                <a:pathLst>
                  <a:path w="1796" h="27">
                    <a:moveTo>
                      <a:pt x="0" y="27"/>
                    </a:moveTo>
                    <a:lnTo>
                      <a:pt x="0" y="0"/>
                    </a:lnTo>
                    <a:lnTo>
                      <a:pt x="1796" y="0"/>
                    </a:lnTo>
                    <a:lnTo>
                      <a:pt x="1787" y="14"/>
                    </a:lnTo>
                    <a:lnTo>
                      <a:pt x="1787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706c6e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854360" y="3322800"/>
                <a:ext cx="643320" cy="27360"/>
              </a:xfrm>
              <a:custGeom>
                <a:avLst/>
                <a:gdLst/>
                <a:ahLst/>
                <a:rect l="0" t="0" r="r" b="b"/>
                <a:pathLst>
                  <a:path w="1787" h="76">
                    <a:moveTo>
                      <a:pt x="1779" y="76"/>
                    </a:moveTo>
                    <a:lnTo>
                      <a:pt x="1783" y="76"/>
                    </a:lnTo>
                    <a:lnTo>
                      <a:pt x="1787" y="76"/>
                    </a:lnTo>
                    <a:lnTo>
                      <a:pt x="1787" y="72"/>
                    </a:lnTo>
                    <a:lnTo>
                      <a:pt x="1787" y="68"/>
                    </a:lnTo>
                    <a:lnTo>
                      <a:pt x="1787" y="0"/>
                    </a:lnTo>
                    <a:lnTo>
                      <a:pt x="1765" y="0"/>
                    </a:lnTo>
                    <a:lnTo>
                      <a:pt x="1708" y="0"/>
                    </a:lnTo>
                    <a:lnTo>
                      <a:pt x="1620" y="0"/>
                    </a:lnTo>
                    <a:lnTo>
                      <a:pt x="1510" y="0"/>
                    </a:lnTo>
                    <a:lnTo>
                      <a:pt x="1377" y="0"/>
                    </a:lnTo>
                    <a:lnTo>
                      <a:pt x="1226" y="0"/>
                    </a:lnTo>
                    <a:lnTo>
                      <a:pt x="1068" y="0"/>
                    </a:lnTo>
                    <a:lnTo>
                      <a:pt x="904" y="0"/>
                    </a:lnTo>
                    <a:lnTo>
                      <a:pt x="741" y="0"/>
                    </a:lnTo>
                    <a:lnTo>
                      <a:pt x="583" y="0"/>
                    </a:lnTo>
                    <a:lnTo>
                      <a:pt x="432" y="0"/>
                    </a:lnTo>
                    <a:lnTo>
                      <a:pt x="295" y="0"/>
                    </a:lnTo>
                    <a:lnTo>
                      <a:pt x="180" y="0"/>
                    </a:lnTo>
                    <a:lnTo>
                      <a:pt x="88" y="0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177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54360" y="3160800"/>
                <a:ext cx="654480" cy="157680"/>
              </a:xfrm>
              <a:custGeom>
                <a:avLst/>
                <a:gdLst/>
                <a:ahLst/>
                <a:rect l="0" t="0" r="r" b="b"/>
                <a:pathLst>
                  <a:path w="1818" h="438">
                    <a:moveTo>
                      <a:pt x="1792" y="438"/>
                    </a:moveTo>
                    <a:lnTo>
                      <a:pt x="1792" y="434"/>
                    </a:lnTo>
                    <a:lnTo>
                      <a:pt x="1796" y="429"/>
                    </a:lnTo>
                    <a:lnTo>
                      <a:pt x="1796" y="425"/>
                    </a:lnTo>
                    <a:lnTo>
                      <a:pt x="1801" y="416"/>
                    </a:lnTo>
                    <a:lnTo>
                      <a:pt x="1805" y="407"/>
                    </a:lnTo>
                    <a:lnTo>
                      <a:pt x="1805" y="398"/>
                    </a:lnTo>
                    <a:lnTo>
                      <a:pt x="1805" y="385"/>
                    </a:lnTo>
                    <a:lnTo>
                      <a:pt x="1809" y="372"/>
                    </a:lnTo>
                    <a:lnTo>
                      <a:pt x="1809" y="359"/>
                    </a:lnTo>
                    <a:lnTo>
                      <a:pt x="1814" y="350"/>
                    </a:lnTo>
                    <a:lnTo>
                      <a:pt x="1814" y="337"/>
                    </a:lnTo>
                    <a:lnTo>
                      <a:pt x="1818" y="322"/>
                    </a:lnTo>
                    <a:lnTo>
                      <a:pt x="1818" y="314"/>
                    </a:lnTo>
                    <a:lnTo>
                      <a:pt x="1818" y="300"/>
                    </a:lnTo>
                    <a:lnTo>
                      <a:pt x="1818" y="287"/>
                    </a:lnTo>
                    <a:lnTo>
                      <a:pt x="1818" y="278"/>
                    </a:lnTo>
                    <a:lnTo>
                      <a:pt x="1805" y="278"/>
                    </a:lnTo>
                    <a:lnTo>
                      <a:pt x="1805" y="239"/>
                    </a:lnTo>
                    <a:lnTo>
                      <a:pt x="1818" y="239"/>
                    </a:lnTo>
                    <a:lnTo>
                      <a:pt x="1818" y="234"/>
                    </a:lnTo>
                    <a:lnTo>
                      <a:pt x="1818" y="221"/>
                    </a:lnTo>
                    <a:lnTo>
                      <a:pt x="1818" y="208"/>
                    </a:lnTo>
                    <a:lnTo>
                      <a:pt x="1814" y="199"/>
                    </a:lnTo>
                    <a:lnTo>
                      <a:pt x="1814" y="186"/>
                    </a:lnTo>
                    <a:lnTo>
                      <a:pt x="1814" y="168"/>
                    </a:lnTo>
                    <a:lnTo>
                      <a:pt x="1809" y="159"/>
                    </a:lnTo>
                    <a:lnTo>
                      <a:pt x="1809" y="142"/>
                    </a:lnTo>
                    <a:lnTo>
                      <a:pt x="1805" y="128"/>
                    </a:lnTo>
                    <a:lnTo>
                      <a:pt x="1805" y="120"/>
                    </a:lnTo>
                    <a:lnTo>
                      <a:pt x="1805" y="105"/>
                    </a:lnTo>
                    <a:lnTo>
                      <a:pt x="1801" y="97"/>
                    </a:lnTo>
                    <a:lnTo>
                      <a:pt x="1796" y="88"/>
                    </a:lnTo>
                    <a:lnTo>
                      <a:pt x="1796" y="79"/>
                    </a:lnTo>
                    <a:lnTo>
                      <a:pt x="1792" y="74"/>
                    </a:lnTo>
                    <a:lnTo>
                      <a:pt x="1792" y="7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4" y="74"/>
                    </a:lnTo>
                    <a:lnTo>
                      <a:pt x="4" y="79"/>
                    </a:lnTo>
                    <a:lnTo>
                      <a:pt x="8" y="83"/>
                    </a:lnTo>
                    <a:lnTo>
                      <a:pt x="13" y="92"/>
                    </a:lnTo>
                    <a:lnTo>
                      <a:pt x="13" y="101"/>
                    </a:lnTo>
                    <a:lnTo>
                      <a:pt x="17" y="111"/>
                    </a:lnTo>
                    <a:lnTo>
                      <a:pt x="17" y="124"/>
                    </a:lnTo>
                    <a:lnTo>
                      <a:pt x="22" y="133"/>
                    </a:lnTo>
                    <a:lnTo>
                      <a:pt x="26" y="146"/>
                    </a:lnTo>
                    <a:lnTo>
                      <a:pt x="26" y="159"/>
                    </a:lnTo>
                    <a:lnTo>
                      <a:pt x="26" y="172"/>
                    </a:lnTo>
                    <a:lnTo>
                      <a:pt x="30" y="186"/>
                    </a:lnTo>
                    <a:lnTo>
                      <a:pt x="30" y="199"/>
                    </a:lnTo>
                    <a:lnTo>
                      <a:pt x="30" y="212"/>
                    </a:lnTo>
                    <a:lnTo>
                      <a:pt x="30" y="230"/>
                    </a:lnTo>
                    <a:lnTo>
                      <a:pt x="30" y="239"/>
                    </a:lnTo>
                    <a:lnTo>
                      <a:pt x="35" y="243"/>
                    </a:lnTo>
                    <a:lnTo>
                      <a:pt x="35" y="278"/>
                    </a:lnTo>
                    <a:lnTo>
                      <a:pt x="30" y="278"/>
                    </a:lnTo>
                    <a:lnTo>
                      <a:pt x="30" y="287"/>
                    </a:lnTo>
                    <a:lnTo>
                      <a:pt x="30" y="296"/>
                    </a:lnTo>
                    <a:lnTo>
                      <a:pt x="30" y="309"/>
                    </a:lnTo>
                    <a:lnTo>
                      <a:pt x="30" y="318"/>
                    </a:lnTo>
                    <a:lnTo>
                      <a:pt x="30" y="322"/>
                    </a:lnTo>
                    <a:lnTo>
                      <a:pt x="26" y="337"/>
                    </a:lnTo>
                    <a:lnTo>
                      <a:pt x="26" y="345"/>
                    </a:lnTo>
                    <a:lnTo>
                      <a:pt x="26" y="354"/>
                    </a:lnTo>
                    <a:lnTo>
                      <a:pt x="26" y="363"/>
                    </a:lnTo>
                    <a:lnTo>
                      <a:pt x="22" y="372"/>
                    </a:lnTo>
                    <a:lnTo>
                      <a:pt x="17" y="385"/>
                    </a:lnTo>
                    <a:lnTo>
                      <a:pt x="17" y="394"/>
                    </a:lnTo>
                    <a:lnTo>
                      <a:pt x="13" y="403"/>
                    </a:lnTo>
                    <a:lnTo>
                      <a:pt x="8" y="416"/>
                    </a:lnTo>
                    <a:lnTo>
                      <a:pt x="4" y="425"/>
                    </a:lnTo>
                    <a:lnTo>
                      <a:pt x="0" y="438"/>
                    </a:lnTo>
                    <a:lnTo>
                      <a:pt x="1792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44480" y="2995560"/>
                <a:ext cx="205200" cy="351360"/>
              </a:xfrm>
              <a:custGeom>
                <a:avLst/>
                <a:gdLst/>
                <a:ahLst/>
                <a:rect l="0" t="0" r="r" b="b"/>
                <a:pathLst>
                  <a:path w="570" h="976">
                    <a:moveTo>
                      <a:pt x="570" y="455"/>
                    </a:moveTo>
                    <a:lnTo>
                      <a:pt x="0" y="0"/>
                    </a:lnTo>
                    <a:lnTo>
                      <a:pt x="0" y="499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0" y="512"/>
                    </a:lnTo>
                    <a:lnTo>
                      <a:pt x="0" y="516"/>
                    </a:lnTo>
                    <a:lnTo>
                      <a:pt x="0" y="521"/>
                    </a:lnTo>
                    <a:lnTo>
                      <a:pt x="4" y="521"/>
                    </a:lnTo>
                    <a:lnTo>
                      <a:pt x="4" y="525"/>
                    </a:lnTo>
                    <a:lnTo>
                      <a:pt x="8" y="530"/>
                    </a:lnTo>
                    <a:lnTo>
                      <a:pt x="13" y="530"/>
                    </a:lnTo>
                    <a:lnTo>
                      <a:pt x="17" y="538"/>
                    </a:lnTo>
                    <a:lnTo>
                      <a:pt x="35" y="552"/>
                    </a:lnTo>
                    <a:lnTo>
                      <a:pt x="61" y="569"/>
                    </a:lnTo>
                    <a:lnTo>
                      <a:pt x="92" y="596"/>
                    </a:lnTo>
                    <a:lnTo>
                      <a:pt x="136" y="631"/>
                    </a:lnTo>
                    <a:lnTo>
                      <a:pt x="181" y="671"/>
                    </a:lnTo>
                    <a:lnTo>
                      <a:pt x="234" y="706"/>
                    </a:lnTo>
                    <a:lnTo>
                      <a:pt x="283" y="751"/>
                    </a:lnTo>
                    <a:lnTo>
                      <a:pt x="336" y="791"/>
                    </a:lnTo>
                    <a:lnTo>
                      <a:pt x="384" y="831"/>
                    </a:lnTo>
                    <a:lnTo>
                      <a:pt x="434" y="866"/>
                    </a:lnTo>
                    <a:lnTo>
                      <a:pt x="478" y="901"/>
                    </a:lnTo>
                    <a:lnTo>
                      <a:pt x="513" y="932"/>
                    </a:lnTo>
                    <a:lnTo>
                      <a:pt x="539" y="954"/>
                    </a:lnTo>
                    <a:lnTo>
                      <a:pt x="562" y="972"/>
                    </a:lnTo>
                    <a:lnTo>
                      <a:pt x="570" y="976"/>
                    </a:lnTo>
                    <a:lnTo>
                      <a:pt x="570" y="455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001960" y="3227400"/>
                <a:ext cx="18000" cy="5040"/>
              </a:xfrm>
              <a:custGeom>
                <a:avLst/>
                <a:gdLst/>
                <a:ahLst/>
                <a:rect l="0" t="0" r="r" b="b"/>
                <a:pathLst>
                  <a:path w="50" h="14">
                    <a:moveTo>
                      <a:pt x="50" y="14"/>
                    </a:moveTo>
                    <a:lnTo>
                      <a:pt x="5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963800" y="322740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w="58" h="14">
                    <a:moveTo>
                      <a:pt x="58" y="14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27080" y="3227400"/>
                <a:ext cx="19440" cy="5040"/>
              </a:xfrm>
              <a:custGeom>
                <a:avLst/>
                <a:gdLst/>
                <a:ahLst/>
                <a:rect l="0" t="0" r="r" b="b"/>
                <a:pathLst>
                  <a:path w="54" h="14">
                    <a:moveTo>
                      <a:pt x="54" y="14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889280" y="3227400"/>
                <a:ext cx="20880" cy="5040"/>
              </a:xfrm>
              <a:custGeom>
                <a:avLst/>
                <a:gdLst/>
                <a:ahLst/>
                <a:rect l="0" t="0" r="r" b="b"/>
                <a:pathLst>
                  <a:path w="58" h="14">
                    <a:moveTo>
                      <a:pt x="58" y="14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8" y="14"/>
                    </a:lnTo>
                    <a:close/>
                  </a:path>
                </a:pathLst>
              </a:custGeom>
              <a:solidFill>
                <a:srgbClr val="eb918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65160" y="3247920"/>
                <a:ext cx="641880" cy="12960"/>
              </a:xfrm>
              <a:custGeom>
                <a:avLst/>
                <a:gdLst/>
                <a:ahLst/>
                <a:rect l="0" t="0" r="r" b="b"/>
                <a:pathLst>
                  <a:path w="1783" h="36">
                    <a:moveTo>
                      <a:pt x="0" y="36"/>
                    </a:moveTo>
                    <a:lnTo>
                      <a:pt x="0" y="0"/>
                    </a:lnTo>
                    <a:lnTo>
                      <a:pt x="1783" y="0"/>
                    </a:lnTo>
                    <a:lnTo>
                      <a:pt x="178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696873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16320" y="3233880"/>
                <a:ext cx="33840" cy="59040"/>
              </a:xfrm>
              <a:custGeom>
                <a:avLst/>
                <a:gdLst/>
                <a:ahLst/>
                <a:rect l="0" t="0" r="r" b="b"/>
                <a:pathLst>
                  <a:path w="94" h="164">
                    <a:moveTo>
                      <a:pt x="94" y="164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94" y="1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421000" y="3244680"/>
                <a:ext cx="24120" cy="30600"/>
              </a:xfrm>
              <a:custGeom>
                <a:avLst/>
                <a:gdLst/>
                <a:ahLst/>
                <a:rect l="0" t="0" r="r" b="b"/>
                <a:pathLst>
                  <a:path w="67" h="85">
                    <a:moveTo>
                      <a:pt x="0" y="85"/>
                    </a:moveTo>
                    <a:lnTo>
                      <a:pt x="30" y="0"/>
                    </a:lnTo>
                    <a:lnTo>
                      <a:pt x="67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430360" y="3260880"/>
                <a:ext cx="6840" cy="11520"/>
              </a:xfrm>
              <a:custGeom>
                <a:avLst/>
                <a:gdLst/>
                <a:ahLst/>
                <a:rect l="0" t="0" r="r" b="b"/>
                <a:pathLst>
                  <a:path w="19" h="32">
                    <a:moveTo>
                      <a:pt x="9" y="32"/>
                    </a:moveTo>
                    <a:lnTo>
                      <a:pt x="15" y="32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4"/>
                    </a:lnTo>
                    <a:lnTo>
                      <a:pt x="19" y="9"/>
                    </a:lnTo>
                    <a:lnTo>
                      <a:pt x="19" y="4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9" y="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44480" y="2990880"/>
                <a:ext cx="851400" cy="165600"/>
              </a:xfrm>
              <a:custGeom>
                <a:avLst/>
                <a:gdLst/>
                <a:ahLst/>
                <a:rect l="0" t="0" r="r" b="b"/>
                <a:pathLst>
                  <a:path w="2365" h="460">
                    <a:moveTo>
                      <a:pt x="2361" y="447"/>
                    </a:moveTo>
                    <a:lnTo>
                      <a:pt x="2361" y="451"/>
                    </a:lnTo>
                    <a:lnTo>
                      <a:pt x="2365" y="451"/>
                    </a:lnTo>
                    <a:lnTo>
                      <a:pt x="2365" y="456"/>
                    </a:lnTo>
                    <a:lnTo>
                      <a:pt x="2365" y="460"/>
                    </a:lnTo>
                    <a:lnTo>
                      <a:pt x="2361" y="460"/>
                    </a:lnTo>
                    <a:lnTo>
                      <a:pt x="2356" y="460"/>
                    </a:lnTo>
                    <a:lnTo>
                      <a:pt x="590" y="460"/>
                    </a:lnTo>
                    <a:lnTo>
                      <a:pt x="586" y="460"/>
                    </a:lnTo>
                    <a:lnTo>
                      <a:pt x="582" y="460"/>
                    </a:lnTo>
                    <a:lnTo>
                      <a:pt x="577" y="460"/>
                    </a:lnTo>
                    <a:lnTo>
                      <a:pt x="573" y="460"/>
                    </a:lnTo>
                    <a:lnTo>
                      <a:pt x="573" y="456"/>
                    </a:lnTo>
                    <a:lnTo>
                      <a:pt x="568" y="456"/>
                    </a:lnTo>
                    <a:lnTo>
                      <a:pt x="564" y="451"/>
                    </a:lnTo>
                    <a:lnTo>
                      <a:pt x="560" y="447"/>
                    </a:lnTo>
                    <a:lnTo>
                      <a:pt x="555" y="44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03" y="0"/>
                    </a:lnTo>
                    <a:lnTo>
                      <a:pt x="1707" y="0"/>
                    </a:lnTo>
                    <a:lnTo>
                      <a:pt x="1711" y="0"/>
                    </a:lnTo>
                    <a:lnTo>
                      <a:pt x="1716" y="0"/>
                    </a:lnTo>
                    <a:lnTo>
                      <a:pt x="1720" y="0"/>
                    </a:lnTo>
                    <a:lnTo>
                      <a:pt x="1725" y="0"/>
                    </a:lnTo>
                    <a:lnTo>
                      <a:pt x="1725" y="4"/>
                    </a:lnTo>
                    <a:lnTo>
                      <a:pt x="1729" y="4"/>
                    </a:lnTo>
                    <a:lnTo>
                      <a:pt x="1734" y="4"/>
                    </a:lnTo>
                    <a:lnTo>
                      <a:pt x="1734" y="8"/>
                    </a:lnTo>
                    <a:lnTo>
                      <a:pt x="1738" y="8"/>
                    </a:lnTo>
                    <a:lnTo>
                      <a:pt x="1742" y="8"/>
                    </a:lnTo>
                    <a:lnTo>
                      <a:pt x="1747" y="13"/>
                    </a:lnTo>
                    <a:lnTo>
                      <a:pt x="2361" y="447"/>
                    </a:lnTo>
                    <a:close/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854360" y="3184560"/>
                <a:ext cx="6840" cy="133560"/>
              </a:xfrm>
              <a:custGeom>
                <a:avLst/>
                <a:gdLst/>
                <a:ahLst/>
                <a:rect l="0" t="0" r="r" b="b"/>
                <a:pathLst>
                  <a:path w="19" h="371">
                    <a:moveTo>
                      <a:pt x="15" y="66"/>
                    </a:moveTo>
                    <a:lnTo>
                      <a:pt x="9" y="57"/>
                    </a:lnTo>
                    <a:lnTo>
                      <a:pt x="9" y="52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9"/>
                    </a:lnTo>
                    <a:lnTo>
                      <a:pt x="9" y="35"/>
                    </a:lnTo>
                    <a:lnTo>
                      <a:pt x="9" y="30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371"/>
                    </a:lnTo>
                    <a:lnTo>
                      <a:pt x="4" y="358"/>
                    </a:lnTo>
                    <a:lnTo>
                      <a:pt x="4" y="344"/>
                    </a:lnTo>
                    <a:lnTo>
                      <a:pt x="9" y="331"/>
                    </a:lnTo>
                    <a:lnTo>
                      <a:pt x="9" y="318"/>
                    </a:lnTo>
                    <a:lnTo>
                      <a:pt x="15" y="305"/>
                    </a:lnTo>
                    <a:lnTo>
                      <a:pt x="15" y="287"/>
                    </a:lnTo>
                    <a:lnTo>
                      <a:pt x="15" y="274"/>
                    </a:lnTo>
                    <a:lnTo>
                      <a:pt x="19" y="261"/>
                    </a:lnTo>
                    <a:lnTo>
                      <a:pt x="19" y="247"/>
                    </a:lnTo>
                    <a:lnTo>
                      <a:pt x="19" y="234"/>
                    </a:lnTo>
                    <a:lnTo>
                      <a:pt x="19" y="221"/>
                    </a:lnTo>
                    <a:lnTo>
                      <a:pt x="19" y="212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86"/>
                    </a:lnTo>
                    <a:lnTo>
                      <a:pt x="19" y="180"/>
                    </a:lnTo>
                    <a:lnTo>
                      <a:pt x="19" y="171"/>
                    </a:lnTo>
                    <a:lnTo>
                      <a:pt x="19" y="167"/>
                    </a:lnTo>
                    <a:lnTo>
                      <a:pt x="19" y="163"/>
                    </a:lnTo>
                    <a:lnTo>
                      <a:pt x="19" y="154"/>
                    </a:lnTo>
                    <a:lnTo>
                      <a:pt x="19" y="145"/>
                    </a:lnTo>
                    <a:lnTo>
                      <a:pt x="19" y="136"/>
                    </a:lnTo>
                    <a:lnTo>
                      <a:pt x="19" y="132"/>
                    </a:lnTo>
                    <a:lnTo>
                      <a:pt x="19" y="123"/>
                    </a:lnTo>
                    <a:lnTo>
                      <a:pt x="19" y="114"/>
                    </a:lnTo>
                    <a:lnTo>
                      <a:pt x="19" y="110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5" y="88"/>
                    </a:lnTo>
                    <a:lnTo>
                      <a:pt x="15" y="79"/>
                    </a:lnTo>
                    <a:lnTo>
                      <a:pt x="15" y="70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44480" y="3073320"/>
                <a:ext cx="216360" cy="187560"/>
              </a:xfrm>
              <a:custGeom>
                <a:avLst/>
                <a:gdLst/>
                <a:ahLst/>
                <a:rect l="0" t="0" r="r" b="b"/>
                <a:pathLst>
                  <a:path w="601" h="521">
                    <a:moveTo>
                      <a:pt x="601" y="499"/>
                    </a:moveTo>
                    <a:lnTo>
                      <a:pt x="601" y="494"/>
                    </a:lnTo>
                    <a:lnTo>
                      <a:pt x="601" y="490"/>
                    </a:lnTo>
                    <a:lnTo>
                      <a:pt x="601" y="486"/>
                    </a:lnTo>
                    <a:lnTo>
                      <a:pt x="601" y="481"/>
                    </a:lnTo>
                    <a:lnTo>
                      <a:pt x="601" y="477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601" y="521"/>
                    </a:lnTo>
                    <a:lnTo>
                      <a:pt x="601" y="516"/>
                    </a:lnTo>
                    <a:lnTo>
                      <a:pt x="601" y="512"/>
                    </a:lnTo>
                    <a:lnTo>
                      <a:pt x="601" y="508"/>
                    </a:lnTo>
                    <a:lnTo>
                      <a:pt x="601" y="503"/>
                    </a:lnTo>
                    <a:lnTo>
                      <a:pt x="601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47720" y="3152880"/>
                <a:ext cx="208440" cy="171720"/>
              </a:xfrm>
              <a:custGeom>
                <a:avLst/>
                <a:gdLst/>
                <a:ahLst/>
                <a:rect l="0" t="0" r="r" b="b"/>
                <a:pathLst>
                  <a:path w="579" h="477">
                    <a:moveTo>
                      <a:pt x="579" y="464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575" y="477"/>
                    </a:lnTo>
                    <a:lnTo>
                      <a:pt x="579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649520" y="3027240"/>
                <a:ext cx="206640" cy="171720"/>
              </a:xfrm>
              <a:custGeom>
                <a:avLst/>
                <a:gdLst/>
                <a:ahLst/>
                <a:rect l="0" t="0" r="r" b="b"/>
                <a:pathLst>
                  <a:path w="574" h="477">
                    <a:moveTo>
                      <a:pt x="569" y="459"/>
                    </a:moveTo>
                    <a:lnTo>
                      <a:pt x="565" y="455"/>
                    </a:lnTo>
                    <a:lnTo>
                      <a:pt x="565" y="450"/>
                    </a:lnTo>
                    <a:lnTo>
                      <a:pt x="561" y="450"/>
                    </a:lnTo>
                    <a:lnTo>
                      <a:pt x="561" y="446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74" y="477"/>
                    </a:lnTo>
                    <a:lnTo>
                      <a:pt x="574" y="472"/>
                    </a:lnTo>
                    <a:lnTo>
                      <a:pt x="574" y="468"/>
                    </a:lnTo>
                    <a:lnTo>
                      <a:pt x="569" y="468"/>
                    </a:lnTo>
                    <a:lnTo>
                      <a:pt x="569" y="464"/>
                    </a:lnTo>
                    <a:lnTo>
                      <a:pt x="569" y="4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3830760" y="2755800"/>
            <a:ext cx="1368360" cy="969840"/>
            <a:chOff x="3830760" y="2755800"/>
            <a:chExt cx="1368360" cy="969840"/>
          </a:xfrm>
        </p:grpSpPr>
        <p:grpSp>
          <p:nvGrpSpPr>
            <p:cNvPr id="1036" name=""/>
            <p:cNvGrpSpPr/>
            <p:nvPr/>
          </p:nvGrpSpPr>
          <p:grpSpPr>
            <a:xfrm>
              <a:off x="3830760" y="2755800"/>
              <a:ext cx="1368360" cy="969840"/>
              <a:chOff x="3830760" y="2755800"/>
              <a:chExt cx="1368360" cy="96984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3840120" y="2760840"/>
                <a:ext cx="1335240" cy="896760"/>
                <a:chOff x="3840120" y="2760840"/>
                <a:chExt cx="1335240" cy="89676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4073400" y="2760840"/>
                  <a:ext cx="588960" cy="51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840120" y="2998800"/>
                  <a:ext cx="484200" cy="44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970440" y="3252960"/>
                  <a:ext cx="503280" cy="34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133880" y="3121200"/>
                  <a:ext cx="584280" cy="536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576680" y="3070080"/>
                  <a:ext cx="444600" cy="371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835520" y="3049560"/>
                  <a:ext cx="339840" cy="28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527720" y="2832120"/>
                  <a:ext cx="317520" cy="372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780080" y="2948040"/>
                  <a:ext cx="204840" cy="21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4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30760" y="275580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7" name=""/>
            <p:cNvSpPr txBox="1"/>
            <p:nvPr/>
          </p:nvSpPr>
          <p:spPr>
            <a:xfrm>
              <a:off x="3836880" y="299412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189400" y="3270240"/>
            <a:ext cx="1084680" cy="1232280"/>
          </a:xfrm>
          <a:custGeom>
            <a:avLst/>
            <a:gdLst/>
            <a:ahLst/>
            <a:rect l="0" t="0" r="r" b="b"/>
            <a:pathLst>
              <a:path fill="none" w="3013" h="3423">
                <a:moveTo>
                  <a:pt x="0" y="0"/>
                </a:moveTo>
                <a:lnTo>
                  <a:pt x="1390" y="0"/>
                </a:lnTo>
                <a:lnTo>
                  <a:pt x="1390" y="3423"/>
                </a:lnTo>
                <a:lnTo>
                  <a:pt x="3013" y="3423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138640" y="3359160"/>
            <a:ext cx="1560960" cy="1983240"/>
          </a:xfrm>
          <a:custGeom>
            <a:avLst/>
            <a:gdLst/>
            <a:ahLst/>
            <a:rect l="0" t="0" r="r" b="b"/>
            <a:pathLst>
              <a:path fill="none" w="4336" h="5509">
                <a:moveTo>
                  <a:pt x="0" y="0"/>
                </a:moveTo>
                <a:lnTo>
                  <a:pt x="1284" y="0"/>
                </a:lnTo>
                <a:lnTo>
                  <a:pt x="1284" y="5509"/>
                </a:lnTo>
                <a:lnTo>
                  <a:pt x="4336" y="550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11560" y="3441600"/>
            <a:ext cx="1602000" cy="2773800"/>
          </a:xfrm>
          <a:custGeom>
            <a:avLst/>
            <a:gdLst/>
            <a:ahLst/>
            <a:rect l="0" t="0" r="r" b="b"/>
            <a:pathLst>
              <a:path fill="none" w="4450" h="7705">
                <a:moveTo>
                  <a:pt x="0" y="0"/>
                </a:moveTo>
                <a:lnTo>
                  <a:pt x="1397" y="0"/>
                </a:lnTo>
                <a:lnTo>
                  <a:pt x="1397" y="7705"/>
                </a:lnTo>
                <a:lnTo>
                  <a:pt x="4450" y="7705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30720" y="2836800"/>
            <a:ext cx="1143360" cy="262440"/>
          </a:xfrm>
          <a:custGeom>
            <a:avLst/>
            <a:gdLst/>
            <a:ahLst/>
            <a:rect l="0" t="0" r="r" b="b"/>
            <a:pathLst>
              <a:path fill="none" w="3176" h="729">
                <a:moveTo>
                  <a:pt x="0" y="729"/>
                </a:moveTo>
                <a:lnTo>
                  <a:pt x="1800" y="729"/>
                </a:lnTo>
                <a:lnTo>
                  <a:pt x="1800" y="4"/>
                </a:lnTo>
                <a:lnTo>
                  <a:pt x="317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986360" y="2050920"/>
            <a:ext cx="1287720" cy="964080"/>
          </a:xfrm>
          <a:custGeom>
            <a:avLst/>
            <a:gdLst/>
            <a:ahLst/>
            <a:rect l="0" t="0" r="r" b="b"/>
            <a:pathLst>
              <a:path fill="none" w="3577" h="2678">
                <a:moveTo>
                  <a:pt x="0" y="2678"/>
                </a:moveTo>
                <a:lnTo>
                  <a:pt x="1954" y="2678"/>
                </a:lnTo>
                <a:lnTo>
                  <a:pt x="1954" y="0"/>
                </a:lnTo>
                <a:lnTo>
                  <a:pt x="3577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375240" y="5257800"/>
            <a:ext cx="491040" cy="173520"/>
            <a:chOff x="6375240" y="5257800"/>
            <a:chExt cx="491040" cy="173520"/>
          </a:xfrm>
        </p:grpSpPr>
        <p:sp>
          <p:nvSpPr>
            <p:cNvPr id="1054" name=""/>
            <p:cNvSpPr/>
            <p:nvPr/>
          </p:nvSpPr>
          <p:spPr>
            <a:xfrm>
              <a:off x="6534000" y="5389560"/>
              <a:ext cx="332280" cy="39960"/>
            </a:xfrm>
            <a:custGeom>
              <a:avLst/>
              <a:gdLst/>
              <a:ahLst/>
              <a:rect l="0" t="0" r="r" b="b"/>
              <a:pathLst>
                <a:path w="923" h="111">
                  <a:moveTo>
                    <a:pt x="0" y="102"/>
                  </a:moveTo>
                  <a:lnTo>
                    <a:pt x="0" y="106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910" y="111"/>
                  </a:lnTo>
                  <a:lnTo>
                    <a:pt x="914" y="111"/>
                  </a:lnTo>
                  <a:lnTo>
                    <a:pt x="919" y="111"/>
                  </a:lnTo>
                  <a:lnTo>
                    <a:pt x="919" y="106"/>
                  </a:lnTo>
                  <a:lnTo>
                    <a:pt x="923" y="106"/>
                  </a:lnTo>
                  <a:lnTo>
                    <a:pt x="923" y="102"/>
                  </a:lnTo>
                  <a:lnTo>
                    <a:pt x="923" y="8"/>
                  </a:lnTo>
                  <a:lnTo>
                    <a:pt x="923" y="4"/>
                  </a:lnTo>
                  <a:lnTo>
                    <a:pt x="919" y="4"/>
                  </a:lnTo>
                  <a:lnTo>
                    <a:pt x="919" y="0"/>
                  </a:lnTo>
                  <a:lnTo>
                    <a:pt x="914" y="0"/>
                  </a:lnTo>
                  <a:lnTo>
                    <a:pt x="9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75240" y="5257800"/>
              <a:ext cx="157680" cy="173520"/>
            </a:xfrm>
            <a:custGeom>
              <a:avLst/>
              <a:gdLst/>
              <a:ahLst/>
              <a:rect l="0" t="0" r="r" b="b"/>
              <a:pathLst>
                <a:path w="438" h="482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434" y="358"/>
                  </a:lnTo>
                  <a:lnTo>
                    <a:pt x="438" y="358"/>
                  </a:lnTo>
                  <a:lnTo>
                    <a:pt x="438" y="363"/>
                  </a:lnTo>
                  <a:lnTo>
                    <a:pt x="434" y="368"/>
                  </a:lnTo>
                  <a:lnTo>
                    <a:pt x="434" y="372"/>
                  </a:lnTo>
                  <a:lnTo>
                    <a:pt x="434" y="473"/>
                  </a:lnTo>
                  <a:lnTo>
                    <a:pt x="434" y="478"/>
                  </a:lnTo>
                  <a:lnTo>
                    <a:pt x="434" y="482"/>
                  </a:lnTo>
                  <a:lnTo>
                    <a:pt x="429" y="482"/>
                  </a:lnTo>
                  <a:lnTo>
                    <a:pt x="429" y="478"/>
                  </a:lnTo>
                  <a:lnTo>
                    <a:pt x="425" y="478"/>
                  </a:lnTo>
                  <a:lnTo>
                    <a:pt x="8" y="133"/>
                  </a:lnTo>
                  <a:lnTo>
                    <a:pt x="4" y="133"/>
                  </a:lnTo>
                  <a:lnTo>
                    <a:pt x="4" y="128"/>
                  </a:lnTo>
                  <a:lnTo>
                    <a:pt x="4" y="124"/>
                  </a:lnTo>
                  <a:lnTo>
                    <a:pt x="4" y="119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96080" y="5389560"/>
              <a:ext cx="70200" cy="18000"/>
            </a:xfrm>
            <a:custGeom>
              <a:avLst/>
              <a:gdLst/>
              <a:ahLst/>
              <a:rect l="0" t="0" r="r" b="b"/>
              <a:pathLst>
                <a:path w="195" h="50">
                  <a:moveTo>
                    <a:pt x="0" y="50"/>
                  </a:moveTo>
                  <a:lnTo>
                    <a:pt x="195" y="50"/>
                  </a:lnTo>
                  <a:lnTo>
                    <a:pt x="195" y="46"/>
                  </a:lnTo>
                  <a:lnTo>
                    <a:pt x="195" y="41"/>
                  </a:lnTo>
                  <a:lnTo>
                    <a:pt x="195" y="36"/>
                  </a:lnTo>
                  <a:lnTo>
                    <a:pt x="195" y="31"/>
                  </a:lnTo>
                  <a:lnTo>
                    <a:pt x="195" y="27"/>
                  </a:lnTo>
                  <a:lnTo>
                    <a:pt x="195" y="23"/>
                  </a:lnTo>
                  <a:lnTo>
                    <a:pt x="195" y="18"/>
                  </a:lnTo>
                  <a:lnTo>
                    <a:pt x="195" y="14"/>
                  </a:lnTo>
                  <a:lnTo>
                    <a:pt x="195" y="8"/>
                  </a:lnTo>
                  <a:lnTo>
                    <a:pt x="195" y="4"/>
                  </a:lnTo>
                  <a:lnTo>
                    <a:pt x="190" y="4"/>
                  </a:lnTo>
                  <a:lnTo>
                    <a:pt x="190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811920" y="5415120"/>
              <a:ext cx="4752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37240" y="5391000"/>
              <a:ext cx="252720" cy="28800"/>
            </a:xfrm>
            <a:custGeom>
              <a:avLst/>
              <a:gdLst/>
              <a:ahLst/>
              <a:rect l="0" t="0" r="r" b="b"/>
              <a:pathLst>
                <a:path w="702" h="80">
                  <a:moveTo>
                    <a:pt x="702" y="53"/>
                  </a:moveTo>
                  <a:lnTo>
                    <a:pt x="627" y="67"/>
                  </a:lnTo>
                  <a:lnTo>
                    <a:pt x="556" y="71"/>
                  </a:lnTo>
                  <a:lnTo>
                    <a:pt x="486" y="75"/>
                  </a:lnTo>
                  <a:lnTo>
                    <a:pt x="419" y="80"/>
                  </a:lnTo>
                  <a:lnTo>
                    <a:pt x="362" y="80"/>
                  </a:lnTo>
                  <a:lnTo>
                    <a:pt x="299" y="80"/>
                  </a:lnTo>
                  <a:lnTo>
                    <a:pt x="251" y="80"/>
                  </a:lnTo>
                  <a:lnTo>
                    <a:pt x="202" y="75"/>
                  </a:lnTo>
                  <a:lnTo>
                    <a:pt x="158" y="75"/>
                  </a:lnTo>
                  <a:lnTo>
                    <a:pt x="119" y="71"/>
                  </a:lnTo>
                  <a:lnTo>
                    <a:pt x="83" y="67"/>
                  </a:lnTo>
                  <a:lnTo>
                    <a:pt x="57" y="62"/>
                  </a:lnTo>
                  <a:lnTo>
                    <a:pt x="35" y="62"/>
                  </a:lnTo>
                  <a:lnTo>
                    <a:pt x="22" y="58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39" y="4"/>
                  </a:lnTo>
                  <a:lnTo>
                    <a:pt x="66" y="8"/>
                  </a:lnTo>
                  <a:lnTo>
                    <a:pt x="92" y="13"/>
                  </a:lnTo>
                  <a:lnTo>
                    <a:pt x="132" y="13"/>
                  </a:lnTo>
                  <a:lnTo>
                    <a:pt x="171" y="17"/>
                  </a:lnTo>
                  <a:lnTo>
                    <a:pt x="220" y="22"/>
                  </a:lnTo>
                  <a:lnTo>
                    <a:pt x="268" y="22"/>
                  </a:lnTo>
                  <a:lnTo>
                    <a:pt x="321" y="22"/>
                  </a:lnTo>
                  <a:lnTo>
                    <a:pt x="380" y="22"/>
                  </a:lnTo>
                  <a:lnTo>
                    <a:pt x="441" y="22"/>
                  </a:lnTo>
                  <a:lnTo>
                    <a:pt x="503" y="17"/>
                  </a:lnTo>
                  <a:lnTo>
                    <a:pt x="569" y="13"/>
                  </a:lnTo>
                  <a:lnTo>
                    <a:pt x="636" y="8"/>
                  </a:lnTo>
                  <a:lnTo>
                    <a:pt x="702" y="0"/>
                  </a:lnTo>
                  <a:lnTo>
                    <a:pt x="70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37240" y="5415120"/>
              <a:ext cx="259200" cy="12960"/>
            </a:xfrm>
            <a:custGeom>
              <a:avLst/>
              <a:gdLst/>
              <a:ahLst/>
              <a:rect l="0" t="0" r="r" b="b"/>
              <a:pathLst>
                <a:path fill="none" w="720" h="36">
                  <a:moveTo>
                    <a:pt x="720" y="0"/>
                  </a:moveTo>
                  <a:lnTo>
                    <a:pt x="641" y="17"/>
                  </a:lnTo>
                  <a:lnTo>
                    <a:pt x="570" y="23"/>
                  </a:lnTo>
                  <a:lnTo>
                    <a:pt x="499" y="31"/>
                  </a:lnTo>
                  <a:lnTo>
                    <a:pt x="433" y="36"/>
                  </a:lnTo>
                  <a:lnTo>
                    <a:pt x="367" y="36"/>
                  </a:lnTo>
                  <a:lnTo>
                    <a:pt x="305" y="36"/>
                  </a:lnTo>
                  <a:lnTo>
                    <a:pt x="252" y="36"/>
                  </a:lnTo>
                  <a:lnTo>
                    <a:pt x="203" y="31"/>
                  </a:lnTo>
                  <a:lnTo>
                    <a:pt x="154" y="27"/>
                  </a:lnTo>
                  <a:lnTo>
                    <a:pt x="119" y="23"/>
                  </a:lnTo>
                  <a:lnTo>
                    <a:pt x="79" y="17"/>
                  </a:lnTo>
                  <a:lnTo>
                    <a:pt x="52" y="13"/>
                  </a:lnTo>
                  <a:lnTo>
                    <a:pt x="30" y="8"/>
                  </a:lnTo>
                  <a:lnTo>
                    <a:pt x="13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796080" y="54133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0" y="0"/>
                  </a:moveTo>
                  <a:lnTo>
                    <a:pt x="5" y="0"/>
                  </a:lnTo>
                  <a:lnTo>
                    <a:pt x="10" y="15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34000" y="541332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9" y="19"/>
                  </a:moveTo>
                  <a:lnTo>
                    <a:pt x="0" y="19"/>
                  </a:lnTo>
                  <a:lnTo>
                    <a:pt x="4" y="0"/>
                  </a:lnTo>
                  <a:lnTo>
                    <a:pt x="14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31000" y="5397480"/>
              <a:ext cx="5040" cy="14760"/>
            </a:xfrm>
            <a:custGeom>
              <a:avLst/>
              <a:gdLst/>
              <a:ahLst/>
              <a:rect l="0" t="0" r="r" b="b"/>
              <a:pathLst>
                <a:path w="14" h="41">
                  <a:moveTo>
                    <a:pt x="14" y="41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31000" y="539748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0" y="27"/>
                  </a:moveTo>
                  <a:lnTo>
                    <a:pt x="9" y="0"/>
                  </a:lnTo>
                  <a:lnTo>
                    <a:pt x="1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31000" y="54054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75240" y="5283360"/>
              <a:ext cx="155880" cy="128880"/>
            </a:xfrm>
            <a:custGeom>
              <a:avLst/>
              <a:gdLst/>
              <a:ahLst/>
              <a:rect l="0" t="0" r="r" b="b"/>
              <a:pathLst>
                <a:path w="433" h="358">
                  <a:moveTo>
                    <a:pt x="433" y="349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33" y="358"/>
                  </a:lnTo>
                  <a:lnTo>
                    <a:pt x="43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8160" y="54133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0"/>
                  </a:moveTo>
                  <a:lnTo>
                    <a:pt x="10" y="15"/>
                  </a:lnTo>
                  <a:lnTo>
                    <a:pt x="0" y="19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512040" y="540720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502320" y="540216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0"/>
                  </a:moveTo>
                  <a:lnTo>
                    <a:pt x="14" y="15"/>
                  </a:lnTo>
                  <a:lnTo>
                    <a:pt x="0" y="19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97640" y="539424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5" y="0"/>
                  </a:moveTo>
                  <a:lnTo>
                    <a:pt x="5" y="23"/>
                  </a:lnTo>
                  <a:lnTo>
                    <a:pt x="0" y="27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91160" y="538956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83240" y="53830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77040" y="5257800"/>
              <a:ext cx="486000" cy="135360"/>
            </a:xfrm>
            <a:custGeom>
              <a:avLst/>
              <a:gdLst/>
              <a:ahLst/>
              <a:rect l="0" t="0" r="r" b="b"/>
              <a:pathLst>
                <a:path w="1350" h="376">
                  <a:moveTo>
                    <a:pt x="445" y="354"/>
                  </a:moveTo>
                  <a:lnTo>
                    <a:pt x="458" y="354"/>
                  </a:lnTo>
                  <a:lnTo>
                    <a:pt x="476" y="359"/>
                  </a:lnTo>
                  <a:lnTo>
                    <a:pt x="498" y="359"/>
                  </a:lnTo>
                  <a:lnTo>
                    <a:pt x="515" y="363"/>
                  </a:lnTo>
                  <a:lnTo>
                    <a:pt x="537" y="368"/>
                  </a:lnTo>
                  <a:lnTo>
                    <a:pt x="560" y="368"/>
                  </a:lnTo>
                  <a:lnTo>
                    <a:pt x="577" y="368"/>
                  </a:lnTo>
                  <a:lnTo>
                    <a:pt x="604" y="368"/>
                  </a:lnTo>
                  <a:lnTo>
                    <a:pt x="630" y="372"/>
                  </a:lnTo>
                  <a:lnTo>
                    <a:pt x="652" y="372"/>
                  </a:lnTo>
                  <a:lnTo>
                    <a:pt x="680" y="376"/>
                  </a:lnTo>
                  <a:lnTo>
                    <a:pt x="710" y="376"/>
                  </a:lnTo>
                  <a:lnTo>
                    <a:pt x="737" y="376"/>
                  </a:lnTo>
                  <a:lnTo>
                    <a:pt x="763" y="376"/>
                  </a:lnTo>
                  <a:lnTo>
                    <a:pt x="794" y="376"/>
                  </a:lnTo>
                  <a:lnTo>
                    <a:pt x="821" y="376"/>
                  </a:lnTo>
                  <a:lnTo>
                    <a:pt x="847" y="376"/>
                  </a:lnTo>
                  <a:lnTo>
                    <a:pt x="869" y="376"/>
                  </a:lnTo>
                  <a:lnTo>
                    <a:pt x="891" y="376"/>
                  </a:lnTo>
                  <a:lnTo>
                    <a:pt x="913" y="376"/>
                  </a:lnTo>
                  <a:lnTo>
                    <a:pt x="931" y="372"/>
                  </a:lnTo>
                  <a:lnTo>
                    <a:pt x="953" y="372"/>
                  </a:lnTo>
                  <a:lnTo>
                    <a:pt x="975" y="372"/>
                  </a:lnTo>
                  <a:lnTo>
                    <a:pt x="993" y="368"/>
                  </a:lnTo>
                  <a:lnTo>
                    <a:pt x="1015" y="368"/>
                  </a:lnTo>
                  <a:lnTo>
                    <a:pt x="1037" y="368"/>
                  </a:lnTo>
                  <a:lnTo>
                    <a:pt x="1054" y="368"/>
                  </a:lnTo>
                  <a:lnTo>
                    <a:pt x="1076" y="363"/>
                  </a:lnTo>
                  <a:lnTo>
                    <a:pt x="1094" y="359"/>
                  </a:lnTo>
                  <a:lnTo>
                    <a:pt x="1112" y="354"/>
                  </a:lnTo>
                  <a:lnTo>
                    <a:pt x="1134" y="354"/>
                  </a:lnTo>
                  <a:lnTo>
                    <a:pt x="1151" y="350"/>
                  </a:lnTo>
                  <a:lnTo>
                    <a:pt x="1156" y="350"/>
                  </a:lnTo>
                  <a:lnTo>
                    <a:pt x="1165" y="350"/>
                  </a:lnTo>
                  <a:lnTo>
                    <a:pt x="1173" y="350"/>
                  </a:lnTo>
                  <a:lnTo>
                    <a:pt x="1182" y="350"/>
                  </a:lnTo>
                  <a:lnTo>
                    <a:pt x="1200" y="350"/>
                  </a:lnTo>
                  <a:lnTo>
                    <a:pt x="1213" y="350"/>
                  </a:lnTo>
                  <a:lnTo>
                    <a:pt x="1235" y="350"/>
                  </a:lnTo>
                  <a:lnTo>
                    <a:pt x="1253" y="350"/>
                  </a:lnTo>
                  <a:lnTo>
                    <a:pt x="1271" y="350"/>
                  </a:lnTo>
                  <a:lnTo>
                    <a:pt x="1288" y="350"/>
                  </a:lnTo>
                  <a:lnTo>
                    <a:pt x="1306" y="350"/>
                  </a:lnTo>
                  <a:lnTo>
                    <a:pt x="1319" y="350"/>
                  </a:lnTo>
                  <a:lnTo>
                    <a:pt x="1332" y="350"/>
                  </a:lnTo>
                  <a:lnTo>
                    <a:pt x="1341" y="350"/>
                  </a:lnTo>
                  <a:lnTo>
                    <a:pt x="1345" y="350"/>
                  </a:lnTo>
                  <a:lnTo>
                    <a:pt x="1350" y="350"/>
                  </a:lnTo>
                  <a:lnTo>
                    <a:pt x="913" y="0"/>
                  </a:lnTo>
                  <a:lnTo>
                    <a:pt x="909" y="0"/>
                  </a:lnTo>
                  <a:lnTo>
                    <a:pt x="904" y="0"/>
                  </a:lnTo>
                  <a:lnTo>
                    <a:pt x="900" y="0"/>
                  </a:lnTo>
                  <a:lnTo>
                    <a:pt x="896" y="0"/>
                  </a:lnTo>
                  <a:lnTo>
                    <a:pt x="891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7" y="13"/>
                  </a:lnTo>
                  <a:lnTo>
                    <a:pt x="39" y="30"/>
                  </a:lnTo>
                  <a:lnTo>
                    <a:pt x="66" y="52"/>
                  </a:lnTo>
                  <a:lnTo>
                    <a:pt x="101" y="83"/>
                  </a:lnTo>
                  <a:lnTo>
                    <a:pt x="136" y="111"/>
                  </a:lnTo>
                  <a:lnTo>
                    <a:pt x="176" y="142"/>
                  </a:lnTo>
                  <a:lnTo>
                    <a:pt x="216" y="172"/>
                  </a:lnTo>
                  <a:lnTo>
                    <a:pt x="255" y="208"/>
                  </a:lnTo>
                  <a:lnTo>
                    <a:pt x="295" y="239"/>
                  </a:lnTo>
                  <a:lnTo>
                    <a:pt x="335" y="269"/>
                  </a:lnTo>
                  <a:lnTo>
                    <a:pt x="366" y="293"/>
                  </a:lnTo>
                  <a:lnTo>
                    <a:pt x="396" y="319"/>
                  </a:lnTo>
                  <a:lnTo>
                    <a:pt x="418" y="337"/>
                  </a:lnTo>
                  <a:lnTo>
                    <a:pt x="432" y="345"/>
                  </a:lnTo>
                  <a:lnTo>
                    <a:pt x="436" y="350"/>
                  </a:lnTo>
                  <a:lnTo>
                    <a:pt x="445" y="354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31040" y="5257800"/>
              <a:ext cx="165600" cy="133560"/>
            </a:xfrm>
            <a:custGeom>
              <a:avLst/>
              <a:gdLst/>
              <a:ahLst/>
              <a:rect l="0" t="0" r="r" b="b"/>
              <a:pathLst>
                <a:path w="460" h="371">
                  <a:moveTo>
                    <a:pt x="0" y="0"/>
                  </a:moveTo>
                  <a:lnTo>
                    <a:pt x="442" y="367"/>
                  </a:lnTo>
                  <a:lnTo>
                    <a:pt x="447" y="367"/>
                  </a:lnTo>
                  <a:lnTo>
                    <a:pt x="451" y="367"/>
                  </a:lnTo>
                  <a:lnTo>
                    <a:pt x="451" y="371"/>
                  </a:lnTo>
                  <a:lnTo>
                    <a:pt x="456" y="371"/>
                  </a:lnTo>
                  <a:lnTo>
                    <a:pt x="460" y="37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64160" y="5257800"/>
              <a:ext cx="167040" cy="135360"/>
            </a:xfrm>
            <a:custGeom>
              <a:avLst/>
              <a:gdLst/>
              <a:ahLst/>
              <a:rect l="0" t="0" r="r" b="b"/>
              <a:pathLst>
                <a:path w="464" h="376">
                  <a:moveTo>
                    <a:pt x="0" y="0"/>
                  </a:moveTo>
                  <a:lnTo>
                    <a:pt x="446" y="376"/>
                  </a:lnTo>
                  <a:lnTo>
                    <a:pt x="450" y="376"/>
                  </a:lnTo>
                  <a:lnTo>
                    <a:pt x="455" y="376"/>
                  </a:lnTo>
                  <a:lnTo>
                    <a:pt x="459" y="376"/>
                  </a:lnTo>
                  <a:lnTo>
                    <a:pt x="464" y="376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499080" y="5257800"/>
              <a:ext cx="167040" cy="135360"/>
            </a:xfrm>
            <a:custGeom>
              <a:avLst/>
              <a:gdLst/>
              <a:ahLst/>
              <a:rect l="0" t="0" r="r" b="b"/>
              <a:pathLst>
                <a:path w="464" h="376">
                  <a:moveTo>
                    <a:pt x="0" y="0"/>
                  </a:moveTo>
                  <a:lnTo>
                    <a:pt x="450" y="376"/>
                  </a:lnTo>
                  <a:lnTo>
                    <a:pt x="455" y="376"/>
                  </a:lnTo>
                  <a:lnTo>
                    <a:pt x="459" y="376"/>
                  </a:lnTo>
                  <a:lnTo>
                    <a:pt x="464" y="37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532560" y="5257800"/>
              <a:ext cx="165600" cy="135360"/>
            </a:xfrm>
            <a:custGeom>
              <a:avLst/>
              <a:gdLst/>
              <a:ahLst/>
              <a:rect l="0" t="0" r="r" b="b"/>
              <a:pathLst>
                <a:path w="460" h="376">
                  <a:moveTo>
                    <a:pt x="0" y="0"/>
                  </a:moveTo>
                  <a:lnTo>
                    <a:pt x="447" y="376"/>
                  </a:lnTo>
                  <a:lnTo>
                    <a:pt x="451" y="376"/>
                  </a:lnTo>
                  <a:lnTo>
                    <a:pt x="456" y="376"/>
                  </a:lnTo>
                  <a:lnTo>
                    <a:pt x="460" y="37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567480" y="5257800"/>
              <a:ext cx="163800" cy="133560"/>
            </a:xfrm>
            <a:custGeom>
              <a:avLst/>
              <a:gdLst/>
              <a:ahLst/>
              <a:rect l="0" t="0" r="r" b="b"/>
              <a:pathLst>
                <a:path w="455" h="371">
                  <a:moveTo>
                    <a:pt x="0" y="0"/>
                  </a:moveTo>
                  <a:lnTo>
                    <a:pt x="441" y="371"/>
                  </a:lnTo>
                  <a:lnTo>
                    <a:pt x="446" y="371"/>
                  </a:lnTo>
                  <a:lnTo>
                    <a:pt x="446" y="367"/>
                  </a:lnTo>
                  <a:lnTo>
                    <a:pt x="450" y="367"/>
                  </a:lnTo>
                  <a:lnTo>
                    <a:pt x="455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713640" y="5381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0"/>
                  </a:moveTo>
                  <a:lnTo>
                    <a:pt x="36" y="36"/>
                  </a:lnTo>
                  <a:lnTo>
                    <a:pt x="36" y="41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46"/>
                  </a:lnTo>
                  <a:lnTo>
                    <a:pt x="50" y="41"/>
                  </a:lnTo>
                  <a:lnTo>
                    <a:pt x="50" y="36"/>
                  </a:lnTo>
                  <a:lnTo>
                    <a:pt x="50" y="3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76920" y="538308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0" y="0"/>
                  </a:moveTo>
                  <a:lnTo>
                    <a:pt x="45" y="31"/>
                  </a:ln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58" y="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5240" y="53830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0" y="0"/>
                  </a:move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53" y="54"/>
                  </a:lnTo>
                  <a:lnTo>
                    <a:pt x="58" y="54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10320" y="53816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0" y="0"/>
                  </a:move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53" y="54"/>
                  </a:lnTo>
                  <a:lnTo>
                    <a:pt x="58" y="54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78640" y="538308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0"/>
                  </a:moveTo>
                  <a:lnTo>
                    <a:pt x="41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1" y="45"/>
                  </a:lnTo>
                  <a:lnTo>
                    <a:pt x="46" y="45"/>
                  </a:lnTo>
                  <a:lnTo>
                    <a:pt x="50" y="45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6329520" y="6124680"/>
            <a:ext cx="500040" cy="173520"/>
            <a:chOff x="6329520" y="6124680"/>
            <a:chExt cx="500040" cy="173520"/>
          </a:xfrm>
        </p:grpSpPr>
        <p:sp>
          <p:nvSpPr>
            <p:cNvPr id="1084" name=""/>
            <p:cNvSpPr/>
            <p:nvPr/>
          </p:nvSpPr>
          <p:spPr>
            <a:xfrm>
              <a:off x="6491160" y="6256440"/>
              <a:ext cx="338400" cy="39960"/>
            </a:xfrm>
            <a:custGeom>
              <a:avLst/>
              <a:gdLst/>
              <a:ahLst/>
              <a:rect l="0" t="0" r="r" b="b"/>
              <a:pathLst>
                <a:path w="940" h="111">
                  <a:moveTo>
                    <a:pt x="0" y="102"/>
                  </a:moveTo>
                  <a:lnTo>
                    <a:pt x="0" y="106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927" y="111"/>
                  </a:lnTo>
                  <a:lnTo>
                    <a:pt x="931" y="111"/>
                  </a:lnTo>
                  <a:lnTo>
                    <a:pt x="935" y="111"/>
                  </a:lnTo>
                  <a:lnTo>
                    <a:pt x="935" y="106"/>
                  </a:lnTo>
                  <a:lnTo>
                    <a:pt x="940" y="106"/>
                  </a:lnTo>
                  <a:lnTo>
                    <a:pt x="940" y="102"/>
                  </a:lnTo>
                  <a:lnTo>
                    <a:pt x="940" y="8"/>
                  </a:lnTo>
                  <a:lnTo>
                    <a:pt x="940" y="4"/>
                  </a:lnTo>
                  <a:lnTo>
                    <a:pt x="935" y="4"/>
                  </a:lnTo>
                  <a:lnTo>
                    <a:pt x="935" y="0"/>
                  </a:lnTo>
                  <a:lnTo>
                    <a:pt x="931" y="0"/>
                  </a:lnTo>
                  <a:lnTo>
                    <a:pt x="927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29520" y="6124680"/>
              <a:ext cx="160560" cy="173520"/>
            </a:xfrm>
            <a:custGeom>
              <a:avLst/>
              <a:gdLst/>
              <a:ahLst/>
              <a:rect l="0" t="0" r="r" b="b"/>
              <a:pathLst>
                <a:path w="446" h="482">
                  <a:moveTo>
                    <a:pt x="0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441" y="358"/>
                  </a:lnTo>
                  <a:lnTo>
                    <a:pt x="446" y="358"/>
                  </a:lnTo>
                  <a:lnTo>
                    <a:pt x="446" y="363"/>
                  </a:lnTo>
                  <a:lnTo>
                    <a:pt x="441" y="368"/>
                  </a:lnTo>
                  <a:lnTo>
                    <a:pt x="441" y="372"/>
                  </a:lnTo>
                  <a:lnTo>
                    <a:pt x="441" y="473"/>
                  </a:lnTo>
                  <a:lnTo>
                    <a:pt x="441" y="478"/>
                  </a:lnTo>
                  <a:lnTo>
                    <a:pt x="441" y="482"/>
                  </a:lnTo>
                  <a:lnTo>
                    <a:pt x="437" y="482"/>
                  </a:lnTo>
                  <a:lnTo>
                    <a:pt x="437" y="478"/>
                  </a:lnTo>
                  <a:lnTo>
                    <a:pt x="433" y="478"/>
                  </a:lnTo>
                  <a:lnTo>
                    <a:pt x="8" y="133"/>
                  </a:lnTo>
                  <a:lnTo>
                    <a:pt x="4" y="133"/>
                  </a:lnTo>
                  <a:lnTo>
                    <a:pt x="4" y="128"/>
                  </a:lnTo>
                  <a:lnTo>
                    <a:pt x="4" y="124"/>
                  </a:lnTo>
                  <a:lnTo>
                    <a:pt x="4" y="119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57920" y="6256440"/>
              <a:ext cx="71640" cy="18000"/>
            </a:xfrm>
            <a:custGeom>
              <a:avLst/>
              <a:gdLst/>
              <a:ahLst/>
              <a:rect l="0" t="0" r="r" b="b"/>
              <a:pathLst>
                <a:path w="199" h="50">
                  <a:moveTo>
                    <a:pt x="0" y="50"/>
                  </a:moveTo>
                  <a:lnTo>
                    <a:pt x="199" y="50"/>
                  </a:lnTo>
                  <a:lnTo>
                    <a:pt x="199" y="46"/>
                  </a:lnTo>
                  <a:lnTo>
                    <a:pt x="199" y="41"/>
                  </a:lnTo>
                  <a:lnTo>
                    <a:pt x="199" y="36"/>
                  </a:lnTo>
                  <a:lnTo>
                    <a:pt x="199" y="31"/>
                  </a:lnTo>
                  <a:lnTo>
                    <a:pt x="199" y="27"/>
                  </a:lnTo>
                  <a:lnTo>
                    <a:pt x="199" y="23"/>
                  </a:lnTo>
                  <a:lnTo>
                    <a:pt x="199" y="18"/>
                  </a:lnTo>
                  <a:lnTo>
                    <a:pt x="199" y="14"/>
                  </a:lnTo>
                  <a:lnTo>
                    <a:pt x="199" y="8"/>
                  </a:lnTo>
                  <a:lnTo>
                    <a:pt x="199" y="4"/>
                  </a:lnTo>
                  <a:lnTo>
                    <a:pt x="195" y="4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6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773760" y="6281640"/>
              <a:ext cx="4932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94400" y="6257880"/>
              <a:ext cx="257400" cy="28800"/>
            </a:xfrm>
            <a:custGeom>
              <a:avLst/>
              <a:gdLst/>
              <a:ahLst/>
              <a:rect l="0" t="0" r="r" b="b"/>
              <a:pathLst>
                <a:path w="715" h="80">
                  <a:moveTo>
                    <a:pt x="715" y="53"/>
                  </a:moveTo>
                  <a:lnTo>
                    <a:pt x="636" y="67"/>
                  </a:lnTo>
                  <a:lnTo>
                    <a:pt x="565" y="71"/>
                  </a:lnTo>
                  <a:lnTo>
                    <a:pt x="494" y="75"/>
                  </a:lnTo>
                  <a:lnTo>
                    <a:pt x="428" y="80"/>
                  </a:lnTo>
                  <a:lnTo>
                    <a:pt x="367" y="80"/>
                  </a:lnTo>
                  <a:lnTo>
                    <a:pt x="308" y="80"/>
                  </a:lnTo>
                  <a:lnTo>
                    <a:pt x="255" y="80"/>
                  </a:lnTo>
                  <a:lnTo>
                    <a:pt x="202" y="75"/>
                  </a:lnTo>
                  <a:lnTo>
                    <a:pt x="163" y="75"/>
                  </a:lnTo>
                  <a:lnTo>
                    <a:pt x="119" y="71"/>
                  </a:lnTo>
                  <a:lnTo>
                    <a:pt x="88" y="67"/>
                  </a:lnTo>
                  <a:lnTo>
                    <a:pt x="57" y="62"/>
                  </a:lnTo>
                  <a:lnTo>
                    <a:pt x="35" y="62"/>
                  </a:lnTo>
                  <a:lnTo>
                    <a:pt x="22" y="58"/>
                  </a:lnTo>
                  <a:lnTo>
                    <a:pt x="8" y="58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39" y="4"/>
                  </a:lnTo>
                  <a:lnTo>
                    <a:pt x="66" y="8"/>
                  </a:lnTo>
                  <a:lnTo>
                    <a:pt x="97" y="13"/>
                  </a:lnTo>
                  <a:lnTo>
                    <a:pt x="132" y="13"/>
                  </a:lnTo>
                  <a:lnTo>
                    <a:pt x="176" y="17"/>
                  </a:lnTo>
                  <a:lnTo>
                    <a:pt x="224" y="22"/>
                  </a:lnTo>
                  <a:lnTo>
                    <a:pt x="273" y="22"/>
                  </a:lnTo>
                  <a:lnTo>
                    <a:pt x="330" y="22"/>
                  </a:lnTo>
                  <a:lnTo>
                    <a:pt x="389" y="22"/>
                  </a:lnTo>
                  <a:lnTo>
                    <a:pt x="446" y="22"/>
                  </a:lnTo>
                  <a:lnTo>
                    <a:pt x="512" y="17"/>
                  </a:lnTo>
                  <a:lnTo>
                    <a:pt x="578" y="13"/>
                  </a:lnTo>
                  <a:lnTo>
                    <a:pt x="649" y="8"/>
                  </a:lnTo>
                  <a:lnTo>
                    <a:pt x="715" y="0"/>
                  </a:lnTo>
                  <a:lnTo>
                    <a:pt x="71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94400" y="6281640"/>
              <a:ext cx="263880" cy="12960"/>
            </a:xfrm>
            <a:custGeom>
              <a:avLst/>
              <a:gdLst/>
              <a:ahLst/>
              <a:rect l="0" t="0" r="r" b="b"/>
              <a:pathLst>
                <a:path fill="none" w="733" h="36">
                  <a:moveTo>
                    <a:pt x="733" y="0"/>
                  </a:moveTo>
                  <a:lnTo>
                    <a:pt x="653" y="17"/>
                  </a:lnTo>
                  <a:lnTo>
                    <a:pt x="578" y="23"/>
                  </a:lnTo>
                  <a:lnTo>
                    <a:pt x="508" y="31"/>
                  </a:lnTo>
                  <a:lnTo>
                    <a:pt x="441" y="36"/>
                  </a:lnTo>
                  <a:lnTo>
                    <a:pt x="371" y="36"/>
                  </a:lnTo>
                  <a:lnTo>
                    <a:pt x="313" y="36"/>
                  </a:lnTo>
                  <a:lnTo>
                    <a:pt x="255" y="36"/>
                  </a:lnTo>
                  <a:lnTo>
                    <a:pt x="207" y="31"/>
                  </a:lnTo>
                  <a:lnTo>
                    <a:pt x="158" y="27"/>
                  </a:lnTo>
                  <a:lnTo>
                    <a:pt x="119" y="23"/>
                  </a:lnTo>
                  <a:lnTo>
                    <a:pt x="83" y="17"/>
                  </a:lnTo>
                  <a:lnTo>
                    <a:pt x="52" y="13"/>
                  </a:lnTo>
                  <a:lnTo>
                    <a:pt x="30" y="8"/>
                  </a:lnTo>
                  <a:lnTo>
                    <a:pt x="13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57920" y="628020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0" y="0"/>
                  </a:moveTo>
                  <a:lnTo>
                    <a:pt x="5" y="0"/>
                  </a:lnTo>
                  <a:lnTo>
                    <a:pt x="10" y="15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91160" y="62802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9" y="19"/>
                  </a:moveTo>
                  <a:lnTo>
                    <a:pt x="0" y="19"/>
                  </a:lnTo>
                  <a:lnTo>
                    <a:pt x="4" y="0"/>
                  </a:lnTo>
                  <a:lnTo>
                    <a:pt x="14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92840" y="6264360"/>
              <a:ext cx="6840" cy="14760"/>
            </a:xfrm>
            <a:custGeom>
              <a:avLst/>
              <a:gdLst/>
              <a:ahLst/>
              <a:rect l="0" t="0" r="r" b="b"/>
              <a:pathLst>
                <a:path w="19" h="41">
                  <a:moveTo>
                    <a:pt x="19" y="41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2840" y="626436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27"/>
                  </a:moveTo>
                  <a:lnTo>
                    <a:pt x="9" y="0"/>
                  </a:lnTo>
                  <a:lnTo>
                    <a:pt x="1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94640" y="627228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29520" y="6149880"/>
              <a:ext cx="159120" cy="128880"/>
            </a:xfrm>
            <a:custGeom>
              <a:avLst/>
              <a:gdLst/>
              <a:ahLst/>
              <a:rect l="0" t="0" r="r" b="b"/>
              <a:pathLst>
                <a:path w="442" h="358">
                  <a:moveTo>
                    <a:pt x="442" y="349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442" y="358"/>
                  </a:lnTo>
                  <a:lnTo>
                    <a:pt x="442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475320" y="628020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0"/>
                  </a:moveTo>
                  <a:lnTo>
                    <a:pt x="10" y="15"/>
                  </a:lnTo>
                  <a:lnTo>
                    <a:pt x="0" y="19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69200" y="627372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59480" y="62690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0"/>
                  </a:moveTo>
                  <a:lnTo>
                    <a:pt x="14" y="15"/>
                  </a:lnTo>
                  <a:lnTo>
                    <a:pt x="0" y="19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53360" y="626112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10" y="0"/>
                  </a:moveTo>
                  <a:lnTo>
                    <a:pt x="10" y="23"/>
                  </a:lnTo>
                  <a:lnTo>
                    <a:pt x="0" y="27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46880" y="625644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38960" y="624996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0"/>
                  </a:moveTo>
                  <a:lnTo>
                    <a:pt x="10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30960" y="6124680"/>
              <a:ext cx="495720" cy="135360"/>
            </a:xfrm>
            <a:custGeom>
              <a:avLst/>
              <a:gdLst/>
              <a:ahLst/>
              <a:rect l="0" t="0" r="r" b="b"/>
              <a:pathLst>
                <a:path w="1377" h="376">
                  <a:moveTo>
                    <a:pt x="455" y="354"/>
                  </a:moveTo>
                  <a:lnTo>
                    <a:pt x="468" y="354"/>
                  </a:lnTo>
                  <a:lnTo>
                    <a:pt x="490" y="359"/>
                  </a:lnTo>
                  <a:lnTo>
                    <a:pt x="508" y="359"/>
                  </a:lnTo>
                  <a:lnTo>
                    <a:pt x="525" y="363"/>
                  </a:lnTo>
                  <a:lnTo>
                    <a:pt x="547" y="368"/>
                  </a:lnTo>
                  <a:lnTo>
                    <a:pt x="569" y="368"/>
                  </a:lnTo>
                  <a:lnTo>
                    <a:pt x="591" y="368"/>
                  </a:lnTo>
                  <a:lnTo>
                    <a:pt x="618" y="368"/>
                  </a:lnTo>
                  <a:lnTo>
                    <a:pt x="640" y="372"/>
                  </a:lnTo>
                  <a:lnTo>
                    <a:pt x="666" y="372"/>
                  </a:lnTo>
                  <a:lnTo>
                    <a:pt x="693" y="376"/>
                  </a:lnTo>
                  <a:lnTo>
                    <a:pt x="724" y="376"/>
                  </a:lnTo>
                  <a:lnTo>
                    <a:pt x="750" y="376"/>
                  </a:lnTo>
                  <a:lnTo>
                    <a:pt x="781" y="376"/>
                  </a:lnTo>
                  <a:lnTo>
                    <a:pt x="812" y="376"/>
                  </a:lnTo>
                  <a:lnTo>
                    <a:pt x="838" y="376"/>
                  </a:lnTo>
                  <a:lnTo>
                    <a:pt x="865" y="376"/>
                  </a:lnTo>
                  <a:lnTo>
                    <a:pt x="887" y="376"/>
                  </a:lnTo>
                  <a:lnTo>
                    <a:pt x="909" y="376"/>
                  </a:lnTo>
                  <a:lnTo>
                    <a:pt x="931" y="376"/>
                  </a:lnTo>
                  <a:lnTo>
                    <a:pt x="953" y="372"/>
                  </a:lnTo>
                  <a:lnTo>
                    <a:pt x="975" y="372"/>
                  </a:lnTo>
                  <a:lnTo>
                    <a:pt x="993" y="372"/>
                  </a:lnTo>
                  <a:lnTo>
                    <a:pt x="1015" y="368"/>
                  </a:lnTo>
                  <a:lnTo>
                    <a:pt x="1038" y="368"/>
                  </a:lnTo>
                  <a:lnTo>
                    <a:pt x="1060" y="368"/>
                  </a:lnTo>
                  <a:lnTo>
                    <a:pt x="1077" y="368"/>
                  </a:lnTo>
                  <a:lnTo>
                    <a:pt x="1100" y="363"/>
                  </a:lnTo>
                  <a:lnTo>
                    <a:pt x="1117" y="359"/>
                  </a:lnTo>
                  <a:lnTo>
                    <a:pt x="1135" y="354"/>
                  </a:lnTo>
                  <a:lnTo>
                    <a:pt x="1157" y="354"/>
                  </a:lnTo>
                  <a:lnTo>
                    <a:pt x="1179" y="350"/>
                  </a:lnTo>
                  <a:lnTo>
                    <a:pt x="1188" y="350"/>
                  </a:lnTo>
                  <a:lnTo>
                    <a:pt x="1197" y="350"/>
                  </a:lnTo>
                  <a:lnTo>
                    <a:pt x="1210" y="350"/>
                  </a:lnTo>
                  <a:lnTo>
                    <a:pt x="1223" y="350"/>
                  </a:lnTo>
                  <a:lnTo>
                    <a:pt x="1241" y="350"/>
                  </a:lnTo>
                  <a:lnTo>
                    <a:pt x="1258" y="350"/>
                  </a:lnTo>
                  <a:lnTo>
                    <a:pt x="1276" y="350"/>
                  </a:lnTo>
                  <a:lnTo>
                    <a:pt x="1298" y="350"/>
                  </a:lnTo>
                  <a:lnTo>
                    <a:pt x="1316" y="350"/>
                  </a:lnTo>
                  <a:lnTo>
                    <a:pt x="1329" y="350"/>
                  </a:lnTo>
                  <a:lnTo>
                    <a:pt x="1346" y="350"/>
                  </a:lnTo>
                  <a:lnTo>
                    <a:pt x="1360" y="350"/>
                  </a:lnTo>
                  <a:lnTo>
                    <a:pt x="1369" y="350"/>
                  </a:lnTo>
                  <a:lnTo>
                    <a:pt x="1373" y="350"/>
                  </a:lnTo>
                  <a:lnTo>
                    <a:pt x="1377" y="350"/>
                  </a:lnTo>
                  <a:lnTo>
                    <a:pt x="931" y="0"/>
                  </a:lnTo>
                  <a:lnTo>
                    <a:pt x="927" y="0"/>
                  </a:lnTo>
                  <a:lnTo>
                    <a:pt x="922" y="0"/>
                  </a:lnTo>
                  <a:lnTo>
                    <a:pt x="918" y="0"/>
                  </a:lnTo>
                  <a:lnTo>
                    <a:pt x="913" y="0"/>
                  </a:lnTo>
                  <a:lnTo>
                    <a:pt x="909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7" y="13"/>
                  </a:lnTo>
                  <a:lnTo>
                    <a:pt x="39" y="30"/>
                  </a:lnTo>
                  <a:lnTo>
                    <a:pt x="70" y="52"/>
                  </a:lnTo>
                  <a:lnTo>
                    <a:pt x="101" y="83"/>
                  </a:lnTo>
                  <a:lnTo>
                    <a:pt x="141" y="111"/>
                  </a:lnTo>
                  <a:lnTo>
                    <a:pt x="176" y="142"/>
                  </a:lnTo>
                  <a:lnTo>
                    <a:pt x="220" y="172"/>
                  </a:lnTo>
                  <a:lnTo>
                    <a:pt x="264" y="208"/>
                  </a:lnTo>
                  <a:lnTo>
                    <a:pt x="304" y="239"/>
                  </a:lnTo>
                  <a:lnTo>
                    <a:pt x="339" y="269"/>
                  </a:lnTo>
                  <a:lnTo>
                    <a:pt x="375" y="293"/>
                  </a:lnTo>
                  <a:lnTo>
                    <a:pt x="402" y="319"/>
                  </a:lnTo>
                  <a:lnTo>
                    <a:pt x="428" y="337"/>
                  </a:lnTo>
                  <a:lnTo>
                    <a:pt x="441" y="345"/>
                  </a:lnTo>
                  <a:lnTo>
                    <a:pt x="446" y="350"/>
                  </a:lnTo>
                  <a:lnTo>
                    <a:pt x="455" y="354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86400" y="6124680"/>
              <a:ext cx="168480" cy="133560"/>
            </a:xfrm>
            <a:custGeom>
              <a:avLst/>
              <a:gdLst/>
              <a:ahLst/>
              <a:rect l="0" t="0" r="r" b="b"/>
              <a:pathLst>
                <a:path w="468" h="371">
                  <a:moveTo>
                    <a:pt x="0" y="0"/>
                  </a:moveTo>
                  <a:lnTo>
                    <a:pt x="450" y="367"/>
                  </a:lnTo>
                  <a:lnTo>
                    <a:pt x="455" y="367"/>
                  </a:lnTo>
                  <a:lnTo>
                    <a:pt x="459" y="367"/>
                  </a:lnTo>
                  <a:lnTo>
                    <a:pt x="459" y="371"/>
                  </a:lnTo>
                  <a:lnTo>
                    <a:pt x="464" y="371"/>
                  </a:lnTo>
                  <a:lnTo>
                    <a:pt x="468" y="371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19880" y="6124680"/>
              <a:ext cx="170280" cy="135360"/>
            </a:xfrm>
            <a:custGeom>
              <a:avLst/>
              <a:gdLst/>
              <a:ahLst/>
              <a:rect l="0" t="0" r="r" b="b"/>
              <a:pathLst>
                <a:path w="473" h="376">
                  <a:moveTo>
                    <a:pt x="0" y="0"/>
                  </a:moveTo>
                  <a:lnTo>
                    <a:pt x="456" y="376"/>
                  </a:lnTo>
                  <a:lnTo>
                    <a:pt x="460" y="376"/>
                  </a:lnTo>
                  <a:lnTo>
                    <a:pt x="465" y="376"/>
                  </a:lnTo>
                  <a:lnTo>
                    <a:pt x="469" y="376"/>
                  </a:lnTo>
                  <a:lnTo>
                    <a:pt x="473" y="376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56240" y="6124680"/>
              <a:ext cx="168480" cy="135360"/>
            </a:xfrm>
            <a:custGeom>
              <a:avLst/>
              <a:gdLst/>
              <a:ahLst/>
              <a:rect l="0" t="0" r="r" b="b"/>
              <a:pathLst>
                <a:path w="468" h="376">
                  <a:moveTo>
                    <a:pt x="0" y="0"/>
                  </a:moveTo>
                  <a:lnTo>
                    <a:pt x="455" y="376"/>
                  </a:lnTo>
                  <a:lnTo>
                    <a:pt x="459" y="376"/>
                  </a:lnTo>
                  <a:lnTo>
                    <a:pt x="464" y="376"/>
                  </a:lnTo>
                  <a:lnTo>
                    <a:pt x="468" y="37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489720" y="6124680"/>
              <a:ext cx="168480" cy="135360"/>
            </a:xfrm>
            <a:custGeom>
              <a:avLst/>
              <a:gdLst/>
              <a:ahLst/>
              <a:rect l="0" t="0" r="r" b="b"/>
              <a:pathLst>
                <a:path w="468" h="376">
                  <a:moveTo>
                    <a:pt x="0" y="0"/>
                  </a:moveTo>
                  <a:lnTo>
                    <a:pt x="455" y="376"/>
                  </a:lnTo>
                  <a:lnTo>
                    <a:pt x="459" y="376"/>
                  </a:lnTo>
                  <a:lnTo>
                    <a:pt x="464" y="376"/>
                  </a:lnTo>
                  <a:lnTo>
                    <a:pt x="468" y="37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524640" y="6124680"/>
              <a:ext cx="167040" cy="133560"/>
            </a:xfrm>
            <a:custGeom>
              <a:avLst/>
              <a:gdLst/>
              <a:ahLst/>
              <a:rect l="0" t="0" r="r" b="b"/>
              <a:pathLst>
                <a:path w="464" h="371">
                  <a:moveTo>
                    <a:pt x="0" y="0"/>
                  </a:moveTo>
                  <a:lnTo>
                    <a:pt x="450" y="371"/>
                  </a:lnTo>
                  <a:lnTo>
                    <a:pt x="455" y="371"/>
                  </a:lnTo>
                  <a:lnTo>
                    <a:pt x="455" y="367"/>
                  </a:lnTo>
                  <a:lnTo>
                    <a:pt x="459" y="367"/>
                  </a:lnTo>
                  <a:lnTo>
                    <a:pt x="464" y="36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73680" y="624852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0"/>
                  </a:moveTo>
                  <a:lnTo>
                    <a:pt x="36" y="36"/>
                  </a:lnTo>
                  <a:lnTo>
                    <a:pt x="36" y="41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46"/>
                  </a:lnTo>
                  <a:lnTo>
                    <a:pt x="50" y="41"/>
                  </a:lnTo>
                  <a:lnTo>
                    <a:pt x="50" y="36"/>
                  </a:lnTo>
                  <a:lnTo>
                    <a:pt x="50" y="3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637320" y="62499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0" y="0"/>
                  </a:moveTo>
                  <a:lnTo>
                    <a:pt x="45" y="31"/>
                  </a:ln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58" y="3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03840" y="62499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0" y="0"/>
                  </a:move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53" y="54"/>
                  </a:lnTo>
                  <a:lnTo>
                    <a:pt x="58" y="54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568920" y="624852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0" y="0"/>
                  </a:moveTo>
                  <a:lnTo>
                    <a:pt x="45" y="36"/>
                  </a:lnTo>
                  <a:lnTo>
                    <a:pt x="45" y="41"/>
                  </a:lnTo>
                  <a:lnTo>
                    <a:pt x="45" y="46"/>
                  </a:lnTo>
                  <a:lnTo>
                    <a:pt x="45" y="50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53" y="54"/>
                  </a:lnTo>
                  <a:lnTo>
                    <a:pt x="58" y="54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535800" y="62499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0"/>
                  </a:moveTo>
                  <a:lnTo>
                    <a:pt x="41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1" y="45"/>
                  </a:lnTo>
                  <a:lnTo>
                    <a:pt x="46" y="45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4" y="2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3" name="" descr=""/>
          <p:cNvPicPr/>
          <p:nvPr/>
        </p:nvPicPr>
        <p:blipFill>
          <a:blip r:embed="rId18"/>
          <a:stretch/>
        </p:blipFill>
        <p:spPr>
          <a:xfrm>
            <a:off x="6249960" y="3333600"/>
            <a:ext cx="819000" cy="565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9"/>
          <a:stretch/>
        </p:blipFill>
        <p:spPr>
          <a:xfrm>
            <a:off x="7596360" y="3652920"/>
            <a:ext cx="344520" cy="23508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7931160" y="3510000"/>
            <a:ext cx="309600" cy="2253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935840" y="3483000"/>
            <a:ext cx="135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291520" y="3754440"/>
            <a:ext cx="128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415360" y="369720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8070840" y="342900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613560" y="3697200"/>
            <a:ext cx="8794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145200" y="3189240"/>
            <a:ext cx="24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Telecomm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910560" y="3492360"/>
            <a:ext cx="838440" cy="68760"/>
          </a:xfrm>
          <a:custGeom>
            <a:avLst/>
            <a:gdLst/>
            <a:ahLst/>
            <a:rect l="0" t="0" r="r" b="b"/>
            <a:pathLst>
              <a:path fill="none" w="2329" h="191">
                <a:moveTo>
                  <a:pt x="0" y="191"/>
                </a:moveTo>
                <a:lnTo>
                  <a:pt x="1128" y="191"/>
                </a:lnTo>
                <a:lnTo>
                  <a:pt x="1128" y="0"/>
                </a:lnTo>
                <a:lnTo>
                  <a:pt x="2329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020000" y="3621240"/>
            <a:ext cx="12240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0"/>
          <a:stretch/>
        </p:blipFill>
        <p:spPr>
          <a:xfrm>
            <a:off x="7523280" y="3424320"/>
            <a:ext cx="317520" cy="18900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8251920" y="356544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186520" y="3187800"/>
            <a:ext cx="1082880" cy="444960"/>
          </a:xfrm>
          <a:custGeom>
            <a:avLst/>
            <a:gdLst/>
            <a:ahLst/>
            <a:rect l="0" t="0" r="r" b="b"/>
            <a:pathLst>
              <a:path fill="none" w="3008" h="1236">
                <a:moveTo>
                  <a:pt x="0" y="0"/>
                </a:moveTo>
                <a:lnTo>
                  <a:pt x="1645" y="0"/>
                </a:lnTo>
                <a:lnTo>
                  <a:pt x="1645" y="1236"/>
                </a:lnTo>
                <a:lnTo>
                  <a:pt x="3008" y="1236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7018200" y="5421240"/>
            <a:ext cx="3906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398760" y="5502240"/>
            <a:ext cx="4176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spcBef>
                <a:spcPts val="479"/>
              </a:spcBef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515880" y="1965240"/>
            <a:ext cx="8340840" cy="404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Family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496800" y="1984320"/>
            <a:ext cx="2003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.S. Base list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id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P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PX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eTalk ro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P/CH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/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ilink P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2246400" y="1979640"/>
            <a:ext cx="117324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4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RJ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270240" y="1979640"/>
            <a:ext cx="17161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25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RJ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 t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556160" y="1979640"/>
            <a:ext cx="12160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5580000" y="1979640"/>
            <a:ext cx="12175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RJ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586560" y="1979640"/>
            <a:ext cx="122724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1,0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RJ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629480" y="1979640"/>
            <a:ext cx="15127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peline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1,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lim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31720" y="232092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31720" y="25671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1720" y="27957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31720" y="30322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31720" y="32608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31720" y="34815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1720" y="37101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31720" y="39466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31720" y="41752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31720" y="43959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1720" y="462456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31720" y="48610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1720" y="50896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31720" y="53182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31720" y="55468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1720" y="5775480"/>
            <a:ext cx="831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7952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31956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1340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63868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64704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680240" y="1979640"/>
            <a:ext cx="0" cy="400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255920" y="1979640"/>
            <a:ext cx="4302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800"/>
              </a:lnSpc>
              <a:spcAft>
                <a:spcPts val="601"/>
              </a:spcAf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Product Family</a:t>
            </a:r>
            <a:br>
              <a:rPr sz="18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7560" y="2886120"/>
            <a:ext cx="729468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ost comprehensive product lin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lecomm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mall Office/Home Office (SO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480" y="1917720"/>
            <a:ext cx="469908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cend’s Pipeline</a:t>
            </a:r>
            <a:r>
              <a:rPr b="1" lang="en-US" sz="1400" spc="-1" strike="noStrike" baseline="5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duct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ly Q4,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ngle User Internet Acc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amp; Telecomm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2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 User Small LAN Brid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 &amp; Remo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N-to-LA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Ds/SW56 Single Line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commuting, SOH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amp; Interne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28920" y="1917720"/>
            <a:ext cx="482616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8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ly Q4,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HO &amp; Interne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ssion-critical Remote Network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amp; Internet Gate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peline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on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peline - Tot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verview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Product Family 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7560" y="1981080"/>
            <a:ext cx="729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dial-up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sed lin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1/E1, 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g and/or bri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and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dwid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27640" y="2970360"/>
            <a:ext cx="1352520" cy="160956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76880" y="404820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40440" y="1793880"/>
            <a:ext cx="2676600" cy="201132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87960" y="1797120"/>
            <a:ext cx="262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Hom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8280" y="270504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9720" y="2013120"/>
            <a:ext cx="0" cy="82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32320" y="2976480"/>
            <a:ext cx="1343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Other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15* 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Single User Internet Access &amp; Telecomm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8720" y="4965840"/>
            <a:ext cx="811548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ISDN TA with dual POTS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l for downloading high resolution graphics, viewing video clips or just surfing the net at speeds up to 230 K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+ and idle timer maximize efficiency and save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74880" y="2786040"/>
            <a:ext cx="59101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28560" y="2332080"/>
            <a:ext cx="1368360" cy="969840"/>
            <a:chOff x="628560" y="2332080"/>
            <a:chExt cx="1368360" cy="969840"/>
          </a:xfrm>
        </p:grpSpPr>
        <p:grpSp>
          <p:nvGrpSpPr>
            <p:cNvPr id="120" name=""/>
            <p:cNvGrpSpPr/>
            <p:nvPr/>
          </p:nvGrpSpPr>
          <p:grpSpPr>
            <a:xfrm>
              <a:off x="638280" y="2336760"/>
              <a:ext cx="1335240" cy="896760"/>
              <a:chOff x="638280" y="2336760"/>
              <a:chExt cx="1335240" cy="896760"/>
            </a:xfrm>
          </p:grpSpPr>
          <p:sp>
            <p:nvSpPr>
              <p:cNvPr id="121" name=""/>
              <p:cNvSpPr/>
              <p:nvPr/>
            </p:nvSpPr>
            <p:spPr>
              <a:xfrm>
                <a:off x="871560" y="233676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8280" y="257508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8240" y="282888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32040" y="269712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74840" y="264636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33680" y="262584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25520" y="240840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77880" y="252396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628560" y="2332080"/>
              <a:ext cx="136836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 txBox="1"/>
          <p:nvPr/>
        </p:nvSpPr>
        <p:spPr>
          <a:xfrm>
            <a:off x="555480" y="2684520"/>
            <a:ext cx="1355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10080" y="370044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76880" y="347328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86200" y="3279600"/>
            <a:ext cx="601560" cy="38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05320" y="2471760"/>
            <a:ext cx="1456200" cy="1219680"/>
          </a:xfrm>
          <a:custGeom>
            <a:avLst/>
            <a:gdLst/>
            <a:ahLst/>
            <a:rect l="0" t="0" r="r" b="b"/>
            <a:pathLst>
              <a:path fill="none" w="4045" h="3388">
                <a:moveTo>
                  <a:pt x="0" y="0"/>
                </a:moveTo>
                <a:lnTo>
                  <a:pt x="0" y="3388"/>
                </a:lnTo>
                <a:lnTo>
                  <a:pt x="1685" y="3388"/>
                </a:lnTo>
                <a:lnTo>
                  <a:pt x="1218" y="2996"/>
                </a:lnTo>
                <a:lnTo>
                  <a:pt x="4045" y="2991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09960" y="3624120"/>
            <a:ext cx="568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10080" y="428148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764480" y="2421000"/>
            <a:ext cx="816120" cy="820440"/>
            <a:chOff x="7764480" y="2421000"/>
            <a:chExt cx="816120" cy="820440"/>
          </a:xfrm>
        </p:grpSpPr>
        <p:sp>
          <p:nvSpPr>
            <p:cNvPr id="138" name=""/>
            <p:cNvSpPr txBox="1"/>
            <p:nvPr/>
          </p:nvSpPr>
          <p:spPr>
            <a:xfrm>
              <a:off x="8050320" y="3000240"/>
              <a:ext cx="35712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7764480" y="2421000"/>
              <a:ext cx="816120" cy="61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 txBox="1"/>
          <p:nvPr/>
        </p:nvSpPr>
        <p:spPr>
          <a:xfrm>
            <a:off x="4651200" y="254952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4960" y="2397240"/>
            <a:ext cx="731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28000" y="2131920"/>
            <a:ext cx="601560" cy="585720"/>
            <a:chOff x="7128000" y="2131920"/>
            <a:chExt cx="601560" cy="585720"/>
          </a:xfrm>
        </p:grpSpPr>
        <p:sp>
          <p:nvSpPr>
            <p:cNvPr id="143" name=""/>
            <p:cNvSpPr txBox="1"/>
            <p:nvPr/>
          </p:nvSpPr>
          <p:spPr>
            <a:xfrm>
              <a:off x="7151760" y="2476440"/>
              <a:ext cx="568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>
              <a:off x="7128000" y="213192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6523200" y="2357280"/>
            <a:ext cx="724320" cy="357480"/>
          </a:xfrm>
          <a:custGeom>
            <a:avLst/>
            <a:gdLst/>
            <a:ahLst/>
            <a:rect l="0" t="0" r="r" b="b"/>
            <a:pathLst>
              <a:path fill="none" w="2012" h="993">
                <a:moveTo>
                  <a:pt x="0" y="993"/>
                </a:moveTo>
                <a:lnTo>
                  <a:pt x="1341" y="993"/>
                </a:lnTo>
                <a:lnTo>
                  <a:pt x="1341" y="4"/>
                </a:lnTo>
                <a:lnTo>
                  <a:pt x="2012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0600" y="2868480"/>
            <a:ext cx="567000" cy="356040"/>
          </a:xfrm>
          <a:custGeom>
            <a:avLst/>
            <a:gdLst/>
            <a:ahLst/>
            <a:rect l="0" t="0" r="r" b="b"/>
            <a:pathLst>
              <a:path fill="none" w="1575" h="989">
                <a:moveTo>
                  <a:pt x="0" y="4"/>
                </a:moveTo>
                <a:lnTo>
                  <a:pt x="374" y="0"/>
                </a:lnTo>
                <a:lnTo>
                  <a:pt x="374" y="989"/>
                </a:lnTo>
                <a:lnTo>
                  <a:pt x="1575" y="98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210440" y="3044880"/>
            <a:ext cx="703440" cy="663480"/>
            <a:chOff x="7210440" y="3044880"/>
            <a:chExt cx="703440" cy="663480"/>
          </a:xfrm>
        </p:grpSpPr>
        <p:sp>
          <p:nvSpPr>
            <p:cNvPr id="148" name=""/>
            <p:cNvSpPr txBox="1"/>
            <p:nvPr/>
          </p:nvSpPr>
          <p:spPr>
            <a:xfrm>
              <a:off x="7210440" y="346716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7245360" y="304488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064200" y="2681280"/>
            <a:ext cx="844560" cy="476280"/>
            <a:chOff x="6064200" y="2681280"/>
            <a:chExt cx="844560" cy="476280"/>
          </a:xfrm>
        </p:grpSpPr>
        <p:sp>
          <p:nvSpPr>
            <p:cNvPr id="151" name=""/>
            <p:cNvSpPr txBox="1"/>
            <p:nvPr/>
          </p:nvSpPr>
          <p:spPr>
            <a:xfrm>
              <a:off x="6064200" y="2916360"/>
              <a:ext cx="8445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2240" y="2862360"/>
              <a:ext cx="462240" cy="54360"/>
            </a:xfrm>
            <a:custGeom>
              <a:avLst/>
              <a:gdLst/>
              <a:ahLst/>
              <a:rect l="0" t="0" r="r" b="b"/>
              <a:pathLst>
                <a:path w="1284" h="151">
                  <a:moveTo>
                    <a:pt x="0" y="138"/>
                  </a:moveTo>
                  <a:lnTo>
                    <a:pt x="0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4" y="151"/>
                  </a:lnTo>
                  <a:lnTo>
                    <a:pt x="8" y="151"/>
                  </a:lnTo>
                  <a:lnTo>
                    <a:pt x="1266" y="151"/>
                  </a:lnTo>
                  <a:lnTo>
                    <a:pt x="1271" y="151"/>
                  </a:lnTo>
                  <a:lnTo>
                    <a:pt x="1275" y="151"/>
                  </a:lnTo>
                  <a:lnTo>
                    <a:pt x="1279" y="151"/>
                  </a:lnTo>
                  <a:lnTo>
                    <a:pt x="1279" y="147"/>
                  </a:lnTo>
                  <a:lnTo>
                    <a:pt x="1279" y="143"/>
                  </a:lnTo>
                  <a:lnTo>
                    <a:pt x="1284" y="143"/>
                  </a:lnTo>
                  <a:lnTo>
                    <a:pt x="1284" y="138"/>
                  </a:lnTo>
                  <a:lnTo>
                    <a:pt x="1284" y="13"/>
                  </a:lnTo>
                  <a:lnTo>
                    <a:pt x="1284" y="8"/>
                  </a:lnTo>
                  <a:lnTo>
                    <a:pt x="1279" y="8"/>
                  </a:lnTo>
                  <a:lnTo>
                    <a:pt x="1279" y="4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80120" y="2681280"/>
              <a:ext cx="219600" cy="236880"/>
            </a:xfrm>
            <a:custGeom>
              <a:avLst/>
              <a:gdLst/>
              <a:ahLst/>
              <a:rect l="0" t="0" r="r" b="b"/>
              <a:pathLst>
                <a:path w="610" h="658">
                  <a:moveTo>
                    <a:pt x="0" y="1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606" y="490"/>
                  </a:lnTo>
                  <a:lnTo>
                    <a:pt x="610" y="490"/>
                  </a:lnTo>
                  <a:lnTo>
                    <a:pt x="610" y="494"/>
                  </a:lnTo>
                  <a:lnTo>
                    <a:pt x="606" y="499"/>
                  </a:lnTo>
                  <a:lnTo>
                    <a:pt x="606" y="503"/>
                  </a:lnTo>
                  <a:lnTo>
                    <a:pt x="606" y="508"/>
                  </a:lnTo>
                  <a:lnTo>
                    <a:pt x="606" y="649"/>
                  </a:lnTo>
                  <a:lnTo>
                    <a:pt x="606" y="653"/>
                  </a:lnTo>
                  <a:lnTo>
                    <a:pt x="601" y="653"/>
                  </a:lnTo>
                  <a:lnTo>
                    <a:pt x="601" y="658"/>
                  </a:lnTo>
                  <a:lnTo>
                    <a:pt x="597" y="658"/>
                  </a:lnTo>
                  <a:lnTo>
                    <a:pt x="597" y="653"/>
                  </a:lnTo>
                  <a:lnTo>
                    <a:pt x="592" y="653"/>
                  </a:lnTo>
                  <a:lnTo>
                    <a:pt x="13" y="176"/>
                  </a:lnTo>
                  <a:lnTo>
                    <a:pt x="8" y="176"/>
                  </a:lnTo>
                  <a:lnTo>
                    <a:pt x="8" y="171"/>
                  </a:lnTo>
                  <a:lnTo>
                    <a:pt x="4" y="167"/>
                  </a:lnTo>
                  <a:lnTo>
                    <a:pt x="4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67640" y="2862360"/>
              <a:ext cx="97200" cy="24120"/>
            </a:xfrm>
            <a:custGeom>
              <a:avLst/>
              <a:gdLst/>
              <a:ahLst/>
              <a:rect l="0" t="0" r="r" b="b"/>
              <a:pathLst>
                <a:path w="270" h="67">
                  <a:moveTo>
                    <a:pt x="0" y="67"/>
                  </a:moveTo>
                  <a:lnTo>
                    <a:pt x="270" y="67"/>
                  </a:lnTo>
                  <a:lnTo>
                    <a:pt x="270" y="62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70" y="45"/>
                  </a:lnTo>
                  <a:lnTo>
                    <a:pt x="270" y="40"/>
                  </a:lnTo>
                  <a:lnTo>
                    <a:pt x="270" y="36"/>
                  </a:lnTo>
                  <a:lnTo>
                    <a:pt x="270" y="30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0" y="13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6" y="4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3480" y="2897280"/>
              <a:ext cx="7776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7280" y="2863800"/>
              <a:ext cx="351360" cy="38520"/>
            </a:xfrm>
            <a:custGeom>
              <a:avLst/>
              <a:gdLst/>
              <a:ahLst/>
              <a:rect l="0" t="0" r="r" b="b"/>
              <a:pathLst>
                <a:path w="976" h="107">
                  <a:moveTo>
                    <a:pt x="976" y="71"/>
                  </a:moveTo>
                  <a:lnTo>
                    <a:pt x="870" y="90"/>
                  </a:lnTo>
                  <a:lnTo>
                    <a:pt x="773" y="94"/>
                  </a:lnTo>
                  <a:lnTo>
                    <a:pt x="675" y="103"/>
                  </a:lnTo>
                  <a:lnTo>
                    <a:pt x="587" y="107"/>
                  </a:lnTo>
                  <a:lnTo>
                    <a:pt x="499" y="107"/>
                  </a:lnTo>
                  <a:lnTo>
                    <a:pt x="419" y="107"/>
                  </a:lnTo>
                  <a:lnTo>
                    <a:pt x="349" y="107"/>
                  </a:lnTo>
                  <a:lnTo>
                    <a:pt x="278" y="103"/>
                  </a:lnTo>
                  <a:lnTo>
                    <a:pt x="220" y="99"/>
                  </a:lnTo>
                  <a:lnTo>
                    <a:pt x="163" y="94"/>
                  </a:lnTo>
                  <a:lnTo>
                    <a:pt x="119" y="94"/>
                  </a:lnTo>
                  <a:lnTo>
                    <a:pt x="79" y="85"/>
                  </a:lnTo>
                  <a:lnTo>
                    <a:pt x="52" y="81"/>
                  </a:lnTo>
                  <a:lnTo>
                    <a:pt x="30" y="75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30" y="4"/>
                  </a:lnTo>
                  <a:lnTo>
                    <a:pt x="52" y="8"/>
                  </a:lnTo>
                  <a:lnTo>
                    <a:pt x="88" y="13"/>
                  </a:lnTo>
                  <a:lnTo>
                    <a:pt x="132" y="13"/>
                  </a:lnTo>
                  <a:lnTo>
                    <a:pt x="180" y="17"/>
                  </a:lnTo>
                  <a:lnTo>
                    <a:pt x="242" y="22"/>
                  </a:lnTo>
                  <a:lnTo>
                    <a:pt x="305" y="26"/>
                  </a:lnTo>
                  <a:lnTo>
                    <a:pt x="375" y="26"/>
                  </a:lnTo>
                  <a:lnTo>
                    <a:pt x="450" y="31"/>
                  </a:lnTo>
                  <a:lnTo>
                    <a:pt x="530" y="31"/>
                  </a:lnTo>
                  <a:lnTo>
                    <a:pt x="609" y="26"/>
                  </a:lnTo>
                  <a:lnTo>
                    <a:pt x="702" y="22"/>
                  </a:lnTo>
                  <a:lnTo>
                    <a:pt x="791" y="17"/>
                  </a:lnTo>
                  <a:lnTo>
                    <a:pt x="883" y="13"/>
                  </a:lnTo>
                  <a:lnTo>
                    <a:pt x="976" y="0"/>
                  </a:lnTo>
                  <a:lnTo>
                    <a:pt x="97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7280" y="2897280"/>
              <a:ext cx="360720" cy="16200"/>
            </a:xfrm>
            <a:custGeom>
              <a:avLst/>
              <a:gdLst/>
              <a:ahLst/>
              <a:rect l="0" t="0" r="r" b="b"/>
              <a:pathLst>
                <a:path fill="none" w="1002" h="45">
                  <a:moveTo>
                    <a:pt x="1002" y="0"/>
                  </a:moveTo>
                  <a:lnTo>
                    <a:pt x="891" y="17"/>
                  </a:lnTo>
                  <a:lnTo>
                    <a:pt x="794" y="31"/>
                  </a:lnTo>
                  <a:lnTo>
                    <a:pt x="693" y="40"/>
                  </a:lnTo>
                  <a:lnTo>
                    <a:pt x="600" y="45"/>
                  </a:lnTo>
                  <a:lnTo>
                    <a:pt x="508" y="45"/>
                  </a:lnTo>
                  <a:lnTo>
                    <a:pt x="427" y="45"/>
                  </a:lnTo>
                  <a:lnTo>
                    <a:pt x="352" y="45"/>
                  </a:lnTo>
                  <a:lnTo>
                    <a:pt x="282" y="40"/>
                  </a:lnTo>
                  <a:lnTo>
                    <a:pt x="216" y="36"/>
                  </a:lnTo>
                  <a:lnTo>
                    <a:pt x="167" y="31"/>
                  </a:lnTo>
                  <a:lnTo>
                    <a:pt x="114" y="27"/>
                  </a:lnTo>
                  <a:lnTo>
                    <a:pt x="74" y="13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67640" y="289404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0" y="0"/>
                  </a:moveTo>
                  <a:lnTo>
                    <a:pt x="9" y="0"/>
                  </a:lnTo>
                  <a:lnTo>
                    <a:pt x="14" y="1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2240" y="289404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5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15160" y="287172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7" y="58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15160" y="287172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36"/>
                  </a:moveTo>
                  <a:lnTo>
                    <a:pt x="14" y="0"/>
                  </a:lnTo>
                  <a:lnTo>
                    <a:pt x="2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18400" y="288288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0120" y="2716200"/>
              <a:ext cx="217800" cy="174960"/>
            </a:xfrm>
            <a:custGeom>
              <a:avLst/>
              <a:gdLst/>
              <a:ahLst/>
              <a:rect l="0" t="0" r="r" b="b"/>
              <a:pathLst>
                <a:path w="605" h="486">
                  <a:moveTo>
                    <a:pt x="605" y="472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05" y="486"/>
                  </a:lnTo>
                  <a:lnTo>
                    <a:pt x="605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80280" y="289404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70560" y="288432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59400" y="287820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19" y="0"/>
                  </a:moveTo>
                  <a:lnTo>
                    <a:pt x="19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50040" y="286848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40320" y="286236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9520" y="285264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14" y="0"/>
                  </a:moveTo>
                  <a:lnTo>
                    <a:pt x="14" y="28"/>
                  </a:lnTo>
                  <a:lnTo>
                    <a:pt x="0" y="32"/>
                  </a:lnTo>
                  <a:lnTo>
                    <a:pt x="0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1560" y="2681280"/>
              <a:ext cx="679680" cy="184680"/>
            </a:xfrm>
            <a:custGeom>
              <a:avLst/>
              <a:gdLst/>
              <a:ahLst/>
              <a:rect l="0" t="0" r="r" b="b"/>
              <a:pathLst>
                <a:path w="1888" h="513">
                  <a:moveTo>
                    <a:pt x="621" y="482"/>
                  </a:moveTo>
                  <a:lnTo>
                    <a:pt x="643" y="487"/>
                  </a:lnTo>
                  <a:lnTo>
                    <a:pt x="670" y="491"/>
                  </a:lnTo>
                  <a:lnTo>
                    <a:pt x="696" y="491"/>
                  </a:lnTo>
                  <a:lnTo>
                    <a:pt x="718" y="495"/>
                  </a:lnTo>
                  <a:lnTo>
                    <a:pt x="749" y="500"/>
                  </a:lnTo>
                  <a:lnTo>
                    <a:pt x="780" y="500"/>
                  </a:lnTo>
                  <a:lnTo>
                    <a:pt x="811" y="504"/>
                  </a:lnTo>
                  <a:lnTo>
                    <a:pt x="846" y="504"/>
                  </a:lnTo>
                  <a:lnTo>
                    <a:pt x="877" y="509"/>
                  </a:lnTo>
                  <a:lnTo>
                    <a:pt x="912" y="509"/>
                  </a:lnTo>
                  <a:lnTo>
                    <a:pt x="953" y="513"/>
                  </a:lnTo>
                  <a:lnTo>
                    <a:pt x="993" y="513"/>
                  </a:lnTo>
                  <a:lnTo>
                    <a:pt x="1028" y="513"/>
                  </a:lnTo>
                  <a:lnTo>
                    <a:pt x="1068" y="513"/>
                  </a:lnTo>
                  <a:lnTo>
                    <a:pt x="1112" y="513"/>
                  </a:lnTo>
                  <a:lnTo>
                    <a:pt x="1151" y="513"/>
                  </a:lnTo>
                  <a:lnTo>
                    <a:pt x="1182" y="513"/>
                  </a:lnTo>
                  <a:lnTo>
                    <a:pt x="1213" y="513"/>
                  </a:lnTo>
                  <a:lnTo>
                    <a:pt x="1244" y="513"/>
                  </a:lnTo>
                  <a:lnTo>
                    <a:pt x="1275" y="513"/>
                  </a:lnTo>
                  <a:lnTo>
                    <a:pt x="1306" y="509"/>
                  </a:lnTo>
                  <a:lnTo>
                    <a:pt x="1337" y="509"/>
                  </a:lnTo>
                  <a:lnTo>
                    <a:pt x="1363" y="509"/>
                  </a:lnTo>
                  <a:lnTo>
                    <a:pt x="1390" y="504"/>
                  </a:lnTo>
                  <a:lnTo>
                    <a:pt x="1420" y="504"/>
                  </a:lnTo>
                  <a:lnTo>
                    <a:pt x="1451" y="500"/>
                  </a:lnTo>
                  <a:lnTo>
                    <a:pt x="1478" y="500"/>
                  </a:lnTo>
                  <a:lnTo>
                    <a:pt x="1504" y="495"/>
                  </a:lnTo>
                  <a:lnTo>
                    <a:pt x="1531" y="491"/>
                  </a:lnTo>
                  <a:lnTo>
                    <a:pt x="1557" y="487"/>
                  </a:lnTo>
                  <a:lnTo>
                    <a:pt x="1588" y="482"/>
                  </a:lnTo>
                  <a:lnTo>
                    <a:pt x="1614" y="478"/>
                  </a:lnTo>
                  <a:lnTo>
                    <a:pt x="1619" y="478"/>
                  </a:lnTo>
                  <a:lnTo>
                    <a:pt x="1628" y="478"/>
                  </a:lnTo>
                  <a:lnTo>
                    <a:pt x="1641" y="478"/>
                  </a:lnTo>
                  <a:lnTo>
                    <a:pt x="1654" y="478"/>
                  </a:lnTo>
                  <a:lnTo>
                    <a:pt x="1676" y="478"/>
                  </a:lnTo>
                  <a:lnTo>
                    <a:pt x="1698" y="478"/>
                  </a:lnTo>
                  <a:lnTo>
                    <a:pt x="1725" y="478"/>
                  </a:lnTo>
                  <a:lnTo>
                    <a:pt x="1751" y="478"/>
                  </a:lnTo>
                  <a:lnTo>
                    <a:pt x="1778" y="478"/>
                  </a:lnTo>
                  <a:lnTo>
                    <a:pt x="1804" y="478"/>
                  </a:lnTo>
                  <a:lnTo>
                    <a:pt x="1822" y="478"/>
                  </a:lnTo>
                  <a:lnTo>
                    <a:pt x="1844" y="478"/>
                  </a:lnTo>
                  <a:lnTo>
                    <a:pt x="1861" y="478"/>
                  </a:lnTo>
                  <a:lnTo>
                    <a:pt x="1875" y="478"/>
                  </a:lnTo>
                  <a:lnTo>
                    <a:pt x="1883" y="478"/>
                  </a:lnTo>
                  <a:lnTo>
                    <a:pt x="1888" y="478"/>
                  </a:lnTo>
                  <a:lnTo>
                    <a:pt x="1279" y="0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57" y="0"/>
                  </a:lnTo>
                  <a:lnTo>
                    <a:pt x="1253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26" y="17"/>
                  </a:lnTo>
                  <a:lnTo>
                    <a:pt x="57" y="39"/>
                  </a:lnTo>
                  <a:lnTo>
                    <a:pt x="92" y="74"/>
                  </a:lnTo>
                  <a:lnTo>
                    <a:pt x="141" y="110"/>
                  </a:lnTo>
                  <a:lnTo>
                    <a:pt x="194" y="150"/>
                  </a:lnTo>
                  <a:lnTo>
                    <a:pt x="242" y="195"/>
                  </a:lnTo>
                  <a:lnTo>
                    <a:pt x="304" y="239"/>
                  </a:lnTo>
                  <a:lnTo>
                    <a:pt x="361" y="283"/>
                  </a:lnTo>
                  <a:lnTo>
                    <a:pt x="414" y="327"/>
                  </a:lnTo>
                  <a:lnTo>
                    <a:pt x="467" y="367"/>
                  </a:lnTo>
                  <a:lnTo>
                    <a:pt x="515" y="403"/>
                  </a:lnTo>
                  <a:lnTo>
                    <a:pt x="551" y="434"/>
                  </a:lnTo>
                  <a:lnTo>
                    <a:pt x="586" y="456"/>
                  </a:lnTo>
                  <a:lnTo>
                    <a:pt x="604" y="473"/>
                  </a:lnTo>
                  <a:lnTo>
                    <a:pt x="612" y="478"/>
                  </a:lnTo>
                  <a:lnTo>
                    <a:pt x="621" y="482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57880" y="2681280"/>
              <a:ext cx="230400" cy="182880"/>
            </a:xfrm>
            <a:custGeom>
              <a:avLst/>
              <a:gdLst/>
              <a:ahLst/>
              <a:rect l="0" t="0" r="r" b="b"/>
              <a:pathLst>
                <a:path w="640" h="508">
                  <a:moveTo>
                    <a:pt x="0" y="0"/>
                  </a:moveTo>
                  <a:lnTo>
                    <a:pt x="613" y="503"/>
                  </a:lnTo>
                  <a:lnTo>
                    <a:pt x="618" y="503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27" y="508"/>
                  </a:lnTo>
                  <a:lnTo>
                    <a:pt x="631" y="508"/>
                  </a:lnTo>
                  <a:lnTo>
                    <a:pt x="636" y="508"/>
                  </a:lnTo>
                  <a:lnTo>
                    <a:pt x="640" y="508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03960" y="2681280"/>
              <a:ext cx="233640" cy="184680"/>
            </a:xfrm>
            <a:custGeom>
              <a:avLst/>
              <a:gdLst/>
              <a:ahLst/>
              <a:rect l="0" t="0" r="r" b="b"/>
              <a:pathLst>
                <a:path w="649" h="513">
                  <a:moveTo>
                    <a:pt x="0" y="0"/>
                  </a:moveTo>
                  <a:lnTo>
                    <a:pt x="622" y="513"/>
                  </a:lnTo>
                  <a:lnTo>
                    <a:pt x="627" y="513"/>
                  </a:lnTo>
                  <a:lnTo>
                    <a:pt x="631" y="513"/>
                  </a:lnTo>
                  <a:lnTo>
                    <a:pt x="636" y="513"/>
                  </a:lnTo>
                  <a:lnTo>
                    <a:pt x="640" y="513"/>
                  </a:lnTo>
                  <a:lnTo>
                    <a:pt x="644" y="513"/>
                  </a:lnTo>
                  <a:lnTo>
                    <a:pt x="649" y="513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3280" y="2681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99360" y="2681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6880" y="2681280"/>
              <a:ext cx="228960" cy="182880"/>
            </a:xfrm>
            <a:custGeom>
              <a:avLst/>
              <a:gdLst/>
              <a:ahLst/>
              <a:rect l="0" t="0" r="r" b="b"/>
              <a:pathLst>
                <a:path w="636" h="508">
                  <a:moveTo>
                    <a:pt x="0" y="0"/>
                  </a:moveTo>
                  <a:lnTo>
                    <a:pt x="613" y="508"/>
                  </a:lnTo>
                  <a:lnTo>
                    <a:pt x="618" y="508"/>
                  </a:lnTo>
                  <a:lnTo>
                    <a:pt x="622" y="508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31" y="503"/>
                  </a:lnTo>
                  <a:lnTo>
                    <a:pt x="636" y="50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1720" y="285120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0"/>
                  </a:moveTo>
                  <a:lnTo>
                    <a:pt x="49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53" y="67"/>
                  </a:lnTo>
                  <a:lnTo>
                    <a:pt x="58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7" y="45"/>
                  </a:lnTo>
                  <a:lnTo>
                    <a:pt x="67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2400" y="285264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0"/>
                  </a:moveTo>
                  <a:lnTo>
                    <a:pt x="62" y="40"/>
                  </a:ln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1" y="67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0" y="62"/>
                  </a:lnTo>
                  <a:lnTo>
                    <a:pt x="80" y="58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6320" y="285264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08800" y="285120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62720" y="285264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0"/>
                  </a:moveTo>
                  <a:lnTo>
                    <a:pt x="53" y="40"/>
                  </a:lnTo>
                  <a:lnTo>
                    <a:pt x="53" y="45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9" y="63"/>
                  </a:lnTo>
                  <a:lnTo>
                    <a:pt x="63" y="63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2" y="59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88280" y="287496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9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7050240" y="279576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-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1360" y="2928960"/>
            <a:ext cx="1760760" cy="1330560"/>
          </a:xfrm>
          <a:custGeom>
            <a:avLst/>
            <a:gdLst/>
            <a:ahLst/>
            <a:rect l="0" t="0" r="r" b="b"/>
            <a:pathLst>
              <a:path fill="none" w="4891" h="3696">
                <a:moveTo>
                  <a:pt x="0" y="0"/>
                </a:moveTo>
                <a:lnTo>
                  <a:pt x="0" y="3696"/>
                </a:lnTo>
                <a:lnTo>
                  <a:pt x="1944" y="3696"/>
                </a:lnTo>
                <a:lnTo>
                  <a:pt x="1477" y="3303"/>
                </a:lnTo>
                <a:lnTo>
                  <a:pt x="4891" y="3295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76840" y="3886200"/>
            <a:ext cx="703440" cy="663480"/>
            <a:chOff x="4776840" y="3886200"/>
            <a:chExt cx="703440" cy="663480"/>
          </a:xfrm>
        </p:grpSpPr>
        <p:sp>
          <p:nvSpPr>
            <p:cNvPr id="185" name=""/>
            <p:cNvSpPr txBox="1"/>
            <p:nvPr/>
          </p:nvSpPr>
          <p:spPr>
            <a:xfrm>
              <a:off x="4776840" y="430848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811760" y="388620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"/>
          <p:cNvGrpSpPr/>
          <p:nvPr/>
        </p:nvGrpSpPr>
        <p:grpSpPr>
          <a:xfrm>
            <a:off x="2698920" y="2336760"/>
            <a:ext cx="1433160" cy="969840"/>
            <a:chOff x="2698920" y="2336760"/>
            <a:chExt cx="1433160" cy="969840"/>
          </a:xfrm>
        </p:grpSpPr>
        <p:grpSp>
          <p:nvGrpSpPr>
            <p:cNvPr id="188" name=""/>
            <p:cNvGrpSpPr/>
            <p:nvPr/>
          </p:nvGrpSpPr>
          <p:grpSpPr>
            <a:xfrm>
              <a:off x="2763720" y="2336760"/>
              <a:ext cx="1368360" cy="969840"/>
              <a:chOff x="2763720" y="2336760"/>
              <a:chExt cx="1368360" cy="9698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2773440" y="2341440"/>
                <a:ext cx="1335240" cy="896760"/>
                <a:chOff x="2773440" y="2341440"/>
                <a:chExt cx="1335240" cy="896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006720" y="2341440"/>
                  <a:ext cx="588960" cy="514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773440" y="2579760"/>
                  <a:ext cx="484200" cy="44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903400" y="2833560"/>
                  <a:ext cx="503280" cy="345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67200" y="2701800"/>
                  <a:ext cx="584280" cy="536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510000" y="2651040"/>
                  <a:ext cx="444600" cy="371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768840" y="2630520"/>
                  <a:ext cx="339840" cy="287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60680" y="2413080"/>
                  <a:ext cx="317520" cy="372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713040" y="2529000"/>
                  <a:ext cx="204840" cy="21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63720" y="233676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"/>
            <p:cNvSpPr txBox="1"/>
            <p:nvPr/>
          </p:nvSpPr>
          <p:spPr>
            <a:xfrm>
              <a:off x="2698920" y="257508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5950080" y="6254640"/>
            <a:ext cx="296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90000"/>
              </a:lnSpc>
              <a:spcBef>
                <a:spcPts val="720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Internationally Q4,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66640" y="1784520"/>
            <a:ext cx="1947960" cy="1754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0280" y="1790640"/>
            <a:ext cx="2003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orpo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419200" y="262872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25-</a:t>
            </a:r>
            <a:r>
              <a:rPr b="1" i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Fx </a:t>
            </a:r>
            <a:br>
              <a:rPr sz="18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Multi User Small LAN Bridged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6880" y="4762440"/>
            <a:ext cx="40514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ed analog and digit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four data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CP standard bri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30600" y="2894040"/>
            <a:ext cx="1352520" cy="160956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79840" y="397188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32520" y="1725480"/>
            <a:ext cx="2824200" cy="279072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9120" y="1731960"/>
            <a:ext cx="2752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Small Office/Hom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8280" y="262908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9720" y="1976400"/>
            <a:ext cx="0" cy="8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35640" y="2900520"/>
            <a:ext cx="1343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Other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81240" y="2709720"/>
            <a:ext cx="65149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97360" y="362412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89520" y="3203640"/>
            <a:ext cx="601560" cy="585720"/>
            <a:chOff x="4889520" y="3203640"/>
            <a:chExt cx="601560" cy="585720"/>
          </a:xfrm>
        </p:grpSpPr>
        <p:sp>
          <p:nvSpPr>
            <p:cNvPr id="216" name=""/>
            <p:cNvSpPr txBox="1"/>
            <p:nvPr/>
          </p:nvSpPr>
          <p:spPr>
            <a:xfrm>
              <a:off x="4913280" y="3548160"/>
              <a:ext cx="568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889520" y="320364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4479840" y="339732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2540160"/>
            <a:ext cx="1186200" cy="1074960"/>
          </a:xfrm>
          <a:custGeom>
            <a:avLst/>
            <a:gdLst/>
            <a:ahLst/>
            <a:rect l="0" t="0" r="r" b="b"/>
            <a:pathLst>
              <a:path fill="none" w="3295" h="2986">
                <a:moveTo>
                  <a:pt x="0" y="0"/>
                </a:moveTo>
                <a:lnTo>
                  <a:pt x="0" y="2986"/>
                </a:lnTo>
                <a:lnTo>
                  <a:pt x="1265" y="2986"/>
                </a:lnTo>
                <a:lnTo>
                  <a:pt x="798" y="2593"/>
                </a:lnTo>
                <a:lnTo>
                  <a:pt x="3295" y="2598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79720" y="4179960"/>
            <a:ext cx="646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794720" y="4019400"/>
            <a:ext cx="963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p to 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orks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870440" y="246060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969240" y="2039760"/>
            <a:ext cx="601560" cy="585720"/>
            <a:chOff x="6969240" y="2039760"/>
            <a:chExt cx="601560" cy="585720"/>
          </a:xfrm>
        </p:grpSpPr>
        <p:sp>
          <p:nvSpPr>
            <p:cNvPr id="224" name=""/>
            <p:cNvSpPr txBox="1"/>
            <p:nvPr/>
          </p:nvSpPr>
          <p:spPr>
            <a:xfrm>
              <a:off x="7040520" y="2384280"/>
              <a:ext cx="4698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6969240" y="203976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6483240" y="2281320"/>
            <a:ext cx="624240" cy="357480"/>
          </a:xfrm>
          <a:custGeom>
            <a:avLst/>
            <a:gdLst/>
            <a:ahLst/>
            <a:rect l="0" t="0" r="r" b="b"/>
            <a:pathLst>
              <a:path fill="none" w="1734" h="993">
                <a:moveTo>
                  <a:pt x="0" y="993"/>
                </a:moveTo>
                <a:lnTo>
                  <a:pt x="1341" y="993"/>
                </a:lnTo>
                <a:lnTo>
                  <a:pt x="1341" y="4"/>
                </a:lnTo>
                <a:lnTo>
                  <a:pt x="1734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83240" y="2792520"/>
            <a:ext cx="914760" cy="356040"/>
          </a:xfrm>
          <a:custGeom>
            <a:avLst/>
            <a:gdLst/>
            <a:ahLst/>
            <a:rect l="0" t="0" r="r" b="b"/>
            <a:pathLst>
              <a:path fill="none" w="2541" h="989">
                <a:moveTo>
                  <a:pt x="0" y="0"/>
                </a:moveTo>
                <a:lnTo>
                  <a:pt x="1341" y="0"/>
                </a:lnTo>
                <a:lnTo>
                  <a:pt x="1341" y="989"/>
                </a:lnTo>
                <a:lnTo>
                  <a:pt x="2541" y="98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51680" y="2968560"/>
            <a:ext cx="703440" cy="663480"/>
            <a:chOff x="7051680" y="2968560"/>
            <a:chExt cx="703440" cy="663480"/>
          </a:xfrm>
        </p:grpSpPr>
        <p:sp>
          <p:nvSpPr>
            <p:cNvPr id="229" name=""/>
            <p:cNvSpPr txBox="1"/>
            <p:nvPr/>
          </p:nvSpPr>
          <p:spPr>
            <a:xfrm>
              <a:off x="7051680" y="339084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7086600" y="296856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 txBox="1"/>
          <p:nvPr/>
        </p:nvSpPr>
        <p:spPr>
          <a:xfrm>
            <a:off x="6186600" y="2840040"/>
            <a:ext cx="703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5-F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156360" y="2604960"/>
            <a:ext cx="684720" cy="236880"/>
            <a:chOff x="6156360" y="2604960"/>
            <a:chExt cx="684720" cy="236880"/>
          </a:xfrm>
        </p:grpSpPr>
        <p:sp>
          <p:nvSpPr>
            <p:cNvPr id="233" name=""/>
            <p:cNvSpPr/>
            <p:nvPr/>
          </p:nvSpPr>
          <p:spPr>
            <a:xfrm>
              <a:off x="6378480" y="2786040"/>
              <a:ext cx="462240" cy="54360"/>
            </a:xfrm>
            <a:custGeom>
              <a:avLst/>
              <a:gdLst/>
              <a:ahLst/>
              <a:rect l="0" t="0" r="r" b="b"/>
              <a:pathLst>
                <a:path w="1284" h="151">
                  <a:moveTo>
                    <a:pt x="0" y="138"/>
                  </a:moveTo>
                  <a:lnTo>
                    <a:pt x="0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4" y="151"/>
                  </a:lnTo>
                  <a:lnTo>
                    <a:pt x="8" y="151"/>
                  </a:lnTo>
                  <a:lnTo>
                    <a:pt x="1266" y="151"/>
                  </a:lnTo>
                  <a:lnTo>
                    <a:pt x="1271" y="151"/>
                  </a:lnTo>
                  <a:lnTo>
                    <a:pt x="1275" y="151"/>
                  </a:lnTo>
                  <a:lnTo>
                    <a:pt x="1279" y="151"/>
                  </a:lnTo>
                  <a:lnTo>
                    <a:pt x="1279" y="147"/>
                  </a:lnTo>
                  <a:lnTo>
                    <a:pt x="1279" y="143"/>
                  </a:lnTo>
                  <a:lnTo>
                    <a:pt x="1284" y="143"/>
                  </a:lnTo>
                  <a:lnTo>
                    <a:pt x="1284" y="138"/>
                  </a:lnTo>
                  <a:lnTo>
                    <a:pt x="1284" y="13"/>
                  </a:lnTo>
                  <a:lnTo>
                    <a:pt x="1284" y="8"/>
                  </a:lnTo>
                  <a:lnTo>
                    <a:pt x="1279" y="8"/>
                  </a:lnTo>
                  <a:lnTo>
                    <a:pt x="1279" y="4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2604960"/>
              <a:ext cx="219600" cy="236880"/>
            </a:xfrm>
            <a:custGeom>
              <a:avLst/>
              <a:gdLst/>
              <a:ahLst/>
              <a:rect l="0" t="0" r="r" b="b"/>
              <a:pathLst>
                <a:path w="610" h="658">
                  <a:moveTo>
                    <a:pt x="0" y="1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606" y="490"/>
                  </a:lnTo>
                  <a:lnTo>
                    <a:pt x="610" y="490"/>
                  </a:lnTo>
                  <a:lnTo>
                    <a:pt x="610" y="494"/>
                  </a:lnTo>
                  <a:lnTo>
                    <a:pt x="606" y="499"/>
                  </a:lnTo>
                  <a:lnTo>
                    <a:pt x="606" y="503"/>
                  </a:lnTo>
                  <a:lnTo>
                    <a:pt x="606" y="508"/>
                  </a:lnTo>
                  <a:lnTo>
                    <a:pt x="606" y="649"/>
                  </a:lnTo>
                  <a:lnTo>
                    <a:pt x="606" y="653"/>
                  </a:lnTo>
                  <a:lnTo>
                    <a:pt x="601" y="653"/>
                  </a:lnTo>
                  <a:lnTo>
                    <a:pt x="601" y="658"/>
                  </a:lnTo>
                  <a:lnTo>
                    <a:pt x="597" y="658"/>
                  </a:lnTo>
                  <a:lnTo>
                    <a:pt x="597" y="653"/>
                  </a:lnTo>
                  <a:lnTo>
                    <a:pt x="592" y="653"/>
                  </a:lnTo>
                  <a:lnTo>
                    <a:pt x="13" y="176"/>
                  </a:lnTo>
                  <a:lnTo>
                    <a:pt x="8" y="176"/>
                  </a:lnTo>
                  <a:lnTo>
                    <a:pt x="8" y="171"/>
                  </a:lnTo>
                  <a:lnTo>
                    <a:pt x="4" y="167"/>
                  </a:lnTo>
                  <a:lnTo>
                    <a:pt x="4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43880" y="2786040"/>
              <a:ext cx="97200" cy="24120"/>
            </a:xfrm>
            <a:custGeom>
              <a:avLst/>
              <a:gdLst/>
              <a:ahLst/>
              <a:rect l="0" t="0" r="r" b="b"/>
              <a:pathLst>
                <a:path w="270" h="67">
                  <a:moveTo>
                    <a:pt x="0" y="67"/>
                  </a:moveTo>
                  <a:lnTo>
                    <a:pt x="270" y="67"/>
                  </a:lnTo>
                  <a:lnTo>
                    <a:pt x="270" y="62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70" y="45"/>
                  </a:lnTo>
                  <a:lnTo>
                    <a:pt x="270" y="40"/>
                  </a:lnTo>
                  <a:lnTo>
                    <a:pt x="270" y="36"/>
                  </a:lnTo>
                  <a:lnTo>
                    <a:pt x="270" y="30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0" y="13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6" y="4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59720" y="2820960"/>
              <a:ext cx="7776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3160" y="2787480"/>
              <a:ext cx="351360" cy="38520"/>
            </a:xfrm>
            <a:custGeom>
              <a:avLst/>
              <a:gdLst/>
              <a:ahLst/>
              <a:rect l="0" t="0" r="r" b="b"/>
              <a:pathLst>
                <a:path w="976" h="107">
                  <a:moveTo>
                    <a:pt x="976" y="71"/>
                  </a:moveTo>
                  <a:lnTo>
                    <a:pt x="870" y="90"/>
                  </a:lnTo>
                  <a:lnTo>
                    <a:pt x="773" y="94"/>
                  </a:lnTo>
                  <a:lnTo>
                    <a:pt x="675" y="103"/>
                  </a:lnTo>
                  <a:lnTo>
                    <a:pt x="587" y="107"/>
                  </a:lnTo>
                  <a:lnTo>
                    <a:pt x="499" y="107"/>
                  </a:lnTo>
                  <a:lnTo>
                    <a:pt x="419" y="107"/>
                  </a:lnTo>
                  <a:lnTo>
                    <a:pt x="349" y="107"/>
                  </a:lnTo>
                  <a:lnTo>
                    <a:pt x="278" y="103"/>
                  </a:lnTo>
                  <a:lnTo>
                    <a:pt x="220" y="99"/>
                  </a:lnTo>
                  <a:lnTo>
                    <a:pt x="163" y="94"/>
                  </a:lnTo>
                  <a:lnTo>
                    <a:pt x="119" y="94"/>
                  </a:lnTo>
                  <a:lnTo>
                    <a:pt x="79" y="85"/>
                  </a:lnTo>
                  <a:lnTo>
                    <a:pt x="52" y="81"/>
                  </a:lnTo>
                  <a:lnTo>
                    <a:pt x="30" y="75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30" y="4"/>
                  </a:lnTo>
                  <a:lnTo>
                    <a:pt x="52" y="8"/>
                  </a:lnTo>
                  <a:lnTo>
                    <a:pt x="88" y="13"/>
                  </a:lnTo>
                  <a:lnTo>
                    <a:pt x="132" y="13"/>
                  </a:lnTo>
                  <a:lnTo>
                    <a:pt x="180" y="17"/>
                  </a:lnTo>
                  <a:lnTo>
                    <a:pt x="242" y="22"/>
                  </a:lnTo>
                  <a:lnTo>
                    <a:pt x="305" y="26"/>
                  </a:lnTo>
                  <a:lnTo>
                    <a:pt x="375" y="26"/>
                  </a:lnTo>
                  <a:lnTo>
                    <a:pt x="450" y="31"/>
                  </a:lnTo>
                  <a:lnTo>
                    <a:pt x="530" y="31"/>
                  </a:lnTo>
                  <a:lnTo>
                    <a:pt x="609" y="26"/>
                  </a:lnTo>
                  <a:lnTo>
                    <a:pt x="702" y="22"/>
                  </a:lnTo>
                  <a:lnTo>
                    <a:pt x="791" y="17"/>
                  </a:lnTo>
                  <a:lnTo>
                    <a:pt x="883" y="13"/>
                  </a:lnTo>
                  <a:lnTo>
                    <a:pt x="976" y="0"/>
                  </a:lnTo>
                  <a:lnTo>
                    <a:pt x="97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3160" y="2820960"/>
              <a:ext cx="360720" cy="16200"/>
            </a:xfrm>
            <a:custGeom>
              <a:avLst/>
              <a:gdLst/>
              <a:ahLst/>
              <a:rect l="0" t="0" r="r" b="b"/>
              <a:pathLst>
                <a:path fill="none" w="1002" h="45">
                  <a:moveTo>
                    <a:pt x="1002" y="0"/>
                  </a:moveTo>
                  <a:lnTo>
                    <a:pt x="891" y="17"/>
                  </a:lnTo>
                  <a:lnTo>
                    <a:pt x="794" y="31"/>
                  </a:lnTo>
                  <a:lnTo>
                    <a:pt x="693" y="40"/>
                  </a:lnTo>
                  <a:lnTo>
                    <a:pt x="600" y="45"/>
                  </a:lnTo>
                  <a:lnTo>
                    <a:pt x="508" y="45"/>
                  </a:lnTo>
                  <a:lnTo>
                    <a:pt x="427" y="45"/>
                  </a:lnTo>
                  <a:lnTo>
                    <a:pt x="352" y="45"/>
                  </a:lnTo>
                  <a:lnTo>
                    <a:pt x="282" y="40"/>
                  </a:lnTo>
                  <a:lnTo>
                    <a:pt x="216" y="36"/>
                  </a:lnTo>
                  <a:lnTo>
                    <a:pt x="167" y="31"/>
                  </a:lnTo>
                  <a:lnTo>
                    <a:pt x="114" y="27"/>
                  </a:lnTo>
                  <a:lnTo>
                    <a:pt x="74" y="13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3880" y="281772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0" y="0"/>
                  </a:moveTo>
                  <a:lnTo>
                    <a:pt x="9" y="0"/>
                  </a:lnTo>
                  <a:lnTo>
                    <a:pt x="14" y="1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78480" y="281772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5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91400" y="279576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7" y="58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91400" y="279576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36"/>
                  </a:moveTo>
                  <a:lnTo>
                    <a:pt x="14" y="0"/>
                  </a:lnTo>
                  <a:lnTo>
                    <a:pt x="2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94640" y="280656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6360" y="2639880"/>
              <a:ext cx="217800" cy="174960"/>
            </a:xfrm>
            <a:custGeom>
              <a:avLst/>
              <a:gdLst/>
              <a:ahLst/>
              <a:rect l="0" t="0" r="r" b="b"/>
              <a:pathLst>
                <a:path w="605" h="486">
                  <a:moveTo>
                    <a:pt x="605" y="472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05" y="486"/>
                  </a:lnTo>
                  <a:lnTo>
                    <a:pt x="605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56520" y="281772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6800" y="280836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35640" y="28018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19" y="0"/>
                  </a:moveTo>
                  <a:lnTo>
                    <a:pt x="19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6280" y="279252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6560" y="278604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05400" y="277668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14" y="0"/>
                  </a:moveTo>
                  <a:lnTo>
                    <a:pt x="14" y="28"/>
                  </a:lnTo>
                  <a:lnTo>
                    <a:pt x="0" y="32"/>
                  </a:lnTo>
                  <a:lnTo>
                    <a:pt x="0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57800" y="2604960"/>
              <a:ext cx="679680" cy="184680"/>
            </a:xfrm>
            <a:custGeom>
              <a:avLst/>
              <a:gdLst/>
              <a:ahLst/>
              <a:rect l="0" t="0" r="r" b="b"/>
              <a:pathLst>
                <a:path w="1888" h="513">
                  <a:moveTo>
                    <a:pt x="621" y="482"/>
                  </a:moveTo>
                  <a:lnTo>
                    <a:pt x="643" y="487"/>
                  </a:lnTo>
                  <a:lnTo>
                    <a:pt x="670" y="491"/>
                  </a:lnTo>
                  <a:lnTo>
                    <a:pt x="696" y="491"/>
                  </a:lnTo>
                  <a:lnTo>
                    <a:pt x="718" y="495"/>
                  </a:lnTo>
                  <a:lnTo>
                    <a:pt x="749" y="500"/>
                  </a:lnTo>
                  <a:lnTo>
                    <a:pt x="780" y="500"/>
                  </a:lnTo>
                  <a:lnTo>
                    <a:pt x="811" y="504"/>
                  </a:lnTo>
                  <a:lnTo>
                    <a:pt x="846" y="504"/>
                  </a:lnTo>
                  <a:lnTo>
                    <a:pt x="877" y="509"/>
                  </a:lnTo>
                  <a:lnTo>
                    <a:pt x="912" y="509"/>
                  </a:lnTo>
                  <a:lnTo>
                    <a:pt x="953" y="513"/>
                  </a:lnTo>
                  <a:lnTo>
                    <a:pt x="993" y="513"/>
                  </a:lnTo>
                  <a:lnTo>
                    <a:pt x="1028" y="513"/>
                  </a:lnTo>
                  <a:lnTo>
                    <a:pt x="1068" y="513"/>
                  </a:lnTo>
                  <a:lnTo>
                    <a:pt x="1112" y="513"/>
                  </a:lnTo>
                  <a:lnTo>
                    <a:pt x="1151" y="513"/>
                  </a:lnTo>
                  <a:lnTo>
                    <a:pt x="1182" y="513"/>
                  </a:lnTo>
                  <a:lnTo>
                    <a:pt x="1213" y="513"/>
                  </a:lnTo>
                  <a:lnTo>
                    <a:pt x="1244" y="513"/>
                  </a:lnTo>
                  <a:lnTo>
                    <a:pt x="1275" y="513"/>
                  </a:lnTo>
                  <a:lnTo>
                    <a:pt x="1306" y="509"/>
                  </a:lnTo>
                  <a:lnTo>
                    <a:pt x="1337" y="509"/>
                  </a:lnTo>
                  <a:lnTo>
                    <a:pt x="1363" y="509"/>
                  </a:lnTo>
                  <a:lnTo>
                    <a:pt x="1390" y="504"/>
                  </a:lnTo>
                  <a:lnTo>
                    <a:pt x="1420" y="504"/>
                  </a:lnTo>
                  <a:lnTo>
                    <a:pt x="1451" y="500"/>
                  </a:lnTo>
                  <a:lnTo>
                    <a:pt x="1478" y="500"/>
                  </a:lnTo>
                  <a:lnTo>
                    <a:pt x="1504" y="495"/>
                  </a:lnTo>
                  <a:lnTo>
                    <a:pt x="1531" y="491"/>
                  </a:lnTo>
                  <a:lnTo>
                    <a:pt x="1557" y="487"/>
                  </a:lnTo>
                  <a:lnTo>
                    <a:pt x="1588" y="482"/>
                  </a:lnTo>
                  <a:lnTo>
                    <a:pt x="1614" y="478"/>
                  </a:lnTo>
                  <a:lnTo>
                    <a:pt x="1619" y="478"/>
                  </a:lnTo>
                  <a:lnTo>
                    <a:pt x="1628" y="478"/>
                  </a:lnTo>
                  <a:lnTo>
                    <a:pt x="1641" y="478"/>
                  </a:lnTo>
                  <a:lnTo>
                    <a:pt x="1654" y="478"/>
                  </a:lnTo>
                  <a:lnTo>
                    <a:pt x="1676" y="478"/>
                  </a:lnTo>
                  <a:lnTo>
                    <a:pt x="1698" y="478"/>
                  </a:lnTo>
                  <a:lnTo>
                    <a:pt x="1725" y="478"/>
                  </a:lnTo>
                  <a:lnTo>
                    <a:pt x="1751" y="478"/>
                  </a:lnTo>
                  <a:lnTo>
                    <a:pt x="1778" y="478"/>
                  </a:lnTo>
                  <a:lnTo>
                    <a:pt x="1804" y="478"/>
                  </a:lnTo>
                  <a:lnTo>
                    <a:pt x="1822" y="478"/>
                  </a:lnTo>
                  <a:lnTo>
                    <a:pt x="1844" y="478"/>
                  </a:lnTo>
                  <a:lnTo>
                    <a:pt x="1861" y="478"/>
                  </a:lnTo>
                  <a:lnTo>
                    <a:pt x="1875" y="478"/>
                  </a:lnTo>
                  <a:lnTo>
                    <a:pt x="1883" y="478"/>
                  </a:lnTo>
                  <a:lnTo>
                    <a:pt x="1888" y="478"/>
                  </a:lnTo>
                  <a:lnTo>
                    <a:pt x="1279" y="0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57" y="0"/>
                  </a:lnTo>
                  <a:lnTo>
                    <a:pt x="1253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26" y="17"/>
                  </a:lnTo>
                  <a:lnTo>
                    <a:pt x="57" y="39"/>
                  </a:lnTo>
                  <a:lnTo>
                    <a:pt x="92" y="74"/>
                  </a:lnTo>
                  <a:lnTo>
                    <a:pt x="141" y="110"/>
                  </a:lnTo>
                  <a:lnTo>
                    <a:pt x="194" y="150"/>
                  </a:lnTo>
                  <a:lnTo>
                    <a:pt x="242" y="195"/>
                  </a:lnTo>
                  <a:lnTo>
                    <a:pt x="304" y="239"/>
                  </a:lnTo>
                  <a:lnTo>
                    <a:pt x="361" y="283"/>
                  </a:lnTo>
                  <a:lnTo>
                    <a:pt x="414" y="327"/>
                  </a:lnTo>
                  <a:lnTo>
                    <a:pt x="467" y="367"/>
                  </a:lnTo>
                  <a:lnTo>
                    <a:pt x="515" y="403"/>
                  </a:lnTo>
                  <a:lnTo>
                    <a:pt x="551" y="434"/>
                  </a:lnTo>
                  <a:lnTo>
                    <a:pt x="586" y="456"/>
                  </a:lnTo>
                  <a:lnTo>
                    <a:pt x="604" y="473"/>
                  </a:lnTo>
                  <a:lnTo>
                    <a:pt x="612" y="478"/>
                  </a:lnTo>
                  <a:lnTo>
                    <a:pt x="621" y="482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34120" y="2604960"/>
              <a:ext cx="230400" cy="182880"/>
            </a:xfrm>
            <a:custGeom>
              <a:avLst/>
              <a:gdLst/>
              <a:ahLst/>
              <a:rect l="0" t="0" r="r" b="b"/>
              <a:pathLst>
                <a:path w="640" h="508">
                  <a:moveTo>
                    <a:pt x="0" y="0"/>
                  </a:moveTo>
                  <a:lnTo>
                    <a:pt x="613" y="503"/>
                  </a:lnTo>
                  <a:lnTo>
                    <a:pt x="618" y="503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27" y="508"/>
                  </a:lnTo>
                  <a:lnTo>
                    <a:pt x="631" y="508"/>
                  </a:lnTo>
                  <a:lnTo>
                    <a:pt x="636" y="508"/>
                  </a:lnTo>
                  <a:lnTo>
                    <a:pt x="640" y="508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80200" y="2604960"/>
              <a:ext cx="233640" cy="184680"/>
            </a:xfrm>
            <a:custGeom>
              <a:avLst/>
              <a:gdLst/>
              <a:ahLst/>
              <a:rect l="0" t="0" r="r" b="b"/>
              <a:pathLst>
                <a:path w="649" h="513">
                  <a:moveTo>
                    <a:pt x="0" y="0"/>
                  </a:moveTo>
                  <a:lnTo>
                    <a:pt x="622" y="513"/>
                  </a:lnTo>
                  <a:lnTo>
                    <a:pt x="627" y="513"/>
                  </a:lnTo>
                  <a:lnTo>
                    <a:pt x="631" y="513"/>
                  </a:lnTo>
                  <a:lnTo>
                    <a:pt x="636" y="513"/>
                  </a:lnTo>
                  <a:lnTo>
                    <a:pt x="640" y="513"/>
                  </a:lnTo>
                  <a:lnTo>
                    <a:pt x="644" y="513"/>
                  </a:lnTo>
                  <a:lnTo>
                    <a:pt x="649" y="513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9520" y="260496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5240" y="260496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3120" y="2604960"/>
              <a:ext cx="228960" cy="182880"/>
            </a:xfrm>
            <a:custGeom>
              <a:avLst/>
              <a:gdLst/>
              <a:ahLst/>
              <a:rect l="0" t="0" r="r" b="b"/>
              <a:pathLst>
                <a:path w="636" h="508">
                  <a:moveTo>
                    <a:pt x="0" y="0"/>
                  </a:moveTo>
                  <a:lnTo>
                    <a:pt x="613" y="508"/>
                  </a:lnTo>
                  <a:lnTo>
                    <a:pt x="618" y="508"/>
                  </a:lnTo>
                  <a:lnTo>
                    <a:pt x="622" y="508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31" y="503"/>
                  </a:lnTo>
                  <a:lnTo>
                    <a:pt x="636" y="50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7960" y="277488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0"/>
                  </a:moveTo>
                  <a:lnTo>
                    <a:pt x="49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53" y="67"/>
                  </a:lnTo>
                  <a:lnTo>
                    <a:pt x="58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7" y="45"/>
                  </a:lnTo>
                  <a:lnTo>
                    <a:pt x="67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78640" y="277668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0"/>
                  </a:moveTo>
                  <a:lnTo>
                    <a:pt x="62" y="40"/>
                  </a:ln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1" y="67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0" y="62"/>
                  </a:lnTo>
                  <a:lnTo>
                    <a:pt x="80" y="58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2560" y="277668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85040" y="277488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38960" y="277668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0"/>
                  </a:moveTo>
                  <a:lnTo>
                    <a:pt x="53" y="40"/>
                  </a:lnTo>
                  <a:lnTo>
                    <a:pt x="53" y="45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9" y="63"/>
                  </a:lnTo>
                  <a:lnTo>
                    <a:pt x="63" y="63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2" y="59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64160" y="279864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9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7018200" y="2719440"/>
            <a:ext cx="6951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760840"/>
            <a:ext cx="1592640" cy="1422720"/>
          </a:xfrm>
          <a:custGeom>
            <a:avLst/>
            <a:gdLst/>
            <a:ahLst/>
            <a:rect l="0" t="0" r="r" b="b"/>
            <a:pathLst>
              <a:path fill="none" w="4424" h="3952">
                <a:moveTo>
                  <a:pt x="0" y="0"/>
                </a:moveTo>
                <a:lnTo>
                  <a:pt x="0" y="3952"/>
                </a:lnTo>
                <a:lnTo>
                  <a:pt x="1478" y="3952"/>
                </a:lnTo>
                <a:lnTo>
                  <a:pt x="1009" y="3559"/>
                </a:lnTo>
                <a:lnTo>
                  <a:pt x="4424" y="355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879800" y="3809880"/>
            <a:ext cx="703440" cy="663480"/>
            <a:chOff x="4879800" y="3809880"/>
            <a:chExt cx="703440" cy="663480"/>
          </a:xfrm>
        </p:grpSpPr>
        <p:sp>
          <p:nvSpPr>
            <p:cNvPr id="266" name=""/>
            <p:cNvSpPr txBox="1"/>
            <p:nvPr/>
          </p:nvSpPr>
          <p:spPr>
            <a:xfrm>
              <a:off x="4879800" y="423216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4915080" y="380988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3182760" y="2265480"/>
            <a:ext cx="1335240" cy="896760"/>
            <a:chOff x="3182760" y="2265480"/>
            <a:chExt cx="1335240" cy="896760"/>
          </a:xfrm>
        </p:grpSpPr>
        <p:sp>
          <p:nvSpPr>
            <p:cNvPr id="269" name=""/>
            <p:cNvSpPr/>
            <p:nvPr/>
          </p:nvSpPr>
          <p:spPr>
            <a:xfrm>
              <a:off x="3416400" y="2265480"/>
              <a:ext cx="588960" cy="514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82760" y="2503440"/>
              <a:ext cx="484200" cy="44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13080" y="2757600"/>
              <a:ext cx="50328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76520" y="2625840"/>
              <a:ext cx="584280" cy="53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19680" y="2575080"/>
              <a:ext cx="444600" cy="37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78160" y="2554200"/>
              <a:ext cx="33984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70360" y="2336760"/>
              <a:ext cx="317520" cy="37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22720" y="2452680"/>
              <a:ext cx="2048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146400" y="2260440"/>
            <a:ext cx="1395360" cy="969840"/>
            <a:chOff x="3146400" y="2260440"/>
            <a:chExt cx="1395360" cy="969840"/>
          </a:xfrm>
        </p:grpSpPr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3173400" y="2260440"/>
              <a:ext cx="1368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 txBox="1"/>
            <p:nvPr/>
          </p:nvSpPr>
          <p:spPr>
            <a:xfrm>
              <a:off x="3146400" y="249876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4406760" y="4762440"/>
            <a:ext cx="42292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cend remo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taneous connections between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99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P,CHAP, callback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ken-car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29640" y="2308320"/>
            <a:ext cx="559080" cy="1575000"/>
          </a:xfrm>
          <a:custGeom>
            <a:avLst/>
            <a:gdLst/>
            <a:ahLst/>
            <a:rect l="0" t="0" r="r" b="b"/>
            <a:pathLst>
              <a:path fill="none" w="1553" h="4375">
                <a:moveTo>
                  <a:pt x="1319" y="0"/>
                </a:moveTo>
                <a:lnTo>
                  <a:pt x="0" y="0"/>
                </a:lnTo>
                <a:lnTo>
                  <a:pt x="0" y="4375"/>
                </a:lnTo>
                <a:lnTo>
                  <a:pt x="1553" y="4375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7994520" y="3586320"/>
            <a:ext cx="641520" cy="479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7994520" y="2031840"/>
            <a:ext cx="641520" cy="479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850160" y="2835360"/>
            <a:ext cx="29196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7994520" y="2549520"/>
            <a:ext cx="641520" cy="479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850160" y="3360600"/>
            <a:ext cx="29196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7994520" y="3065400"/>
            <a:ext cx="641520" cy="47952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52320" y="2338560"/>
            <a:ext cx="669960" cy="695160"/>
            <a:chOff x="652320" y="2338560"/>
            <a:chExt cx="669960" cy="695160"/>
          </a:xfrm>
        </p:grpSpPr>
        <p:sp>
          <p:nvSpPr>
            <p:cNvPr id="289" name=""/>
            <p:cNvSpPr/>
            <p:nvPr/>
          </p:nvSpPr>
          <p:spPr>
            <a:xfrm>
              <a:off x="1252440" y="247644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8360" y="247644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33320" y="2432160"/>
              <a:ext cx="544680" cy="500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8240" y="2452680"/>
              <a:ext cx="438120" cy="4874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2880" y="295416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2880" y="242568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2320" y="233856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6760" y="233856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2320" y="285768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6760" y="285768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449360" y="2529000"/>
            <a:ext cx="957600" cy="397080"/>
            <a:chOff x="1449360" y="2529000"/>
            <a:chExt cx="957600" cy="397080"/>
          </a:xfrm>
        </p:grpSpPr>
        <p:sp>
          <p:nvSpPr>
            <p:cNvPr id="300" name=""/>
            <p:cNvSpPr/>
            <p:nvPr/>
          </p:nvSpPr>
          <p:spPr>
            <a:xfrm>
              <a:off x="1679400" y="2889360"/>
              <a:ext cx="717840" cy="9720"/>
            </a:xfrm>
            <a:custGeom>
              <a:avLst/>
              <a:gdLst/>
              <a:ahLst/>
              <a:rect l="0" t="0" r="r" b="b"/>
              <a:pathLst>
                <a:path w="1994" h="27">
                  <a:moveTo>
                    <a:pt x="0" y="27"/>
                  </a:moveTo>
                  <a:lnTo>
                    <a:pt x="0" y="0"/>
                  </a:lnTo>
                  <a:lnTo>
                    <a:pt x="1994" y="0"/>
                  </a:lnTo>
                  <a:lnTo>
                    <a:pt x="1985" y="14"/>
                  </a:lnTo>
                  <a:lnTo>
                    <a:pt x="198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06c6e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81200" y="2895480"/>
              <a:ext cx="714600" cy="30600"/>
            </a:xfrm>
            <a:custGeom>
              <a:avLst/>
              <a:gdLst/>
              <a:ahLst/>
              <a:rect l="0" t="0" r="r" b="b"/>
              <a:pathLst>
                <a:path w="1985" h="85">
                  <a:moveTo>
                    <a:pt x="1976" y="85"/>
                  </a:moveTo>
                  <a:lnTo>
                    <a:pt x="1980" y="85"/>
                  </a:lnTo>
                  <a:lnTo>
                    <a:pt x="1985" y="85"/>
                  </a:lnTo>
                  <a:lnTo>
                    <a:pt x="1985" y="81"/>
                  </a:lnTo>
                  <a:lnTo>
                    <a:pt x="1985" y="76"/>
                  </a:lnTo>
                  <a:lnTo>
                    <a:pt x="1985" y="0"/>
                  </a:lnTo>
                  <a:lnTo>
                    <a:pt x="1958" y="0"/>
                  </a:lnTo>
                  <a:lnTo>
                    <a:pt x="1897" y="0"/>
                  </a:lnTo>
                  <a:lnTo>
                    <a:pt x="1800" y="0"/>
                  </a:lnTo>
                  <a:lnTo>
                    <a:pt x="1676" y="0"/>
                  </a:lnTo>
                  <a:lnTo>
                    <a:pt x="1526" y="0"/>
                  </a:lnTo>
                  <a:lnTo>
                    <a:pt x="1363" y="0"/>
                  </a:lnTo>
                  <a:lnTo>
                    <a:pt x="1187" y="0"/>
                  </a:lnTo>
                  <a:lnTo>
                    <a:pt x="1006" y="0"/>
                  </a:lnTo>
                  <a:lnTo>
                    <a:pt x="824" y="0"/>
                  </a:lnTo>
                  <a:lnTo>
                    <a:pt x="648" y="0"/>
                  </a:lnTo>
                  <a:lnTo>
                    <a:pt x="480" y="0"/>
                  </a:lnTo>
                  <a:lnTo>
                    <a:pt x="330" y="0"/>
                  </a:lnTo>
                  <a:lnTo>
                    <a:pt x="202" y="0"/>
                  </a:lnTo>
                  <a:lnTo>
                    <a:pt x="10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97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81200" y="2717640"/>
              <a:ext cx="725760" cy="173520"/>
            </a:xfrm>
            <a:custGeom>
              <a:avLst/>
              <a:gdLst/>
              <a:ahLst/>
              <a:rect l="0" t="0" r="r" b="b"/>
              <a:pathLst>
                <a:path w="2016" h="482">
                  <a:moveTo>
                    <a:pt x="1985" y="482"/>
                  </a:moveTo>
                  <a:lnTo>
                    <a:pt x="1985" y="478"/>
                  </a:lnTo>
                  <a:lnTo>
                    <a:pt x="1989" y="473"/>
                  </a:lnTo>
                  <a:lnTo>
                    <a:pt x="1994" y="465"/>
                  </a:lnTo>
                  <a:lnTo>
                    <a:pt x="1998" y="456"/>
                  </a:lnTo>
                  <a:lnTo>
                    <a:pt x="1998" y="447"/>
                  </a:lnTo>
                  <a:lnTo>
                    <a:pt x="2003" y="438"/>
                  </a:lnTo>
                  <a:lnTo>
                    <a:pt x="2003" y="420"/>
                  </a:lnTo>
                  <a:lnTo>
                    <a:pt x="2007" y="412"/>
                  </a:lnTo>
                  <a:lnTo>
                    <a:pt x="2007" y="398"/>
                  </a:lnTo>
                  <a:lnTo>
                    <a:pt x="2011" y="385"/>
                  </a:lnTo>
                  <a:lnTo>
                    <a:pt x="2011" y="368"/>
                  </a:lnTo>
                  <a:lnTo>
                    <a:pt x="2016" y="353"/>
                  </a:lnTo>
                  <a:lnTo>
                    <a:pt x="2016" y="344"/>
                  </a:lnTo>
                  <a:lnTo>
                    <a:pt x="2016" y="331"/>
                  </a:lnTo>
                  <a:lnTo>
                    <a:pt x="2016" y="318"/>
                  </a:lnTo>
                  <a:lnTo>
                    <a:pt x="2016" y="309"/>
                  </a:lnTo>
                  <a:lnTo>
                    <a:pt x="2003" y="309"/>
                  </a:lnTo>
                  <a:lnTo>
                    <a:pt x="2003" y="265"/>
                  </a:lnTo>
                  <a:lnTo>
                    <a:pt x="2016" y="265"/>
                  </a:lnTo>
                  <a:lnTo>
                    <a:pt x="2016" y="256"/>
                  </a:lnTo>
                  <a:lnTo>
                    <a:pt x="2016" y="243"/>
                  </a:lnTo>
                  <a:lnTo>
                    <a:pt x="2016" y="230"/>
                  </a:lnTo>
                  <a:lnTo>
                    <a:pt x="2011" y="217"/>
                  </a:lnTo>
                  <a:lnTo>
                    <a:pt x="2011" y="203"/>
                  </a:lnTo>
                  <a:lnTo>
                    <a:pt x="2011" y="186"/>
                  </a:lnTo>
                  <a:lnTo>
                    <a:pt x="2007" y="172"/>
                  </a:lnTo>
                  <a:lnTo>
                    <a:pt x="2007" y="155"/>
                  </a:lnTo>
                  <a:lnTo>
                    <a:pt x="2003" y="142"/>
                  </a:lnTo>
                  <a:lnTo>
                    <a:pt x="2003" y="128"/>
                  </a:lnTo>
                  <a:lnTo>
                    <a:pt x="1998" y="119"/>
                  </a:lnTo>
                  <a:lnTo>
                    <a:pt x="1998" y="105"/>
                  </a:lnTo>
                  <a:lnTo>
                    <a:pt x="1994" y="97"/>
                  </a:lnTo>
                  <a:lnTo>
                    <a:pt x="1989" y="88"/>
                  </a:lnTo>
                  <a:lnTo>
                    <a:pt x="1985" y="79"/>
                  </a:lnTo>
                  <a:lnTo>
                    <a:pt x="1985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4" y="83"/>
                  </a:lnTo>
                  <a:lnTo>
                    <a:pt x="8" y="92"/>
                  </a:lnTo>
                  <a:lnTo>
                    <a:pt x="13" y="101"/>
                  </a:lnTo>
                  <a:lnTo>
                    <a:pt x="17" y="110"/>
                  </a:lnTo>
                  <a:lnTo>
                    <a:pt x="17" y="124"/>
                  </a:lnTo>
                  <a:lnTo>
                    <a:pt x="22" y="137"/>
                  </a:lnTo>
                  <a:lnTo>
                    <a:pt x="26" y="146"/>
                  </a:lnTo>
                  <a:lnTo>
                    <a:pt x="26" y="164"/>
                  </a:lnTo>
                  <a:lnTo>
                    <a:pt x="30" y="177"/>
                  </a:lnTo>
                  <a:lnTo>
                    <a:pt x="30" y="190"/>
                  </a:lnTo>
                  <a:lnTo>
                    <a:pt x="35" y="203"/>
                  </a:lnTo>
                  <a:lnTo>
                    <a:pt x="35" y="221"/>
                  </a:lnTo>
                  <a:lnTo>
                    <a:pt x="35" y="234"/>
                  </a:lnTo>
                  <a:lnTo>
                    <a:pt x="35" y="252"/>
                  </a:lnTo>
                  <a:lnTo>
                    <a:pt x="35" y="265"/>
                  </a:lnTo>
                  <a:lnTo>
                    <a:pt x="35" y="309"/>
                  </a:lnTo>
                  <a:lnTo>
                    <a:pt x="35" y="318"/>
                  </a:lnTo>
                  <a:lnTo>
                    <a:pt x="35" y="327"/>
                  </a:lnTo>
                  <a:lnTo>
                    <a:pt x="35" y="340"/>
                  </a:lnTo>
                  <a:lnTo>
                    <a:pt x="35" y="349"/>
                  </a:lnTo>
                  <a:lnTo>
                    <a:pt x="35" y="358"/>
                  </a:lnTo>
                  <a:lnTo>
                    <a:pt x="30" y="368"/>
                  </a:lnTo>
                  <a:lnTo>
                    <a:pt x="30" y="381"/>
                  </a:lnTo>
                  <a:lnTo>
                    <a:pt x="30" y="390"/>
                  </a:lnTo>
                  <a:lnTo>
                    <a:pt x="26" y="403"/>
                  </a:lnTo>
                  <a:lnTo>
                    <a:pt x="26" y="412"/>
                  </a:lnTo>
                  <a:lnTo>
                    <a:pt x="22" y="420"/>
                  </a:lnTo>
                  <a:lnTo>
                    <a:pt x="17" y="434"/>
                  </a:lnTo>
                  <a:lnTo>
                    <a:pt x="13" y="447"/>
                  </a:lnTo>
                  <a:lnTo>
                    <a:pt x="8" y="456"/>
                  </a:lnTo>
                  <a:lnTo>
                    <a:pt x="4" y="469"/>
                  </a:lnTo>
                  <a:lnTo>
                    <a:pt x="0" y="482"/>
                  </a:lnTo>
                  <a:lnTo>
                    <a:pt x="1985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9360" y="2533680"/>
              <a:ext cx="227520" cy="389160"/>
            </a:xfrm>
            <a:custGeom>
              <a:avLst/>
              <a:gdLst/>
              <a:ahLst/>
              <a:rect l="0" t="0" r="r" b="b"/>
              <a:pathLst>
                <a:path w="632" h="1081">
                  <a:moveTo>
                    <a:pt x="632" y="502"/>
                  </a:moveTo>
                  <a:lnTo>
                    <a:pt x="0" y="0"/>
                  </a:lnTo>
                  <a:lnTo>
                    <a:pt x="0" y="552"/>
                  </a:lnTo>
                  <a:lnTo>
                    <a:pt x="0" y="556"/>
                  </a:lnTo>
                  <a:lnTo>
                    <a:pt x="0" y="561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4"/>
                  </a:lnTo>
                  <a:lnTo>
                    <a:pt x="0" y="578"/>
                  </a:lnTo>
                  <a:lnTo>
                    <a:pt x="4" y="578"/>
                  </a:lnTo>
                  <a:lnTo>
                    <a:pt x="4" y="583"/>
                  </a:lnTo>
                  <a:lnTo>
                    <a:pt x="8" y="587"/>
                  </a:lnTo>
                  <a:lnTo>
                    <a:pt x="13" y="587"/>
                  </a:lnTo>
                  <a:lnTo>
                    <a:pt x="17" y="596"/>
                  </a:lnTo>
                  <a:lnTo>
                    <a:pt x="35" y="609"/>
                  </a:lnTo>
                  <a:lnTo>
                    <a:pt x="66" y="631"/>
                  </a:lnTo>
                  <a:lnTo>
                    <a:pt x="105" y="662"/>
                  </a:lnTo>
                  <a:lnTo>
                    <a:pt x="149" y="702"/>
                  </a:lnTo>
                  <a:lnTo>
                    <a:pt x="203" y="741"/>
                  </a:lnTo>
                  <a:lnTo>
                    <a:pt x="256" y="785"/>
                  </a:lnTo>
                  <a:lnTo>
                    <a:pt x="314" y="830"/>
                  </a:lnTo>
                  <a:lnTo>
                    <a:pt x="371" y="874"/>
                  </a:lnTo>
                  <a:lnTo>
                    <a:pt x="424" y="918"/>
                  </a:lnTo>
                  <a:lnTo>
                    <a:pt x="482" y="962"/>
                  </a:lnTo>
                  <a:lnTo>
                    <a:pt x="526" y="997"/>
                  </a:lnTo>
                  <a:lnTo>
                    <a:pt x="566" y="1028"/>
                  </a:lnTo>
                  <a:lnTo>
                    <a:pt x="601" y="1054"/>
                  </a:lnTo>
                  <a:lnTo>
                    <a:pt x="623" y="1072"/>
                  </a:lnTo>
                  <a:lnTo>
                    <a:pt x="632" y="1081"/>
                  </a:lnTo>
                  <a:lnTo>
                    <a:pt x="632" y="502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44640" y="279072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03240" y="279072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2200" y="279072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20800" y="279072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93800" y="2814480"/>
              <a:ext cx="711720" cy="12960"/>
            </a:xfrm>
            <a:custGeom>
              <a:avLst/>
              <a:gdLst/>
              <a:ahLst/>
              <a:rect l="0" t="0" r="r" b="b"/>
              <a:pathLst>
                <a:path w="1977" h="36">
                  <a:moveTo>
                    <a:pt x="0" y="36"/>
                  </a:moveTo>
                  <a:lnTo>
                    <a:pt x="0" y="0"/>
                  </a:lnTo>
                  <a:lnTo>
                    <a:pt x="1977" y="0"/>
                  </a:lnTo>
                  <a:lnTo>
                    <a:pt x="197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6873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5080" y="2797200"/>
              <a:ext cx="36720" cy="65520"/>
            </a:xfrm>
            <a:custGeom>
              <a:avLst/>
              <a:gdLst/>
              <a:ahLst/>
              <a:rect l="0" t="0" r="r" b="b"/>
              <a:pathLst>
                <a:path w="102" h="182">
                  <a:moveTo>
                    <a:pt x="102" y="182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102" y="1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9760" y="280980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0" y="94"/>
                  </a:moveTo>
                  <a:lnTo>
                    <a:pt x="36" y="0"/>
                  </a:lnTo>
                  <a:lnTo>
                    <a:pt x="76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19480" y="282744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14" y="32"/>
                  </a:moveTo>
                  <a:lnTo>
                    <a:pt x="18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9360" y="2529000"/>
              <a:ext cx="945000" cy="184680"/>
            </a:xfrm>
            <a:custGeom>
              <a:avLst/>
              <a:gdLst/>
              <a:ahLst/>
              <a:rect l="0" t="0" r="r" b="b"/>
              <a:pathLst>
                <a:path w="2625" h="513">
                  <a:moveTo>
                    <a:pt x="2621" y="500"/>
                  </a:moveTo>
                  <a:lnTo>
                    <a:pt x="2625" y="504"/>
                  </a:lnTo>
                  <a:lnTo>
                    <a:pt x="2625" y="509"/>
                  </a:lnTo>
                  <a:lnTo>
                    <a:pt x="2621" y="513"/>
                  </a:lnTo>
                  <a:lnTo>
                    <a:pt x="2616" y="513"/>
                  </a:lnTo>
                  <a:lnTo>
                    <a:pt x="652" y="513"/>
                  </a:lnTo>
                  <a:lnTo>
                    <a:pt x="648" y="513"/>
                  </a:lnTo>
                  <a:lnTo>
                    <a:pt x="643" y="513"/>
                  </a:lnTo>
                  <a:lnTo>
                    <a:pt x="639" y="513"/>
                  </a:lnTo>
                  <a:lnTo>
                    <a:pt x="639" y="509"/>
                  </a:lnTo>
                  <a:lnTo>
                    <a:pt x="635" y="509"/>
                  </a:lnTo>
                  <a:lnTo>
                    <a:pt x="630" y="504"/>
                  </a:lnTo>
                  <a:lnTo>
                    <a:pt x="626" y="500"/>
                  </a:lnTo>
                  <a:lnTo>
                    <a:pt x="621" y="500"/>
                  </a:lnTo>
                  <a:lnTo>
                    <a:pt x="617" y="495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892" y="0"/>
                  </a:lnTo>
                  <a:lnTo>
                    <a:pt x="1897" y="0"/>
                  </a:lnTo>
                  <a:lnTo>
                    <a:pt x="1901" y="0"/>
                  </a:lnTo>
                  <a:lnTo>
                    <a:pt x="1906" y="0"/>
                  </a:lnTo>
                  <a:lnTo>
                    <a:pt x="1906" y="4"/>
                  </a:lnTo>
                  <a:lnTo>
                    <a:pt x="1910" y="4"/>
                  </a:lnTo>
                  <a:lnTo>
                    <a:pt x="1914" y="4"/>
                  </a:lnTo>
                  <a:lnTo>
                    <a:pt x="1919" y="4"/>
                  </a:lnTo>
                  <a:lnTo>
                    <a:pt x="1919" y="8"/>
                  </a:lnTo>
                  <a:lnTo>
                    <a:pt x="1923" y="8"/>
                  </a:lnTo>
                  <a:lnTo>
                    <a:pt x="1928" y="8"/>
                  </a:lnTo>
                  <a:lnTo>
                    <a:pt x="1932" y="13"/>
                  </a:lnTo>
                  <a:lnTo>
                    <a:pt x="1936" y="13"/>
                  </a:lnTo>
                  <a:lnTo>
                    <a:pt x="2621" y="500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81200" y="2744640"/>
              <a:ext cx="8280" cy="146520"/>
            </a:xfrm>
            <a:custGeom>
              <a:avLst/>
              <a:gdLst/>
              <a:ahLst/>
              <a:rect l="0" t="0" r="r" b="b"/>
              <a:pathLst>
                <a:path w="23" h="407">
                  <a:moveTo>
                    <a:pt x="14" y="70"/>
                  </a:moveTo>
                  <a:lnTo>
                    <a:pt x="14" y="61"/>
                  </a:lnTo>
                  <a:lnTo>
                    <a:pt x="14" y="57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8" y="44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4" y="394"/>
                  </a:lnTo>
                  <a:lnTo>
                    <a:pt x="8" y="376"/>
                  </a:lnTo>
                  <a:lnTo>
                    <a:pt x="8" y="363"/>
                  </a:lnTo>
                  <a:lnTo>
                    <a:pt x="14" y="350"/>
                  </a:lnTo>
                  <a:lnTo>
                    <a:pt x="14" y="332"/>
                  </a:lnTo>
                  <a:lnTo>
                    <a:pt x="18" y="315"/>
                  </a:lnTo>
                  <a:lnTo>
                    <a:pt x="18" y="300"/>
                  </a:lnTo>
                  <a:lnTo>
                    <a:pt x="18" y="287"/>
                  </a:lnTo>
                  <a:lnTo>
                    <a:pt x="18" y="269"/>
                  </a:lnTo>
                  <a:lnTo>
                    <a:pt x="23" y="256"/>
                  </a:lnTo>
                  <a:lnTo>
                    <a:pt x="23" y="243"/>
                  </a:lnTo>
                  <a:lnTo>
                    <a:pt x="23" y="230"/>
                  </a:lnTo>
                  <a:lnTo>
                    <a:pt x="23" y="221"/>
                  </a:lnTo>
                  <a:lnTo>
                    <a:pt x="23" y="212"/>
                  </a:lnTo>
                  <a:lnTo>
                    <a:pt x="23" y="203"/>
                  </a:lnTo>
                  <a:lnTo>
                    <a:pt x="23" y="199"/>
                  </a:lnTo>
                  <a:lnTo>
                    <a:pt x="23" y="190"/>
                  </a:lnTo>
                  <a:lnTo>
                    <a:pt x="23" y="186"/>
                  </a:lnTo>
                  <a:lnTo>
                    <a:pt x="23" y="177"/>
                  </a:lnTo>
                  <a:lnTo>
                    <a:pt x="23" y="168"/>
                  </a:lnTo>
                  <a:lnTo>
                    <a:pt x="23" y="159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18" y="137"/>
                  </a:lnTo>
                  <a:lnTo>
                    <a:pt x="18" y="128"/>
                  </a:lnTo>
                  <a:lnTo>
                    <a:pt x="18" y="120"/>
                  </a:lnTo>
                  <a:lnTo>
                    <a:pt x="18" y="111"/>
                  </a:lnTo>
                  <a:lnTo>
                    <a:pt x="18" y="101"/>
                  </a:lnTo>
                  <a:lnTo>
                    <a:pt x="18" y="97"/>
                  </a:lnTo>
                  <a:lnTo>
                    <a:pt x="18" y="88"/>
                  </a:lnTo>
                  <a:lnTo>
                    <a:pt x="18" y="74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49360" y="2620800"/>
              <a:ext cx="240120" cy="206640"/>
            </a:xfrm>
            <a:custGeom>
              <a:avLst/>
              <a:gdLst/>
              <a:ahLst/>
              <a:rect l="0" t="0" r="r" b="b"/>
              <a:pathLst>
                <a:path w="667" h="574">
                  <a:moveTo>
                    <a:pt x="667" y="547"/>
                  </a:moveTo>
                  <a:lnTo>
                    <a:pt x="667" y="543"/>
                  </a:lnTo>
                  <a:lnTo>
                    <a:pt x="667" y="538"/>
                  </a:lnTo>
                  <a:lnTo>
                    <a:pt x="667" y="534"/>
                  </a:lnTo>
                  <a:lnTo>
                    <a:pt x="667" y="530"/>
                  </a:lnTo>
                  <a:lnTo>
                    <a:pt x="667" y="52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667" y="574"/>
                  </a:lnTo>
                  <a:lnTo>
                    <a:pt x="667" y="569"/>
                  </a:lnTo>
                  <a:lnTo>
                    <a:pt x="667" y="565"/>
                  </a:lnTo>
                  <a:lnTo>
                    <a:pt x="667" y="561"/>
                  </a:lnTo>
                  <a:lnTo>
                    <a:pt x="667" y="556"/>
                  </a:lnTo>
                  <a:lnTo>
                    <a:pt x="667" y="552"/>
                  </a:lnTo>
                  <a:lnTo>
                    <a:pt x="667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2600" y="2706840"/>
              <a:ext cx="230400" cy="190800"/>
            </a:xfrm>
            <a:custGeom>
              <a:avLst/>
              <a:gdLst/>
              <a:ahLst/>
              <a:rect l="0" t="0" r="r" b="b"/>
              <a:pathLst>
                <a:path w="640" h="530">
                  <a:moveTo>
                    <a:pt x="640" y="512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40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54040" y="2568600"/>
              <a:ext cx="228960" cy="190800"/>
            </a:xfrm>
            <a:custGeom>
              <a:avLst/>
              <a:gdLst/>
              <a:ahLst/>
              <a:rect l="0" t="0" r="r" b="b"/>
              <a:pathLst>
                <a:path w="636" h="530">
                  <a:moveTo>
                    <a:pt x="631" y="508"/>
                  </a:moveTo>
                  <a:lnTo>
                    <a:pt x="627" y="508"/>
                  </a:lnTo>
                  <a:lnTo>
                    <a:pt x="627" y="503"/>
                  </a:lnTo>
                  <a:lnTo>
                    <a:pt x="622" y="499"/>
                  </a:lnTo>
                  <a:lnTo>
                    <a:pt x="618" y="499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36" y="525"/>
                  </a:lnTo>
                  <a:lnTo>
                    <a:pt x="636" y="521"/>
                  </a:lnTo>
                  <a:lnTo>
                    <a:pt x="636" y="516"/>
                  </a:lnTo>
                  <a:lnTo>
                    <a:pt x="631" y="516"/>
                  </a:lnTo>
                  <a:lnTo>
                    <a:pt x="631" y="512"/>
                  </a:lnTo>
                  <a:lnTo>
                    <a:pt x="631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2467080" y="2306520"/>
            <a:ext cx="82224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65440" y="2933640"/>
            <a:ext cx="4636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6600" y="3056040"/>
            <a:ext cx="822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130640" y="2117880"/>
            <a:ext cx="1143360" cy="432000"/>
          </a:xfrm>
          <a:custGeom>
            <a:avLst/>
            <a:gdLst/>
            <a:ahLst/>
            <a:rect l="0" t="0" r="r" b="b"/>
            <a:pathLst>
              <a:path fill="none" w="3176" h="1200">
                <a:moveTo>
                  <a:pt x="0" y="1200"/>
                </a:moveTo>
                <a:lnTo>
                  <a:pt x="0" y="0"/>
                </a:lnTo>
                <a:lnTo>
                  <a:pt x="317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50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Internet &amp; Remote LAN-to-LA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8920" y="4076640"/>
            <a:ext cx="461016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tocol routing &amp; bri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MP, telnet, sys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mited LAN access to the Internet &amp; other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SzPct val="110000"/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othConnec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 easy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-effective ISD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36960" y="4076640"/>
            <a:ext cx="49658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-access lines: 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C 4:1 data compression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taneous connections between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v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Secure Acces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6160" y="1860480"/>
            <a:ext cx="1947960" cy="184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9800" y="1866960"/>
            <a:ext cx="2003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orpo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628720" y="270504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88960" y="2786040"/>
            <a:ext cx="285444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61840" y="2414520"/>
            <a:ext cx="669960" cy="695160"/>
            <a:chOff x="861840" y="2414520"/>
            <a:chExt cx="669960" cy="695160"/>
          </a:xfrm>
        </p:grpSpPr>
        <p:sp>
          <p:nvSpPr>
            <p:cNvPr id="329" name=""/>
            <p:cNvSpPr/>
            <p:nvPr/>
          </p:nvSpPr>
          <p:spPr>
            <a:xfrm>
              <a:off x="1461960" y="255276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7880" y="255276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942840" y="2508120"/>
              <a:ext cx="544680" cy="500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77760" y="2529000"/>
              <a:ext cx="438120" cy="48708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22400" y="303048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22400" y="250200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1840" y="241452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76280" y="241452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1840" y="293364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76280" y="293364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658880" y="2604960"/>
            <a:ext cx="957600" cy="397440"/>
            <a:chOff x="1658880" y="2604960"/>
            <a:chExt cx="957600" cy="397440"/>
          </a:xfrm>
        </p:grpSpPr>
        <p:sp>
          <p:nvSpPr>
            <p:cNvPr id="340" name=""/>
            <p:cNvSpPr/>
            <p:nvPr/>
          </p:nvSpPr>
          <p:spPr>
            <a:xfrm>
              <a:off x="1889280" y="2965320"/>
              <a:ext cx="717840" cy="9720"/>
            </a:xfrm>
            <a:custGeom>
              <a:avLst/>
              <a:gdLst/>
              <a:ahLst/>
              <a:rect l="0" t="0" r="r" b="b"/>
              <a:pathLst>
                <a:path w="1994" h="27">
                  <a:moveTo>
                    <a:pt x="0" y="27"/>
                  </a:moveTo>
                  <a:lnTo>
                    <a:pt x="0" y="0"/>
                  </a:lnTo>
                  <a:lnTo>
                    <a:pt x="1994" y="0"/>
                  </a:lnTo>
                  <a:lnTo>
                    <a:pt x="1985" y="14"/>
                  </a:lnTo>
                  <a:lnTo>
                    <a:pt x="198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06c6e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90720" y="2971800"/>
              <a:ext cx="714600" cy="30600"/>
            </a:xfrm>
            <a:custGeom>
              <a:avLst/>
              <a:gdLst/>
              <a:ahLst/>
              <a:rect l="0" t="0" r="r" b="b"/>
              <a:pathLst>
                <a:path w="1985" h="85">
                  <a:moveTo>
                    <a:pt x="1976" y="85"/>
                  </a:moveTo>
                  <a:lnTo>
                    <a:pt x="1980" y="85"/>
                  </a:lnTo>
                  <a:lnTo>
                    <a:pt x="1985" y="85"/>
                  </a:lnTo>
                  <a:lnTo>
                    <a:pt x="1985" y="81"/>
                  </a:lnTo>
                  <a:lnTo>
                    <a:pt x="1985" y="76"/>
                  </a:lnTo>
                  <a:lnTo>
                    <a:pt x="1985" y="0"/>
                  </a:lnTo>
                  <a:lnTo>
                    <a:pt x="1958" y="0"/>
                  </a:lnTo>
                  <a:lnTo>
                    <a:pt x="1897" y="0"/>
                  </a:lnTo>
                  <a:lnTo>
                    <a:pt x="1800" y="0"/>
                  </a:lnTo>
                  <a:lnTo>
                    <a:pt x="1676" y="0"/>
                  </a:lnTo>
                  <a:lnTo>
                    <a:pt x="1526" y="0"/>
                  </a:lnTo>
                  <a:lnTo>
                    <a:pt x="1363" y="0"/>
                  </a:lnTo>
                  <a:lnTo>
                    <a:pt x="1187" y="0"/>
                  </a:lnTo>
                  <a:lnTo>
                    <a:pt x="1006" y="0"/>
                  </a:lnTo>
                  <a:lnTo>
                    <a:pt x="824" y="0"/>
                  </a:lnTo>
                  <a:lnTo>
                    <a:pt x="648" y="0"/>
                  </a:lnTo>
                  <a:lnTo>
                    <a:pt x="480" y="0"/>
                  </a:lnTo>
                  <a:lnTo>
                    <a:pt x="330" y="0"/>
                  </a:lnTo>
                  <a:lnTo>
                    <a:pt x="202" y="0"/>
                  </a:lnTo>
                  <a:lnTo>
                    <a:pt x="10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97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90720" y="2793960"/>
              <a:ext cx="725760" cy="173520"/>
            </a:xfrm>
            <a:custGeom>
              <a:avLst/>
              <a:gdLst/>
              <a:ahLst/>
              <a:rect l="0" t="0" r="r" b="b"/>
              <a:pathLst>
                <a:path w="2016" h="482">
                  <a:moveTo>
                    <a:pt x="1985" y="482"/>
                  </a:moveTo>
                  <a:lnTo>
                    <a:pt x="1985" y="478"/>
                  </a:lnTo>
                  <a:lnTo>
                    <a:pt x="1989" y="473"/>
                  </a:lnTo>
                  <a:lnTo>
                    <a:pt x="1994" y="465"/>
                  </a:lnTo>
                  <a:lnTo>
                    <a:pt x="1998" y="456"/>
                  </a:lnTo>
                  <a:lnTo>
                    <a:pt x="1998" y="447"/>
                  </a:lnTo>
                  <a:lnTo>
                    <a:pt x="2003" y="438"/>
                  </a:lnTo>
                  <a:lnTo>
                    <a:pt x="2003" y="420"/>
                  </a:lnTo>
                  <a:lnTo>
                    <a:pt x="2007" y="412"/>
                  </a:lnTo>
                  <a:lnTo>
                    <a:pt x="2007" y="398"/>
                  </a:lnTo>
                  <a:lnTo>
                    <a:pt x="2011" y="385"/>
                  </a:lnTo>
                  <a:lnTo>
                    <a:pt x="2011" y="368"/>
                  </a:lnTo>
                  <a:lnTo>
                    <a:pt x="2016" y="353"/>
                  </a:lnTo>
                  <a:lnTo>
                    <a:pt x="2016" y="344"/>
                  </a:lnTo>
                  <a:lnTo>
                    <a:pt x="2016" y="331"/>
                  </a:lnTo>
                  <a:lnTo>
                    <a:pt x="2016" y="318"/>
                  </a:lnTo>
                  <a:lnTo>
                    <a:pt x="2016" y="309"/>
                  </a:lnTo>
                  <a:lnTo>
                    <a:pt x="2003" y="309"/>
                  </a:lnTo>
                  <a:lnTo>
                    <a:pt x="2003" y="265"/>
                  </a:lnTo>
                  <a:lnTo>
                    <a:pt x="2016" y="265"/>
                  </a:lnTo>
                  <a:lnTo>
                    <a:pt x="2016" y="256"/>
                  </a:lnTo>
                  <a:lnTo>
                    <a:pt x="2016" y="243"/>
                  </a:lnTo>
                  <a:lnTo>
                    <a:pt x="2016" y="230"/>
                  </a:lnTo>
                  <a:lnTo>
                    <a:pt x="2011" y="217"/>
                  </a:lnTo>
                  <a:lnTo>
                    <a:pt x="2011" y="203"/>
                  </a:lnTo>
                  <a:lnTo>
                    <a:pt x="2011" y="186"/>
                  </a:lnTo>
                  <a:lnTo>
                    <a:pt x="2007" y="172"/>
                  </a:lnTo>
                  <a:lnTo>
                    <a:pt x="2007" y="155"/>
                  </a:lnTo>
                  <a:lnTo>
                    <a:pt x="2003" y="142"/>
                  </a:lnTo>
                  <a:lnTo>
                    <a:pt x="2003" y="128"/>
                  </a:lnTo>
                  <a:lnTo>
                    <a:pt x="1998" y="119"/>
                  </a:lnTo>
                  <a:lnTo>
                    <a:pt x="1998" y="105"/>
                  </a:lnTo>
                  <a:lnTo>
                    <a:pt x="1994" y="97"/>
                  </a:lnTo>
                  <a:lnTo>
                    <a:pt x="1989" y="88"/>
                  </a:lnTo>
                  <a:lnTo>
                    <a:pt x="1985" y="79"/>
                  </a:lnTo>
                  <a:lnTo>
                    <a:pt x="1985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4" y="83"/>
                  </a:lnTo>
                  <a:lnTo>
                    <a:pt x="8" y="92"/>
                  </a:lnTo>
                  <a:lnTo>
                    <a:pt x="13" y="101"/>
                  </a:lnTo>
                  <a:lnTo>
                    <a:pt x="17" y="110"/>
                  </a:lnTo>
                  <a:lnTo>
                    <a:pt x="17" y="124"/>
                  </a:lnTo>
                  <a:lnTo>
                    <a:pt x="22" y="137"/>
                  </a:lnTo>
                  <a:lnTo>
                    <a:pt x="26" y="146"/>
                  </a:lnTo>
                  <a:lnTo>
                    <a:pt x="26" y="164"/>
                  </a:lnTo>
                  <a:lnTo>
                    <a:pt x="30" y="177"/>
                  </a:lnTo>
                  <a:lnTo>
                    <a:pt x="30" y="190"/>
                  </a:lnTo>
                  <a:lnTo>
                    <a:pt x="35" y="203"/>
                  </a:lnTo>
                  <a:lnTo>
                    <a:pt x="35" y="221"/>
                  </a:lnTo>
                  <a:lnTo>
                    <a:pt x="35" y="234"/>
                  </a:lnTo>
                  <a:lnTo>
                    <a:pt x="35" y="252"/>
                  </a:lnTo>
                  <a:lnTo>
                    <a:pt x="35" y="265"/>
                  </a:lnTo>
                  <a:lnTo>
                    <a:pt x="35" y="309"/>
                  </a:lnTo>
                  <a:lnTo>
                    <a:pt x="35" y="318"/>
                  </a:lnTo>
                  <a:lnTo>
                    <a:pt x="35" y="327"/>
                  </a:lnTo>
                  <a:lnTo>
                    <a:pt x="35" y="340"/>
                  </a:lnTo>
                  <a:lnTo>
                    <a:pt x="35" y="349"/>
                  </a:lnTo>
                  <a:lnTo>
                    <a:pt x="35" y="358"/>
                  </a:lnTo>
                  <a:lnTo>
                    <a:pt x="30" y="368"/>
                  </a:lnTo>
                  <a:lnTo>
                    <a:pt x="30" y="381"/>
                  </a:lnTo>
                  <a:lnTo>
                    <a:pt x="30" y="390"/>
                  </a:lnTo>
                  <a:lnTo>
                    <a:pt x="26" y="403"/>
                  </a:lnTo>
                  <a:lnTo>
                    <a:pt x="26" y="412"/>
                  </a:lnTo>
                  <a:lnTo>
                    <a:pt x="22" y="420"/>
                  </a:lnTo>
                  <a:lnTo>
                    <a:pt x="17" y="434"/>
                  </a:lnTo>
                  <a:lnTo>
                    <a:pt x="13" y="447"/>
                  </a:lnTo>
                  <a:lnTo>
                    <a:pt x="8" y="456"/>
                  </a:lnTo>
                  <a:lnTo>
                    <a:pt x="4" y="469"/>
                  </a:lnTo>
                  <a:lnTo>
                    <a:pt x="0" y="482"/>
                  </a:lnTo>
                  <a:lnTo>
                    <a:pt x="1985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58880" y="2610000"/>
              <a:ext cx="227520" cy="389160"/>
            </a:xfrm>
            <a:custGeom>
              <a:avLst/>
              <a:gdLst/>
              <a:ahLst/>
              <a:rect l="0" t="0" r="r" b="b"/>
              <a:pathLst>
                <a:path w="632" h="1081">
                  <a:moveTo>
                    <a:pt x="632" y="502"/>
                  </a:moveTo>
                  <a:lnTo>
                    <a:pt x="0" y="0"/>
                  </a:lnTo>
                  <a:lnTo>
                    <a:pt x="0" y="552"/>
                  </a:lnTo>
                  <a:lnTo>
                    <a:pt x="0" y="556"/>
                  </a:lnTo>
                  <a:lnTo>
                    <a:pt x="0" y="561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4"/>
                  </a:lnTo>
                  <a:lnTo>
                    <a:pt x="0" y="578"/>
                  </a:lnTo>
                  <a:lnTo>
                    <a:pt x="4" y="578"/>
                  </a:lnTo>
                  <a:lnTo>
                    <a:pt x="4" y="583"/>
                  </a:lnTo>
                  <a:lnTo>
                    <a:pt x="8" y="587"/>
                  </a:lnTo>
                  <a:lnTo>
                    <a:pt x="13" y="587"/>
                  </a:lnTo>
                  <a:lnTo>
                    <a:pt x="17" y="596"/>
                  </a:lnTo>
                  <a:lnTo>
                    <a:pt x="35" y="609"/>
                  </a:lnTo>
                  <a:lnTo>
                    <a:pt x="66" y="631"/>
                  </a:lnTo>
                  <a:lnTo>
                    <a:pt x="105" y="662"/>
                  </a:lnTo>
                  <a:lnTo>
                    <a:pt x="149" y="702"/>
                  </a:lnTo>
                  <a:lnTo>
                    <a:pt x="203" y="741"/>
                  </a:lnTo>
                  <a:lnTo>
                    <a:pt x="256" y="785"/>
                  </a:lnTo>
                  <a:lnTo>
                    <a:pt x="314" y="830"/>
                  </a:lnTo>
                  <a:lnTo>
                    <a:pt x="371" y="874"/>
                  </a:lnTo>
                  <a:lnTo>
                    <a:pt x="424" y="918"/>
                  </a:lnTo>
                  <a:lnTo>
                    <a:pt x="482" y="962"/>
                  </a:lnTo>
                  <a:lnTo>
                    <a:pt x="526" y="997"/>
                  </a:lnTo>
                  <a:lnTo>
                    <a:pt x="566" y="1028"/>
                  </a:lnTo>
                  <a:lnTo>
                    <a:pt x="601" y="1054"/>
                  </a:lnTo>
                  <a:lnTo>
                    <a:pt x="623" y="1072"/>
                  </a:lnTo>
                  <a:lnTo>
                    <a:pt x="632" y="1081"/>
                  </a:lnTo>
                  <a:lnTo>
                    <a:pt x="632" y="502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54160" y="286704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13120" y="28670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71720" y="286704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30320" y="28670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3320" y="2890800"/>
              <a:ext cx="711720" cy="12960"/>
            </a:xfrm>
            <a:custGeom>
              <a:avLst/>
              <a:gdLst/>
              <a:ahLst/>
              <a:rect l="0" t="0" r="r" b="b"/>
              <a:pathLst>
                <a:path w="1977" h="36">
                  <a:moveTo>
                    <a:pt x="0" y="36"/>
                  </a:moveTo>
                  <a:lnTo>
                    <a:pt x="0" y="0"/>
                  </a:lnTo>
                  <a:lnTo>
                    <a:pt x="1977" y="0"/>
                  </a:lnTo>
                  <a:lnTo>
                    <a:pt x="197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6873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14600" y="2873520"/>
              <a:ext cx="36720" cy="65520"/>
            </a:xfrm>
            <a:custGeom>
              <a:avLst/>
              <a:gdLst/>
              <a:ahLst/>
              <a:rect l="0" t="0" r="r" b="b"/>
              <a:pathLst>
                <a:path w="102" h="182">
                  <a:moveTo>
                    <a:pt x="102" y="182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102" y="1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9280" y="288612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0" y="94"/>
                  </a:moveTo>
                  <a:lnTo>
                    <a:pt x="36" y="0"/>
                  </a:lnTo>
                  <a:lnTo>
                    <a:pt x="76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9000" y="290340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14" y="32"/>
                  </a:moveTo>
                  <a:lnTo>
                    <a:pt x="18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8880" y="2604960"/>
              <a:ext cx="945000" cy="184680"/>
            </a:xfrm>
            <a:custGeom>
              <a:avLst/>
              <a:gdLst/>
              <a:ahLst/>
              <a:rect l="0" t="0" r="r" b="b"/>
              <a:pathLst>
                <a:path w="2625" h="513">
                  <a:moveTo>
                    <a:pt x="2621" y="500"/>
                  </a:moveTo>
                  <a:lnTo>
                    <a:pt x="2625" y="504"/>
                  </a:lnTo>
                  <a:lnTo>
                    <a:pt x="2625" y="509"/>
                  </a:lnTo>
                  <a:lnTo>
                    <a:pt x="2621" y="513"/>
                  </a:lnTo>
                  <a:lnTo>
                    <a:pt x="2616" y="513"/>
                  </a:lnTo>
                  <a:lnTo>
                    <a:pt x="652" y="513"/>
                  </a:lnTo>
                  <a:lnTo>
                    <a:pt x="648" y="513"/>
                  </a:lnTo>
                  <a:lnTo>
                    <a:pt x="643" y="513"/>
                  </a:lnTo>
                  <a:lnTo>
                    <a:pt x="639" y="513"/>
                  </a:lnTo>
                  <a:lnTo>
                    <a:pt x="639" y="509"/>
                  </a:lnTo>
                  <a:lnTo>
                    <a:pt x="635" y="509"/>
                  </a:lnTo>
                  <a:lnTo>
                    <a:pt x="630" y="504"/>
                  </a:lnTo>
                  <a:lnTo>
                    <a:pt x="626" y="500"/>
                  </a:lnTo>
                  <a:lnTo>
                    <a:pt x="621" y="500"/>
                  </a:lnTo>
                  <a:lnTo>
                    <a:pt x="617" y="495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892" y="0"/>
                  </a:lnTo>
                  <a:lnTo>
                    <a:pt x="1897" y="0"/>
                  </a:lnTo>
                  <a:lnTo>
                    <a:pt x="1901" y="0"/>
                  </a:lnTo>
                  <a:lnTo>
                    <a:pt x="1906" y="0"/>
                  </a:lnTo>
                  <a:lnTo>
                    <a:pt x="1906" y="4"/>
                  </a:lnTo>
                  <a:lnTo>
                    <a:pt x="1910" y="4"/>
                  </a:lnTo>
                  <a:lnTo>
                    <a:pt x="1914" y="4"/>
                  </a:lnTo>
                  <a:lnTo>
                    <a:pt x="1919" y="4"/>
                  </a:lnTo>
                  <a:lnTo>
                    <a:pt x="1919" y="8"/>
                  </a:lnTo>
                  <a:lnTo>
                    <a:pt x="1923" y="8"/>
                  </a:lnTo>
                  <a:lnTo>
                    <a:pt x="1928" y="8"/>
                  </a:lnTo>
                  <a:lnTo>
                    <a:pt x="1932" y="13"/>
                  </a:lnTo>
                  <a:lnTo>
                    <a:pt x="1936" y="13"/>
                  </a:lnTo>
                  <a:lnTo>
                    <a:pt x="2621" y="500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90720" y="2820960"/>
              <a:ext cx="8280" cy="146520"/>
            </a:xfrm>
            <a:custGeom>
              <a:avLst/>
              <a:gdLst/>
              <a:ahLst/>
              <a:rect l="0" t="0" r="r" b="b"/>
              <a:pathLst>
                <a:path w="23" h="407">
                  <a:moveTo>
                    <a:pt x="14" y="70"/>
                  </a:moveTo>
                  <a:lnTo>
                    <a:pt x="14" y="61"/>
                  </a:lnTo>
                  <a:lnTo>
                    <a:pt x="14" y="57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8" y="44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4" y="394"/>
                  </a:lnTo>
                  <a:lnTo>
                    <a:pt x="8" y="376"/>
                  </a:lnTo>
                  <a:lnTo>
                    <a:pt x="8" y="363"/>
                  </a:lnTo>
                  <a:lnTo>
                    <a:pt x="14" y="350"/>
                  </a:lnTo>
                  <a:lnTo>
                    <a:pt x="14" y="332"/>
                  </a:lnTo>
                  <a:lnTo>
                    <a:pt x="18" y="315"/>
                  </a:lnTo>
                  <a:lnTo>
                    <a:pt x="18" y="300"/>
                  </a:lnTo>
                  <a:lnTo>
                    <a:pt x="18" y="287"/>
                  </a:lnTo>
                  <a:lnTo>
                    <a:pt x="18" y="269"/>
                  </a:lnTo>
                  <a:lnTo>
                    <a:pt x="23" y="256"/>
                  </a:lnTo>
                  <a:lnTo>
                    <a:pt x="23" y="243"/>
                  </a:lnTo>
                  <a:lnTo>
                    <a:pt x="23" y="230"/>
                  </a:lnTo>
                  <a:lnTo>
                    <a:pt x="23" y="221"/>
                  </a:lnTo>
                  <a:lnTo>
                    <a:pt x="23" y="212"/>
                  </a:lnTo>
                  <a:lnTo>
                    <a:pt x="23" y="203"/>
                  </a:lnTo>
                  <a:lnTo>
                    <a:pt x="23" y="199"/>
                  </a:lnTo>
                  <a:lnTo>
                    <a:pt x="23" y="190"/>
                  </a:lnTo>
                  <a:lnTo>
                    <a:pt x="23" y="186"/>
                  </a:lnTo>
                  <a:lnTo>
                    <a:pt x="23" y="177"/>
                  </a:lnTo>
                  <a:lnTo>
                    <a:pt x="23" y="168"/>
                  </a:lnTo>
                  <a:lnTo>
                    <a:pt x="23" y="159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18" y="137"/>
                  </a:lnTo>
                  <a:lnTo>
                    <a:pt x="18" y="128"/>
                  </a:lnTo>
                  <a:lnTo>
                    <a:pt x="18" y="120"/>
                  </a:lnTo>
                  <a:lnTo>
                    <a:pt x="18" y="111"/>
                  </a:lnTo>
                  <a:lnTo>
                    <a:pt x="18" y="101"/>
                  </a:lnTo>
                  <a:lnTo>
                    <a:pt x="18" y="97"/>
                  </a:lnTo>
                  <a:lnTo>
                    <a:pt x="18" y="88"/>
                  </a:lnTo>
                  <a:lnTo>
                    <a:pt x="18" y="74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8880" y="2697120"/>
              <a:ext cx="240120" cy="206640"/>
            </a:xfrm>
            <a:custGeom>
              <a:avLst/>
              <a:gdLst/>
              <a:ahLst/>
              <a:rect l="0" t="0" r="r" b="b"/>
              <a:pathLst>
                <a:path w="667" h="574">
                  <a:moveTo>
                    <a:pt x="667" y="547"/>
                  </a:moveTo>
                  <a:lnTo>
                    <a:pt x="667" y="543"/>
                  </a:lnTo>
                  <a:lnTo>
                    <a:pt x="667" y="538"/>
                  </a:lnTo>
                  <a:lnTo>
                    <a:pt x="667" y="534"/>
                  </a:lnTo>
                  <a:lnTo>
                    <a:pt x="667" y="530"/>
                  </a:lnTo>
                  <a:lnTo>
                    <a:pt x="667" y="52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667" y="574"/>
                  </a:lnTo>
                  <a:lnTo>
                    <a:pt x="667" y="569"/>
                  </a:lnTo>
                  <a:lnTo>
                    <a:pt x="667" y="565"/>
                  </a:lnTo>
                  <a:lnTo>
                    <a:pt x="667" y="561"/>
                  </a:lnTo>
                  <a:lnTo>
                    <a:pt x="667" y="556"/>
                  </a:lnTo>
                  <a:lnTo>
                    <a:pt x="667" y="552"/>
                  </a:lnTo>
                  <a:lnTo>
                    <a:pt x="667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2120" y="2782800"/>
              <a:ext cx="230400" cy="190800"/>
            </a:xfrm>
            <a:custGeom>
              <a:avLst/>
              <a:gdLst/>
              <a:ahLst/>
              <a:rect l="0" t="0" r="r" b="b"/>
              <a:pathLst>
                <a:path w="640" h="530">
                  <a:moveTo>
                    <a:pt x="640" y="512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40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63560" y="2644920"/>
              <a:ext cx="228960" cy="190800"/>
            </a:xfrm>
            <a:custGeom>
              <a:avLst/>
              <a:gdLst/>
              <a:ahLst/>
              <a:rect l="0" t="0" r="r" b="b"/>
              <a:pathLst>
                <a:path w="636" h="530">
                  <a:moveTo>
                    <a:pt x="631" y="508"/>
                  </a:moveTo>
                  <a:lnTo>
                    <a:pt x="627" y="508"/>
                  </a:lnTo>
                  <a:lnTo>
                    <a:pt x="627" y="503"/>
                  </a:lnTo>
                  <a:lnTo>
                    <a:pt x="622" y="499"/>
                  </a:lnTo>
                  <a:lnTo>
                    <a:pt x="618" y="499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36" y="525"/>
                  </a:lnTo>
                  <a:lnTo>
                    <a:pt x="636" y="521"/>
                  </a:lnTo>
                  <a:lnTo>
                    <a:pt x="636" y="516"/>
                  </a:lnTo>
                  <a:lnTo>
                    <a:pt x="631" y="516"/>
                  </a:lnTo>
                  <a:lnTo>
                    <a:pt x="631" y="512"/>
                  </a:lnTo>
                  <a:lnTo>
                    <a:pt x="631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2720880" y="2382840"/>
            <a:ext cx="8650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974960" y="3009960"/>
            <a:ext cx="4636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16120" y="3132000"/>
            <a:ext cx="822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94560" y="1722600"/>
            <a:ext cx="1947960" cy="9968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657840" y="1728720"/>
            <a:ext cx="2003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629400" y="214776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94560" y="2838600"/>
            <a:ext cx="1947960" cy="99684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657840" y="2844720"/>
            <a:ext cx="2003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Remote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629400" y="324000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811760" y="1620720"/>
            <a:ext cx="1368360" cy="969840"/>
            <a:chOff x="4811760" y="1620720"/>
            <a:chExt cx="1368360" cy="969840"/>
          </a:xfrm>
        </p:grpSpPr>
        <p:grpSp>
          <p:nvGrpSpPr>
            <p:cNvPr id="367" name=""/>
            <p:cNvGrpSpPr/>
            <p:nvPr/>
          </p:nvGrpSpPr>
          <p:grpSpPr>
            <a:xfrm>
              <a:off x="4821120" y="1625760"/>
              <a:ext cx="1335240" cy="896760"/>
              <a:chOff x="4821120" y="1625760"/>
              <a:chExt cx="1335240" cy="896760"/>
            </a:xfrm>
          </p:grpSpPr>
          <p:sp>
            <p:nvSpPr>
              <p:cNvPr id="368" name=""/>
              <p:cNvSpPr/>
              <p:nvPr/>
            </p:nvSpPr>
            <p:spPr>
              <a:xfrm>
                <a:off x="5054760" y="162576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21120" y="186372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51440" y="211788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14880" y="198612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57680" y="193500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6520" y="191448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08720" y="169704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61080" y="181296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4811760" y="1620720"/>
              <a:ext cx="136836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 txBox="1"/>
          <p:nvPr/>
        </p:nvSpPr>
        <p:spPr>
          <a:xfrm>
            <a:off x="4803840" y="2001960"/>
            <a:ext cx="1355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37240" y="2235240"/>
            <a:ext cx="2621160" cy="484560"/>
          </a:xfrm>
          <a:custGeom>
            <a:avLst/>
            <a:gdLst/>
            <a:ahLst/>
            <a:rect l="0" t="0" r="r" b="b"/>
            <a:pathLst>
              <a:path fill="none" w="7281" h="1346">
                <a:moveTo>
                  <a:pt x="0" y="1346"/>
                </a:moveTo>
                <a:lnTo>
                  <a:pt x="4728" y="1346"/>
                </a:lnTo>
                <a:lnTo>
                  <a:pt x="4728" y="4"/>
                </a:lnTo>
                <a:lnTo>
                  <a:pt x="7281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37240" y="2843280"/>
            <a:ext cx="2421360" cy="484560"/>
          </a:xfrm>
          <a:custGeom>
            <a:avLst/>
            <a:gdLst/>
            <a:ahLst/>
            <a:rect l="0" t="0" r="r" b="b"/>
            <a:pathLst>
              <a:path fill="none" w="6726" h="1346">
                <a:moveTo>
                  <a:pt x="0" y="0"/>
                </a:moveTo>
                <a:lnTo>
                  <a:pt x="4728" y="0"/>
                </a:lnTo>
                <a:lnTo>
                  <a:pt x="4728" y="1342"/>
                </a:lnTo>
                <a:lnTo>
                  <a:pt x="6726" y="1346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137200" y="286236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994520" y="2389320"/>
            <a:ext cx="441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994520" y="3478320"/>
            <a:ext cx="441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45400" y="3411360"/>
            <a:ext cx="8445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424640" y="2044800"/>
            <a:ext cx="1022760" cy="366480"/>
            <a:chOff x="7424640" y="2044800"/>
            <a:chExt cx="1022760" cy="366480"/>
          </a:xfrm>
        </p:grpSpPr>
        <p:sp>
          <p:nvSpPr>
            <p:cNvPr id="385" name=""/>
            <p:cNvSpPr/>
            <p:nvPr/>
          </p:nvSpPr>
          <p:spPr>
            <a:xfrm>
              <a:off x="7875720" y="2125800"/>
              <a:ext cx="309600" cy="22536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80400" y="2098800"/>
              <a:ext cx="13500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24640" y="2236680"/>
              <a:ext cx="76356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36080" y="2370240"/>
              <a:ext cx="12852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59920" y="231300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96120" y="218124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15400" y="204480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494160" y="2317680"/>
            <a:ext cx="1368360" cy="969840"/>
            <a:chOff x="3494160" y="2317680"/>
            <a:chExt cx="1368360" cy="969840"/>
          </a:xfrm>
        </p:grpSpPr>
        <p:grpSp>
          <p:nvGrpSpPr>
            <p:cNvPr id="393" name=""/>
            <p:cNvGrpSpPr/>
            <p:nvPr/>
          </p:nvGrpSpPr>
          <p:grpSpPr>
            <a:xfrm>
              <a:off x="3498840" y="2327400"/>
              <a:ext cx="1335240" cy="896760"/>
              <a:chOff x="3498840" y="2327400"/>
              <a:chExt cx="1335240" cy="896760"/>
            </a:xfrm>
          </p:grpSpPr>
          <p:sp>
            <p:nvSpPr>
              <p:cNvPr id="394" name=""/>
              <p:cNvSpPr/>
              <p:nvPr/>
            </p:nvSpPr>
            <p:spPr>
              <a:xfrm>
                <a:off x="3732120" y="232740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98840" y="256536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28800" y="281952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92600" y="268776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35400" y="263700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94240" y="261612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86080" y="239868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38800" y="251460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3494160" y="2317680"/>
              <a:ext cx="1368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 txBox="1"/>
            <p:nvPr/>
          </p:nvSpPr>
          <p:spPr>
            <a:xfrm>
              <a:off x="3495600" y="256068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 txBox="1"/>
          <p:nvPr/>
        </p:nvSpPr>
        <p:spPr>
          <a:xfrm>
            <a:off x="5643720" y="246528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886440" y="2084400"/>
            <a:ext cx="733680" cy="628920"/>
            <a:chOff x="6886440" y="2084400"/>
            <a:chExt cx="733680" cy="628920"/>
          </a:xfrm>
        </p:grpSpPr>
        <p:sp>
          <p:nvSpPr>
            <p:cNvPr id="406" name=""/>
            <p:cNvSpPr txBox="1"/>
            <p:nvPr/>
          </p:nvSpPr>
          <p:spPr>
            <a:xfrm>
              <a:off x="6916680" y="2319480"/>
              <a:ext cx="703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-ISD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886440" y="2084400"/>
              <a:ext cx="684720" cy="236880"/>
              <a:chOff x="6886440" y="2084400"/>
              <a:chExt cx="684720" cy="236880"/>
            </a:xfrm>
          </p:grpSpPr>
          <p:sp>
            <p:nvSpPr>
              <p:cNvPr id="408" name=""/>
              <p:cNvSpPr/>
              <p:nvPr/>
            </p:nvSpPr>
            <p:spPr>
              <a:xfrm>
                <a:off x="7108920" y="2265480"/>
                <a:ext cx="462240" cy="54360"/>
              </a:xfrm>
              <a:custGeom>
                <a:avLst/>
                <a:gdLst/>
                <a:ahLst/>
                <a:rect l="0" t="0" r="r" b="b"/>
                <a:pathLst>
                  <a:path w="1284" h="151">
                    <a:moveTo>
                      <a:pt x="0" y="138"/>
                    </a:moveTo>
                    <a:lnTo>
                      <a:pt x="0" y="143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4" y="151"/>
                    </a:lnTo>
                    <a:lnTo>
                      <a:pt x="8" y="151"/>
                    </a:lnTo>
                    <a:lnTo>
                      <a:pt x="1266" y="151"/>
                    </a:lnTo>
                    <a:lnTo>
                      <a:pt x="1271" y="151"/>
                    </a:lnTo>
                    <a:lnTo>
                      <a:pt x="1275" y="151"/>
                    </a:lnTo>
                    <a:lnTo>
                      <a:pt x="1279" y="151"/>
                    </a:lnTo>
                    <a:lnTo>
                      <a:pt x="1279" y="147"/>
                    </a:lnTo>
                    <a:lnTo>
                      <a:pt x="1279" y="143"/>
                    </a:lnTo>
                    <a:lnTo>
                      <a:pt x="1284" y="143"/>
                    </a:lnTo>
                    <a:lnTo>
                      <a:pt x="1284" y="138"/>
                    </a:lnTo>
                    <a:lnTo>
                      <a:pt x="1284" y="13"/>
                    </a:lnTo>
                    <a:lnTo>
                      <a:pt x="1284" y="8"/>
                    </a:lnTo>
                    <a:lnTo>
                      <a:pt x="1279" y="8"/>
                    </a:lnTo>
                    <a:lnTo>
                      <a:pt x="1279" y="4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86440" y="2084400"/>
                <a:ext cx="219600" cy="236880"/>
              </a:xfrm>
              <a:custGeom>
                <a:avLst/>
                <a:gdLst/>
                <a:ahLst/>
                <a:rect l="0" t="0" r="r" b="b"/>
                <a:pathLst>
                  <a:path w="610" h="658">
                    <a:moveTo>
                      <a:pt x="0" y="13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606" y="490"/>
                    </a:lnTo>
                    <a:lnTo>
                      <a:pt x="610" y="490"/>
                    </a:lnTo>
                    <a:lnTo>
                      <a:pt x="610" y="494"/>
                    </a:lnTo>
                    <a:lnTo>
                      <a:pt x="606" y="499"/>
                    </a:lnTo>
                    <a:lnTo>
                      <a:pt x="606" y="503"/>
                    </a:lnTo>
                    <a:lnTo>
                      <a:pt x="606" y="508"/>
                    </a:lnTo>
                    <a:lnTo>
                      <a:pt x="606" y="649"/>
                    </a:lnTo>
                    <a:lnTo>
                      <a:pt x="606" y="653"/>
                    </a:lnTo>
                    <a:lnTo>
                      <a:pt x="601" y="653"/>
                    </a:lnTo>
                    <a:lnTo>
                      <a:pt x="601" y="658"/>
                    </a:lnTo>
                    <a:lnTo>
                      <a:pt x="597" y="658"/>
                    </a:lnTo>
                    <a:lnTo>
                      <a:pt x="597" y="653"/>
                    </a:lnTo>
                    <a:lnTo>
                      <a:pt x="592" y="653"/>
                    </a:lnTo>
                    <a:lnTo>
                      <a:pt x="13" y="176"/>
                    </a:lnTo>
                    <a:lnTo>
                      <a:pt x="8" y="176"/>
                    </a:lnTo>
                    <a:lnTo>
                      <a:pt x="8" y="171"/>
                    </a:lnTo>
                    <a:lnTo>
                      <a:pt x="4" y="167"/>
                    </a:lnTo>
                    <a:lnTo>
                      <a:pt x="4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3838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73960" y="2265480"/>
                <a:ext cx="97200" cy="24120"/>
              </a:xfrm>
              <a:custGeom>
                <a:avLst/>
                <a:gdLst/>
                <a:ahLst/>
                <a:rect l="0" t="0" r="r" b="b"/>
                <a:pathLst>
                  <a:path w="270" h="67">
                    <a:moveTo>
                      <a:pt x="0" y="67"/>
                    </a:moveTo>
                    <a:lnTo>
                      <a:pt x="270" y="67"/>
                    </a:lnTo>
                    <a:lnTo>
                      <a:pt x="270" y="62"/>
                    </a:lnTo>
                    <a:lnTo>
                      <a:pt x="270" y="53"/>
                    </a:lnTo>
                    <a:lnTo>
                      <a:pt x="270" y="49"/>
                    </a:lnTo>
                    <a:lnTo>
                      <a:pt x="270" y="45"/>
                    </a:lnTo>
                    <a:lnTo>
                      <a:pt x="270" y="40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2"/>
                    </a:lnTo>
                    <a:lnTo>
                      <a:pt x="270" y="17"/>
                    </a:lnTo>
                    <a:lnTo>
                      <a:pt x="270" y="13"/>
                    </a:lnTo>
                    <a:lnTo>
                      <a:pt x="270" y="8"/>
                    </a:lnTo>
                    <a:lnTo>
                      <a:pt x="266" y="8"/>
                    </a:lnTo>
                    <a:lnTo>
                      <a:pt x="266" y="4"/>
                    </a:lnTo>
                    <a:lnTo>
                      <a:pt x="262" y="0"/>
                    </a:lnTo>
                    <a:lnTo>
                      <a:pt x="257" y="0"/>
                    </a:lnTo>
                    <a:lnTo>
                      <a:pt x="253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89800" y="2300400"/>
                <a:ext cx="77760" cy="0"/>
              </a:xfrm>
              <a:prstGeom prst="line">
                <a:avLst/>
              </a:prstGeom>
              <a:ln w="12600">
                <a:solidFill>
                  <a:srgbClr val="6968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3600" y="2266920"/>
                <a:ext cx="351360" cy="38520"/>
              </a:xfrm>
              <a:custGeom>
                <a:avLst/>
                <a:gdLst/>
                <a:ahLst/>
                <a:rect l="0" t="0" r="r" b="b"/>
                <a:pathLst>
                  <a:path w="976" h="107">
                    <a:moveTo>
                      <a:pt x="976" y="71"/>
                    </a:moveTo>
                    <a:lnTo>
                      <a:pt x="870" y="90"/>
                    </a:lnTo>
                    <a:lnTo>
                      <a:pt x="773" y="94"/>
                    </a:lnTo>
                    <a:lnTo>
                      <a:pt x="675" y="103"/>
                    </a:lnTo>
                    <a:lnTo>
                      <a:pt x="587" y="107"/>
                    </a:lnTo>
                    <a:lnTo>
                      <a:pt x="499" y="107"/>
                    </a:lnTo>
                    <a:lnTo>
                      <a:pt x="419" y="107"/>
                    </a:lnTo>
                    <a:lnTo>
                      <a:pt x="349" y="107"/>
                    </a:lnTo>
                    <a:lnTo>
                      <a:pt x="278" y="103"/>
                    </a:lnTo>
                    <a:lnTo>
                      <a:pt x="220" y="99"/>
                    </a:lnTo>
                    <a:lnTo>
                      <a:pt x="163" y="94"/>
                    </a:lnTo>
                    <a:lnTo>
                      <a:pt x="119" y="94"/>
                    </a:lnTo>
                    <a:lnTo>
                      <a:pt x="79" y="85"/>
                    </a:lnTo>
                    <a:lnTo>
                      <a:pt x="52" y="81"/>
                    </a:lnTo>
                    <a:lnTo>
                      <a:pt x="30" y="75"/>
                    </a:lnTo>
                    <a:lnTo>
                      <a:pt x="13" y="75"/>
                    </a:lnTo>
                    <a:lnTo>
                      <a:pt x="8" y="75"/>
                    </a:lnTo>
                    <a:lnTo>
                      <a:pt x="4" y="71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30" y="4"/>
                    </a:lnTo>
                    <a:lnTo>
                      <a:pt x="52" y="8"/>
                    </a:lnTo>
                    <a:lnTo>
                      <a:pt x="88" y="13"/>
                    </a:lnTo>
                    <a:lnTo>
                      <a:pt x="132" y="13"/>
                    </a:lnTo>
                    <a:lnTo>
                      <a:pt x="180" y="17"/>
                    </a:lnTo>
                    <a:lnTo>
                      <a:pt x="242" y="22"/>
                    </a:lnTo>
                    <a:lnTo>
                      <a:pt x="305" y="26"/>
                    </a:lnTo>
                    <a:lnTo>
                      <a:pt x="375" y="26"/>
                    </a:lnTo>
                    <a:lnTo>
                      <a:pt x="450" y="31"/>
                    </a:lnTo>
                    <a:lnTo>
                      <a:pt x="530" y="31"/>
                    </a:lnTo>
                    <a:lnTo>
                      <a:pt x="609" y="26"/>
                    </a:lnTo>
                    <a:lnTo>
                      <a:pt x="702" y="22"/>
                    </a:lnTo>
                    <a:lnTo>
                      <a:pt x="791" y="17"/>
                    </a:lnTo>
                    <a:lnTo>
                      <a:pt x="883" y="13"/>
                    </a:lnTo>
                    <a:lnTo>
                      <a:pt x="976" y="0"/>
                    </a:lnTo>
                    <a:lnTo>
                      <a:pt x="97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13600" y="2300400"/>
                <a:ext cx="360720" cy="16200"/>
              </a:xfrm>
              <a:custGeom>
                <a:avLst/>
                <a:gdLst/>
                <a:ahLst/>
                <a:rect l="0" t="0" r="r" b="b"/>
                <a:pathLst>
                  <a:path fill="none" w="1002" h="45">
                    <a:moveTo>
                      <a:pt x="1002" y="0"/>
                    </a:moveTo>
                    <a:lnTo>
                      <a:pt x="891" y="17"/>
                    </a:lnTo>
                    <a:lnTo>
                      <a:pt x="794" y="31"/>
                    </a:lnTo>
                    <a:lnTo>
                      <a:pt x="693" y="40"/>
                    </a:lnTo>
                    <a:lnTo>
                      <a:pt x="600" y="45"/>
                    </a:lnTo>
                    <a:lnTo>
                      <a:pt x="508" y="45"/>
                    </a:lnTo>
                    <a:lnTo>
                      <a:pt x="427" y="45"/>
                    </a:lnTo>
                    <a:lnTo>
                      <a:pt x="352" y="45"/>
                    </a:lnTo>
                    <a:lnTo>
                      <a:pt x="282" y="40"/>
                    </a:lnTo>
                    <a:lnTo>
                      <a:pt x="216" y="36"/>
                    </a:lnTo>
                    <a:lnTo>
                      <a:pt x="167" y="31"/>
                    </a:lnTo>
                    <a:lnTo>
                      <a:pt x="114" y="27"/>
                    </a:lnTo>
                    <a:lnTo>
                      <a:pt x="74" y="13"/>
                    </a:lnTo>
                    <a:lnTo>
                      <a:pt x="44" y="8"/>
                    </a:lnTo>
                    <a:lnTo>
                      <a:pt x="17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473960" y="2297160"/>
                <a:ext cx="5040" cy="8280"/>
              </a:xfrm>
              <a:custGeom>
                <a:avLst/>
                <a:gdLst/>
                <a:ahLst/>
                <a:rect l="0" t="0" r="r" b="b"/>
                <a:pathLst>
                  <a:path w="14" h="23">
                    <a:moveTo>
                      <a:pt x="0" y="0"/>
                    </a:moveTo>
                    <a:lnTo>
                      <a:pt x="9" y="0"/>
                    </a:lnTo>
                    <a:lnTo>
                      <a:pt x="14" y="18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08920" y="2297160"/>
                <a:ext cx="6840" cy="8280"/>
              </a:xfrm>
              <a:custGeom>
                <a:avLst/>
                <a:gdLst/>
                <a:ahLst/>
                <a:rect l="0" t="0" r="r" b="b"/>
                <a:pathLst>
                  <a:path w="19" h="23">
                    <a:moveTo>
                      <a:pt x="15" y="23"/>
                    </a:moveTo>
                    <a:lnTo>
                      <a:pt x="0" y="23"/>
                    </a:lnTo>
                    <a:lnTo>
                      <a:pt x="4" y="0"/>
                    </a:lnTo>
                    <a:lnTo>
                      <a:pt x="19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696873"/>
              </a:solidFill>
              <a:ln w="12600">
                <a:solidFill>
                  <a:srgbClr val="696873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21480" y="2274840"/>
                <a:ext cx="9720" cy="20880"/>
              </a:xfrm>
              <a:custGeom>
                <a:avLst/>
                <a:gdLst/>
                <a:ahLst/>
                <a:rect l="0" t="0" r="r" b="b"/>
                <a:pathLst>
                  <a:path w="27" h="58">
                    <a:moveTo>
                      <a:pt x="27" y="58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21480" y="2274840"/>
                <a:ext cx="9720" cy="12960"/>
              </a:xfrm>
              <a:custGeom>
                <a:avLst/>
                <a:gdLst/>
                <a:ahLst/>
                <a:rect l="0" t="0" r="r" b="b"/>
                <a:pathLst>
                  <a:path w="27" h="36">
                    <a:moveTo>
                      <a:pt x="0" y="36"/>
                    </a:moveTo>
                    <a:lnTo>
                      <a:pt x="14" y="0"/>
                    </a:lnTo>
                    <a:lnTo>
                      <a:pt x="2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24720" y="228600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86440" y="2119320"/>
                <a:ext cx="217800" cy="174960"/>
              </a:xfrm>
              <a:custGeom>
                <a:avLst/>
                <a:gdLst/>
                <a:ahLst/>
                <a:rect l="0" t="0" r="r" b="b"/>
                <a:pathLst>
                  <a:path w="605" h="486">
                    <a:moveTo>
                      <a:pt x="605" y="472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05" y="486"/>
                    </a:lnTo>
                    <a:lnTo>
                      <a:pt x="605" y="4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86600" y="229716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77240" y="228744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66080" y="2281320"/>
                <a:ext cx="6840" cy="9720"/>
              </a:xfrm>
              <a:custGeom>
                <a:avLst/>
                <a:gdLst/>
                <a:ahLst/>
                <a:rect l="0" t="0" r="r" b="b"/>
                <a:pathLst>
                  <a:path w="19" h="27">
                    <a:moveTo>
                      <a:pt x="19" y="0"/>
                    </a:moveTo>
                    <a:lnTo>
                      <a:pt x="19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56360" y="2271600"/>
                <a:ext cx="5040" cy="12960"/>
              </a:xfrm>
              <a:custGeom>
                <a:avLst/>
                <a:gdLst/>
                <a:ahLst/>
                <a:rect l="0" t="0" r="r" b="b"/>
                <a:pathLst>
                  <a:path w="14" h="36">
                    <a:moveTo>
                      <a:pt x="14" y="0"/>
                    </a:moveTo>
                    <a:lnTo>
                      <a:pt x="14" y="31"/>
                    </a:lnTo>
                    <a:lnTo>
                      <a:pt x="0" y="36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047000" y="2265480"/>
                <a:ext cx="5040" cy="9720"/>
              </a:xfrm>
              <a:custGeom>
                <a:avLst/>
                <a:gdLst/>
                <a:ahLst/>
                <a:rect l="0" t="0" r="r" b="b"/>
                <a:pathLst>
                  <a:path w="14" h="27">
                    <a:moveTo>
                      <a:pt x="14" y="0"/>
                    </a:moveTo>
                    <a:lnTo>
                      <a:pt x="14" y="23"/>
                    </a:lnTo>
                    <a:lnTo>
                      <a:pt x="0" y="27"/>
                    </a:lnTo>
                    <a:lnTo>
                      <a:pt x="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35840" y="2255760"/>
                <a:ext cx="5040" cy="11520"/>
              </a:xfrm>
              <a:custGeom>
                <a:avLst/>
                <a:gdLst/>
                <a:ahLst/>
                <a:rect l="0" t="0" r="r" b="b"/>
                <a:pathLst>
                  <a:path w="14" h="32">
                    <a:moveTo>
                      <a:pt x="14" y="0"/>
                    </a:moveTo>
                    <a:lnTo>
                      <a:pt x="14" y="28"/>
                    </a:lnTo>
                    <a:lnTo>
                      <a:pt x="0" y="32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88240" y="2084400"/>
                <a:ext cx="679680" cy="184680"/>
              </a:xfrm>
              <a:custGeom>
                <a:avLst/>
                <a:gdLst/>
                <a:ahLst/>
                <a:rect l="0" t="0" r="r" b="b"/>
                <a:pathLst>
                  <a:path w="1888" h="513">
                    <a:moveTo>
                      <a:pt x="621" y="482"/>
                    </a:moveTo>
                    <a:lnTo>
                      <a:pt x="643" y="487"/>
                    </a:lnTo>
                    <a:lnTo>
                      <a:pt x="670" y="491"/>
                    </a:lnTo>
                    <a:lnTo>
                      <a:pt x="696" y="491"/>
                    </a:lnTo>
                    <a:lnTo>
                      <a:pt x="718" y="495"/>
                    </a:lnTo>
                    <a:lnTo>
                      <a:pt x="749" y="500"/>
                    </a:lnTo>
                    <a:lnTo>
                      <a:pt x="780" y="500"/>
                    </a:lnTo>
                    <a:lnTo>
                      <a:pt x="811" y="504"/>
                    </a:lnTo>
                    <a:lnTo>
                      <a:pt x="846" y="504"/>
                    </a:lnTo>
                    <a:lnTo>
                      <a:pt x="877" y="509"/>
                    </a:lnTo>
                    <a:lnTo>
                      <a:pt x="912" y="509"/>
                    </a:lnTo>
                    <a:lnTo>
                      <a:pt x="953" y="513"/>
                    </a:lnTo>
                    <a:lnTo>
                      <a:pt x="993" y="513"/>
                    </a:lnTo>
                    <a:lnTo>
                      <a:pt x="1028" y="513"/>
                    </a:lnTo>
                    <a:lnTo>
                      <a:pt x="1068" y="513"/>
                    </a:lnTo>
                    <a:lnTo>
                      <a:pt x="1112" y="513"/>
                    </a:lnTo>
                    <a:lnTo>
                      <a:pt x="1151" y="513"/>
                    </a:lnTo>
                    <a:lnTo>
                      <a:pt x="1182" y="513"/>
                    </a:lnTo>
                    <a:lnTo>
                      <a:pt x="1213" y="513"/>
                    </a:lnTo>
                    <a:lnTo>
                      <a:pt x="1244" y="513"/>
                    </a:lnTo>
                    <a:lnTo>
                      <a:pt x="1275" y="513"/>
                    </a:lnTo>
                    <a:lnTo>
                      <a:pt x="1306" y="509"/>
                    </a:lnTo>
                    <a:lnTo>
                      <a:pt x="1337" y="509"/>
                    </a:lnTo>
                    <a:lnTo>
                      <a:pt x="1363" y="509"/>
                    </a:lnTo>
                    <a:lnTo>
                      <a:pt x="1390" y="504"/>
                    </a:lnTo>
                    <a:lnTo>
                      <a:pt x="1420" y="504"/>
                    </a:lnTo>
                    <a:lnTo>
                      <a:pt x="1451" y="500"/>
                    </a:lnTo>
                    <a:lnTo>
                      <a:pt x="1478" y="500"/>
                    </a:lnTo>
                    <a:lnTo>
                      <a:pt x="1504" y="495"/>
                    </a:lnTo>
                    <a:lnTo>
                      <a:pt x="1531" y="491"/>
                    </a:lnTo>
                    <a:lnTo>
                      <a:pt x="1557" y="487"/>
                    </a:lnTo>
                    <a:lnTo>
                      <a:pt x="1588" y="482"/>
                    </a:lnTo>
                    <a:lnTo>
                      <a:pt x="1614" y="478"/>
                    </a:lnTo>
                    <a:lnTo>
                      <a:pt x="1619" y="478"/>
                    </a:lnTo>
                    <a:lnTo>
                      <a:pt x="1628" y="478"/>
                    </a:lnTo>
                    <a:lnTo>
                      <a:pt x="1641" y="478"/>
                    </a:lnTo>
                    <a:lnTo>
                      <a:pt x="1654" y="478"/>
                    </a:lnTo>
                    <a:lnTo>
                      <a:pt x="1676" y="478"/>
                    </a:lnTo>
                    <a:lnTo>
                      <a:pt x="1698" y="478"/>
                    </a:lnTo>
                    <a:lnTo>
                      <a:pt x="1725" y="478"/>
                    </a:lnTo>
                    <a:lnTo>
                      <a:pt x="1751" y="478"/>
                    </a:lnTo>
                    <a:lnTo>
                      <a:pt x="1778" y="478"/>
                    </a:lnTo>
                    <a:lnTo>
                      <a:pt x="1804" y="478"/>
                    </a:lnTo>
                    <a:lnTo>
                      <a:pt x="1822" y="478"/>
                    </a:lnTo>
                    <a:lnTo>
                      <a:pt x="1844" y="478"/>
                    </a:lnTo>
                    <a:lnTo>
                      <a:pt x="1861" y="478"/>
                    </a:lnTo>
                    <a:lnTo>
                      <a:pt x="1875" y="478"/>
                    </a:lnTo>
                    <a:lnTo>
                      <a:pt x="1883" y="478"/>
                    </a:lnTo>
                    <a:lnTo>
                      <a:pt x="1888" y="478"/>
                    </a:lnTo>
                    <a:lnTo>
                      <a:pt x="1279" y="0"/>
                    </a:lnTo>
                    <a:lnTo>
                      <a:pt x="1275" y="0"/>
                    </a:lnTo>
                    <a:lnTo>
                      <a:pt x="1271" y="0"/>
                    </a:lnTo>
                    <a:lnTo>
                      <a:pt x="1266" y="0"/>
                    </a:lnTo>
                    <a:lnTo>
                      <a:pt x="1262" y="0"/>
                    </a:lnTo>
                    <a:lnTo>
                      <a:pt x="1257" y="0"/>
                    </a:lnTo>
                    <a:lnTo>
                      <a:pt x="1253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26" y="17"/>
                    </a:lnTo>
                    <a:lnTo>
                      <a:pt x="57" y="39"/>
                    </a:lnTo>
                    <a:lnTo>
                      <a:pt x="92" y="74"/>
                    </a:lnTo>
                    <a:lnTo>
                      <a:pt x="141" y="110"/>
                    </a:lnTo>
                    <a:lnTo>
                      <a:pt x="194" y="150"/>
                    </a:lnTo>
                    <a:lnTo>
                      <a:pt x="242" y="195"/>
                    </a:lnTo>
                    <a:lnTo>
                      <a:pt x="304" y="239"/>
                    </a:lnTo>
                    <a:lnTo>
                      <a:pt x="361" y="283"/>
                    </a:lnTo>
                    <a:lnTo>
                      <a:pt x="414" y="327"/>
                    </a:lnTo>
                    <a:lnTo>
                      <a:pt x="467" y="367"/>
                    </a:lnTo>
                    <a:lnTo>
                      <a:pt x="515" y="403"/>
                    </a:lnTo>
                    <a:lnTo>
                      <a:pt x="551" y="434"/>
                    </a:lnTo>
                    <a:lnTo>
                      <a:pt x="586" y="456"/>
                    </a:lnTo>
                    <a:lnTo>
                      <a:pt x="604" y="473"/>
                    </a:lnTo>
                    <a:lnTo>
                      <a:pt x="612" y="478"/>
                    </a:lnTo>
                    <a:lnTo>
                      <a:pt x="621" y="482"/>
                    </a:lnTo>
                    <a:close/>
                  </a:path>
                </a:pathLst>
              </a:custGeom>
              <a:solidFill>
                <a:srgbClr val="bdbdc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964200" y="2084400"/>
                <a:ext cx="230400" cy="182880"/>
              </a:xfrm>
              <a:custGeom>
                <a:avLst/>
                <a:gdLst/>
                <a:ahLst/>
                <a:rect l="0" t="0" r="r" b="b"/>
                <a:pathLst>
                  <a:path w="640" h="508">
                    <a:moveTo>
                      <a:pt x="0" y="0"/>
                    </a:moveTo>
                    <a:lnTo>
                      <a:pt x="613" y="503"/>
                    </a:lnTo>
                    <a:lnTo>
                      <a:pt x="618" y="503"/>
                    </a:lnTo>
                    <a:lnTo>
                      <a:pt x="622" y="503"/>
                    </a:lnTo>
                    <a:lnTo>
                      <a:pt x="627" y="503"/>
                    </a:lnTo>
                    <a:lnTo>
                      <a:pt x="627" y="508"/>
                    </a:lnTo>
                    <a:lnTo>
                      <a:pt x="631" y="508"/>
                    </a:lnTo>
                    <a:lnTo>
                      <a:pt x="636" y="508"/>
                    </a:lnTo>
                    <a:lnTo>
                      <a:pt x="640" y="508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010280" y="2084400"/>
                <a:ext cx="233640" cy="184680"/>
              </a:xfrm>
              <a:custGeom>
                <a:avLst/>
                <a:gdLst/>
                <a:ahLst/>
                <a:rect l="0" t="0" r="r" b="b"/>
                <a:pathLst>
                  <a:path w="649" h="513">
                    <a:moveTo>
                      <a:pt x="0" y="0"/>
                    </a:moveTo>
                    <a:lnTo>
                      <a:pt x="622" y="513"/>
                    </a:lnTo>
                    <a:lnTo>
                      <a:pt x="627" y="513"/>
                    </a:lnTo>
                    <a:lnTo>
                      <a:pt x="631" y="513"/>
                    </a:lnTo>
                    <a:lnTo>
                      <a:pt x="636" y="513"/>
                    </a:lnTo>
                    <a:lnTo>
                      <a:pt x="640" y="513"/>
                    </a:lnTo>
                    <a:lnTo>
                      <a:pt x="644" y="513"/>
                    </a:lnTo>
                    <a:lnTo>
                      <a:pt x="649" y="513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59600" y="208440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05680" y="2084400"/>
                <a:ext cx="232200" cy="184680"/>
              </a:xfrm>
              <a:custGeom>
                <a:avLst/>
                <a:gdLst/>
                <a:ahLst/>
                <a:rect l="0" t="0" r="r" b="b"/>
                <a:pathLst>
                  <a:path w="645" h="513">
                    <a:moveTo>
                      <a:pt x="0" y="0"/>
                    </a:moveTo>
                    <a:lnTo>
                      <a:pt x="623" y="513"/>
                    </a:lnTo>
                    <a:lnTo>
                      <a:pt x="628" y="513"/>
                    </a:lnTo>
                    <a:lnTo>
                      <a:pt x="632" y="513"/>
                    </a:lnTo>
                    <a:lnTo>
                      <a:pt x="637" y="513"/>
                    </a:lnTo>
                    <a:lnTo>
                      <a:pt x="641" y="513"/>
                    </a:lnTo>
                    <a:lnTo>
                      <a:pt x="645" y="51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53200" y="2084400"/>
                <a:ext cx="228960" cy="182880"/>
              </a:xfrm>
              <a:custGeom>
                <a:avLst/>
                <a:gdLst/>
                <a:ahLst/>
                <a:rect l="0" t="0" r="r" b="b"/>
                <a:pathLst>
                  <a:path w="636" h="508">
                    <a:moveTo>
                      <a:pt x="0" y="0"/>
                    </a:moveTo>
                    <a:lnTo>
                      <a:pt x="614" y="508"/>
                    </a:lnTo>
                    <a:lnTo>
                      <a:pt x="619" y="508"/>
                    </a:lnTo>
                    <a:lnTo>
                      <a:pt x="623" y="508"/>
                    </a:lnTo>
                    <a:lnTo>
                      <a:pt x="623" y="503"/>
                    </a:lnTo>
                    <a:lnTo>
                      <a:pt x="628" y="503"/>
                    </a:lnTo>
                    <a:lnTo>
                      <a:pt x="632" y="503"/>
                    </a:lnTo>
                    <a:lnTo>
                      <a:pt x="636" y="503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58040" y="2254320"/>
                <a:ext cx="24120" cy="24120"/>
              </a:xfrm>
              <a:custGeom>
                <a:avLst/>
                <a:gdLst/>
                <a:ahLst/>
                <a:rect l="0" t="0" r="r" b="b"/>
                <a:pathLst>
                  <a:path w="67" h="67">
                    <a:moveTo>
                      <a:pt x="0" y="0"/>
                    </a:moveTo>
                    <a:lnTo>
                      <a:pt x="49" y="45"/>
                    </a:lnTo>
                    <a:lnTo>
                      <a:pt x="49" y="49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53" y="67"/>
                    </a:lnTo>
                    <a:lnTo>
                      <a:pt x="58" y="67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7" y="53"/>
                    </a:lnTo>
                    <a:lnTo>
                      <a:pt x="67" y="49"/>
                    </a:lnTo>
                    <a:lnTo>
                      <a:pt x="67" y="45"/>
                    </a:lnTo>
                    <a:lnTo>
                      <a:pt x="67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08720" y="2255760"/>
                <a:ext cx="28800" cy="24120"/>
              </a:xfrm>
              <a:custGeom>
                <a:avLst/>
                <a:gdLst/>
                <a:ahLst/>
                <a:rect l="0" t="0" r="r" b="b"/>
                <a:pathLst>
                  <a:path w="80" h="67">
                    <a:moveTo>
                      <a:pt x="0" y="0"/>
                    </a:moveTo>
                    <a:lnTo>
                      <a:pt x="62" y="40"/>
                    </a:ln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8"/>
                    </a:lnTo>
                    <a:lnTo>
                      <a:pt x="62" y="62"/>
                    </a:lnTo>
                    <a:lnTo>
                      <a:pt x="62" y="67"/>
                    </a:lnTo>
                    <a:lnTo>
                      <a:pt x="67" y="67"/>
                    </a:lnTo>
                    <a:lnTo>
                      <a:pt x="71" y="67"/>
                    </a:lnTo>
                    <a:lnTo>
                      <a:pt x="75" y="67"/>
                    </a:lnTo>
                    <a:lnTo>
                      <a:pt x="80" y="67"/>
                    </a:lnTo>
                    <a:lnTo>
                      <a:pt x="80" y="62"/>
                    </a:lnTo>
                    <a:lnTo>
                      <a:pt x="80" y="58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80" y="4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62640" y="225576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5"/>
                    </a:ln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80" y="45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15120" y="2254320"/>
                <a:ext cx="28800" cy="25920"/>
              </a:xfrm>
              <a:custGeom>
                <a:avLst/>
                <a:gdLst/>
                <a:ahLst/>
                <a:rect l="0" t="0" r="r" b="b"/>
                <a:pathLst>
                  <a:path w="80" h="72">
                    <a:moveTo>
                      <a:pt x="0" y="0"/>
                    </a:moveTo>
                    <a:lnTo>
                      <a:pt x="62" y="49"/>
                    </a:lnTo>
                    <a:lnTo>
                      <a:pt x="62" y="53"/>
                    </a:lnTo>
                    <a:lnTo>
                      <a:pt x="62" y="59"/>
                    </a:lnTo>
                    <a:lnTo>
                      <a:pt x="62" y="63"/>
                    </a:lnTo>
                    <a:lnTo>
                      <a:pt x="62" y="68"/>
                    </a:lnTo>
                    <a:lnTo>
                      <a:pt x="62" y="72"/>
                    </a:lnTo>
                    <a:lnTo>
                      <a:pt x="67" y="72"/>
                    </a:lnTo>
                    <a:lnTo>
                      <a:pt x="71" y="72"/>
                    </a:lnTo>
                    <a:lnTo>
                      <a:pt x="75" y="72"/>
                    </a:lnTo>
                    <a:lnTo>
                      <a:pt x="80" y="72"/>
                    </a:lnTo>
                    <a:lnTo>
                      <a:pt x="80" y="68"/>
                    </a:lnTo>
                    <a:lnTo>
                      <a:pt x="80" y="63"/>
                    </a:lnTo>
                    <a:lnTo>
                      <a:pt x="80" y="59"/>
                    </a:lnTo>
                    <a:lnTo>
                      <a:pt x="80" y="53"/>
                    </a:lnTo>
                    <a:lnTo>
                      <a:pt x="80" y="49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69040" y="2255760"/>
                <a:ext cx="25920" cy="22680"/>
              </a:xfrm>
              <a:custGeom>
                <a:avLst/>
                <a:gdLst/>
                <a:ahLst/>
                <a:rect l="0" t="0" r="r" b="b"/>
                <a:pathLst>
                  <a:path w="72" h="63">
                    <a:moveTo>
                      <a:pt x="0" y="0"/>
                    </a:moveTo>
                    <a:lnTo>
                      <a:pt x="53" y="40"/>
                    </a:lnTo>
                    <a:lnTo>
                      <a:pt x="53" y="45"/>
                    </a:lnTo>
                    <a:lnTo>
                      <a:pt x="53" y="50"/>
                    </a:lnTo>
                    <a:lnTo>
                      <a:pt x="53" y="54"/>
                    </a:lnTo>
                    <a:lnTo>
                      <a:pt x="53" y="59"/>
                    </a:lnTo>
                    <a:lnTo>
                      <a:pt x="53" y="63"/>
                    </a:lnTo>
                    <a:lnTo>
                      <a:pt x="59" y="63"/>
                    </a:lnTo>
                    <a:lnTo>
                      <a:pt x="63" y="63"/>
                    </a:lnTo>
                    <a:lnTo>
                      <a:pt x="68" y="63"/>
                    </a:lnTo>
                    <a:lnTo>
                      <a:pt x="72" y="63"/>
                    </a:lnTo>
                    <a:lnTo>
                      <a:pt x="72" y="59"/>
                    </a:lnTo>
                    <a:lnTo>
                      <a:pt x="72" y="54"/>
                    </a:lnTo>
                    <a:lnTo>
                      <a:pt x="72" y="50"/>
                    </a:lnTo>
                    <a:lnTo>
                      <a:pt x="72" y="45"/>
                    </a:lnTo>
                    <a:lnTo>
                      <a:pt x="72" y="4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8177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94600" y="2278080"/>
                <a:ext cx="1440" cy="0"/>
              </a:xfrm>
              <a:custGeom>
                <a:avLst/>
                <a:gdLst/>
                <a:ahLst/>
                <a:rect l="0" t="0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c91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424640" y="3129120"/>
            <a:ext cx="1022760" cy="366480"/>
            <a:chOff x="7424640" y="3129120"/>
            <a:chExt cx="1022760" cy="366480"/>
          </a:xfrm>
        </p:grpSpPr>
        <p:sp>
          <p:nvSpPr>
            <p:cNvPr id="439" name=""/>
            <p:cNvSpPr/>
            <p:nvPr/>
          </p:nvSpPr>
          <p:spPr>
            <a:xfrm>
              <a:off x="7875720" y="3209760"/>
              <a:ext cx="309600" cy="22572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0400" y="3182760"/>
              <a:ext cx="13500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24640" y="3321000"/>
              <a:ext cx="76356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36080" y="3454560"/>
              <a:ext cx="12852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59920" y="339732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96120" y="326556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15400" y="312912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86440" y="3176640"/>
            <a:ext cx="684720" cy="236880"/>
            <a:chOff x="6886440" y="3176640"/>
            <a:chExt cx="684720" cy="236880"/>
          </a:xfrm>
        </p:grpSpPr>
        <p:sp>
          <p:nvSpPr>
            <p:cNvPr id="447" name=""/>
            <p:cNvSpPr/>
            <p:nvPr/>
          </p:nvSpPr>
          <p:spPr>
            <a:xfrm>
              <a:off x="7108920" y="3357720"/>
              <a:ext cx="462240" cy="54360"/>
            </a:xfrm>
            <a:custGeom>
              <a:avLst/>
              <a:gdLst/>
              <a:ahLst/>
              <a:rect l="0" t="0" r="r" b="b"/>
              <a:pathLst>
                <a:path w="1284" h="151">
                  <a:moveTo>
                    <a:pt x="0" y="138"/>
                  </a:moveTo>
                  <a:lnTo>
                    <a:pt x="0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4" y="151"/>
                  </a:lnTo>
                  <a:lnTo>
                    <a:pt x="8" y="151"/>
                  </a:lnTo>
                  <a:lnTo>
                    <a:pt x="1266" y="151"/>
                  </a:lnTo>
                  <a:lnTo>
                    <a:pt x="1271" y="151"/>
                  </a:lnTo>
                  <a:lnTo>
                    <a:pt x="1275" y="151"/>
                  </a:lnTo>
                  <a:lnTo>
                    <a:pt x="1279" y="151"/>
                  </a:lnTo>
                  <a:lnTo>
                    <a:pt x="1279" y="147"/>
                  </a:lnTo>
                  <a:lnTo>
                    <a:pt x="1279" y="143"/>
                  </a:lnTo>
                  <a:lnTo>
                    <a:pt x="1284" y="143"/>
                  </a:lnTo>
                  <a:lnTo>
                    <a:pt x="1284" y="138"/>
                  </a:lnTo>
                  <a:lnTo>
                    <a:pt x="1284" y="13"/>
                  </a:lnTo>
                  <a:lnTo>
                    <a:pt x="1284" y="8"/>
                  </a:lnTo>
                  <a:lnTo>
                    <a:pt x="1279" y="8"/>
                  </a:lnTo>
                  <a:lnTo>
                    <a:pt x="1279" y="4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6440" y="3176640"/>
              <a:ext cx="219600" cy="236880"/>
            </a:xfrm>
            <a:custGeom>
              <a:avLst/>
              <a:gdLst/>
              <a:ahLst/>
              <a:rect l="0" t="0" r="r" b="b"/>
              <a:pathLst>
                <a:path w="610" h="658">
                  <a:moveTo>
                    <a:pt x="0" y="1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606" y="490"/>
                  </a:lnTo>
                  <a:lnTo>
                    <a:pt x="610" y="490"/>
                  </a:lnTo>
                  <a:lnTo>
                    <a:pt x="610" y="494"/>
                  </a:lnTo>
                  <a:lnTo>
                    <a:pt x="606" y="499"/>
                  </a:lnTo>
                  <a:lnTo>
                    <a:pt x="606" y="503"/>
                  </a:lnTo>
                  <a:lnTo>
                    <a:pt x="606" y="508"/>
                  </a:lnTo>
                  <a:lnTo>
                    <a:pt x="606" y="649"/>
                  </a:lnTo>
                  <a:lnTo>
                    <a:pt x="606" y="653"/>
                  </a:lnTo>
                  <a:lnTo>
                    <a:pt x="601" y="653"/>
                  </a:lnTo>
                  <a:lnTo>
                    <a:pt x="601" y="658"/>
                  </a:lnTo>
                  <a:lnTo>
                    <a:pt x="597" y="658"/>
                  </a:lnTo>
                  <a:lnTo>
                    <a:pt x="597" y="653"/>
                  </a:lnTo>
                  <a:lnTo>
                    <a:pt x="592" y="653"/>
                  </a:lnTo>
                  <a:lnTo>
                    <a:pt x="13" y="176"/>
                  </a:lnTo>
                  <a:lnTo>
                    <a:pt x="8" y="176"/>
                  </a:lnTo>
                  <a:lnTo>
                    <a:pt x="8" y="171"/>
                  </a:lnTo>
                  <a:lnTo>
                    <a:pt x="4" y="167"/>
                  </a:lnTo>
                  <a:lnTo>
                    <a:pt x="4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73960" y="3357720"/>
              <a:ext cx="97200" cy="24120"/>
            </a:xfrm>
            <a:custGeom>
              <a:avLst/>
              <a:gdLst/>
              <a:ahLst/>
              <a:rect l="0" t="0" r="r" b="b"/>
              <a:pathLst>
                <a:path w="270" h="67">
                  <a:moveTo>
                    <a:pt x="0" y="67"/>
                  </a:moveTo>
                  <a:lnTo>
                    <a:pt x="270" y="67"/>
                  </a:lnTo>
                  <a:lnTo>
                    <a:pt x="270" y="62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70" y="45"/>
                  </a:lnTo>
                  <a:lnTo>
                    <a:pt x="270" y="40"/>
                  </a:lnTo>
                  <a:lnTo>
                    <a:pt x="270" y="36"/>
                  </a:lnTo>
                  <a:lnTo>
                    <a:pt x="270" y="30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0" y="13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6" y="4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89800" y="3392640"/>
              <a:ext cx="7776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13600" y="3359160"/>
              <a:ext cx="351360" cy="38520"/>
            </a:xfrm>
            <a:custGeom>
              <a:avLst/>
              <a:gdLst/>
              <a:ahLst/>
              <a:rect l="0" t="0" r="r" b="b"/>
              <a:pathLst>
                <a:path w="976" h="107">
                  <a:moveTo>
                    <a:pt x="976" y="71"/>
                  </a:moveTo>
                  <a:lnTo>
                    <a:pt x="870" y="90"/>
                  </a:lnTo>
                  <a:lnTo>
                    <a:pt x="773" y="94"/>
                  </a:lnTo>
                  <a:lnTo>
                    <a:pt x="675" y="103"/>
                  </a:lnTo>
                  <a:lnTo>
                    <a:pt x="587" y="107"/>
                  </a:lnTo>
                  <a:lnTo>
                    <a:pt x="499" y="107"/>
                  </a:lnTo>
                  <a:lnTo>
                    <a:pt x="419" y="107"/>
                  </a:lnTo>
                  <a:lnTo>
                    <a:pt x="349" y="107"/>
                  </a:lnTo>
                  <a:lnTo>
                    <a:pt x="278" y="103"/>
                  </a:lnTo>
                  <a:lnTo>
                    <a:pt x="220" y="99"/>
                  </a:lnTo>
                  <a:lnTo>
                    <a:pt x="163" y="94"/>
                  </a:lnTo>
                  <a:lnTo>
                    <a:pt x="119" y="94"/>
                  </a:lnTo>
                  <a:lnTo>
                    <a:pt x="79" y="85"/>
                  </a:lnTo>
                  <a:lnTo>
                    <a:pt x="52" y="81"/>
                  </a:lnTo>
                  <a:lnTo>
                    <a:pt x="30" y="75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30" y="4"/>
                  </a:lnTo>
                  <a:lnTo>
                    <a:pt x="52" y="8"/>
                  </a:lnTo>
                  <a:lnTo>
                    <a:pt x="88" y="13"/>
                  </a:lnTo>
                  <a:lnTo>
                    <a:pt x="132" y="13"/>
                  </a:lnTo>
                  <a:lnTo>
                    <a:pt x="180" y="17"/>
                  </a:lnTo>
                  <a:lnTo>
                    <a:pt x="242" y="22"/>
                  </a:lnTo>
                  <a:lnTo>
                    <a:pt x="305" y="26"/>
                  </a:lnTo>
                  <a:lnTo>
                    <a:pt x="375" y="26"/>
                  </a:lnTo>
                  <a:lnTo>
                    <a:pt x="450" y="31"/>
                  </a:lnTo>
                  <a:lnTo>
                    <a:pt x="530" y="31"/>
                  </a:lnTo>
                  <a:lnTo>
                    <a:pt x="609" y="26"/>
                  </a:lnTo>
                  <a:lnTo>
                    <a:pt x="702" y="22"/>
                  </a:lnTo>
                  <a:lnTo>
                    <a:pt x="791" y="17"/>
                  </a:lnTo>
                  <a:lnTo>
                    <a:pt x="883" y="13"/>
                  </a:lnTo>
                  <a:lnTo>
                    <a:pt x="976" y="0"/>
                  </a:lnTo>
                  <a:lnTo>
                    <a:pt x="97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3392640"/>
              <a:ext cx="360720" cy="16200"/>
            </a:xfrm>
            <a:custGeom>
              <a:avLst/>
              <a:gdLst/>
              <a:ahLst/>
              <a:rect l="0" t="0" r="r" b="b"/>
              <a:pathLst>
                <a:path fill="none" w="1002" h="45">
                  <a:moveTo>
                    <a:pt x="1002" y="0"/>
                  </a:moveTo>
                  <a:lnTo>
                    <a:pt x="891" y="17"/>
                  </a:lnTo>
                  <a:lnTo>
                    <a:pt x="794" y="31"/>
                  </a:lnTo>
                  <a:lnTo>
                    <a:pt x="693" y="40"/>
                  </a:lnTo>
                  <a:lnTo>
                    <a:pt x="600" y="45"/>
                  </a:lnTo>
                  <a:lnTo>
                    <a:pt x="508" y="45"/>
                  </a:lnTo>
                  <a:lnTo>
                    <a:pt x="427" y="45"/>
                  </a:lnTo>
                  <a:lnTo>
                    <a:pt x="352" y="45"/>
                  </a:lnTo>
                  <a:lnTo>
                    <a:pt x="282" y="40"/>
                  </a:lnTo>
                  <a:lnTo>
                    <a:pt x="216" y="36"/>
                  </a:lnTo>
                  <a:lnTo>
                    <a:pt x="167" y="31"/>
                  </a:lnTo>
                  <a:lnTo>
                    <a:pt x="114" y="27"/>
                  </a:lnTo>
                  <a:lnTo>
                    <a:pt x="74" y="13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73960" y="338940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0" y="0"/>
                  </a:moveTo>
                  <a:lnTo>
                    <a:pt x="9" y="0"/>
                  </a:lnTo>
                  <a:lnTo>
                    <a:pt x="14" y="1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08920" y="33894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5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1480" y="336708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7" y="58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1480" y="336708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36"/>
                  </a:moveTo>
                  <a:lnTo>
                    <a:pt x="14" y="0"/>
                  </a:lnTo>
                  <a:lnTo>
                    <a:pt x="2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24720" y="33782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86440" y="3211560"/>
              <a:ext cx="217800" cy="174960"/>
            </a:xfrm>
            <a:custGeom>
              <a:avLst/>
              <a:gdLst/>
              <a:ahLst/>
              <a:rect l="0" t="0" r="r" b="b"/>
              <a:pathLst>
                <a:path w="605" h="486">
                  <a:moveTo>
                    <a:pt x="605" y="472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05" y="486"/>
                  </a:lnTo>
                  <a:lnTo>
                    <a:pt x="605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86600" y="338940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77240" y="337968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6080" y="337356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19" y="0"/>
                  </a:moveTo>
                  <a:lnTo>
                    <a:pt x="19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56360" y="336384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47000" y="335772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35840" y="334800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14" y="0"/>
                  </a:moveTo>
                  <a:lnTo>
                    <a:pt x="14" y="28"/>
                  </a:lnTo>
                  <a:lnTo>
                    <a:pt x="0" y="32"/>
                  </a:lnTo>
                  <a:lnTo>
                    <a:pt x="0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88240" y="3176640"/>
              <a:ext cx="679680" cy="184680"/>
            </a:xfrm>
            <a:custGeom>
              <a:avLst/>
              <a:gdLst/>
              <a:ahLst/>
              <a:rect l="0" t="0" r="r" b="b"/>
              <a:pathLst>
                <a:path w="1888" h="513">
                  <a:moveTo>
                    <a:pt x="621" y="482"/>
                  </a:moveTo>
                  <a:lnTo>
                    <a:pt x="643" y="487"/>
                  </a:lnTo>
                  <a:lnTo>
                    <a:pt x="670" y="491"/>
                  </a:lnTo>
                  <a:lnTo>
                    <a:pt x="696" y="491"/>
                  </a:lnTo>
                  <a:lnTo>
                    <a:pt x="718" y="495"/>
                  </a:lnTo>
                  <a:lnTo>
                    <a:pt x="749" y="500"/>
                  </a:lnTo>
                  <a:lnTo>
                    <a:pt x="780" y="500"/>
                  </a:lnTo>
                  <a:lnTo>
                    <a:pt x="811" y="504"/>
                  </a:lnTo>
                  <a:lnTo>
                    <a:pt x="846" y="504"/>
                  </a:lnTo>
                  <a:lnTo>
                    <a:pt x="877" y="509"/>
                  </a:lnTo>
                  <a:lnTo>
                    <a:pt x="912" y="509"/>
                  </a:lnTo>
                  <a:lnTo>
                    <a:pt x="953" y="513"/>
                  </a:lnTo>
                  <a:lnTo>
                    <a:pt x="993" y="513"/>
                  </a:lnTo>
                  <a:lnTo>
                    <a:pt x="1028" y="513"/>
                  </a:lnTo>
                  <a:lnTo>
                    <a:pt x="1068" y="513"/>
                  </a:lnTo>
                  <a:lnTo>
                    <a:pt x="1112" y="513"/>
                  </a:lnTo>
                  <a:lnTo>
                    <a:pt x="1151" y="513"/>
                  </a:lnTo>
                  <a:lnTo>
                    <a:pt x="1182" y="513"/>
                  </a:lnTo>
                  <a:lnTo>
                    <a:pt x="1213" y="513"/>
                  </a:lnTo>
                  <a:lnTo>
                    <a:pt x="1244" y="513"/>
                  </a:lnTo>
                  <a:lnTo>
                    <a:pt x="1275" y="513"/>
                  </a:lnTo>
                  <a:lnTo>
                    <a:pt x="1306" y="509"/>
                  </a:lnTo>
                  <a:lnTo>
                    <a:pt x="1337" y="509"/>
                  </a:lnTo>
                  <a:lnTo>
                    <a:pt x="1363" y="509"/>
                  </a:lnTo>
                  <a:lnTo>
                    <a:pt x="1390" y="504"/>
                  </a:lnTo>
                  <a:lnTo>
                    <a:pt x="1420" y="504"/>
                  </a:lnTo>
                  <a:lnTo>
                    <a:pt x="1451" y="500"/>
                  </a:lnTo>
                  <a:lnTo>
                    <a:pt x="1478" y="500"/>
                  </a:lnTo>
                  <a:lnTo>
                    <a:pt x="1504" y="495"/>
                  </a:lnTo>
                  <a:lnTo>
                    <a:pt x="1531" y="491"/>
                  </a:lnTo>
                  <a:lnTo>
                    <a:pt x="1557" y="487"/>
                  </a:lnTo>
                  <a:lnTo>
                    <a:pt x="1588" y="482"/>
                  </a:lnTo>
                  <a:lnTo>
                    <a:pt x="1614" y="478"/>
                  </a:lnTo>
                  <a:lnTo>
                    <a:pt x="1619" y="478"/>
                  </a:lnTo>
                  <a:lnTo>
                    <a:pt x="1628" y="478"/>
                  </a:lnTo>
                  <a:lnTo>
                    <a:pt x="1641" y="478"/>
                  </a:lnTo>
                  <a:lnTo>
                    <a:pt x="1654" y="478"/>
                  </a:lnTo>
                  <a:lnTo>
                    <a:pt x="1676" y="478"/>
                  </a:lnTo>
                  <a:lnTo>
                    <a:pt x="1698" y="478"/>
                  </a:lnTo>
                  <a:lnTo>
                    <a:pt x="1725" y="478"/>
                  </a:lnTo>
                  <a:lnTo>
                    <a:pt x="1751" y="478"/>
                  </a:lnTo>
                  <a:lnTo>
                    <a:pt x="1778" y="478"/>
                  </a:lnTo>
                  <a:lnTo>
                    <a:pt x="1804" y="478"/>
                  </a:lnTo>
                  <a:lnTo>
                    <a:pt x="1822" y="478"/>
                  </a:lnTo>
                  <a:lnTo>
                    <a:pt x="1844" y="478"/>
                  </a:lnTo>
                  <a:lnTo>
                    <a:pt x="1861" y="478"/>
                  </a:lnTo>
                  <a:lnTo>
                    <a:pt x="1875" y="478"/>
                  </a:lnTo>
                  <a:lnTo>
                    <a:pt x="1883" y="478"/>
                  </a:lnTo>
                  <a:lnTo>
                    <a:pt x="1888" y="478"/>
                  </a:lnTo>
                  <a:lnTo>
                    <a:pt x="1279" y="0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57" y="0"/>
                  </a:lnTo>
                  <a:lnTo>
                    <a:pt x="1253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26" y="17"/>
                  </a:lnTo>
                  <a:lnTo>
                    <a:pt x="57" y="39"/>
                  </a:lnTo>
                  <a:lnTo>
                    <a:pt x="92" y="74"/>
                  </a:lnTo>
                  <a:lnTo>
                    <a:pt x="141" y="110"/>
                  </a:lnTo>
                  <a:lnTo>
                    <a:pt x="194" y="150"/>
                  </a:lnTo>
                  <a:lnTo>
                    <a:pt x="242" y="195"/>
                  </a:lnTo>
                  <a:lnTo>
                    <a:pt x="304" y="239"/>
                  </a:lnTo>
                  <a:lnTo>
                    <a:pt x="361" y="283"/>
                  </a:lnTo>
                  <a:lnTo>
                    <a:pt x="414" y="327"/>
                  </a:lnTo>
                  <a:lnTo>
                    <a:pt x="467" y="367"/>
                  </a:lnTo>
                  <a:lnTo>
                    <a:pt x="515" y="403"/>
                  </a:lnTo>
                  <a:lnTo>
                    <a:pt x="551" y="434"/>
                  </a:lnTo>
                  <a:lnTo>
                    <a:pt x="586" y="456"/>
                  </a:lnTo>
                  <a:lnTo>
                    <a:pt x="604" y="473"/>
                  </a:lnTo>
                  <a:lnTo>
                    <a:pt x="612" y="478"/>
                  </a:lnTo>
                  <a:lnTo>
                    <a:pt x="621" y="482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4200" y="3176640"/>
              <a:ext cx="230400" cy="182880"/>
            </a:xfrm>
            <a:custGeom>
              <a:avLst/>
              <a:gdLst/>
              <a:ahLst/>
              <a:rect l="0" t="0" r="r" b="b"/>
              <a:pathLst>
                <a:path w="640" h="508">
                  <a:moveTo>
                    <a:pt x="0" y="0"/>
                  </a:moveTo>
                  <a:lnTo>
                    <a:pt x="613" y="503"/>
                  </a:lnTo>
                  <a:lnTo>
                    <a:pt x="618" y="503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27" y="508"/>
                  </a:lnTo>
                  <a:lnTo>
                    <a:pt x="631" y="508"/>
                  </a:lnTo>
                  <a:lnTo>
                    <a:pt x="636" y="508"/>
                  </a:lnTo>
                  <a:lnTo>
                    <a:pt x="640" y="508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10280" y="3176640"/>
              <a:ext cx="233640" cy="184680"/>
            </a:xfrm>
            <a:custGeom>
              <a:avLst/>
              <a:gdLst/>
              <a:ahLst/>
              <a:rect l="0" t="0" r="r" b="b"/>
              <a:pathLst>
                <a:path w="649" h="513">
                  <a:moveTo>
                    <a:pt x="0" y="0"/>
                  </a:moveTo>
                  <a:lnTo>
                    <a:pt x="622" y="513"/>
                  </a:lnTo>
                  <a:lnTo>
                    <a:pt x="627" y="513"/>
                  </a:lnTo>
                  <a:lnTo>
                    <a:pt x="631" y="513"/>
                  </a:lnTo>
                  <a:lnTo>
                    <a:pt x="636" y="513"/>
                  </a:lnTo>
                  <a:lnTo>
                    <a:pt x="640" y="513"/>
                  </a:lnTo>
                  <a:lnTo>
                    <a:pt x="644" y="513"/>
                  </a:lnTo>
                  <a:lnTo>
                    <a:pt x="649" y="513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59600" y="317664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05680" y="317664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53200" y="3176640"/>
              <a:ext cx="228960" cy="182880"/>
            </a:xfrm>
            <a:custGeom>
              <a:avLst/>
              <a:gdLst/>
              <a:ahLst/>
              <a:rect l="0" t="0" r="r" b="b"/>
              <a:pathLst>
                <a:path w="636" h="508">
                  <a:moveTo>
                    <a:pt x="0" y="0"/>
                  </a:moveTo>
                  <a:lnTo>
                    <a:pt x="614" y="508"/>
                  </a:lnTo>
                  <a:lnTo>
                    <a:pt x="619" y="508"/>
                  </a:lnTo>
                  <a:lnTo>
                    <a:pt x="623" y="508"/>
                  </a:lnTo>
                  <a:lnTo>
                    <a:pt x="623" y="503"/>
                  </a:lnTo>
                  <a:lnTo>
                    <a:pt x="628" y="503"/>
                  </a:lnTo>
                  <a:lnTo>
                    <a:pt x="632" y="503"/>
                  </a:lnTo>
                  <a:lnTo>
                    <a:pt x="636" y="50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58040" y="334656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0"/>
                  </a:moveTo>
                  <a:lnTo>
                    <a:pt x="49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53" y="67"/>
                  </a:lnTo>
                  <a:lnTo>
                    <a:pt x="58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7" y="45"/>
                  </a:lnTo>
                  <a:lnTo>
                    <a:pt x="67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08720" y="33480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0"/>
                  </a:moveTo>
                  <a:lnTo>
                    <a:pt x="62" y="40"/>
                  </a:ln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1" y="67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0" y="62"/>
                  </a:lnTo>
                  <a:lnTo>
                    <a:pt x="80" y="58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62640" y="334800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5120" y="334656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9040" y="334800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0"/>
                  </a:moveTo>
                  <a:lnTo>
                    <a:pt x="53" y="40"/>
                  </a:lnTo>
                  <a:lnTo>
                    <a:pt x="53" y="45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9" y="63"/>
                  </a:lnTo>
                  <a:lnTo>
                    <a:pt x="63" y="63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2" y="59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94600" y="337032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9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746520" y="2066760"/>
            <a:ext cx="1143360" cy="432000"/>
          </a:xfrm>
          <a:custGeom>
            <a:avLst/>
            <a:gdLst/>
            <a:ahLst/>
            <a:rect l="0" t="0" r="r" b="b"/>
            <a:pathLst>
              <a:path fill="none" w="3176" h="1200">
                <a:moveTo>
                  <a:pt x="0" y="1200"/>
                </a:moveTo>
                <a:lnTo>
                  <a:pt x="0" y="0"/>
                </a:lnTo>
                <a:lnTo>
                  <a:pt x="317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524480" y="1603440"/>
            <a:ext cx="1368360" cy="969840"/>
            <a:chOff x="4524480" y="1603440"/>
            <a:chExt cx="1368360" cy="969840"/>
          </a:xfrm>
        </p:grpSpPr>
        <p:grpSp>
          <p:nvGrpSpPr>
            <p:cNvPr id="479" name=""/>
            <p:cNvGrpSpPr/>
            <p:nvPr/>
          </p:nvGrpSpPr>
          <p:grpSpPr>
            <a:xfrm>
              <a:off x="4533840" y="1608120"/>
              <a:ext cx="1335240" cy="896760"/>
              <a:chOff x="4533840" y="1608120"/>
              <a:chExt cx="1335240" cy="896760"/>
            </a:xfrm>
          </p:grpSpPr>
          <p:sp>
            <p:nvSpPr>
              <p:cNvPr id="480" name=""/>
              <p:cNvSpPr/>
              <p:nvPr/>
            </p:nvSpPr>
            <p:spPr>
              <a:xfrm>
                <a:off x="4767120" y="160812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33840" y="184644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64160" y="210024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27600" y="196848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270400" y="191772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29240" y="189720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21440" y="167940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73800" y="179532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4524480" y="1603440"/>
              <a:ext cx="136836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 txBox="1"/>
          <p:nvPr/>
        </p:nvSpPr>
        <p:spPr>
          <a:xfrm>
            <a:off x="4530600" y="1917720"/>
            <a:ext cx="1355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40440" y="1666800"/>
            <a:ext cx="2676600" cy="201132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087960" y="1670040"/>
            <a:ext cx="262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Small Office/Hom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128000" y="2004840"/>
            <a:ext cx="601560" cy="585720"/>
            <a:chOff x="7128000" y="2004840"/>
            <a:chExt cx="601560" cy="585720"/>
          </a:xfrm>
        </p:grpSpPr>
        <p:sp>
          <p:nvSpPr>
            <p:cNvPr id="493" name=""/>
            <p:cNvSpPr txBox="1"/>
            <p:nvPr/>
          </p:nvSpPr>
          <p:spPr>
            <a:xfrm>
              <a:off x="7199280" y="2349360"/>
              <a:ext cx="46980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7128000" y="200484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5948280" y="257796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29720" y="1886040"/>
            <a:ext cx="0" cy="8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523200" y="2230560"/>
            <a:ext cx="721080" cy="357480"/>
          </a:xfrm>
          <a:custGeom>
            <a:avLst/>
            <a:gdLst/>
            <a:ahLst/>
            <a:rect l="0" t="0" r="r" b="b"/>
            <a:pathLst>
              <a:path fill="none" w="2003" h="993">
                <a:moveTo>
                  <a:pt x="0" y="993"/>
                </a:moveTo>
                <a:lnTo>
                  <a:pt x="1341" y="993"/>
                </a:lnTo>
                <a:lnTo>
                  <a:pt x="1341" y="4"/>
                </a:lnTo>
                <a:lnTo>
                  <a:pt x="2003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65920" y="2741760"/>
            <a:ext cx="572040" cy="356040"/>
          </a:xfrm>
          <a:custGeom>
            <a:avLst/>
            <a:gdLst/>
            <a:ahLst/>
            <a:rect l="0" t="0" r="r" b="b"/>
            <a:pathLst>
              <a:path fill="none" w="1589" h="989">
                <a:moveTo>
                  <a:pt x="0" y="4"/>
                </a:moveTo>
                <a:lnTo>
                  <a:pt x="388" y="0"/>
                </a:lnTo>
                <a:lnTo>
                  <a:pt x="388" y="989"/>
                </a:lnTo>
                <a:lnTo>
                  <a:pt x="1589" y="989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050240" y="2668680"/>
            <a:ext cx="6951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75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Telecommuting, SOHO &amp; Intern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0880" y="4521240"/>
            <a:ext cx="420372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ed analog and digital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rotocol routing &amp;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MP, telnet, sys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limited LAN access to the Internet &amp; other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064040" y="4521240"/>
            <a:ext cx="473220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oothConnect for eas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-effective ISDN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taneous connections between different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C 4:1 data compression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nsive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tional Secure Access Fire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1440" y="1746360"/>
            <a:ext cx="1947960" cy="1754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04720" y="1752480"/>
            <a:ext cx="2003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orpo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394000" y="259092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05400" y="2766960"/>
            <a:ext cx="1352520" cy="160956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54640" y="384480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10080" y="2773440"/>
            <a:ext cx="1343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Other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55680" y="2671920"/>
            <a:ext cx="534816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71800" y="349740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54640" y="327024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863960" y="3076560"/>
            <a:ext cx="601560" cy="585720"/>
            <a:chOff x="4863960" y="3076560"/>
            <a:chExt cx="601560" cy="585720"/>
          </a:xfrm>
        </p:grpSpPr>
        <p:sp>
          <p:nvSpPr>
            <p:cNvPr id="513" name=""/>
            <p:cNvSpPr txBox="1"/>
            <p:nvPr/>
          </p:nvSpPr>
          <p:spPr>
            <a:xfrm>
              <a:off x="4888080" y="3421080"/>
              <a:ext cx="568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3"/>
            <a:stretch/>
          </p:blipFill>
          <p:spPr>
            <a:xfrm>
              <a:off x="4863960" y="307656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3860640" y="2413080"/>
            <a:ext cx="1189440" cy="1074960"/>
          </a:xfrm>
          <a:custGeom>
            <a:avLst/>
            <a:gdLst/>
            <a:ahLst/>
            <a:rect l="0" t="0" r="r" b="b"/>
            <a:pathLst>
              <a:path fill="none" w="3304" h="2986">
                <a:moveTo>
                  <a:pt x="0" y="0"/>
                </a:moveTo>
                <a:lnTo>
                  <a:pt x="0" y="2986"/>
                </a:lnTo>
                <a:lnTo>
                  <a:pt x="1266" y="2986"/>
                </a:lnTo>
                <a:lnTo>
                  <a:pt x="798" y="2593"/>
                </a:lnTo>
                <a:lnTo>
                  <a:pt x="3304" y="2598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54520" y="4052880"/>
            <a:ext cx="646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4680" y="2633760"/>
            <a:ext cx="1592640" cy="1422720"/>
          </a:xfrm>
          <a:custGeom>
            <a:avLst/>
            <a:gdLst/>
            <a:ahLst/>
            <a:rect l="0" t="0" r="r" b="b"/>
            <a:pathLst>
              <a:path fill="none" w="4424" h="3952">
                <a:moveTo>
                  <a:pt x="0" y="0"/>
                </a:moveTo>
                <a:lnTo>
                  <a:pt x="0" y="3952"/>
                </a:lnTo>
                <a:lnTo>
                  <a:pt x="1478" y="3952"/>
                </a:lnTo>
                <a:lnTo>
                  <a:pt x="1009" y="3559"/>
                </a:lnTo>
                <a:lnTo>
                  <a:pt x="4424" y="355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854600" y="3683160"/>
            <a:ext cx="703440" cy="663480"/>
            <a:chOff x="4854600" y="3683160"/>
            <a:chExt cx="703440" cy="663480"/>
          </a:xfrm>
        </p:grpSpPr>
        <p:sp>
          <p:nvSpPr>
            <p:cNvPr id="519" name=""/>
            <p:cNvSpPr txBox="1"/>
            <p:nvPr/>
          </p:nvSpPr>
          <p:spPr>
            <a:xfrm>
              <a:off x="4854600" y="410544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4"/>
            <a:stretch/>
          </p:blipFill>
          <p:spPr>
            <a:xfrm>
              <a:off x="4889520" y="368316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"/>
          <p:cNvGrpSpPr/>
          <p:nvPr/>
        </p:nvGrpSpPr>
        <p:grpSpPr>
          <a:xfrm>
            <a:off x="3157560" y="2227320"/>
            <a:ext cx="1335240" cy="896760"/>
            <a:chOff x="3157560" y="2227320"/>
            <a:chExt cx="1335240" cy="896760"/>
          </a:xfrm>
        </p:grpSpPr>
        <p:sp>
          <p:nvSpPr>
            <p:cNvPr id="522" name=""/>
            <p:cNvSpPr/>
            <p:nvPr/>
          </p:nvSpPr>
          <p:spPr>
            <a:xfrm>
              <a:off x="3390840" y="2227320"/>
              <a:ext cx="588960" cy="514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57560" y="2465280"/>
              <a:ext cx="484200" cy="442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880" y="2719440"/>
              <a:ext cx="503280" cy="34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51320" y="2587680"/>
              <a:ext cx="584280" cy="53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94120" y="2536920"/>
              <a:ext cx="444600" cy="37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52960" y="2516040"/>
              <a:ext cx="33984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44800" y="2298600"/>
              <a:ext cx="317520" cy="37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97160" y="2414520"/>
              <a:ext cx="2048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102120" y="2222640"/>
            <a:ext cx="1395360" cy="969840"/>
            <a:chOff x="3102120" y="2222640"/>
            <a:chExt cx="1395360" cy="969840"/>
          </a:xfrm>
        </p:grpSpPr>
        <p:pic>
          <p:nvPicPr>
            <p:cNvPr id="531" name="" descr=""/>
            <p:cNvPicPr/>
            <p:nvPr/>
          </p:nvPicPr>
          <p:blipFill>
            <a:blip r:embed="rId5"/>
            <a:stretch/>
          </p:blipFill>
          <p:spPr>
            <a:xfrm>
              <a:off x="3129120" y="2222640"/>
              <a:ext cx="1368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 txBox="1"/>
            <p:nvPr/>
          </p:nvSpPr>
          <p:spPr>
            <a:xfrm>
              <a:off x="3102120" y="2460600"/>
              <a:ext cx="135576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 Serv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27120" y="2300400"/>
            <a:ext cx="669960" cy="695160"/>
            <a:chOff x="627120" y="2300400"/>
            <a:chExt cx="669960" cy="695160"/>
          </a:xfrm>
        </p:grpSpPr>
        <p:sp>
          <p:nvSpPr>
            <p:cNvPr id="534" name=""/>
            <p:cNvSpPr/>
            <p:nvPr/>
          </p:nvSpPr>
          <p:spPr>
            <a:xfrm>
              <a:off x="1227240" y="243828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2800" y="243828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08120" y="2394000"/>
              <a:ext cx="544320" cy="500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3040" y="2414520"/>
              <a:ext cx="438120" cy="4874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7320" y="291636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7320" y="238752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7120" y="230040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41560" y="230040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7120" y="281952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141560" y="281952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24160" y="2490840"/>
            <a:ext cx="957240" cy="397440"/>
            <a:chOff x="1424160" y="2490840"/>
            <a:chExt cx="957240" cy="397440"/>
          </a:xfrm>
        </p:grpSpPr>
        <p:sp>
          <p:nvSpPr>
            <p:cNvPr id="545" name=""/>
            <p:cNvSpPr/>
            <p:nvPr/>
          </p:nvSpPr>
          <p:spPr>
            <a:xfrm>
              <a:off x="1654200" y="2851200"/>
              <a:ext cx="717840" cy="9720"/>
            </a:xfrm>
            <a:custGeom>
              <a:avLst/>
              <a:gdLst/>
              <a:ahLst/>
              <a:rect l="0" t="0" r="r" b="b"/>
              <a:pathLst>
                <a:path w="1994" h="27">
                  <a:moveTo>
                    <a:pt x="0" y="27"/>
                  </a:moveTo>
                  <a:lnTo>
                    <a:pt x="0" y="0"/>
                  </a:lnTo>
                  <a:lnTo>
                    <a:pt x="1994" y="0"/>
                  </a:lnTo>
                  <a:lnTo>
                    <a:pt x="1985" y="14"/>
                  </a:lnTo>
                  <a:lnTo>
                    <a:pt x="198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06c6e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55640" y="2857680"/>
              <a:ext cx="714600" cy="30600"/>
            </a:xfrm>
            <a:custGeom>
              <a:avLst/>
              <a:gdLst/>
              <a:ahLst/>
              <a:rect l="0" t="0" r="r" b="b"/>
              <a:pathLst>
                <a:path w="1985" h="85">
                  <a:moveTo>
                    <a:pt x="1976" y="85"/>
                  </a:moveTo>
                  <a:lnTo>
                    <a:pt x="1980" y="85"/>
                  </a:lnTo>
                  <a:lnTo>
                    <a:pt x="1985" y="85"/>
                  </a:lnTo>
                  <a:lnTo>
                    <a:pt x="1985" y="81"/>
                  </a:lnTo>
                  <a:lnTo>
                    <a:pt x="1985" y="76"/>
                  </a:lnTo>
                  <a:lnTo>
                    <a:pt x="1985" y="0"/>
                  </a:lnTo>
                  <a:lnTo>
                    <a:pt x="1958" y="0"/>
                  </a:lnTo>
                  <a:lnTo>
                    <a:pt x="1897" y="0"/>
                  </a:lnTo>
                  <a:lnTo>
                    <a:pt x="1800" y="0"/>
                  </a:lnTo>
                  <a:lnTo>
                    <a:pt x="1676" y="0"/>
                  </a:lnTo>
                  <a:lnTo>
                    <a:pt x="1526" y="0"/>
                  </a:lnTo>
                  <a:lnTo>
                    <a:pt x="1363" y="0"/>
                  </a:lnTo>
                  <a:lnTo>
                    <a:pt x="1187" y="0"/>
                  </a:lnTo>
                  <a:lnTo>
                    <a:pt x="1006" y="0"/>
                  </a:lnTo>
                  <a:lnTo>
                    <a:pt x="824" y="0"/>
                  </a:lnTo>
                  <a:lnTo>
                    <a:pt x="648" y="0"/>
                  </a:lnTo>
                  <a:lnTo>
                    <a:pt x="480" y="0"/>
                  </a:lnTo>
                  <a:lnTo>
                    <a:pt x="330" y="0"/>
                  </a:lnTo>
                  <a:lnTo>
                    <a:pt x="202" y="0"/>
                  </a:lnTo>
                  <a:lnTo>
                    <a:pt x="10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97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55640" y="2679840"/>
              <a:ext cx="725760" cy="173520"/>
            </a:xfrm>
            <a:custGeom>
              <a:avLst/>
              <a:gdLst/>
              <a:ahLst/>
              <a:rect l="0" t="0" r="r" b="b"/>
              <a:pathLst>
                <a:path w="2016" h="482">
                  <a:moveTo>
                    <a:pt x="1985" y="482"/>
                  </a:moveTo>
                  <a:lnTo>
                    <a:pt x="1985" y="478"/>
                  </a:lnTo>
                  <a:lnTo>
                    <a:pt x="1989" y="473"/>
                  </a:lnTo>
                  <a:lnTo>
                    <a:pt x="1994" y="465"/>
                  </a:lnTo>
                  <a:lnTo>
                    <a:pt x="1998" y="456"/>
                  </a:lnTo>
                  <a:lnTo>
                    <a:pt x="1998" y="447"/>
                  </a:lnTo>
                  <a:lnTo>
                    <a:pt x="2003" y="438"/>
                  </a:lnTo>
                  <a:lnTo>
                    <a:pt x="2003" y="420"/>
                  </a:lnTo>
                  <a:lnTo>
                    <a:pt x="2007" y="412"/>
                  </a:lnTo>
                  <a:lnTo>
                    <a:pt x="2007" y="398"/>
                  </a:lnTo>
                  <a:lnTo>
                    <a:pt x="2011" y="385"/>
                  </a:lnTo>
                  <a:lnTo>
                    <a:pt x="2011" y="368"/>
                  </a:lnTo>
                  <a:lnTo>
                    <a:pt x="2016" y="353"/>
                  </a:lnTo>
                  <a:lnTo>
                    <a:pt x="2016" y="344"/>
                  </a:lnTo>
                  <a:lnTo>
                    <a:pt x="2016" y="331"/>
                  </a:lnTo>
                  <a:lnTo>
                    <a:pt x="2016" y="318"/>
                  </a:lnTo>
                  <a:lnTo>
                    <a:pt x="2016" y="309"/>
                  </a:lnTo>
                  <a:lnTo>
                    <a:pt x="2003" y="309"/>
                  </a:lnTo>
                  <a:lnTo>
                    <a:pt x="2003" y="265"/>
                  </a:lnTo>
                  <a:lnTo>
                    <a:pt x="2016" y="265"/>
                  </a:lnTo>
                  <a:lnTo>
                    <a:pt x="2016" y="256"/>
                  </a:lnTo>
                  <a:lnTo>
                    <a:pt x="2016" y="243"/>
                  </a:lnTo>
                  <a:lnTo>
                    <a:pt x="2016" y="230"/>
                  </a:lnTo>
                  <a:lnTo>
                    <a:pt x="2011" y="217"/>
                  </a:lnTo>
                  <a:lnTo>
                    <a:pt x="2011" y="203"/>
                  </a:lnTo>
                  <a:lnTo>
                    <a:pt x="2011" y="186"/>
                  </a:lnTo>
                  <a:lnTo>
                    <a:pt x="2007" y="172"/>
                  </a:lnTo>
                  <a:lnTo>
                    <a:pt x="2007" y="155"/>
                  </a:lnTo>
                  <a:lnTo>
                    <a:pt x="2003" y="142"/>
                  </a:lnTo>
                  <a:lnTo>
                    <a:pt x="2003" y="128"/>
                  </a:lnTo>
                  <a:lnTo>
                    <a:pt x="1998" y="119"/>
                  </a:lnTo>
                  <a:lnTo>
                    <a:pt x="1998" y="105"/>
                  </a:lnTo>
                  <a:lnTo>
                    <a:pt x="1994" y="97"/>
                  </a:lnTo>
                  <a:lnTo>
                    <a:pt x="1989" y="88"/>
                  </a:lnTo>
                  <a:lnTo>
                    <a:pt x="1985" y="79"/>
                  </a:lnTo>
                  <a:lnTo>
                    <a:pt x="1985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4" y="83"/>
                  </a:lnTo>
                  <a:lnTo>
                    <a:pt x="8" y="92"/>
                  </a:lnTo>
                  <a:lnTo>
                    <a:pt x="13" y="101"/>
                  </a:lnTo>
                  <a:lnTo>
                    <a:pt x="17" y="110"/>
                  </a:lnTo>
                  <a:lnTo>
                    <a:pt x="17" y="124"/>
                  </a:lnTo>
                  <a:lnTo>
                    <a:pt x="22" y="137"/>
                  </a:lnTo>
                  <a:lnTo>
                    <a:pt x="26" y="146"/>
                  </a:lnTo>
                  <a:lnTo>
                    <a:pt x="26" y="164"/>
                  </a:lnTo>
                  <a:lnTo>
                    <a:pt x="30" y="177"/>
                  </a:lnTo>
                  <a:lnTo>
                    <a:pt x="30" y="190"/>
                  </a:lnTo>
                  <a:lnTo>
                    <a:pt x="35" y="203"/>
                  </a:lnTo>
                  <a:lnTo>
                    <a:pt x="35" y="221"/>
                  </a:lnTo>
                  <a:lnTo>
                    <a:pt x="35" y="234"/>
                  </a:lnTo>
                  <a:lnTo>
                    <a:pt x="35" y="252"/>
                  </a:lnTo>
                  <a:lnTo>
                    <a:pt x="35" y="265"/>
                  </a:lnTo>
                  <a:lnTo>
                    <a:pt x="35" y="309"/>
                  </a:lnTo>
                  <a:lnTo>
                    <a:pt x="35" y="318"/>
                  </a:lnTo>
                  <a:lnTo>
                    <a:pt x="35" y="327"/>
                  </a:lnTo>
                  <a:lnTo>
                    <a:pt x="35" y="340"/>
                  </a:lnTo>
                  <a:lnTo>
                    <a:pt x="35" y="349"/>
                  </a:lnTo>
                  <a:lnTo>
                    <a:pt x="35" y="358"/>
                  </a:lnTo>
                  <a:lnTo>
                    <a:pt x="30" y="368"/>
                  </a:lnTo>
                  <a:lnTo>
                    <a:pt x="30" y="381"/>
                  </a:lnTo>
                  <a:lnTo>
                    <a:pt x="30" y="390"/>
                  </a:lnTo>
                  <a:lnTo>
                    <a:pt x="26" y="403"/>
                  </a:lnTo>
                  <a:lnTo>
                    <a:pt x="26" y="412"/>
                  </a:lnTo>
                  <a:lnTo>
                    <a:pt x="22" y="420"/>
                  </a:lnTo>
                  <a:lnTo>
                    <a:pt x="17" y="434"/>
                  </a:lnTo>
                  <a:lnTo>
                    <a:pt x="13" y="447"/>
                  </a:lnTo>
                  <a:lnTo>
                    <a:pt x="8" y="456"/>
                  </a:lnTo>
                  <a:lnTo>
                    <a:pt x="4" y="469"/>
                  </a:lnTo>
                  <a:lnTo>
                    <a:pt x="0" y="482"/>
                  </a:lnTo>
                  <a:lnTo>
                    <a:pt x="1985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24160" y="2495520"/>
              <a:ext cx="227520" cy="389160"/>
            </a:xfrm>
            <a:custGeom>
              <a:avLst/>
              <a:gdLst/>
              <a:ahLst/>
              <a:rect l="0" t="0" r="r" b="b"/>
              <a:pathLst>
                <a:path w="632" h="1081">
                  <a:moveTo>
                    <a:pt x="632" y="502"/>
                  </a:moveTo>
                  <a:lnTo>
                    <a:pt x="0" y="0"/>
                  </a:lnTo>
                  <a:lnTo>
                    <a:pt x="0" y="552"/>
                  </a:lnTo>
                  <a:lnTo>
                    <a:pt x="0" y="556"/>
                  </a:lnTo>
                  <a:lnTo>
                    <a:pt x="0" y="561"/>
                  </a:lnTo>
                  <a:lnTo>
                    <a:pt x="0" y="565"/>
                  </a:lnTo>
                  <a:lnTo>
                    <a:pt x="0" y="569"/>
                  </a:lnTo>
                  <a:lnTo>
                    <a:pt x="0" y="574"/>
                  </a:lnTo>
                  <a:lnTo>
                    <a:pt x="0" y="578"/>
                  </a:lnTo>
                  <a:lnTo>
                    <a:pt x="4" y="578"/>
                  </a:lnTo>
                  <a:lnTo>
                    <a:pt x="4" y="583"/>
                  </a:lnTo>
                  <a:lnTo>
                    <a:pt x="8" y="587"/>
                  </a:lnTo>
                  <a:lnTo>
                    <a:pt x="13" y="587"/>
                  </a:lnTo>
                  <a:lnTo>
                    <a:pt x="17" y="596"/>
                  </a:lnTo>
                  <a:lnTo>
                    <a:pt x="35" y="609"/>
                  </a:lnTo>
                  <a:lnTo>
                    <a:pt x="66" y="631"/>
                  </a:lnTo>
                  <a:lnTo>
                    <a:pt x="105" y="662"/>
                  </a:lnTo>
                  <a:lnTo>
                    <a:pt x="149" y="702"/>
                  </a:lnTo>
                  <a:lnTo>
                    <a:pt x="203" y="741"/>
                  </a:lnTo>
                  <a:lnTo>
                    <a:pt x="256" y="785"/>
                  </a:lnTo>
                  <a:lnTo>
                    <a:pt x="314" y="830"/>
                  </a:lnTo>
                  <a:lnTo>
                    <a:pt x="371" y="874"/>
                  </a:lnTo>
                  <a:lnTo>
                    <a:pt x="424" y="918"/>
                  </a:lnTo>
                  <a:lnTo>
                    <a:pt x="482" y="962"/>
                  </a:lnTo>
                  <a:lnTo>
                    <a:pt x="526" y="997"/>
                  </a:lnTo>
                  <a:lnTo>
                    <a:pt x="566" y="1028"/>
                  </a:lnTo>
                  <a:lnTo>
                    <a:pt x="601" y="1054"/>
                  </a:lnTo>
                  <a:lnTo>
                    <a:pt x="623" y="1072"/>
                  </a:lnTo>
                  <a:lnTo>
                    <a:pt x="632" y="1081"/>
                  </a:lnTo>
                  <a:lnTo>
                    <a:pt x="632" y="502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19440" y="275256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78040" y="275256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36640" y="275256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95600" y="275256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8600" y="2776680"/>
              <a:ext cx="711720" cy="12960"/>
            </a:xfrm>
            <a:custGeom>
              <a:avLst/>
              <a:gdLst/>
              <a:ahLst/>
              <a:rect l="0" t="0" r="r" b="b"/>
              <a:pathLst>
                <a:path w="1977" h="36">
                  <a:moveTo>
                    <a:pt x="0" y="36"/>
                  </a:moveTo>
                  <a:lnTo>
                    <a:pt x="0" y="0"/>
                  </a:lnTo>
                  <a:lnTo>
                    <a:pt x="1977" y="0"/>
                  </a:lnTo>
                  <a:lnTo>
                    <a:pt x="197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6873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79520" y="2759040"/>
              <a:ext cx="36720" cy="65520"/>
            </a:xfrm>
            <a:custGeom>
              <a:avLst/>
              <a:gdLst/>
              <a:ahLst/>
              <a:rect l="0" t="0" r="r" b="b"/>
              <a:pathLst>
                <a:path w="102" h="182">
                  <a:moveTo>
                    <a:pt x="102" y="182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102" y="1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84560" y="277164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0" y="94"/>
                  </a:moveTo>
                  <a:lnTo>
                    <a:pt x="36" y="0"/>
                  </a:lnTo>
                  <a:lnTo>
                    <a:pt x="76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27892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14" y="32"/>
                  </a:moveTo>
                  <a:lnTo>
                    <a:pt x="18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24160" y="2490840"/>
              <a:ext cx="945000" cy="184680"/>
            </a:xfrm>
            <a:custGeom>
              <a:avLst/>
              <a:gdLst/>
              <a:ahLst/>
              <a:rect l="0" t="0" r="r" b="b"/>
              <a:pathLst>
                <a:path w="2625" h="513">
                  <a:moveTo>
                    <a:pt x="2621" y="500"/>
                  </a:moveTo>
                  <a:lnTo>
                    <a:pt x="2625" y="504"/>
                  </a:lnTo>
                  <a:lnTo>
                    <a:pt x="2625" y="509"/>
                  </a:lnTo>
                  <a:lnTo>
                    <a:pt x="2621" y="513"/>
                  </a:lnTo>
                  <a:lnTo>
                    <a:pt x="2616" y="513"/>
                  </a:lnTo>
                  <a:lnTo>
                    <a:pt x="652" y="513"/>
                  </a:lnTo>
                  <a:lnTo>
                    <a:pt x="648" y="513"/>
                  </a:lnTo>
                  <a:lnTo>
                    <a:pt x="643" y="513"/>
                  </a:lnTo>
                  <a:lnTo>
                    <a:pt x="639" y="513"/>
                  </a:lnTo>
                  <a:lnTo>
                    <a:pt x="639" y="509"/>
                  </a:lnTo>
                  <a:lnTo>
                    <a:pt x="635" y="509"/>
                  </a:lnTo>
                  <a:lnTo>
                    <a:pt x="630" y="504"/>
                  </a:lnTo>
                  <a:lnTo>
                    <a:pt x="626" y="500"/>
                  </a:lnTo>
                  <a:lnTo>
                    <a:pt x="621" y="500"/>
                  </a:lnTo>
                  <a:lnTo>
                    <a:pt x="617" y="495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892" y="0"/>
                  </a:lnTo>
                  <a:lnTo>
                    <a:pt x="1897" y="0"/>
                  </a:lnTo>
                  <a:lnTo>
                    <a:pt x="1901" y="0"/>
                  </a:lnTo>
                  <a:lnTo>
                    <a:pt x="1905" y="0"/>
                  </a:lnTo>
                  <a:lnTo>
                    <a:pt x="1905" y="4"/>
                  </a:lnTo>
                  <a:lnTo>
                    <a:pt x="1910" y="4"/>
                  </a:lnTo>
                  <a:lnTo>
                    <a:pt x="1914" y="4"/>
                  </a:lnTo>
                  <a:lnTo>
                    <a:pt x="1919" y="4"/>
                  </a:lnTo>
                  <a:lnTo>
                    <a:pt x="1919" y="8"/>
                  </a:lnTo>
                  <a:lnTo>
                    <a:pt x="1923" y="8"/>
                  </a:lnTo>
                  <a:lnTo>
                    <a:pt x="1928" y="8"/>
                  </a:lnTo>
                  <a:lnTo>
                    <a:pt x="1932" y="13"/>
                  </a:lnTo>
                  <a:lnTo>
                    <a:pt x="1936" y="13"/>
                  </a:lnTo>
                  <a:lnTo>
                    <a:pt x="2621" y="500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55640" y="2706840"/>
              <a:ext cx="8280" cy="146520"/>
            </a:xfrm>
            <a:custGeom>
              <a:avLst/>
              <a:gdLst/>
              <a:ahLst/>
              <a:rect l="0" t="0" r="r" b="b"/>
              <a:pathLst>
                <a:path w="23" h="407">
                  <a:moveTo>
                    <a:pt x="14" y="70"/>
                  </a:moveTo>
                  <a:lnTo>
                    <a:pt x="14" y="61"/>
                  </a:lnTo>
                  <a:lnTo>
                    <a:pt x="14" y="57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8" y="44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4" y="394"/>
                  </a:lnTo>
                  <a:lnTo>
                    <a:pt x="8" y="376"/>
                  </a:lnTo>
                  <a:lnTo>
                    <a:pt x="8" y="363"/>
                  </a:lnTo>
                  <a:lnTo>
                    <a:pt x="14" y="350"/>
                  </a:lnTo>
                  <a:lnTo>
                    <a:pt x="14" y="332"/>
                  </a:lnTo>
                  <a:lnTo>
                    <a:pt x="18" y="315"/>
                  </a:lnTo>
                  <a:lnTo>
                    <a:pt x="18" y="300"/>
                  </a:lnTo>
                  <a:lnTo>
                    <a:pt x="18" y="287"/>
                  </a:lnTo>
                  <a:lnTo>
                    <a:pt x="18" y="269"/>
                  </a:lnTo>
                  <a:lnTo>
                    <a:pt x="23" y="256"/>
                  </a:lnTo>
                  <a:lnTo>
                    <a:pt x="23" y="243"/>
                  </a:lnTo>
                  <a:lnTo>
                    <a:pt x="23" y="230"/>
                  </a:lnTo>
                  <a:lnTo>
                    <a:pt x="23" y="221"/>
                  </a:lnTo>
                  <a:lnTo>
                    <a:pt x="23" y="212"/>
                  </a:lnTo>
                  <a:lnTo>
                    <a:pt x="23" y="203"/>
                  </a:lnTo>
                  <a:lnTo>
                    <a:pt x="23" y="199"/>
                  </a:lnTo>
                  <a:lnTo>
                    <a:pt x="23" y="190"/>
                  </a:lnTo>
                  <a:lnTo>
                    <a:pt x="23" y="186"/>
                  </a:lnTo>
                  <a:lnTo>
                    <a:pt x="23" y="177"/>
                  </a:lnTo>
                  <a:lnTo>
                    <a:pt x="23" y="168"/>
                  </a:lnTo>
                  <a:lnTo>
                    <a:pt x="23" y="159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18" y="137"/>
                  </a:lnTo>
                  <a:lnTo>
                    <a:pt x="18" y="128"/>
                  </a:lnTo>
                  <a:lnTo>
                    <a:pt x="18" y="120"/>
                  </a:lnTo>
                  <a:lnTo>
                    <a:pt x="18" y="111"/>
                  </a:lnTo>
                  <a:lnTo>
                    <a:pt x="18" y="101"/>
                  </a:lnTo>
                  <a:lnTo>
                    <a:pt x="18" y="97"/>
                  </a:lnTo>
                  <a:lnTo>
                    <a:pt x="18" y="88"/>
                  </a:lnTo>
                  <a:lnTo>
                    <a:pt x="18" y="74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424160" y="2583000"/>
              <a:ext cx="240120" cy="206640"/>
            </a:xfrm>
            <a:custGeom>
              <a:avLst/>
              <a:gdLst/>
              <a:ahLst/>
              <a:rect l="0" t="0" r="r" b="b"/>
              <a:pathLst>
                <a:path w="667" h="574">
                  <a:moveTo>
                    <a:pt x="667" y="547"/>
                  </a:moveTo>
                  <a:lnTo>
                    <a:pt x="667" y="543"/>
                  </a:lnTo>
                  <a:lnTo>
                    <a:pt x="667" y="538"/>
                  </a:lnTo>
                  <a:lnTo>
                    <a:pt x="667" y="534"/>
                  </a:lnTo>
                  <a:lnTo>
                    <a:pt x="667" y="530"/>
                  </a:lnTo>
                  <a:lnTo>
                    <a:pt x="667" y="52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667" y="574"/>
                  </a:lnTo>
                  <a:lnTo>
                    <a:pt x="667" y="569"/>
                  </a:lnTo>
                  <a:lnTo>
                    <a:pt x="667" y="565"/>
                  </a:lnTo>
                  <a:lnTo>
                    <a:pt x="667" y="561"/>
                  </a:lnTo>
                  <a:lnTo>
                    <a:pt x="667" y="556"/>
                  </a:lnTo>
                  <a:lnTo>
                    <a:pt x="667" y="552"/>
                  </a:lnTo>
                  <a:lnTo>
                    <a:pt x="667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27040" y="2668680"/>
              <a:ext cx="230400" cy="190800"/>
            </a:xfrm>
            <a:custGeom>
              <a:avLst/>
              <a:gdLst/>
              <a:ahLst/>
              <a:rect l="0" t="0" r="r" b="b"/>
              <a:pathLst>
                <a:path w="640" h="530">
                  <a:moveTo>
                    <a:pt x="640" y="512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40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28840" y="2530440"/>
              <a:ext cx="228960" cy="190800"/>
            </a:xfrm>
            <a:custGeom>
              <a:avLst/>
              <a:gdLst/>
              <a:ahLst/>
              <a:rect l="0" t="0" r="r" b="b"/>
              <a:pathLst>
                <a:path w="636" h="530">
                  <a:moveTo>
                    <a:pt x="631" y="508"/>
                  </a:moveTo>
                  <a:lnTo>
                    <a:pt x="627" y="508"/>
                  </a:lnTo>
                  <a:lnTo>
                    <a:pt x="627" y="503"/>
                  </a:lnTo>
                  <a:lnTo>
                    <a:pt x="622" y="499"/>
                  </a:lnTo>
                  <a:lnTo>
                    <a:pt x="618" y="499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36" y="530"/>
                  </a:lnTo>
                  <a:lnTo>
                    <a:pt x="636" y="525"/>
                  </a:lnTo>
                  <a:lnTo>
                    <a:pt x="636" y="521"/>
                  </a:lnTo>
                  <a:lnTo>
                    <a:pt x="636" y="516"/>
                  </a:lnTo>
                  <a:lnTo>
                    <a:pt x="631" y="516"/>
                  </a:lnTo>
                  <a:lnTo>
                    <a:pt x="631" y="512"/>
                  </a:lnTo>
                  <a:lnTo>
                    <a:pt x="631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"/>
          <p:cNvSpPr txBox="1"/>
          <p:nvPr/>
        </p:nvSpPr>
        <p:spPr>
          <a:xfrm>
            <a:off x="2427120" y="2268360"/>
            <a:ext cx="873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739880" y="2895480"/>
            <a:ext cx="4636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81040" y="3017880"/>
            <a:ext cx="822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10440" y="2917800"/>
            <a:ext cx="703440" cy="663480"/>
            <a:chOff x="7210440" y="2917800"/>
            <a:chExt cx="703440" cy="663480"/>
          </a:xfrm>
        </p:grpSpPr>
        <p:sp>
          <p:nvSpPr>
            <p:cNvPr id="566" name=""/>
            <p:cNvSpPr txBox="1"/>
            <p:nvPr/>
          </p:nvSpPr>
          <p:spPr>
            <a:xfrm>
              <a:off x="7210440" y="334008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" descr=""/>
            <p:cNvPicPr/>
            <p:nvPr/>
          </p:nvPicPr>
          <p:blipFill>
            <a:blip r:embed="rId6"/>
            <a:stretch/>
          </p:blipFill>
          <p:spPr>
            <a:xfrm>
              <a:off x="7245360" y="291780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 txBox="1"/>
          <p:nvPr/>
        </p:nvSpPr>
        <p:spPr>
          <a:xfrm>
            <a:off x="8104320" y="2840040"/>
            <a:ext cx="441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05320" y="242244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746760" y="2482920"/>
            <a:ext cx="1781280" cy="366480"/>
            <a:chOff x="6746760" y="2482920"/>
            <a:chExt cx="1781280" cy="366480"/>
          </a:xfrm>
        </p:grpSpPr>
        <p:sp>
          <p:nvSpPr>
            <p:cNvPr id="571" name=""/>
            <p:cNvSpPr/>
            <p:nvPr/>
          </p:nvSpPr>
          <p:spPr>
            <a:xfrm>
              <a:off x="7956720" y="2563920"/>
              <a:ext cx="309240" cy="22536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61400" y="2536920"/>
              <a:ext cx="13500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46760" y="2674800"/>
              <a:ext cx="152244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17080" y="2808360"/>
              <a:ext cx="128520" cy="0"/>
            </a:xfrm>
            <a:prstGeom prst="line">
              <a:avLst/>
            </a:prstGeom>
            <a:ln w="25560">
              <a:solidFill>
                <a:srgbClr val="1b74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40560" y="275112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77120" y="261936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96400" y="2482920"/>
              <a:ext cx="874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064200" y="2554200"/>
            <a:ext cx="844560" cy="476280"/>
            <a:chOff x="6064200" y="2554200"/>
            <a:chExt cx="844560" cy="476280"/>
          </a:xfrm>
        </p:grpSpPr>
        <p:sp>
          <p:nvSpPr>
            <p:cNvPr id="579" name=""/>
            <p:cNvSpPr txBox="1"/>
            <p:nvPr/>
          </p:nvSpPr>
          <p:spPr>
            <a:xfrm>
              <a:off x="6064200" y="2789280"/>
              <a:ext cx="84456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peline 7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02240" y="2735280"/>
              <a:ext cx="462240" cy="54360"/>
            </a:xfrm>
            <a:custGeom>
              <a:avLst/>
              <a:gdLst/>
              <a:ahLst/>
              <a:rect l="0" t="0" r="r" b="b"/>
              <a:pathLst>
                <a:path w="1284" h="151">
                  <a:moveTo>
                    <a:pt x="0" y="138"/>
                  </a:moveTo>
                  <a:lnTo>
                    <a:pt x="0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4" y="151"/>
                  </a:lnTo>
                  <a:lnTo>
                    <a:pt x="8" y="151"/>
                  </a:lnTo>
                  <a:lnTo>
                    <a:pt x="1266" y="151"/>
                  </a:lnTo>
                  <a:lnTo>
                    <a:pt x="1271" y="151"/>
                  </a:lnTo>
                  <a:lnTo>
                    <a:pt x="1275" y="151"/>
                  </a:lnTo>
                  <a:lnTo>
                    <a:pt x="1279" y="151"/>
                  </a:lnTo>
                  <a:lnTo>
                    <a:pt x="1279" y="147"/>
                  </a:lnTo>
                  <a:lnTo>
                    <a:pt x="1279" y="143"/>
                  </a:lnTo>
                  <a:lnTo>
                    <a:pt x="1284" y="143"/>
                  </a:lnTo>
                  <a:lnTo>
                    <a:pt x="1284" y="138"/>
                  </a:lnTo>
                  <a:lnTo>
                    <a:pt x="1284" y="13"/>
                  </a:lnTo>
                  <a:lnTo>
                    <a:pt x="1284" y="8"/>
                  </a:lnTo>
                  <a:lnTo>
                    <a:pt x="1279" y="8"/>
                  </a:lnTo>
                  <a:lnTo>
                    <a:pt x="1279" y="4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180120" y="2554200"/>
              <a:ext cx="219600" cy="236880"/>
            </a:xfrm>
            <a:custGeom>
              <a:avLst/>
              <a:gdLst/>
              <a:ahLst/>
              <a:rect l="0" t="0" r="r" b="b"/>
              <a:pathLst>
                <a:path w="610" h="658">
                  <a:moveTo>
                    <a:pt x="0" y="1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4"/>
                  </a:lnTo>
                  <a:lnTo>
                    <a:pt x="606" y="490"/>
                  </a:lnTo>
                  <a:lnTo>
                    <a:pt x="610" y="490"/>
                  </a:lnTo>
                  <a:lnTo>
                    <a:pt x="610" y="494"/>
                  </a:lnTo>
                  <a:lnTo>
                    <a:pt x="606" y="499"/>
                  </a:lnTo>
                  <a:lnTo>
                    <a:pt x="606" y="503"/>
                  </a:lnTo>
                  <a:lnTo>
                    <a:pt x="606" y="508"/>
                  </a:lnTo>
                  <a:lnTo>
                    <a:pt x="606" y="649"/>
                  </a:lnTo>
                  <a:lnTo>
                    <a:pt x="606" y="653"/>
                  </a:lnTo>
                  <a:lnTo>
                    <a:pt x="601" y="653"/>
                  </a:lnTo>
                  <a:lnTo>
                    <a:pt x="601" y="658"/>
                  </a:lnTo>
                  <a:lnTo>
                    <a:pt x="597" y="658"/>
                  </a:lnTo>
                  <a:lnTo>
                    <a:pt x="597" y="653"/>
                  </a:lnTo>
                  <a:lnTo>
                    <a:pt x="592" y="653"/>
                  </a:lnTo>
                  <a:lnTo>
                    <a:pt x="13" y="176"/>
                  </a:lnTo>
                  <a:lnTo>
                    <a:pt x="8" y="176"/>
                  </a:lnTo>
                  <a:lnTo>
                    <a:pt x="8" y="171"/>
                  </a:lnTo>
                  <a:lnTo>
                    <a:pt x="4" y="167"/>
                  </a:lnTo>
                  <a:lnTo>
                    <a:pt x="4" y="163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67640" y="2735280"/>
              <a:ext cx="97200" cy="24120"/>
            </a:xfrm>
            <a:custGeom>
              <a:avLst/>
              <a:gdLst/>
              <a:ahLst/>
              <a:rect l="0" t="0" r="r" b="b"/>
              <a:pathLst>
                <a:path w="270" h="67">
                  <a:moveTo>
                    <a:pt x="0" y="67"/>
                  </a:moveTo>
                  <a:lnTo>
                    <a:pt x="270" y="67"/>
                  </a:lnTo>
                  <a:lnTo>
                    <a:pt x="270" y="62"/>
                  </a:lnTo>
                  <a:lnTo>
                    <a:pt x="270" y="53"/>
                  </a:lnTo>
                  <a:lnTo>
                    <a:pt x="270" y="49"/>
                  </a:lnTo>
                  <a:lnTo>
                    <a:pt x="270" y="45"/>
                  </a:lnTo>
                  <a:lnTo>
                    <a:pt x="270" y="40"/>
                  </a:lnTo>
                  <a:lnTo>
                    <a:pt x="270" y="36"/>
                  </a:lnTo>
                  <a:lnTo>
                    <a:pt x="270" y="30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0" y="13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6" y="4"/>
                  </a:lnTo>
                  <a:lnTo>
                    <a:pt x="262" y="0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83480" y="2770200"/>
              <a:ext cx="77760" cy="0"/>
            </a:xfrm>
            <a:prstGeom prst="line">
              <a:avLst/>
            </a:prstGeom>
            <a:ln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07280" y="2736720"/>
              <a:ext cx="351360" cy="38520"/>
            </a:xfrm>
            <a:custGeom>
              <a:avLst/>
              <a:gdLst/>
              <a:ahLst/>
              <a:rect l="0" t="0" r="r" b="b"/>
              <a:pathLst>
                <a:path w="976" h="107">
                  <a:moveTo>
                    <a:pt x="976" y="71"/>
                  </a:moveTo>
                  <a:lnTo>
                    <a:pt x="870" y="90"/>
                  </a:lnTo>
                  <a:lnTo>
                    <a:pt x="773" y="94"/>
                  </a:lnTo>
                  <a:lnTo>
                    <a:pt x="675" y="103"/>
                  </a:lnTo>
                  <a:lnTo>
                    <a:pt x="587" y="107"/>
                  </a:lnTo>
                  <a:lnTo>
                    <a:pt x="499" y="107"/>
                  </a:lnTo>
                  <a:lnTo>
                    <a:pt x="419" y="107"/>
                  </a:lnTo>
                  <a:lnTo>
                    <a:pt x="349" y="107"/>
                  </a:lnTo>
                  <a:lnTo>
                    <a:pt x="278" y="103"/>
                  </a:lnTo>
                  <a:lnTo>
                    <a:pt x="220" y="99"/>
                  </a:lnTo>
                  <a:lnTo>
                    <a:pt x="163" y="94"/>
                  </a:lnTo>
                  <a:lnTo>
                    <a:pt x="119" y="94"/>
                  </a:lnTo>
                  <a:lnTo>
                    <a:pt x="79" y="85"/>
                  </a:lnTo>
                  <a:lnTo>
                    <a:pt x="52" y="81"/>
                  </a:lnTo>
                  <a:lnTo>
                    <a:pt x="30" y="75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1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30" y="4"/>
                  </a:lnTo>
                  <a:lnTo>
                    <a:pt x="52" y="8"/>
                  </a:lnTo>
                  <a:lnTo>
                    <a:pt x="88" y="13"/>
                  </a:lnTo>
                  <a:lnTo>
                    <a:pt x="132" y="13"/>
                  </a:lnTo>
                  <a:lnTo>
                    <a:pt x="180" y="17"/>
                  </a:lnTo>
                  <a:lnTo>
                    <a:pt x="242" y="22"/>
                  </a:lnTo>
                  <a:lnTo>
                    <a:pt x="305" y="26"/>
                  </a:lnTo>
                  <a:lnTo>
                    <a:pt x="375" y="26"/>
                  </a:lnTo>
                  <a:lnTo>
                    <a:pt x="450" y="31"/>
                  </a:lnTo>
                  <a:lnTo>
                    <a:pt x="530" y="31"/>
                  </a:lnTo>
                  <a:lnTo>
                    <a:pt x="609" y="26"/>
                  </a:lnTo>
                  <a:lnTo>
                    <a:pt x="702" y="22"/>
                  </a:lnTo>
                  <a:lnTo>
                    <a:pt x="791" y="17"/>
                  </a:lnTo>
                  <a:lnTo>
                    <a:pt x="883" y="13"/>
                  </a:lnTo>
                  <a:lnTo>
                    <a:pt x="976" y="0"/>
                  </a:lnTo>
                  <a:lnTo>
                    <a:pt x="97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2770200"/>
              <a:ext cx="360720" cy="16200"/>
            </a:xfrm>
            <a:custGeom>
              <a:avLst/>
              <a:gdLst/>
              <a:ahLst/>
              <a:rect l="0" t="0" r="r" b="b"/>
              <a:pathLst>
                <a:path fill="none" w="1002" h="45">
                  <a:moveTo>
                    <a:pt x="1002" y="0"/>
                  </a:moveTo>
                  <a:lnTo>
                    <a:pt x="891" y="17"/>
                  </a:lnTo>
                  <a:lnTo>
                    <a:pt x="794" y="31"/>
                  </a:lnTo>
                  <a:lnTo>
                    <a:pt x="693" y="40"/>
                  </a:lnTo>
                  <a:lnTo>
                    <a:pt x="600" y="45"/>
                  </a:lnTo>
                  <a:lnTo>
                    <a:pt x="508" y="45"/>
                  </a:lnTo>
                  <a:lnTo>
                    <a:pt x="427" y="45"/>
                  </a:lnTo>
                  <a:lnTo>
                    <a:pt x="352" y="45"/>
                  </a:lnTo>
                  <a:lnTo>
                    <a:pt x="282" y="40"/>
                  </a:lnTo>
                  <a:lnTo>
                    <a:pt x="216" y="36"/>
                  </a:lnTo>
                  <a:lnTo>
                    <a:pt x="167" y="31"/>
                  </a:lnTo>
                  <a:lnTo>
                    <a:pt x="114" y="27"/>
                  </a:lnTo>
                  <a:lnTo>
                    <a:pt x="74" y="13"/>
                  </a:lnTo>
                  <a:lnTo>
                    <a:pt x="44" y="8"/>
                  </a:lnTo>
                  <a:lnTo>
                    <a:pt x="1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69687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67640" y="276696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0" y="0"/>
                  </a:moveTo>
                  <a:lnTo>
                    <a:pt x="9" y="0"/>
                  </a:lnTo>
                  <a:lnTo>
                    <a:pt x="14" y="18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02240" y="276696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5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19" y="0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696873"/>
            </a:solidFill>
            <a:ln w="12600">
              <a:solidFill>
                <a:srgbClr val="696873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15160" y="274464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7" y="58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5160" y="274464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36"/>
                  </a:moveTo>
                  <a:lnTo>
                    <a:pt x="14" y="0"/>
                  </a:lnTo>
                  <a:lnTo>
                    <a:pt x="27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18400" y="27558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80120" y="2589120"/>
              <a:ext cx="217800" cy="174960"/>
            </a:xfrm>
            <a:custGeom>
              <a:avLst/>
              <a:gdLst/>
              <a:ahLst/>
              <a:rect l="0" t="0" r="r" b="b"/>
              <a:pathLst>
                <a:path w="605" h="486">
                  <a:moveTo>
                    <a:pt x="605" y="472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05" y="486"/>
                  </a:lnTo>
                  <a:lnTo>
                    <a:pt x="605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80280" y="276696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0560" y="275760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59400" y="275112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19" y="0"/>
                  </a:moveTo>
                  <a:lnTo>
                    <a:pt x="19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50040" y="2741760"/>
              <a:ext cx="5040" cy="12960"/>
            </a:xfrm>
            <a:custGeom>
              <a:avLst/>
              <a:gdLst/>
              <a:ahLst/>
              <a:rect l="0" t="0" r="r" b="b"/>
              <a:pathLst>
                <a:path w="14" h="36">
                  <a:moveTo>
                    <a:pt x="14" y="0"/>
                  </a:moveTo>
                  <a:lnTo>
                    <a:pt x="14" y="31"/>
                  </a:lnTo>
                  <a:lnTo>
                    <a:pt x="0" y="36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40320" y="273528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4" y="0"/>
                  </a:moveTo>
                  <a:lnTo>
                    <a:pt x="14" y="23"/>
                  </a:lnTo>
                  <a:lnTo>
                    <a:pt x="0" y="27"/>
                  </a:lnTo>
                  <a:lnTo>
                    <a:pt x="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29520" y="2725560"/>
              <a:ext cx="5040" cy="11520"/>
            </a:xfrm>
            <a:custGeom>
              <a:avLst/>
              <a:gdLst/>
              <a:ahLst/>
              <a:rect l="0" t="0" r="r" b="b"/>
              <a:pathLst>
                <a:path w="14" h="32">
                  <a:moveTo>
                    <a:pt x="14" y="0"/>
                  </a:moveTo>
                  <a:lnTo>
                    <a:pt x="14" y="28"/>
                  </a:lnTo>
                  <a:lnTo>
                    <a:pt x="0" y="32"/>
                  </a:lnTo>
                  <a:lnTo>
                    <a:pt x="0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81560" y="2554200"/>
              <a:ext cx="679680" cy="184680"/>
            </a:xfrm>
            <a:custGeom>
              <a:avLst/>
              <a:gdLst/>
              <a:ahLst/>
              <a:rect l="0" t="0" r="r" b="b"/>
              <a:pathLst>
                <a:path w="1888" h="513">
                  <a:moveTo>
                    <a:pt x="621" y="482"/>
                  </a:moveTo>
                  <a:lnTo>
                    <a:pt x="643" y="487"/>
                  </a:lnTo>
                  <a:lnTo>
                    <a:pt x="670" y="491"/>
                  </a:lnTo>
                  <a:lnTo>
                    <a:pt x="696" y="491"/>
                  </a:lnTo>
                  <a:lnTo>
                    <a:pt x="718" y="495"/>
                  </a:lnTo>
                  <a:lnTo>
                    <a:pt x="749" y="500"/>
                  </a:lnTo>
                  <a:lnTo>
                    <a:pt x="780" y="500"/>
                  </a:lnTo>
                  <a:lnTo>
                    <a:pt x="811" y="504"/>
                  </a:lnTo>
                  <a:lnTo>
                    <a:pt x="846" y="504"/>
                  </a:lnTo>
                  <a:lnTo>
                    <a:pt x="877" y="509"/>
                  </a:lnTo>
                  <a:lnTo>
                    <a:pt x="912" y="509"/>
                  </a:lnTo>
                  <a:lnTo>
                    <a:pt x="953" y="513"/>
                  </a:lnTo>
                  <a:lnTo>
                    <a:pt x="993" y="513"/>
                  </a:lnTo>
                  <a:lnTo>
                    <a:pt x="1028" y="513"/>
                  </a:lnTo>
                  <a:lnTo>
                    <a:pt x="1068" y="513"/>
                  </a:lnTo>
                  <a:lnTo>
                    <a:pt x="1112" y="513"/>
                  </a:lnTo>
                  <a:lnTo>
                    <a:pt x="1151" y="513"/>
                  </a:lnTo>
                  <a:lnTo>
                    <a:pt x="1182" y="513"/>
                  </a:lnTo>
                  <a:lnTo>
                    <a:pt x="1213" y="513"/>
                  </a:lnTo>
                  <a:lnTo>
                    <a:pt x="1244" y="513"/>
                  </a:lnTo>
                  <a:lnTo>
                    <a:pt x="1275" y="513"/>
                  </a:lnTo>
                  <a:lnTo>
                    <a:pt x="1306" y="509"/>
                  </a:lnTo>
                  <a:lnTo>
                    <a:pt x="1337" y="509"/>
                  </a:lnTo>
                  <a:lnTo>
                    <a:pt x="1363" y="509"/>
                  </a:lnTo>
                  <a:lnTo>
                    <a:pt x="1390" y="504"/>
                  </a:lnTo>
                  <a:lnTo>
                    <a:pt x="1420" y="504"/>
                  </a:lnTo>
                  <a:lnTo>
                    <a:pt x="1451" y="500"/>
                  </a:lnTo>
                  <a:lnTo>
                    <a:pt x="1478" y="500"/>
                  </a:lnTo>
                  <a:lnTo>
                    <a:pt x="1504" y="495"/>
                  </a:lnTo>
                  <a:lnTo>
                    <a:pt x="1531" y="491"/>
                  </a:lnTo>
                  <a:lnTo>
                    <a:pt x="1557" y="487"/>
                  </a:lnTo>
                  <a:lnTo>
                    <a:pt x="1588" y="482"/>
                  </a:lnTo>
                  <a:lnTo>
                    <a:pt x="1614" y="478"/>
                  </a:lnTo>
                  <a:lnTo>
                    <a:pt x="1619" y="478"/>
                  </a:lnTo>
                  <a:lnTo>
                    <a:pt x="1628" y="478"/>
                  </a:lnTo>
                  <a:lnTo>
                    <a:pt x="1641" y="478"/>
                  </a:lnTo>
                  <a:lnTo>
                    <a:pt x="1654" y="478"/>
                  </a:lnTo>
                  <a:lnTo>
                    <a:pt x="1676" y="478"/>
                  </a:lnTo>
                  <a:lnTo>
                    <a:pt x="1698" y="478"/>
                  </a:lnTo>
                  <a:lnTo>
                    <a:pt x="1725" y="478"/>
                  </a:lnTo>
                  <a:lnTo>
                    <a:pt x="1751" y="478"/>
                  </a:lnTo>
                  <a:lnTo>
                    <a:pt x="1778" y="478"/>
                  </a:lnTo>
                  <a:lnTo>
                    <a:pt x="1804" y="478"/>
                  </a:lnTo>
                  <a:lnTo>
                    <a:pt x="1822" y="478"/>
                  </a:lnTo>
                  <a:lnTo>
                    <a:pt x="1844" y="478"/>
                  </a:lnTo>
                  <a:lnTo>
                    <a:pt x="1861" y="478"/>
                  </a:lnTo>
                  <a:lnTo>
                    <a:pt x="1875" y="478"/>
                  </a:lnTo>
                  <a:lnTo>
                    <a:pt x="1883" y="478"/>
                  </a:lnTo>
                  <a:lnTo>
                    <a:pt x="1888" y="478"/>
                  </a:lnTo>
                  <a:lnTo>
                    <a:pt x="1279" y="0"/>
                  </a:lnTo>
                  <a:lnTo>
                    <a:pt x="1275" y="0"/>
                  </a:lnTo>
                  <a:lnTo>
                    <a:pt x="1271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57" y="0"/>
                  </a:lnTo>
                  <a:lnTo>
                    <a:pt x="1253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26" y="17"/>
                  </a:lnTo>
                  <a:lnTo>
                    <a:pt x="57" y="39"/>
                  </a:lnTo>
                  <a:lnTo>
                    <a:pt x="92" y="74"/>
                  </a:lnTo>
                  <a:lnTo>
                    <a:pt x="141" y="110"/>
                  </a:lnTo>
                  <a:lnTo>
                    <a:pt x="194" y="150"/>
                  </a:lnTo>
                  <a:lnTo>
                    <a:pt x="242" y="195"/>
                  </a:lnTo>
                  <a:lnTo>
                    <a:pt x="304" y="239"/>
                  </a:lnTo>
                  <a:lnTo>
                    <a:pt x="361" y="283"/>
                  </a:lnTo>
                  <a:lnTo>
                    <a:pt x="414" y="327"/>
                  </a:lnTo>
                  <a:lnTo>
                    <a:pt x="467" y="367"/>
                  </a:lnTo>
                  <a:lnTo>
                    <a:pt x="515" y="403"/>
                  </a:lnTo>
                  <a:lnTo>
                    <a:pt x="551" y="434"/>
                  </a:lnTo>
                  <a:lnTo>
                    <a:pt x="586" y="456"/>
                  </a:lnTo>
                  <a:lnTo>
                    <a:pt x="604" y="473"/>
                  </a:lnTo>
                  <a:lnTo>
                    <a:pt x="612" y="478"/>
                  </a:lnTo>
                  <a:lnTo>
                    <a:pt x="621" y="482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57880" y="2554200"/>
              <a:ext cx="230400" cy="182880"/>
            </a:xfrm>
            <a:custGeom>
              <a:avLst/>
              <a:gdLst/>
              <a:ahLst/>
              <a:rect l="0" t="0" r="r" b="b"/>
              <a:pathLst>
                <a:path w="640" h="508">
                  <a:moveTo>
                    <a:pt x="0" y="0"/>
                  </a:moveTo>
                  <a:lnTo>
                    <a:pt x="613" y="503"/>
                  </a:lnTo>
                  <a:lnTo>
                    <a:pt x="618" y="503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27" y="508"/>
                  </a:lnTo>
                  <a:lnTo>
                    <a:pt x="631" y="508"/>
                  </a:lnTo>
                  <a:lnTo>
                    <a:pt x="636" y="508"/>
                  </a:lnTo>
                  <a:lnTo>
                    <a:pt x="640" y="508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03960" y="2554200"/>
              <a:ext cx="233640" cy="184680"/>
            </a:xfrm>
            <a:custGeom>
              <a:avLst/>
              <a:gdLst/>
              <a:ahLst/>
              <a:rect l="0" t="0" r="r" b="b"/>
              <a:pathLst>
                <a:path w="649" h="513">
                  <a:moveTo>
                    <a:pt x="0" y="0"/>
                  </a:moveTo>
                  <a:lnTo>
                    <a:pt x="622" y="513"/>
                  </a:lnTo>
                  <a:lnTo>
                    <a:pt x="627" y="513"/>
                  </a:lnTo>
                  <a:lnTo>
                    <a:pt x="631" y="513"/>
                  </a:lnTo>
                  <a:lnTo>
                    <a:pt x="636" y="513"/>
                  </a:lnTo>
                  <a:lnTo>
                    <a:pt x="640" y="513"/>
                  </a:lnTo>
                  <a:lnTo>
                    <a:pt x="644" y="513"/>
                  </a:lnTo>
                  <a:lnTo>
                    <a:pt x="649" y="513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53280" y="255420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99360" y="255420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0"/>
                  </a:moveTo>
                  <a:lnTo>
                    <a:pt x="623" y="513"/>
                  </a:lnTo>
                  <a:lnTo>
                    <a:pt x="628" y="513"/>
                  </a:lnTo>
                  <a:lnTo>
                    <a:pt x="632" y="513"/>
                  </a:lnTo>
                  <a:lnTo>
                    <a:pt x="637" y="513"/>
                  </a:lnTo>
                  <a:lnTo>
                    <a:pt x="641" y="513"/>
                  </a:lnTo>
                  <a:lnTo>
                    <a:pt x="645" y="51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46880" y="2554200"/>
              <a:ext cx="228960" cy="182880"/>
            </a:xfrm>
            <a:custGeom>
              <a:avLst/>
              <a:gdLst/>
              <a:ahLst/>
              <a:rect l="0" t="0" r="r" b="b"/>
              <a:pathLst>
                <a:path w="636" h="508">
                  <a:moveTo>
                    <a:pt x="0" y="0"/>
                  </a:moveTo>
                  <a:lnTo>
                    <a:pt x="613" y="508"/>
                  </a:lnTo>
                  <a:lnTo>
                    <a:pt x="618" y="508"/>
                  </a:lnTo>
                  <a:lnTo>
                    <a:pt x="622" y="508"/>
                  </a:lnTo>
                  <a:lnTo>
                    <a:pt x="622" y="503"/>
                  </a:lnTo>
                  <a:lnTo>
                    <a:pt x="627" y="503"/>
                  </a:lnTo>
                  <a:lnTo>
                    <a:pt x="631" y="503"/>
                  </a:lnTo>
                  <a:lnTo>
                    <a:pt x="636" y="503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51720" y="272412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0"/>
                  </a:moveTo>
                  <a:lnTo>
                    <a:pt x="49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9" y="58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53" y="67"/>
                  </a:lnTo>
                  <a:lnTo>
                    <a:pt x="58" y="67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7" y="45"/>
                  </a:lnTo>
                  <a:lnTo>
                    <a:pt x="67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02400" y="272556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0"/>
                  </a:moveTo>
                  <a:lnTo>
                    <a:pt x="62" y="40"/>
                  </a:ln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7" y="67"/>
                  </a:lnTo>
                  <a:lnTo>
                    <a:pt x="71" y="67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0" y="62"/>
                  </a:lnTo>
                  <a:lnTo>
                    <a:pt x="80" y="58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6320" y="272556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5"/>
                  </a:ln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8800" y="272412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0"/>
                  </a:moveTo>
                  <a:lnTo>
                    <a:pt x="62" y="49"/>
                  </a:lnTo>
                  <a:lnTo>
                    <a:pt x="62" y="53"/>
                  </a:lnTo>
                  <a:lnTo>
                    <a:pt x="62" y="59"/>
                  </a:lnTo>
                  <a:lnTo>
                    <a:pt x="62" y="63"/>
                  </a:lnTo>
                  <a:lnTo>
                    <a:pt x="62" y="68"/>
                  </a:lnTo>
                  <a:lnTo>
                    <a:pt x="62" y="72"/>
                  </a:lnTo>
                  <a:lnTo>
                    <a:pt x="67" y="72"/>
                  </a:lnTo>
                  <a:lnTo>
                    <a:pt x="71" y="72"/>
                  </a:lnTo>
                  <a:lnTo>
                    <a:pt x="75" y="72"/>
                  </a:lnTo>
                  <a:lnTo>
                    <a:pt x="80" y="72"/>
                  </a:lnTo>
                  <a:lnTo>
                    <a:pt x="80" y="68"/>
                  </a:lnTo>
                  <a:lnTo>
                    <a:pt x="80" y="63"/>
                  </a:lnTo>
                  <a:lnTo>
                    <a:pt x="80" y="59"/>
                  </a:lnTo>
                  <a:lnTo>
                    <a:pt x="80" y="53"/>
                  </a:lnTo>
                  <a:lnTo>
                    <a:pt x="80" y="49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62720" y="272556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0"/>
                  </a:moveTo>
                  <a:lnTo>
                    <a:pt x="53" y="40"/>
                  </a:lnTo>
                  <a:lnTo>
                    <a:pt x="53" y="45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3" y="63"/>
                  </a:lnTo>
                  <a:lnTo>
                    <a:pt x="59" y="63"/>
                  </a:lnTo>
                  <a:lnTo>
                    <a:pt x="63" y="63"/>
                  </a:lnTo>
                  <a:lnTo>
                    <a:pt x="68" y="63"/>
                  </a:lnTo>
                  <a:lnTo>
                    <a:pt x="72" y="63"/>
                  </a:lnTo>
                  <a:lnTo>
                    <a:pt x="72" y="59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2" y="45"/>
                  </a:lnTo>
                  <a:lnTo>
                    <a:pt x="72" y="4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177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88280" y="274788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919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41440" y="1746360"/>
            <a:ext cx="1947960" cy="1754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209600" y="2671920"/>
            <a:ext cx="4842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092240" y="58428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  <a:ea typeface="Arial"/>
              </a:rPr>
              <a:t>Pipeline 85*</a:t>
            </a:r>
            <a:br>
              <a:rPr sz="3200"/>
            </a:br>
            <a:r>
              <a:rPr b="1" lang="en-US" sz="2400" spc="-1" strike="noStrike">
                <a:solidFill>
                  <a:srgbClr val="151f94"/>
                </a:solidFill>
                <a:latin typeface="Arial"/>
                <a:ea typeface="Arial"/>
              </a:rPr>
              <a:t>Small Office/Home Office &amp; Intern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19160" y="4521240"/>
            <a:ext cx="467352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ed 4-port 10Base-T Ethernet h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rotocol routing &amp; bri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mo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MP, telnet, sys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limited LAN access to the Internet &amp; other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462560" y="4521240"/>
            <a:ext cx="459252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oothConnect for eas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-effective ISDN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taneous connections between different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C 4:1 data compression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nsive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151e94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tional Secure Access Fire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794040" y="2100240"/>
            <a:ext cx="1143360" cy="432000"/>
          </a:xfrm>
          <a:custGeom>
            <a:avLst/>
            <a:gdLst/>
            <a:ahLst/>
            <a:rect l="0" t="0" r="r" b="b"/>
            <a:pathLst>
              <a:path fill="none" w="3176" h="1200">
                <a:moveTo>
                  <a:pt x="0" y="1200"/>
                </a:moveTo>
                <a:lnTo>
                  <a:pt x="0" y="0"/>
                </a:lnTo>
                <a:lnTo>
                  <a:pt x="317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491000" y="1636560"/>
            <a:ext cx="1368360" cy="969840"/>
            <a:chOff x="4491000" y="1636560"/>
            <a:chExt cx="1368360" cy="969840"/>
          </a:xfrm>
        </p:grpSpPr>
        <p:grpSp>
          <p:nvGrpSpPr>
            <p:cNvPr id="617" name=""/>
            <p:cNvGrpSpPr/>
            <p:nvPr/>
          </p:nvGrpSpPr>
          <p:grpSpPr>
            <a:xfrm>
              <a:off x="4500720" y="1641600"/>
              <a:ext cx="1334880" cy="896760"/>
              <a:chOff x="4500720" y="1641600"/>
              <a:chExt cx="1334880" cy="896760"/>
            </a:xfrm>
          </p:grpSpPr>
          <p:sp>
            <p:nvSpPr>
              <p:cNvPr id="618" name=""/>
              <p:cNvSpPr/>
              <p:nvPr/>
            </p:nvSpPr>
            <p:spPr>
              <a:xfrm>
                <a:off x="4734000" y="164160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00720" y="187956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30680" y="213372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94120" y="200196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37280" y="195120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95760" y="193032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187960" y="171288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40320" y="182880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6" name="" descr=""/>
            <p:cNvPicPr/>
            <p:nvPr/>
          </p:nvPicPr>
          <p:blipFill>
            <a:blip r:embed="rId1"/>
            <a:stretch/>
          </p:blipFill>
          <p:spPr>
            <a:xfrm>
              <a:off x="4491000" y="1636560"/>
              <a:ext cx="136836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"/>
          <p:cNvSpPr txBox="1"/>
          <p:nvPr/>
        </p:nvSpPr>
        <p:spPr>
          <a:xfrm>
            <a:off x="4497480" y="1951200"/>
            <a:ext cx="1355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40440" y="1666800"/>
            <a:ext cx="2824200" cy="201132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6124680" y="2349360"/>
            <a:ext cx="911160" cy="6285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6087960" y="1670040"/>
            <a:ext cx="2627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Small Office/Hom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48280" y="257796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929720" y="1886040"/>
            <a:ext cx="0" cy="8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26120" y="2739960"/>
            <a:ext cx="551160" cy="357480"/>
          </a:xfrm>
          <a:custGeom>
            <a:avLst/>
            <a:gdLst/>
            <a:ahLst/>
            <a:rect l="0" t="0" r="r" b="b"/>
            <a:pathLst>
              <a:path fill="none" w="1531" h="993">
                <a:moveTo>
                  <a:pt x="0" y="0"/>
                </a:moveTo>
                <a:lnTo>
                  <a:pt x="330" y="4"/>
                </a:lnTo>
                <a:lnTo>
                  <a:pt x="330" y="993"/>
                </a:lnTo>
                <a:lnTo>
                  <a:pt x="1531" y="993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176960" y="2668680"/>
            <a:ext cx="6951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4720" y="1752480"/>
            <a:ext cx="20034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orpo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94000" y="2590920"/>
            <a:ext cx="19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5400" y="2766960"/>
            <a:ext cx="1352520" cy="160956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54640" y="384480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1930320" y="2322360"/>
            <a:ext cx="501480" cy="6112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4510080" y="2773440"/>
            <a:ext cx="1343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aaa"/>
                </a:solidFill>
                <a:latin typeface="Arial"/>
                <a:ea typeface="Arial"/>
              </a:rPr>
              <a:t>Other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71800" y="3497400"/>
            <a:ext cx="6112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54640" y="3270240"/>
            <a:ext cx="19368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54520" y="4052880"/>
            <a:ext cx="6462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alo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863960" y="3076560"/>
            <a:ext cx="601560" cy="585720"/>
            <a:chOff x="4863960" y="3076560"/>
            <a:chExt cx="601560" cy="585720"/>
          </a:xfrm>
        </p:grpSpPr>
        <p:sp>
          <p:nvSpPr>
            <p:cNvPr id="645" name=""/>
            <p:cNvSpPr txBox="1"/>
            <p:nvPr/>
          </p:nvSpPr>
          <p:spPr>
            <a:xfrm>
              <a:off x="4888080" y="3421080"/>
              <a:ext cx="568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4"/>
            <a:stretch/>
          </p:blipFill>
          <p:spPr>
            <a:xfrm>
              <a:off x="4863960" y="3076560"/>
              <a:ext cx="6015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3784680" y="2633760"/>
            <a:ext cx="1592640" cy="1422720"/>
          </a:xfrm>
          <a:custGeom>
            <a:avLst/>
            <a:gdLst/>
            <a:ahLst/>
            <a:rect l="0" t="0" r="r" b="b"/>
            <a:pathLst>
              <a:path fill="none" w="4424" h="3952">
                <a:moveTo>
                  <a:pt x="0" y="0"/>
                </a:moveTo>
                <a:lnTo>
                  <a:pt x="0" y="3952"/>
                </a:lnTo>
                <a:lnTo>
                  <a:pt x="1478" y="3952"/>
                </a:lnTo>
                <a:lnTo>
                  <a:pt x="1009" y="3559"/>
                </a:lnTo>
                <a:lnTo>
                  <a:pt x="4424" y="355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54600" y="3683160"/>
            <a:ext cx="703440" cy="663480"/>
            <a:chOff x="4854600" y="3683160"/>
            <a:chExt cx="703440" cy="663480"/>
          </a:xfrm>
        </p:grpSpPr>
        <p:sp>
          <p:nvSpPr>
            <p:cNvPr id="649" name=""/>
            <p:cNvSpPr txBox="1"/>
            <p:nvPr/>
          </p:nvSpPr>
          <p:spPr>
            <a:xfrm>
              <a:off x="4854600" y="4105440"/>
              <a:ext cx="703440" cy="24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5"/>
            <a:stretch/>
          </p:blipFill>
          <p:spPr>
            <a:xfrm>
              <a:off x="4889520" y="3683160"/>
              <a:ext cx="6462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627120" y="2300400"/>
            <a:ext cx="669960" cy="695160"/>
            <a:chOff x="627120" y="2300400"/>
            <a:chExt cx="669960" cy="695160"/>
          </a:xfrm>
        </p:grpSpPr>
        <p:sp>
          <p:nvSpPr>
            <p:cNvPr id="652" name=""/>
            <p:cNvSpPr/>
            <p:nvPr/>
          </p:nvSpPr>
          <p:spPr>
            <a:xfrm>
              <a:off x="1227240" y="243828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2800" y="2438280"/>
              <a:ext cx="0" cy="446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08120" y="2394000"/>
              <a:ext cx="544320" cy="5000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3040" y="2414520"/>
              <a:ext cx="438120" cy="48744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7320" y="291636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7320" y="2387520"/>
              <a:ext cx="352440" cy="0"/>
            </a:xfrm>
            <a:prstGeom prst="line">
              <a:avLst/>
            </a:prstGeom>
            <a:ln w="25560">
              <a:solidFill>
                <a:srgbClr val="fdc0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120" y="230040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1560" y="230040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7120" y="2819520"/>
              <a:ext cx="15876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1560" y="2819520"/>
              <a:ext cx="155520" cy="176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581040" y="3017880"/>
            <a:ext cx="822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236000" y="3317760"/>
            <a:ext cx="7034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l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7262640" y="2938320"/>
            <a:ext cx="571680" cy="403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7230960" y="2314440"/>
            <a:ext cx="4698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7"/>
          <a:stretch/>
        </p:blipFill>
        <p:spPr>
          <a:xfrm>
            <a:off x="7151760" y="2022480"/>
            <a:ext cx="531720" cy="3333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6018120" y="2928960"/>
            <a:ext cx="113364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peline 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ith Sec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ccess Fire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382760" y="2484360"/>
            <a:ext cx="864000" cy="359280"/>
            <a:chOff x="1382760" y="2484360"/>
            <a:chExt cx="864000" cy="359280"/>
          </a:xfrm>
        </p:grpSpPr>
        <p:sp>
          <p:nvSpPr>
            <p:cNvPr id="669" name=""/>
            <p:cNvSpPr/>
            <p:nvPr/>
          </p:nvSpPr>
          <p:spPr>
            <a:xfrm>
              <a:off x="1590840" y="2809800"/>
              <a:ext cx="646560" cy="9720"/>
            </a:xfrm>
            <a:custGeom>
              <a:avLst/>
              <a:gdLst/>
              <a:ahLst/>
              <a:rect l="0" t="0" r="r" b="b"/>
              <a:pathLst>
                <a:path w="1796" h="27">
                  <a:moveTo>
                    <a:pt x="0" y="27"/>
                  </a:moveTo>
                  <a:lnTo>
                    <a:pt x="0" y="0"/>
                  </a:lnTo>
                  <a:lnTo>
                    <a:pt x="1796" y="0"/>
                  </a:lnTo>
                  <a:lnTo>
                    <a:pt x="1787" y="14"/>
                  </a:lnTo>
                  <a:lnTo>
                    <a:pt x="1787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06c6e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92280" y="2816280"/>
              <a:ext cx="643320" cy="27360"/>
            </a:xfrm>
            <a:custGeom>
              <a:avLst/>
              <a:gdLst/>
              <a:ahLst/>
              <a:rect l="0" t="0" r="r" b="b"/>
              <a:pathLst>
                <a:path w="1787" h="76">
                  <a:moveTo>
                    <a:pt x="1779" y="76"/>
                  </a:moveTo>
                  <a:lnTo>
                    <a:pt x="1783" y="76"/>
                  </a:lnTo>
                  <a:lnTo>
                    <a:pt x="1787" y="76"/>
                  </a:lnTo>
                  <a:lnTo>
                    <a:pt x="1787" y="72"/>
                  </a:lnTo>
                  <a:lnTo>
                    <a:pt x="1787" y="68"/>
                  </a:lnTo>
                  <a:lnTo>
                    <a:pt x="1787" y="0"/>
                  </a:lnTo>
                  <a:lnTo>
                    <a:pt x="1765" y="0"/>
                  </a:lnTo>
                  <a:lnTo>
                    <a:pt x="1708" y="0"/>
                  </a:lnTo>
                  <a:lnTo>
                    <a:pt x="1620" y="0"/>
                  </a:lnTo>
                  <a:lnTo>
                    <a:pt x="1510" y="0"/>
                  </a:lnTo>
                  <a:lnTo>
                    <a:pt x="1377" y="0"/>
                  </a:lnTo>
                  <a:lnTo>
                    <a:pt x="1226" y="0"/>
                  </a:lnTo>
                  <a:lnTo>
                    <a:pt x="1068" y="0"/>
                  </a:lnTo>
                  <a:lnTo>
                    <a:pt x="904" y="0"/>
                  </a:lnTo>
                  <a:lnTo>
                    <a:pt x="741" y="0"/>
                  </a:lnTo>
                  <a:lnTo>
                    <a:pt x="583" y="0"/>
                  </a:lnTo>
                  <a:lnTo>
                    <a:pt x="432" y="0"/>
                  </a:lnTo>
                  <a:lnTo>
                    <a:pt x="295" y="0"/>
                  </a:lnTo>
                  <a:lnTo>
                    <a:pt x="180" y="0"/>
                  </a:lnTo>
                  <a:lnTo>
                    <a:pt x="88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77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92280" y="2654280"/>
              <a:ext cx="654480" cy="157680"/>
            </a:xfrm>
            <a:custGeom>
              <a:avLst/>
              <a:gdLst/>
              <a:ahLst/>
              <a:rect l="0" t="0" r="r" b="b"/>
              <a:pathLst>
                <a:path w="1818" h="438">
                  <a:moveTo>
                    <a:pt x="1792" y="438"/>
                  </a:moveTo>
                  <a:lnTo>
                    <a:pt x="1792" y="434"/>
                  </a:lnTo>
                  <a:lnTo>
                    <a:pt x="1796" y="429"/>
                  </a:lnTo>
                  <a:lnTo>
                    <a:pt x="1796" y="425"/>
                  </a:lnTo>
                  <a:lnTo>
                    <a:pt x="1801" y="416"/>
                  </a:lnTo>
                  <a:lnTo>
                    <a:pt x="1805" y="407"/>
                  </a:lnTo>
                  <a:lnTo>
                    <a:pt x="1805" y="398"/>
                  </a:lnTo>
                  <a:lnTo>
                    <a:pt x="1805" y="385"/>
                  </a:lnTo>
                  <a:lnTo>
                    <a:pt x="1809" y="372"/>
                  </a:lnTo>
                  <a:lnTo>
                    <a:pt x="1809" y="359"/>
                  </a:lnTo>
                  <a:lnTo>
                    <a:pt x="1814" y="350"/>
                  </a:lnTo>
                  <a:lnTo>
                    <a:pt x="1814" y="337"/>
                  </a:lnTo>
                  <a:lnTo>
                    <a:pt x="1818" y="322"/>
                  </a:lnTo>
                  <a:lnTo>
                    <a:pt x="1818" y="314"/>
                  </a:lnTo>
                  <a:lnTo>
                    <a:pt x="1818" y="300"/>
                  </a:lnTo>
                  <a:lnTo>
                    <a:pt x="1818" y="287"/>
                  </a:lnTo>
                  <a:lnTo>
                    <a:pt x="1818" y="278"/>
                  </a:lnTo>
                  <a:lnTo>
                    <a:pt x="1805" y="278"/>
                  </a:lnTo>
                  <a:lnTo>
                    <a:pt x="1805" y="239"/>
                  </a:lnTo>
                  <a:lnTo>
                    <a:pt x="1818" y="239"/>
                  </a:lnTo>
                  <a:lnTo>
                    <a:pt x="1818" y="234"/>
                  </a:lnTo>
                  <a:lnTo>
                    <a:pt x="1818" y="221"/>
                  </a:lnTo>
                  <a:lnTo>
                    <a:pt x="1818" y="208"/>
                  </a:lnTo>
                  <a:lnTo>
                    <a:pt x="1814" y="199"/>
                  </a:lnTo>
                  <a:lnTo>
                    <a:pt x="1814" y="186"/>
                  </a:lnTo>
                  <a:lnTo>
                    <a:pt x="1814" y="168"/>
                  </a:lnTo>
                  <a:lnTo>
                    <a:pt x="1809" y="159"/>
                  </a:lnTo>
                  <a:lnTo>
                    <a:pt x="1809" y="142"/>
                  </a:lnTo>
                  <a:lnTo>
                    <a:pt x="1805" y="128"/>
                  </a:lnTo>
                  <a:lnTo>
                    <a:pt x="1805" y="120"/>
                  </a:lnTo>
                  <a:lnTo>
                    <a:pt x="1805" y="105"/>
                  </a:lnTo>
                  <a:lnTo>
                    <a:pt x="1801" y="97"/>
                  </a:lnTo>
                  <a:lnTo>
                    <a:pt x="1796" y="88"/>
                  </a:lnTo>
                  <a:lnTo>
                    <a:pt x="1796" y="79"/>
                  </a:lnTo>
                  <a:lnTo>
                    <a:pt x="1792" y="74"/>
                  </a:lnTo>
                  <a:lnTo>
                    <a:pt x="1792" y="7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9"/>
                  </a:lnTo>
                  <a:lnTo>
                    <a:pt x="8" y="83"/>
                  </a:lnTo>
                  <a:lnTo>
                    <a:pt x="13" y="92"/>
                  </a:lnTo>
                  <a:lnTo>
                    <a:pt x="13" y="101"/>
                  </a:lnTo>
                  <a:lnTo>
                    <a:pt x="17" y="111"/>
                  </a:lnTo>
                  <a:lnTo>
                    <a:pt x="17" y="124"/>
                  </a:lnTo>
                  <a:lnTo>
                    <a:pt x="22" y="133"/>
                  </a:lnTo>
                  <a:lnTo>
                    <a:pt x="26" y="146"/>
                  </a:lnTo>
                  <a:lnTo>
                    <a:pt x="26" y="159"/>
                  </a:lnTo>
                  <a:lnTo>
                    <a:pt x="26" y="172"/>
                  </a:lnTo>
                  <a:lnTo>
                    <a:pt x="30" y="186"/>
                  </a:lnTo>
                  <a:lnTo>
                    <a:pt x="30" y="199"/>
                  </a:lnTo>
                  <a:lnTo>
                    <a:pt x="30" y="212"/>
                  </a:lnTo>
                  <a:lnTo>
                    <a:pt x="30" y="230"/>
                  </a:lnTo>
                  <a:lnTo>
                    <a:pt x="30" y="239"/>
                  </a:lnTo>
                  <a:lnTo>
                    <a:pt x="35" y="243"/>
                  </a:lnTo>
                  <a:lnTo>
                    <a:pt x="35" y="278"/>
                  </a:lnTo>
                  <a:lnTo>
                    <a:pt x="30" y="278"/>
                  </a:lnTo>
                  <a:lnTo>
                    <a:pt x="30" y="287"/>
                  </a:lnTo>
                  <a:lnTo>
                    <a:pt x="30" y="296"/>
                  </a:lnTo>
                  <a:lnTo>
                    <a:pt x="30" y="309"/>
                  </a:lnTo>
                  <a:lnTo>
                    <a:pt x="30" y="318"/>
                  </a:lnTo>
                  <a:lnTo>
                    <a:pt x="30" y="322"/>
                  </a:lnTo>
                  <a:lnTo>
                    <a:pt x="26" y="337"/>
                  </a:lnTo>
                  <a:lnTo>
                    <a:pt x="26" y="345"/>
                  </a:lnTo>
                  <a:lnTo>
                    <a:pt x="26" y="354"/>
                  </a:lnTo>
                  <a:lnTo>
                    <a:pt x="26" y="363"/>
                  </a:lnTo>
                  <a:lnTo>
                    <a:pt x="22" y="372"/>
                  </a:lnTo>
                  <a:lnTo>
                    <a:pt x="17" y="385"/>
                  </a:lnTo>
                  <a:lnTo>
                    <a:pt x="17" y="394"/>
                  </a:lnTo>
                  <a:lnTo>
                    <a:pt x="13" y="403"/>
                  </a:lnTo>
                  <a:lnTo>
                    <a:pt x="8" y="416"/>
                  </a:lnTo>
                  <a:lnTo>
                    <a:pt x="4" y="425"/>
                  </a:lnTo>
                  <a:lnTo>
                    <a:pt x="0" y="438"/>
                  </a:lnTo>
                  <a:lnTo>
                    <a:pt x="1792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82760" y="2489040"/>
              <a:ext cx="205200" cy="351360"/>
            </a:xfrm>
            <a:custGeom>
              <a:avLst/>
              <a:gdLst/>
              <a:ahLst/>
              <a:rect l="0" t="0" r="r" b="b"/>
              <a:pathLst>
                <a:path w="570" h="976">
                  <a:moveTo>
                    <a:pt x="570" y="455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0" y="503"/>
                  </a:lnTo>
                  <a:lnTo>
                    <a:pt x="0" y="508"/>
                  </a:lnTo>
                  <a:lnTo>
                    <a:pt x="0" y="512"/>
                  </a:lnTo>
                  <a:lnTo>
                    <a:pt x="0" y="516"/>
                  </a:lnTo>
                  <a:lnTo>
                    <a:pt x="0" y="521"/>
                  </a:lnTo>
                  <a:lnTo>
                    <a:pt x="4" y="521"/>
                  </a:lnTo>
                  <a:lnTo>
                    <a:pt x="4" y="525"/>
                  </a:lnTo>
                  <a:lnTo>
                    <a:pt x="8" y="530"/>
                  </a:lnTo>
                  <a:lnTo>
                    <a:pt x="13" y="530"/>
                  </a:lnTo>
                  <a:lnTo>
                    <a:pt x="17" y="538"/>
                  </a:lnTo>
                  <a:lnTo>
                    <a:pt x="35" y="552"/>
                  </a:lnTo>
                  <a:lnTo>
                    <a:pt x="61" y="569"/>
                  </a:lnTo>
                  <a:lnTo>
                    <a:pt x="92" y="596"/>
                  </a:lnTo>
                  <a:lnTo>
                    <a:pt x="136" y="631"/>
                  </a:lnTo>
                  <a:lnTo>
                    <a:pt x="181" y="671"/>
                  </a:lnTo>
                  <a:lnTo>
                    <a:pt x="234" y="706"/>
                  </a:lnTo>
                  <a:lnTo>
                    <a:pt x="283" y="751"/>
                  </a:lnTo>
                  <a:lnTo>
                    <a:pt x="336" y="791"/>
                  </a:lnTo>
                  <a:lnTo>
                    <a:pt x="384" y="831"/>
                  </a:lnTo>
                  <a:lnTo>
                    <a:pt x="434" y="866"/>
                  </a:lnTo>
                  <a:lnTo>
                    <a:pt x="478" y="901"/>
                  </a:lnTo>
                  <a:lnTo>
                    <a:pt x="513" y="932"/>
                  </a:lnTo>
                  <a:lnTo>
                    <a:pt x="539" y="954"/>
                  </a:lnTo>
                  <a:lnTo>
                    <a:pt x="562" y="972"/>
                  </a:lnTo>
                  <a:lnTo>
                    <a:pt x="570" y="976"/>
                  </a:lnTo>
                  <a:lnTo>
                    <a:pt x="570" y="455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39880" y="2720880"/>
              <a:ext cx="18000" cy="5040"/>
            </a:xfrm>
            <a:custGeom>
              <a:avLst/>
              <a:gdLst/>
              <a:ahLst/>
              <a:rect l="0" t="0" r="r" b="b"/>
              <a:pathLst>
                <a:path w="50" h="14">
                  <a:moveTo>
                    <a:pt x="50" y="14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01720" y="27208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65360" y="2720880"/>
              <a:ext cx="19440" cy="5040"/>
            </a:xfrm>
            <a:custGeom>
              <a:avLst/>
              <a:gdLst/>
              <a:ahLst/>
              <a:rect l="0" t="0" r="r" b="b"/>
              <a:pathLst>
                <a:path w="54" h="14">
                  <a:moveTo>
                    <a:pt x="54" y="14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27200" y="27208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58" y="14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eb918e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3440" y="2741760"/>
              <a:ext cx="641880" cy="12960"/>
            </a:xfrm>
            <a:custGeom>
              <a:avLst/>
              <a:gdLst/>
              <a:ahLst/>
              <a:rect l="0" t="0" r="r" b="b"/>
              <a:pathLst>
                <a:path w="1783" h="36">
                  <a:moveTo>
                    <a:pt x="0" y="36"/>
                  </a:moveTo>
                  <a:lnTo>
                    <a:pt x="0" y="0"/>
                  </a:lnTo>
                  <a:lnTo>
                    <a:pt x="1783" y="0"/>
                  </a:lnTo>
                  <a:lnTo>
                    <a:pt x="1783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96873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54240" y="2727360"/>
              <a:ext cx="33840" cy="59040"/>
            </a:xfrm>
            <a:custGeom>
              <a:avLst/>
              <a:gdLst/>
              <a:ahLst/>
              <a:rect l="0" t="0" r="r" b="b"/>
              <a:pathLst>
                <a:path w="94" h="164">
                  <a:moveTo>
                    <a:pt x="94" y="164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94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2738520"/>
              <a:ext cx="24120" cy="30600"/>
            </a:xfrm>
            <a:custGeom>
              <a:avLst/>
              <a:gdLst/>
              <a:ahLst/>
              <a:rect l="0" t="0" r="r" b="b"/>
              <a:pathLst>
                <a:path w="67" h="85">
                  <a:moveTo>
                    <a:pt x="0" y="85"/>
                  </a:moveTo>
                  <a:lnTo>
                    <a:pt x="30" y="0"/>
                  </a:lnTo>
                  <a:lnTo>
                    <a:pt x="67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68640" y="275436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9" y="32"/>
                  </a:moveTo>
                  <a:lnTo>
                    <a:pt x="15" y="32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82760" y="2484360"/>
              <a:ext cx="851400" cy="165600"/>
            </a:xfrm>
            <a:custGeom>
              <a:avLst/>
              <a:gdLst/>
              <a:ahLst/>
              <a:rect l="0" t="0" r="r" b="b"/>
              <a:pathLst>
                <a:path w="2365" h="460">
                  <a:moveTo>
                    <a:pt x="2361" y="447"/>
                  </a:moveTo>
                  <a:lnTo>
                    <a:pt x="2361" y="451"/>
                  </a:lnTo>
                  <a:lnTo>
                    <a:pt x="2365" y="451"/>
                  </a:lnTo>
                  <a:lnTo>
                    <a:pt x="2365" y="456"/>
                  </a:lnTo>
                  <a:lnTo>
                    <a:pt x="2365" y="460"/>
                  </a:lnTo>
                  <a:lnTo>
                    <a:pt x="2361" y="460"/>
                  </a:lnTo>
                  <a:lnTo>
                    <a:pt x="2356" y="460"/>
                  </a:lnTo>
                  <a:lnTo>
                    <a:pt x="590" y="460"/>
                  </a:lnTo>
                  <a:lnTo>
                    <a:pt x="586" y="460"/>
                  </a:lnTo>
                  <a:lnTo>
                    <a:pt x="582" y="460"/>
                  </a:lnTo>
                  <a:lnTo>
                    <a:pt x="577" y="460"/>
                  </a:lnTo>
                  <a:lnTo>
                    <a:pt x="573" y="460"/>
                  </a:lnTo>
                  <a:lnTo>
                    <a:pt x="573" y="456"/>
                  </a:lnTo>
                  <a:lnTo>
                    <a:pt x="568" y="456"/>
                  </a:lnTo>
                  <a:lnTo>
                    <a:pt x="564" y="451"/>
                  </a:lnTo>
                  <a:lnTo>
                    <a:pt x="560" y="447"/>
                  </a:lnTo>
                  <a:lnTo>
                    <a:pt x="555" y="44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703" y="0"/>
                  </a:lnTo>
                  <a:lnTo>
                    <a:pt x="1707" y="0"/>
                  </a:lnTo>
                  <a:lnTo>
                    <a:pt x="1711" y="0"/>
                  </a:lnTo>
                  <a:lnTo>
                    <a:pt x="1716" y="0"/>
                  </a:lnTo>
                  <a:lnTo>
                    <a:pt x="1720" y="0"/>
                  </a:lnTo>
                  <a:lnTo>
                    <a:pt x="1725" y="0"/>
                  </a:lnTo>
                  <a:lnTo>
                    <a:pt x="1725" y="4"/>
                  </a:lnTo>
                  <a:lnTo>
                    <a:pt x="1729" y="4"/>
                  </a:lnTo>
                  <a:lnTo>
                    <a:pt x="1734" y="4"/>
                  </a:lnTo>
                  <a:lnTo>
                    <a:pt x="1734" y="8"/>
                  </a:lnTo>
                  <a:lnTo>
                    <a:pt x="1738" y="8"/>
                  </a:lnTo>
                  <a:lnTo>
                    <a:pt x="1742" y="8"/>
                  </a:lnTo>
                  <a:lnTo>
                    <a:pt x="1747" y="13"/>
                  </a:lnTo>
                  <a:lnTo>
                    <a:pt x="2361" y="447"/>
                  </a:lnTo>
                  <a:close/>
                </a:path>
              </a:pathLst>
            </a:custGeom>
            <a:solidFill>
              <a:srgbClr val="bdbd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92280" y="2678040"/>
              <a:ext cx="6840" cy="133560"/>
            </a:xfrm>
            <a:custGeom>
              <a:avLst/>
              <a:gdLst/>
              <a:ahLst/>
              <a:rect l="0" t="0" r="r" b="b"/>
              <a:pathLst>
                <a:path w="19" h="371">
                  <a:moveTo>
                    <a:pt x="15" y="66"/>
                  </a:moveTo>
                  <a:lnTo>
                    <a:pt x="9" y="57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9"/>
                  </a:lnTo>
                  <a:lnTo>
                    <a:pt x="9" y="35"/>
                  </a:lnTo>
                  <a:lnTo>
                    <a:pt x="9" y="30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4" y="358"/>
                  </a:lnTo>
                  <a:lnTo>
                    <a:pt x="4" y="344"/>
                  </a:lnTo>
                  <a:lnTo>
                    <a:pt x="9" y="331"/>
                  </a:lnTo>
                  <a:lnTo>
                    <a:pt x="9" y="318"/>
                  </a:lnTo>
                  <a:lnTo>
                    <a:pt x="15" y="305"/>
                  </a:lnTo>
                  <a:lnTo>
                    <a:pt x="15" y="287"/>
                  </a:lnTo>
                  <a:lnTo>
                    <a:pt x="15" y="274"/>
                  </a:lnTo>
                  <a:lnTo>
                    <a:pt x="19" y="261"/>
                  </a:lnTo>
                  <a:lnTo>
                    <a:pt x="19" y="247"/>
                  </a:lnTo>
                  <a:lnTo>
                    <a:pt x="19" y="234"/>
                  </a:lnTo>
                  <a:lnTo>
                    <a:pt x="19" y="221"/>
                  </a:lnTo>
                  <a:lnTo>
                    <a:pt x="19" y="212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86"/>
                  </a:lnTo>
                  <a:lnTo>
                    <a:pt x="19" y="180"/>
                  </a:lnTo>
                  <a:lnTo>
                    <a:pt x="19" y="171"/>
                  </a:lnTo>
                  <a:lnTo>
                    <a:pt x="19" y="167"/>
                  </a:lnTo>
                  <a:lnTo>
                    <a:pt x="19" y="163"/>
                  </a:lnTo>
                  <a:lnTo>
                    <a:pt x="19" y="154"/>
                  </a:lnTo>
                  <a:lnTo>
                    <a:pt x="19" y="145"/>
                  </a:lnTo>
                  <a:lnTo>
                    <a:pt x="19" y="136"/>
                  </a:lnTo>
                  <a:lnTo>
                    <a:pt x="19" y="132"/>
                  </a:lnTo>
                  <a:lnTo>
                    <a:pt x="19" y="123"/>
                  </a:lnTo>
                  <a:lnTo>
                    <a:pt x="19" y="114"/>
                  </a:lnTo>
                  <a:lnTo>
                    <a:pt x="19" y="110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5" y="88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15" y="66"/>
                  </a:lnTo>
                  <a:close/>
                </a:path>
              </a:pathLst>
            </a:custGeom>
            <a:solidFill>
              <a:srgbClr val="83838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82760" y="2567160"/>
              <a:ext cx="216360" cy="187560"/>
            </a:xfrm>
            <a:custGeom>
              <a:avLst/>
              <a:gdLst/>
              <a:ahLst/>
              <a:rect l="0" t="0" r="r" b="b"/>
              <a:pathLst>
                <a:path w="601" h="521">
                  <a:moveTo>
                    <a:pt x="601" y="499"/>
                  </a:moveTo>
                  <a:lnTo>
                    <a:pt x="601" y="494"/>
                  </a:lnTo>
                  <a:lnTo>
                    <a:pt x="601" y="490"/>
                  </a:lnTo>
                  <a:lnTo>
                    <a:pt x="601" y="486"/>
                  </a:lnTo>
                  <a:lnTo>
                    <a:pt x="601" y="481"/>
                  </a:lnTo>
                  <a:lnTo>
                    <a:pt x="601" y="477"/>
                  </a:lnTo>
                  <a:lnTo>
                    <a:pt x="0" y="0"/>
                  </a:lnTo>
                  <a:lnTo>
                    <a:pt x="0" y="39"/>
                  </a:lnTo>
                  <a:lnTo>
                    <a:pt x="601" y="521"/>
                  </a:lnTo>
                  <a:lnTo>
                    <a:pt x="601" y="516"/>
                  </a:lnTo>
                  <a:lnTo>
                    <a:pt x="601" y="512"/>
                  </a:lnTo>
                  <a:lnTo>
                    <a:pt x="601" y="508"/>
                  </a:lnTo>
                  <a:lnTo>
                    <a:pt x="601" y="503"/>
                  </a:lnTo>
                  <a:lnTo>
                    <a:pt x="601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86000" y="2646360"/>
              <a:ext cx="208440" cy="171720"/>
            </a:xfrm>
            <a:custGeom>
              <a:avLst/>
              <a:gdLst/>
              <a:ahLst/>
              <a:rect l="0" t="0" r="r" b="b"/>
              <a:pathLst>
                <a:path w="579" h="477">
                  <a:moveTo>
                    <a:pt x="579" y="464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575" y="477"/>
                  </a:lnTo>
                  <a:lnTo>
                    <a:pt x="579" y="4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87440" y="2521080"/>
              <a:ext cx="206640" cy="171720"/>
            </a:xfrm>
            <a:custGeom>
              <a:avLst/>
              <a:gdLst/>
              <a:ahLst/>
              <a:rect l="0" t="0" r="r" b="b"/>
              <a:pathLst>
                <a:path w="574" h="477">
                  <a:moveTo>
                    <a:pt x="569" y="459"/>
                  </a:moveTo>
                  <a:lnTo>
                    <a:pt x="565" y="455"/>
                  </a:lnTo>
                  <a:lnTo>
                    <a:pt x="565" y="450"/>
                  </a:lnTo>
                  <a:lnTo>
                    <a:pt x="561" y="450"/>
                  </a:lnTo>
                  <a:lnTo>
                    <a:pt x="561" y="446"/>
                  </a:lnTo>
                  <a:lnTo>
                    <a:pt x="0" y="0"/>
                  </a:lnTo>
                  <a:lnTo>
                    <a:pt x="0" y="13"/>
                  </a:lnTo>
                  <a:lnTo>
                    <a:pt x="574" y="477"/>
                  </a:lnTo>
                  <a:lnTo>
                    <a:pt x="574" y="472"/>
                  </a:lnTo>
                  <a:lnTo>
                    <a:pt x="574" y="468"/>
                  </a:lnTo>
                  <a:lnTo>
                    <a:pt x="569" y="468"/>
                  </a:lnTo>
                  <a:lnTo>
                    <a:pt x="569" y="464"/>
                  </a:lnTo>
                  <a:lnTo>
                    <a:pt x="569" y="4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6" name=""/>
          <p:cNvSpPr txBox="1"/>
          <p:nvPr/>
        </p:nvSpPr>
        <p:spPr>
          <a:xfrm>
            <a:off x="1360440" y="2849400"/>
            <a:ext cx="11206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X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ure Acc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95440" y="2671920"/>
            <a:ext cx="37386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30880" y="2422440"/>
            <a:ext cx="7383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B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60640" y="2413080"/>
            <a:ext cx="1186200" cy="1074960"/>
          </a:xfrm>
          <a:custGeom>
            <a:avLst/>
            <a:gdLst/>
            <a:ahLst/>
            <a:rect l="0" t="0" r="r" b="b"/>
            <a:pathLst>
              <a:path fill="none" w="3295" h="2986">
                <a:moveTo>
                  <a:pt x="0" y="0"/>
                </a:moveTo>
                <a:lnTo>
                  <a:pt x="0" y="2986"/>
                </a:lnTo>
                <a:lnTo>
                  <a:pt x="1265" y="2986"/>
                </a:lnTo>
                <a:lnTo>
                  <a:pt x="798" y="2593"/>
                </a:lnTo>
                <a:lnTo>
                  <a:pt x="3295" y="2598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00320" y="2222640"/>
            <a:ext cx="1395360" cy="969840"/>
            <a:chOff x="3100320" y="2222640"/>
            <a:chExt cx="1395360" cy="969840"/>
          </a:xfrm>
        </p:grpSpPr>
        <p:grpSp>
          <p:nvGrpSpPr>
            <p:cNvPr id="691" name=""/>
            <p:cNvGrpSpPr/>
            <p:nvPr/>
          </p:nvGrpSpPr>
          <p:grpSpPr>
            <a:xfrm>
              <a:off x="3132000" y="2227320"/>
              <a:ext cx="1335240" cy="896760"/>
              <a:chOff x="3132000" y="2227320"/>
              <a:chExt cx="1335240" cy="896760"/>
            </a:xfrm>
          </p:grpSpPr>
          <p:sp>
            <p:nvSpPr>
              <p:cNvPr id="692" name=""/>
              <p:cNvSpPr/>
              <p:nvPr/>
            </p:nvSpPr>
            <p:spPr>
              <a:xfrm>
                <a:off x="3365640" y="2227320"/>
                <a:ext cx="588960" cy="51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32000" y="2465280"/>
                <a:ext cx="484200" cy="44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62320" y="2719440"/>
                <a:ext cx="503280" cy="34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425760" y="2587680"/>
                <a:ext cx="584280" cy="53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68560" y="2536920"/>
                <a:ext cx="4446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27400" y="2516040"/>
                <a:ext cx="33984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819600" y="2298600"/>
                <a:ext cx="317520" cy="37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071960" y="2414520"/>
                <a:ext cx="204840" cy="216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3100320" y="2222640"/>
              <a:ext cx="1395360" cy="969840"/>
              <a:chOff x="3100320" y="2222640"/>
              <a:chExt cx="1395360" cy="969840"/>
            </a:xfrm>
          </p:grpSpPr>
          <p:pic>
            <p:nvPicPr>
              <p:cNvPr id="70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127320" y="2222640"/>
                <a:ext cx="136836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 txBox="1"/>
              <p:nvPr/>
            </p:nvSpPr>
            <p:spPr>
              <a:xfrm>
                <a:off x="3100320" y="2460600"/>
                <a:ext cx="13557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720"/>
                  </a:spcBef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rrier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6848640" y="2230560"/>
            <a:ext cx="416160" cy="357480"/>
          </a:xfrm>
          <a:custGeom>
            <a:avLst/>
            <a:gdLst/>
            <a:ahLst/>
            <a:rect l="0" t="0" r="r" b="b"/>
            <a:pathLst>
              <a:path fill="none" w="1156" h="993">
                <a:moveTo>
                  <a:pt x="0" y="993"/>
                </a:moveTo>
                <a:lnTo>
                  <a:pt x="825" y="993"/>
                </a:lnTo>
                <a:lnTo>
                  <a:pt x="825" y="4"/>
                </a:lnTo>
                <a:lnTo>
                  <a:pt x="1156" y="0"/>
                </a:lnTo>
              </a:path>
            </a:pathLst>
          </a:custGeom>
          <a:ln w="25560">
            <a:solidFill>
              <a:srgbClr val="1b74ec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145360" y="2511360"/>
            <a:ext cx="3571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9"/>
          <a:stretch/>
        </p:blipFill>
        <p:spPr>
          <a:xfrm>
            <a:off x="7796160" y="2084400"/>
            <a:ext cx="641520" cy="4795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8140680" y="3071880"/>
            <a:ext cx="5904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772400" y="2548080"/>
            <a:ext cx="309600" cy="22536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777080" y="2521080"/>
            <a:ext cx="11448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954840" y="2658960"/>
            <a:ext cx="113040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132760" y="2792520"/>
            <a:ext cx="128520" cy="0"/>
          </a:xfrm>
          <a:prstGeom prst="line">
            <a:avLst/>
          </a:prstGeom>
          <a:ln w="25560">
            <a:solidFill>
              <a:srgbClr val="1b74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093160" y="2603520"/>
            <a:ext cx="8748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0"/>
          <a:stretch/>
        </p:blipFill>
        <p:spPr>
          <a:xfrm>
            <a:off x="8190000" y="2747880"/>
            <a:ext cx="574560" cy="3729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 txBox="1"/>
          <p:nvPr/>
        </p:nvSpPr>
        <p:spPr>
          <a:xfrm>
            <a:off x="2460600" y="2268360"/>
            <a:ext cx="8398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1, E1,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DN P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17600" y="6286680"/>
            <a:ext cx="296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90000"/>
              </a:lnSpc>
              <a:spcBef>
                <a:spcPts val="720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Internationally Q4,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dd Wysuph</cp:lastModifiedBy>
  <cp:revision>0</cp:revision>
  <dc:subject/>
  <dc:title>Pipeline</dc:title>
</cp:coreProperties>
</file>