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945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940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3906360" y="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19240" y="699840"/>
            <a:ext cx="4657680" cy="34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5"/>
          </p:nvPr>
        </p:nvSpPr>
        <p:spPr>
          <a:xfrm>
            <a:off x="75960" y="8777160"/>
            <a:ext cx="2987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6"/>
          </p:nvPr>
        </p:nvSpPr>
        <p:spPr>
          <a:xfrm>
            <a:off x="3754080" y="8777160"/>
            <a:ext cx="2986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A431B2-2BDA-4329-9F00-E7F047EF72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754080" y="8777160"/>
            <a:ext cx="29862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7C51EC-CD26-4DBF-A44A-46FB919759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5960" y="8777160"/>
            <a:ext cx="2987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906360" y="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05280" y="0"/>
            <a:ext cx="2989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05280" y="8854920"/>
            <a:ext cx="2989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854920"/>
            <a:ext cx="2987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87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60920" cy="34938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8720" y="4425480"/>
            <a:ext cx="505620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30A-FB02-4AB2-9954-FDADC93F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D12-8486-45FA-B883-6A5C065A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562-B03E-4D72-8DDE-62C4753A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4904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4248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5560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4904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4248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AA9-4503-465B-BDB6-6212AFED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60B-5C34-437B-A11D-4992AFCB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74904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4248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5560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74904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4248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E35-6992-4FDE-AB6D-34588C8F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D81-9B02-4F31-AF18-E22F52E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68F-0198-4CF1-A5AD-A5D97923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32B-8277-4B1C-BCCB-5DBD8BC5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603-DC76-4E39-96BF-403637C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27E-4BC2-4DDB-B6FE-0EBF283F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563-9728-41D8-9909-C1E83725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3560" y="525600"/>
            <a:ext cx="513000" cy="685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960" cy="614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301920"/>
            <a:ext cx="82440" cy="282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817120" y="6108840"/>
            <a:ext cx="33948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8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672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C92D97-3601-4C1E-828B-FC37297596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867280" y="6633720"/>
            <a:ext cx="2621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1998 Ascend Communications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72680" y="6718320"/>
            <a:ext cx="571320" cy="13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2440" y="5786280"/>
            <a:ext cx="51264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9000" y="1904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933480"/>
            <a:ext cx="3105000" cy="570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75640" y="851040"/>
            <a:ext cx="108396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75640" y="831960"/>
            <a:ext cx="22428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83560" y="368280"/>
            <a:ext cx="113004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99440" y="0"/>
            <a:ext cx="76212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92800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4480" y="577224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0" y="5437080"/>
            <a:ext cx="34196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480" y="577224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5520" y="5451480"/>
            <a:ext cx="3002040" cy="992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23720" y="5463720"/>
            <a:ext cx="3005280" cy="180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3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8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2.wmf"/><Relationship Id="rId9" Type="http://schemas.openxmlformats.org/officeDocument/2006/relationships/image" Target="../media/image14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3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6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7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14.wmf"/><Relationship Id="rId5" Type="http://schemas.openxmlformats.org/officeDocument/2006/relationships/image" Target="../media/image8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3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3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24240" y="1904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Ascend MultiVoice</a:t>
            </a:r>
            <a:br>
              <a:rPr sz="2800"/>
            </a:b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Voice-over-IP Networks</a:t>
            </a:r>
            <a:endParaRPr b="1" lang="en-US" sz="28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588840" y="388620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aaa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2aaa"/>
                </a:solidFill>
                <a:latin typeface="Arial"/>
              </a:rPr>
              <a:t>From Dial-Tone to Data-Ton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9680" y="5513400"/>
            <a:ext cx="3027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8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Jose R. Ga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Produ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Component Overview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55600" y="118116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Gateway for the M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 the native PSTN network interfa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T1, PRI, E1 and B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various voice compression cod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TU-H.323 protocol for Phone-to-Phone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-to-PC communications over the IP packe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Access Manager (H.323 Gatekeep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the H.323 zone(s) for a set of gateway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end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ddress translation (E.164 telephone addr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P 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client registration (authent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 End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standard H.323-compliant PC software that suppor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 calls (e.g. NetMeeting or CoolTa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5E8-77D4-4FD8-842C-342BC5F45D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H="1">
            <a:off x="6149880" y="2990880"/>
            <a:ext cx="1355760" cy="1187280"/>
          </a:xfrm>
          <a:custGeom>
            <a:avLst/>
            <a:gdLst/>
            <a:ahLst/>
            <a:rect l="l" t="t" r="r" b="b"/>
            <a:pathLst>
              <a:path w="1066" h="490">
                <a:moveTo>
                  <a:pt x="0" y="1"/>
                </a:moveTo>
                <a:lnTo>
                  <a:pt x="1066" y="0"/>
                </a:lnTo>
                <a:lnTo>
                  <a:pt x="1066" y="490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78040" y="639756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21240" y="639756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1937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78520" y="3743280"/>
            <a:ext cx="2048040" cy="193680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12600">
            <a:solidFill>
              <a:srgbClr val="002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1373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16240" y="230832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AX" descr=""/>
          <p:cNvPicPr/>
          <p:nvPr/>
        </p:nvPicPr>
        <p:blipFill>
          <a:blip r:embed="rId1"/>
          <a:stretch/>
        </p:blipFill>
        <p:spPr>
          <a:xfrm>
            <a:off x="7620120" y="1866960"/>
            <a:ext cx="582480" cy="433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V="1">
            <a:off x="3403440" y="2298240"/>
            <a:ext cx="0" cy="18162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49760" y="2323800"/>
            <a:ext cx="0" cy="13460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3440" y="3797280"/>
            <a:ext cx="180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.323 Gatekeep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4876920"/>
            <a:ext cx="1346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67760" y="1981080"/>
            <a:ext cx="985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T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49840" y="2476440"/>
            <a:ext cx="5587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543120" y="2489040"/>
            <a:ext cx="5713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8732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8308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98440" y="59943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VoIP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GRF%20400" descr=""/>
          <p:cNvPicPr/>
          <p:nvPr/>
        </p:nvPicPr>
        <p:blipFill>
          <a:blip r:embed="rId2"/>
          <a:stretch/>
        </p:blipFill>
        <p:spPr>
          <a:xfrm>
            <a:off x="3137040" y="274320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272" name="GRF%20400" descr=""/>
          <p:cNvPicPr/>
          <p:nvPr/>
        </p:nvPicPr>
        <p:blipFill>
          <a:blip r:embed="rId3"/>
          <a:stretch/>
        </p:blipFill>
        <p:spPr>
          <a:xfrm>
            <a:off x="4902120" y="274320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074120" y="22860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504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2720" y="230832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2405160" y="3340080"/>
            <a:ext cx="46260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3230640" y="3740040"/>
            <a:ext cx="3087720" cy="1896840"/>
            <a:chOff x="3230640" y="3740040"/>
            <a:chExt cx="3087720" cy="1896840"/>
          </a:xfrm>
        </p:grpSpPr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3230640" y="3740040"/>
              <a:ext cx="308772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176000" y="3987360"/>
              <a:ext cx="928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rame/AT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re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06680" y="4552560"/>
              <a:ext cx="682920" cy="682560"/>
            </a:xfrm>
            <a:prstGeom prst="rect">
              <a:avLst/>
            </a:prstGeom>
            <a:noFill/>
            <a:ln w="1908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306320" y="4552560"/>
              <a:ext cx="682920" cy="682560"/>
            </a:xfrm>
            <a:prstGeom prst="line">
              <a:avLst/>
            </a:prstGeom>
            <a:ln w="1908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06680" y="4552560"/>
              <a:ext cx="682920" cy="682560"/>
            </a:xfrm>
            <a:prstGeom prst="line">
              <a:avLst/>
            </a:prstGeom>
            <a:ln w="1908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7720" y="4503600"/>
              <a:ext cx="145800" cy="1458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92760" y="4503600"/>
              <a:ext cx="145800" cy="1458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57720" y="5138280"/>
              <a:ext cx="145800" cy="1461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92760" y="5138280"/>
              <a:ext cx="145800" cy="1461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540720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1008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4376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170496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0820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FAX" descr=""/>
          <p:cNvPicPr/>
          <p:nvPr/>
        </p:nvPicPr>
        <p:blipFill>
          <a:blip r:embed="rId8"/>
          <a:stretch/>
        </p:blipFill>
        <p:spPr>
          <a:xfrm>
            <a:off x="876240" y="1866960"/>
            <a:ext cx="582840" cy="4334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839920" y="40384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23800" y="40384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Server" descr=""/>
          <p:cNvPicPr/>
          <p:nvPr/>
        </p:nvPicPr>
        <p:blipFill>
          <a:blip r:embed="rId9"/>
          <a:stretch/>
        </p:blipFill>
        <p:spPr>
          <a:xfrm>
            <a:off x="7626240" y="4495680"/>
            <a:ext cx="554040" cy="8766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ax - Configurat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pic>
        <p:nvPicPr>
          <p:cNvPr id="297" name="PC" descr=""/>
          <p:cNvPicPr/>
          <p:nvPr/>
        </p:nvPicPr>
        <p:blipFill>
          <a:blip r:embed="rId10"/>
          <a:stretch/>
        </p:blipFill>
        <p:spPr>
          <a:xfrm>
            <a:off x="7201080" y="268596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47560" y="318456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uture RT Fax-cap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323 endpoi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Server" descr=""/>
          <p:cNvPicPr/>
          <p:nvPr/>
        </p:nvPicPr>
        <p:blipFill>
          <a:blip r:embed="rId11"/>
          <a:stretch/>
        </p:blipFill>
        <p:spPr>
          <a:xfrm>
            <a:off x="2730600" y="4305240"/>
            <a:ext cx="414360" cy="6555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352240" y="49514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ore &amp; Forw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2800" y="5207040"/>
            <a:ext cx="1893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Voice 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&amp; Forward 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-Time 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D87-2956-4553-A52E-A0B7041888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Why Fax over IP?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ommon infrastructure for data, voice, and f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 is 40% of all PSTN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 is better suited to transport over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new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x broadca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x to e-mail conver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big bu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277-236C-460F-AE01-FE7C7D0BDE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Real-Time vs Store and Forward 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2952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 (RT) Fax over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n it’s sent, it is REALLY sent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storage in the networ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looking for “lost e-mail/faxmail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kes about the same amount of time as fax over PST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laces existing fax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&amp; Forward (S&amp;F) Fax over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xes are stored on a server in a networ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ables group broadcast of f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ables new services, But, ... Like e-mail, there may be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46720" indent="-1782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f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6720" indent="-1782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of an unpredict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suitable for critical documents, contracts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EA6-4BC5-4B8D-AC93-7C5E22E3CA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General Characteristics of the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Fax Gateway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55600" y="144792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both S&amp;F and Real-Time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amp;F only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 S&amp;F / RT Fax gateway (RT-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 RT Fax / Voice gateway (RT-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E1 and T1 signaling direct from MAX produ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,Robbed Bit, PRI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upport finalized ITU-T T.ifax2 and IETF RF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available in pre-standard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 solution shares infrastructure with Asce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same Gatekeeper, CDR, etc.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406-7E82-4F50-89FE-696FF37A42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878040" y="639756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21240" y="639756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Access Manager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1937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78520" y="3743280"/>
            <a:ext cx="2048040" cy="193680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12600">
            <a:solidFill>
              <a:srgbClr val="002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1373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18240" y="218124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hone" descr=""/>
          <p:cNvPicPr/>
          <p:nvPr/>
        </p:nvPicPr>
        <p:blipFill>
          <a:blip r:embed="rId1"/>
          <a:stretch/>
        </p:blipFill>
        <p:spPr>
          <a:xfrm>
            <a:off x="7581960" y="1841400"/>
            <a:ext cx="544320" cy="358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878160" y="310824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FAX" descr=""/>
          <p:cNvPicPr/>
          <p:nvPr/>
        </p:nvPicPr>
        <p:blipFill>
          <a:blip r:embed="rId2"/>
          <a:stretch/>
        </p:blipFill>
        <p:spPr>
          <a:xfrm>
            <a:off x="6781680" y="2666880"/>
            <a:ext cx="582840" cy="433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V="1">
            <a:off x="7137360" y="2196720"/>
            <a:ext cx="0" cy="660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917720" y="5257800"/>
            <a:ext cx="11304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403440" y="2298240"/>
            <a:ext cx="0" cy="18162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549760" y="2323800"/>
            <a:ext cx="0" cy="13460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03440" y="3797280"/>
            <a:ext cx="180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.323 Gatekeep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4876920"/>
            <a:ext cx="1346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65920" y="5562720"/>
            <a:ext cx="82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olT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67760" y="1981080"/>
            <a:ext cx="985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T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50160" y="472284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323 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29200" y="2438280"/>
            <a:ext cx="2793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543120" y="2438280"/>
            <a:ext cx="253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1360" y="218124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8732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308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98440" y="59943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VoIP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GRF%20400" descr=""/>
          <p:cNvPicPr/>
          <p:nvPr/>
        </p:nvPicPr>
        <p:blipFill>
          <a:blip r:embed="rId3"/>
          <a:stretch/>
        </p:blipFill>
        <p:spPr>
          <a:xfrm>
            <a:off x="3137040" y="274320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336" name="GRF%20400" descr=""/>
          <p:cNvPicPr/>
          <p:nvPr/>
        </p:nvPicPr>
        <p:blipFill>
          <a:blip r:embed="rId4"/>
          <a:stretch/>
        </p:blipFill>
        <p:spPr>
          <a:xfrm>
            <a:off x="4902120" y="274320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086720" y="20574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504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44040" y="310824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C" descr=""/>
          <p:cNvPicPr/>
          <p:nvPr/>
        </p:nvPicPr>
        <p:blipFill>
          <a:blip r:embed="rId5"/>
          <a:stretch/>
        </p:blipFill>
        <p:spPr>
          <a:xfrm>
            <a:off x="1562040" y="5105520"/>
            <a:ext cx="609840" cy="4712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2505240" y="3397320"/>
            <a:ext cx="4525920" cy="2600280"/>
            <a:chOff x="2505240" y="3397320"/>
            <a:chExt cx="4525920" cy="2600280"/>
          </a:xfrm>
        </p:grpSpPr>
        <p:pic>
          <p:nvPicPr>
            <p:cNvPr id="342" name="" descr=""/>
            <p:cNvPicPr/>
            <p:nvPr/>
          </p:nvPicPr>
          <p:blipFill>
            <a:blip r:embed="rId6"/>
            <a:stretch/>
          </p:blipFill>
          <p:spPr>
            <a:xfrm>
              <a:off x="2505240" y="3397320"/>
              <a:ext cx="4525920" cy="26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"/>
            <p:cNvGrpSpPr/>
            <p:nvPr/>
          </p:nvGrpSpPr>
          <p:grpSpPr>
            <a:xfrm>
              <a:off x="3230640" y="3740040"/>
              <a:ext cx="3087360" cy="1896840"/>
              <a:chOff x="3230640" y="3740040"/>
              <a:chExt cx="3087360" cy="1896840"/>
            </a:xfrm>
          </p:grpSpPr>
          <p:pic>
            <p:nvPicPr>
              <p:cNvPr id="34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30640" y="3740040"/>
                <a:ext cx="3087360" cy="189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4175280" y="3987360"/>
                <a:ext cx="928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rame/AT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ore 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06320" y="4552560"/>
                <a:ext cx="682560" cy="682560"/>
              </a:xfrm>
              <a:prstGeom prst="rect">
                <a:avLst/>
              </a:prstGeom>
              <a:noFill/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306320" y="4552560"/>
                <a:ext cx="682560" cy="682560"/>
              </a:xfrm>
              <a:prstGeom prst="line">
                <a:avLst/>
              </a:prstGeom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06320" y="4552560"/>
                <a:ext cx="682560" cy="682560"/>
              </a:xfrm>
              <a:prstGeom prst="line">
                <a:avLst/>
              </a:prstGeom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257360" y="4503600"/>
                <a:ext cx="145440" cy="1458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92400" y="4503600"/>
                <a:ext cx="145440" cy="1458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57360" y="5138280"/>
                <a:ext cx="145440" cy="14616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92400" y="5138280"/>
                <a:ext cx="145440" cy="14616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540720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541008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4376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hone" descr=""/>
          <p:cNvPicPr/>
          <p:nvPr/>
        </p:nvPicPr>
        <p:blipFill>
          <a:blip r:embed="rId9"/>
          <a:stretch/>
        </p:blipFill>
        <p:spPr>
          <a:xfrm>
            <a:off x="762120" y="1841400"/>
            <a:ext cx="544320" cy="3589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803240" y="2196720"/>
            <a:ext cx="0" cy="660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0"/>
          <a:stretch/>
        </p:blipFill>
        <p:spPr>
          <a:xfrm>
            <a:off x="170496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0820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FAX" descr=""/>
          <p:cNvPicPr/>
          <p:nvPr/>
        </p:nvPicPr>
        <p:blipFill>
          <a:blip r:embed="rId11"/>
          <a:stretch/>
        </p:blipFill>
        <p:spPr>
          <a:xfrm>
            <a:off x="1447920" y="2666880"/>
            <a:ext cx="582480" cy="433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392520" y="44388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23480" y="44388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Server" descr=""/>
          <p:cNvPicPr/>
          <p:nvPr/>
        </p:nvPicPr>
        <p:blipFill>
          <a:blip r:embed="rId12"/>
          <a:stretch/>
        </p:blipFill>
        <p:spPr>
          <a:xfrm>
            <a:off x="7626240" y="4495680"/>
            <a:ext cx="554040" cy="8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E4E-5412-404C-9E43-E8BAFFFC3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Importance of the …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Access Manager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P Vision – “The Packet Network is the future PST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ccess Manager for the MAX plays an important role in this 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ture versions of the MultiVoice Access Manager will support advanced telephony services and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se applications provide functions that allow ISPs to offer telco-like services in addition to value-added, integrated multimedia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ghter-integration with existing PSTN features, e.g. SS7 integration – important for PSTN / VoIP co-existence in carrier networ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304-798F-45CA-AB22-01AAAEF715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Scaling MultiVoice for MAX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08080" y="1542600"/>
            <a:ext cx="77184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MAX 6000-based Gate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s 16 to 96 voice ports per MAX chas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anager is standard NT / SOLARIS 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eap PC up to massive, duplicated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.323 supports “backup” gatekeepers if primary fails to respo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 for multiple Access Managers in the same net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oints find Access Manager vi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xed administ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cast (LA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NS (Internet / H.323 V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anager send calls to foreign Gateways via D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cend value-add – use of common DNS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mple provisio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270-26BD-4AAF-8B3D-C73B095164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754440" y="4038480"/>
            <a:ext cx="1104840" cy="1241640"/>
          </a:xfrm>
          <a:custGeom>
            <a:avLst/>
            <a:gdLst>
              <a:gd name="textAreaLeft" fmla="*/ 40320 w 1104840"/>
              <a:gd name="textAreaRight" fmla="*/ 1064520 w 1104840"/>
              <a:gd name="textAreaTop" fmla="*/ 40320 h 1241640"/>
              <a:gd name="textAreaBottom" fmla="*/ 1201320 h 1241640"/>
            </a:gdLst>
            <a:ahLst/>
            <a:rect l="textAreaLeft" t="textAreaTop" r="textAreaRight" b="textAreaBottom"/>
            <a:pathLst>
              <a:path w="21600" h="24274">
                <a:moveTo>
                  <a:pt x="2697" y="0"/>
                </a:moveTo>
                <a:arcTo wR="2697" hR="2697" stAng="16200000" swAng="-5400000"/>
                <a:lnTo>
                  <a:pt x="0" y="21577"/>
                </a:lnTo>
                <a:arcTo wR="2697" hR="2697" stAng="10800000" swAng="-5400000"/>
                <a:lnTo>
                  <a:pt x="18903" y="24274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2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- Accounting / Billing</a:t>
            </a:r>
            <a:br>
              <a:rPr sz="2800"/>
            </a:br>
            <a:r>
              <a:rPr b="1" lang="en-US" sz="2400" spc="-1" strike="noStrike">
                <a:solidFill>
                  <a:srgbClr val="002aaa"/>
                </a:solidFill>
                <a:latin typeface="Arial"/>
              </a:rPr>
              <a:t>One System for Voice and Fax</a:t>
            </a: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438280" y="4800240"/>
            <a:ext cx="1828800" cy="9190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732120" y="4800600"/>
            <a:ext cx="534960" cy="9144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4266720" y="4800240"/>
            <a:ext cx="762120" cy="8953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67080" y="4800600"/>
            <a:ext cx="2040120" cy="906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3328920"/>
            <a:ext cx="228600" cy="1147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99120" y="3212640"/>
            <a:ext cx="61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2362320"/>
            <a:ext cx="0" cy="5857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42840" y="1877760"/>
            <a:ext cx="553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vis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057040" y="4495680"/>
            <a:ext cx="2133720" cy="0"/>
          </a:xfrm>
          <a:prstGeom prst="line">
            <a:avLst/>
          </a:prstGeom>
          <a:ln w="12600">
            <a:solidFill>
              <a:srgbClr val="c896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057040" y="3352680"/>
            <a:ext cx="1981080" cy="0"/>
          </a:xfrm>
          <a:prstGeom prst="line">
            <a:avLst/>
          </a:prstGeom>
          <a:ln w="12600">
            <a:solidFill>
              <a:srgbClr val="c896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057040" y="2057400"/>
            <a:ext cx="1523880" cy="0"/>
          </a:xfrm>
          <a:prstGeom prst="line">
            <a:avLst/>
          </a:prstGeom>
          <a:ln w="12600">
            <a:solidFill>
              <a:srgbClr val="c896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38624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0720" y="2795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8480" y="4839840"/>
            <a:ext cx="1060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rd-party Bill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47280" y="4038480"/>
            <a:ext cx="951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DR  Recor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36680" y="4280040"/>
            <a:ext cx="109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C" descr=""/>
          <p:cNvPicPr/>
          <p:nvPr/>
        </p:nvPicPr>
        <p:blipFill>
          <a:blip r:embed="rId1"/>
          <a:stretch/>
        </p:blipFill>
        <p:spPr>
          <a:xfrm>
            <a:off x="3276720" y="1589040"/>
            <a:ext cx="1295280" cy="1001880"/>
          </a:xfrm>
          <a:prstGeom prst="rect">
            <a:avLst/>
          </a:prstGeom>
          <a:ln w="0">
            <a:noFill/>
          </a:ln>
        </p:spPr>
      </p:pic>
      <p:pic>
        <p:nvPicPr>
          <p:cNvPr id="387" name="Server" descr=""/>
          <p:cNvPicPr/>
          <p:nvPr/>
        </p:nvPicPr>
        <p:blipFill>
          <a:blip r:embed="rId2"/>
          <a:stretch/>
        </p:blipFill>
        <p:spPr>
          <a:xfrm>
            <a:off x="3733920" y="2895480"/>
            <a:ext cx="530280" cy="838440"/>
          </a:xfrm>
          <a:prstGeom prst="rect">
            <a:avLst/>
          </a:prstGeom>
          <a:ln w="0">
            <a:noFill/>
          </a:ln>
        </p:spPr>
      </p:pic>
      <p:pic>
        <p:nvPicPr>
          <p:cNvPr id="388" name="Server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5302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Server" descr=""/>
          <p:cNvPicPr/>
          <p:nvPr/>
        </p:nvPicPr>
        <p:blipFill>
          <a:blip r:embed="rId4"/>
          <a:stretch/>
        </p:blipFill>
        <p:spPr>
          <a:xfrm>
            <a:off x="1066680" y="2895480"/>
            <a:ext cx="530280" cy="838440"/>
          </a:xfrm>
          <a:prstGeom prst="rect">
            <a:avLst/>
          </a:prstGeom>
          <a:ln w="0">
            <a:noFill/>
          </a:ln>
        </p:spPr>
      </p:pic>
      <p:pic>
        <p:nvPicPr>
          <p:cNvPr id="390" name="Server" descr=""/>
          <p:cNvPicPr/>
          <p:nvPr/>
        </p:nvPicPr>
        <p:blipFill>
          <a:blip r:embed="rId5"/>
          <a:stretch/>
        </p:blipFill>
        <p:spPr>
          <a:xfrm>
            <a:off x="1066680" y="3965400"/>
            <a:ext cx="530280" cy="838440"/>
          </a:xfrm>
          <a:prstGeom prst="rect">
            <a:avLst/>
          </a:prstGeom>
          <a:ln w="0">
            <a:noFill/>
          </a:ln>
        </p:spPr>
      </p:pic>
      <p:pic>
        <p:nvPicPr>
          <p:cNvPr id="391" name="MAX" descr=""/>
          <p:cNvPicPr/>
          <p:nvPr/>
        </p:nvPicPr>
        <p:blipFill>
          <a:blip r:embed="rId6"/>
          <a:stretch/>
        </p:blipFill>
        <p:spPr>
          <a:xfrm>
            <a:off x="3352680" y="5638680"/>
            <a:ext cx="976320" cy="430200"/>
          </a:xfrm>
          <a:prstGeom prst="rect">
            <a:avLst/>
          </a:prstGeom>
          <a:ln w="0">
            <a:noFill/>
          </a:ln>
        </p:spPr>
      </p:pic>
      <p:pic>
        <p:nvPicPr>
          <p:cNvPr id="392" name="MAX" descr=""/>
          <p:cNvPicPr/>
          <p:nvPr/>
        </p:nvPicPr>
        <p:blipFill>
          <a:blip r:embed="rId7"/>
          <a:stretch/>
        </p:blipFill>
        <p:spPr>
          <a:xfrm>
            <a:off x="4586400" y="5638680"/>
            <a:ext cx="976320" cy="430200"/>
          </a:xfrm>
          <a:prstGeom prst="rect">
            <a:avLst/>
          </a:prstGeom>
          <a:ln w="0">
            <a:noFill/>
          </a:ln>
        </p:spPr>
      </p:pic>
      <p:pic>
        <p:nvPicPr>
          <p:cNvPr id="393" name="MAX" descr=""/>
          <p:cNvPicPr/>
          <p:nvPr/>
        </p:nvPicPr>
        <p:blipFill>
          <a:blip r:embed="rId8"/>
          <a:stretch/>
        </p:blipFill>
        <p:spPr>
          <a:xfrm>
            <a:off x="5881680" y="5638680"/>
            <a:ext cx="976320" cy="430200"/>
          </a:xfrm>
          <a:prstGeom prst="rect">
            <a:avLst/>
          </a:prstGeom>
          <a:ln w="0">
            <a:noFill/>
          </a:ln>
        </p:spPr>
      </p:pic>
      <p:pic>
        <p:nvPicPr>
          <p:cNvPr id="394" name="MAX" descr=""/>
          <p:cNvPicPr/>
          <p:nvPr/>
        </p:nvPicPr>
        <p:blipFill>
          <a:blip r:embed="rId9"/>
          <a:stretch/>
        </p:blipFill>
        <p:spPr>
          <a:xfrm>
            <a:off x="2057400" y="5638680"/>
            <a:ext cx="976320" cy="4302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257240" y="56008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Gateway(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Server" descr=""/>
          <p:cNvPicPr/>
          <p:nvPr/>
        </p:nvPicPr>
        <p:blipFill>
          <a:blip r:embed="rId10"/>
          <a:stretch/>
        </p:blipFill>
        <p:spPr>
          <a:xfrm>
            <a:off x="4062240" y="4343400"/>
            <a:ext cx="43344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EE5-304D-440C-9A8E-1345805D9B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508720" y="3168720"/>
            <a:ext cx="1352520" cy="834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62120" y="3200400"/>
            <a:ext cx="6858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276720"/>
            <a:ext cx="6858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Access Manager</a:t>
            </a:r>
            <a:br>
              <a:rPr sz="3200"/>
            </a:br>
            <a:r>
              <a:rPr b="1" lang="en-US" sz="2400" spc="-1" strike="noStrike">
                <a:solidFill>
                  <a:srgbClr val="002aaa"/>
                </a:solidFill>
                <a:latin typeface="Arial"/>
              </a:rPr>
              <a:t>System Architecture</a:t>
            </a:r>
            <a:endParaRPr b="1" lang="en-US" sz="24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3048120"/>
            <a:ext cx="1447560" cy="990360"/>
          </a:xfrm>
          <a:prstGeom prst="roundRect">
            <a:avLst>
              <a:gd name="adj" fmla="val 166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4160" y="2209680"/>
            <a:ext cx="609480" cy="457200"/>
          </a:xfrm>
          <a:prstGeom prst="roundRect">
            <a:avLst>
              <a:gd name="adj" fmla="val 1663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3581280"/>
            <a:ext cx="687240" cy="180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10360" y="2147760"/>
            <a:ext cx="1431720" cy="1130400"/>
          </a:xfrm>
          <a:custGeom>
            <a:avLst/>
            <a:gdLst/>
            <a:ahLst/>
            <a:rect l="l" t="t" r="r" b="b"/>
            <a:pathLst>
              <a:path w="902" h="328">
                <a:moveTo>
                  <a:pt x="901" y="0"/>
                </a:moveTo>
                <a:lnTo>
                  <a:pt x="0" y="0"/>
                </a:lnTo>
                <a:lnTo>
                  <a:pt x="0" y="327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19720" y="3238560"/>
            <a:ext cx="609480" cy="609480"/>
          </a:xfrm>
          <a:prstGeom prst="roundRect">
            <a:avLst>
              <a:gd name="adj" fmla="val 1663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16080" y="3456000"/>
            <a:ext cx="772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44440" y="2730600"/>
            <a:ext cx="40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22255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16400" y="2654280"/>
            <a:ext cx="54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CP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54120" y="281952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33920" y="33685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36040" y="3797280"/>
            <a:ext cx="1132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gistration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issions,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05120" y="4051440"/>
            <a:ext cx="687240" cy="672840"/>
          </a:xfrm>
          <a:custGeom>
            <a:avLst/>
            <a:gdLst/>
            <a:ahLst/>
            <a:rect l="l" t="t" r="r" b="b"/>
            <a:pathLst>
              <a:path w="433" h="424">
                <a:moveTo>
                  <a:pt x="0" y="423"/>
                </a:moveTo>
                <a:lnTo>
                  <a:pt x="0" y="251"/>
                </a:lnTo>
                <a:lnTo>
                  <a:pt x="432" y="251"/>
                </a:ln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90920" y="4038480"/>
            <a:ext cx="763560" cy="674640"/>
          </a:xfrm>
          <a:custGeom>
            <a:avLst/>
            <a:gdLst/>
            <a:ahLst/>
            <a:rect l="l" t="t" r="r" b="b"/>
            <a:pathLst>
              <a:path w="481" h="425">
                <a:moveTo>
                  <a:pt x="480" y="424"/>
                </a:moveTo>
                <a:lnTo>
                  <a:pt x="480" y="252"/>
                </a:lnTo>
                <a:lnTo>
                  <a:pt x="0" y="2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72200" y="3898800"/>
            <a:ext cx="1650960" cy="1081080"/>
          </a:xfrm>
          <a:custGeom>
            <a:avLst/>
            <a:gdLst/>
            <a:ahLst/>
            <a:rect l="l" t="t" r="r" b="b"/>
            <a:pathLst>
              <a:path w="1016" h="305">
                <a:moveTo>
                  <a:pt x="0" y="0"/>
                </a:moveTo>
                <a:lnTo>
                  <a:pt x="0" y="304"/>
                </a:lnTo>
                <a:lnTo>
                  <a:pt x="1015" y="304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1650960"/>
            <a:ext cx="4724640" cy="383544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472428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local or rem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1600" y="4724280"/>
            <a:ext cx="10666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local or remo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040" y="4330800"/>
            <a:ext cx="1007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640640" y="1676520"/>
            <a:ext cx="876240" cy="981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762200" y="1689120"/>
            <a:ext cx="243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Manager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543800" y="3657600"/>
            <a:ext cx="1033560" cy="457200"/>
            <a:chOff x="7543800" y="3657600"/>
            <a:chExt cx="1033560" cy="457200"/>
          </a:xfrm>
        </p:grpSpPr>
        <p:sp>
          <p:nvSpPr>
            <p:cNvPr id="423" name=""/>
            <p:cNvSpPr/>
            <p:nvPr/>
          </p:nvSpPr>
          <p:spPr>
            <a:xfrm>
              <a:off x="7791480" y="4071960"/>
              <a:ext cx="776160" cy="12600"/>
            </a:xfrm>
            <a:custGeom>
              <a:avLst/>
              <a:gdLst/>
              <a:ahLst/>
              <a:rect l="l" t="t" r="r" b="b"/>
              <a:pathLst>
                <a:path w="489" h="8">
                  <a:moveTo>
                    <a:pt x="0" y="7"/>
                  </a:moveTo>
                  <a:lnTo>
                    <a:pt x="0" y="0"/>
                  </a:lnTo>
                  <a:lnTo>
                    <a:pt x="488" y="1"/>
                  </a:lnTo>
                  <a:lnTo>
                    <a:pt x="486" y="3"/>
                  </a:lnTo>
                  <a:lnTo>
                    <a:pt x="486" y="7"/>
                  </a:lnTo>
                  <a:lnTo>
                    <a:pt x="0" y="7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92920" y="4078440"/>
              <a:ext cx="771480" cy="36360"/>
            </a:xfrm>
            <a:custGeom>
              <a:avLst/>
              <a:gdLst/>
              <a:ahLst/>
              <a:rect l="l" t="t" r="r" b="b"/>
              <a:pathLst>
                <a:path w="486" h="23">
                  <a:moveTo>
                    <a:pt x="483" y="22"/>
                  </a:moveTo>
                  <a:lnTo>
                    <a:pt x="484" y="22"/>
                  </a:lnTo>
                  <a:lnTo>
                    <a:pt x="485" y="22"/>
                  </a:lnTo>
                  <a:lnTo>
                    <a:pt x="485" y="21"/>
                  </a:lnTo>
                  <a:lnTo>
                    <a:pt x="485" y="20"/>
                  </a:lnTo>
                  <a:lnTo>
                    <a:pt x="485" y="0"/>
                  </a:lnTo>
                  <a:lnTo>
                    <a:pt x="479" y="0"/>
                  </a:lnTo>
                  <a:lnTo>
                    <a:pt x="464" y="0"/>
                  </a:lnTo>
                  <a:lnTo>
                    <a:pt x="440" y="0"/>
                  </a:lnTo>
                  <a:lnTo>
                    <a:pt x="410" y="0"/>
                  </a:lnTo>
                  <a:lnTo>
                    <a:pt x="374" y="0"/>
                  </a:lnTo>
                  <a:lnTo>
                    <a:pt x="334" y="0"/>
                  </a:lnTo>
                  <a:lnTo>
                    <a:pt x="291" y="0"/>
                  </a:lnTo>
                  <a:lnTo>
                    <a:pt x="246" y="0"/>
                  </a:lnTo>
                  <a:lnTo>
                    <a:pt x="201" y="0"/>
                  </a:lnTo>
                  <a:lnTo>
                    <a:pt x="158" y="0"/>
                  </a:lnTo>
                  <a:lnTo>
                    <a:pt x="117" y="0"/>
                  </a:lnTo>
                  <a:lnTo>
                    <a:pt x="81" y="0"/>
                  </a:lnTo>
                  <a:lnTo>
                    <a:pt x="49" y="0"/>
                  </a:lnTo>
                  <a:lnTo>
                    <a:pt x="2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8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92920" y="3875040"/>
              <a:ext cx="784440" cy="198360"/>
            </a:xfrm>
            <a:custGeom>
              <a:avLst/>
              <a:gdLst/>
              <a:ahLst/>
              <a:rect l="l" t="t" r="r" b="b"/>
              <a:pathLst>
                <a:path w="494" h="125">
                  <a:moveTo>
                    <a:pt x="486" y="124"/>
                  </a:moveTo>
                  <a:lnTo>
                    <a:pt x="486" y="123"/>
                  </a:lnTo>
                  <a:lnTo>
                    <a:pt x="487" y="122"/>
                  </a:lnTo>
                  <a:lnTo>
                    <a:pt x="488" y="120"/>
                  </a:lnTo>
                  <a:lnTo>
                    <a:pt x="489" y="118"/>
                  </a:lnTo>
                  <a:lnTo>
                    <a:pt x="489" y="116"/>
                  </a:lnTo>
                  <a:lnTo>
                    <a:pt x="490" y="112"/>
                  </a:lnTo>
                  <a:lnTo>
                    <a:pt x="490" y="109"/>
                  </a:lnTo>
                  <a:lnTo>
                    <a:pt x="491" y="106"/>
                  </a:lnTo>
                  <a:lnTo>
                    <a:pt x="491" y="102"/>
                  </a:lnTo>
                  <a:lnTo>
                    <a:pt x="492" y="99"/>
                  </a:lnTo>
                  <a:lnTo>
                    <a:pt x="492" y="95"/>
                  </a:lnTo>
                  <a:lnTo>
                    <a:pt x="493" y="92"/>
                  </a:lnTo>
                  <a:lnTo>
                    <a:pt x="493" y="88"/>
                  </a:lnTo>
                  <a:lnTo>
                    <a:pt x="493" y="85"/>
                  </a:lnTo>
                  <a:lnTo>
                    <a:pt x="493" y="82"/>
                  </a:lnTo>
                  <a:lnTo>
                    <a:pt x="493" y="80"/>
                  </a:lnTo>
                  <a:lnTo>
                    <a:pt x="490" y="80"/>
                  </a:lnTo>
                  <a:lnTo>
                    <a:pt x="490" y="69"/>
                  </a:lnTo>
                  <a:lnTo>
                    <a:pt x="493" y="69"/>
                  </a:lnTo>
                  <a:lnTo>
                    <a:pt x="493" y="66"/>
                  </a:lnTo>
                  <a:lnTo>
                    <a:pt x="493" y="63"/>
                  </a:lnTo>
                  <a:lnTo>
                    <a:pt x="493" y="60"/>
                  </a:lnTo>
                  <a:lnTo>
                    <a:pt x="492" y="56"/>
                  </a:lnTo>
                  <a:lnTo>
                    <a:pt x="492" y="53"/>
                  </a:lnTo>
                  <a:lnTo>
                    <a:pt x="492" y="48"/>
                  </a:lnTo>
                  <a:lnTo>
                    <a:pt x="491" y="45"/>
                  </a:lnTo>
                  <a:lnTo>
                    <a:pt x="491" y="40"/>
                  </a:lnTo>
                  <a:lnTo>
                    <a:pt x="490" y="37"/>
                  </a:lnTo>
                  <a:lnTo>
                    <a:pt x="490" y="33"/>
                  </a:lnTo>
                  <a:lnTo>
                    <a:pt x="489" y="30"/>
                  </a:lnTo>
                  <a:lnTo>
                    <a:pt x="489" y="28"/>
                  </a:lnTo>
                  <a:lnTo>
                    <a:pt x="488" y="25"/>
                  </a:lnTo>
                  <a:lnTo>
                    <a:pt x="487" y="23"/>
                  </a:lnTo>
                  <a:lnTo>
                    <a:pt x="486" y="21"/>
                  </a:lnTo>
                  <a:lnTo>
                    <a:pt x="486" y="20"/>
                  </a:lnTo>
                  <a:lnTo>
                    <a:pt x="48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8" y="49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9" y="61"/>
                  </a:lnTo>
                  <a:lnTo>
                    <a:pt x="9" y="65"/>
                  </a:lnTo>
                  <a:lnTo>
                    <a:pt x="9" y="69"/>
                  </a:lnTo>
                  <a:lnTo>
                    <a:pt x="9" y="80"/>
                  </a:lnTo>
                  <a:lnTo>
                    <a:pt x="9" y="82"/>
                  </a:lnTo>
                  <a:lnTo>
                    <a:pt x="9" y="85"/>
                  </a:lnTo>
                  <a:lnTo>
                    <a:pt x="9" y="87"/>
                  </a:lnTo>
                  <a:lnTo>
                    <a:pt x="8" y="90"/>
                  </a:lnTo>
                  <a:lnTo>
                    <a:pt x="8" y="92"/>
                  </a:lnTo>
                  <a:lnTo>
                    <a:pt x="8" y="95"/>
                  </a:lnTo>
                  <a:lnTo>
                    <a:pt x="8" y="98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6" y="106"/>
                  </a:lnTo>
                  <a:lnTo>
                    <a:pt x="5" y="109"/>
                  </a:lnTo>
                  <a:lnTo>
                    <a:pt x="5" y="112"/>
                  </a:lnTo>
                  <a:lnTo>
                    <a:pt x="4" y="115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0" y="124"/>
                  </a:lnTo>
                  <a:lnTo>
                    <a:pt x="486" y="1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3800" y="3662280"/>
              <a:ext cx="244440" cy="449280"/>
            </a:xfrm>
            <a:custGeom>
              <a:avLst/>
              <a:gdLst/>
              <a:ahLst/>
              <a:rect l="l" t="t" r="r" b="b"/>
              <a:pathLst>
                <a:path w="154" h="283">
                  <a:moveTo>
                    <a:pt x="153" y="131"/>
                  </a:moveTo>
                  <a:lnTo>
                    <a:pt x="0" y="0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1" y="149"/>
                  </a:lnTo>
                  <a:lnTo>
                    <a:pt x="1" y="150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5" y="156"/>
                  </a:lnTo>
                  <a:lnTo>
                    <a:pt x="9" y="159"/>
                  </a:lnTo>
                  <a:lnTo>
                    <a:pt x="17" y="165"/>
                  </a:lnTo>
                  <a:lnTo>
                    <a:pt x="25" y="173"/>
                  </a:lnTo>
                  <a:lnTo>
                    <a:pt x="37" y="183"/>
                  </a:lnTo>
                  <a:lnTo>
                    <a:pt x="49" y="194"/>
                  </a:lnTo>
                  <a:lnTo>
                    <a:pt x="63" y="205"/>
                  </a:lnTo>
                  <a:lnTo>
                    <a:pt x="76" y="217"/>
                  </a:lnTo>
                  <a:lnTo>
                    <a:pt x="90" y="228"/>
                  </a:lnTo>
                  <a:lnTo>
                    <a:pt x="103" y="240"/>
                  </a:lnTo>
                  <a:lnTo>
                    <a:pt x="116" y="251"/>
                  </a:lnTo>
                  <a:lnTo>
                    <a:pt x="128" y="261"/>
                  </a:lnTo>
                  <a:lnTo>
                    <a:pt x="137" y="269"/>
                  </a:lnTo>
                  <a:lnTo>
                    <a:pt x="146" y="276"/>
                  </a:lnTo>
                  <a:lnTo>
                    <a:pt x="151" y="281"/>
                  </a:lnTo>
                  <a:lnTo>
                    <a:pt x="153" y="282"/>
                  </a:lnTo>
                  <a:lnTo>
                    <a:pt x="153" y="13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70760" y="3959280"/>
              <a:ext cx="223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3" y="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3" y="3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24680" y="39574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80400" y="39574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5760" y="3957480"/>
              <a:ext cx="2412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07320" y="3986280"/>
              <a:ext cx="768240" cy="14400"/>
            </a:xfrm>
            <a:custGeom>
              <a:avLst/>
              <a:gdLst/>
              <a:ahLst/>
              <a:rect l="l" t="t" r="r" b="b"/>
              <a:pathLst>
                <a:path w="484" h="9">
                  <a:moveTo>
                    <a:pt x="0" y="8"/>
                  </a:moveTo>
                  <a:lnTo>
                    <a:pt x="0" y="1"/>
                  </a:lnTo>
                  <a:lnTo>
                    <a:pt x="483" y="0"/>
                  </a:lnTo>
                  <a:lnTo>
                    <a:pt x="483" y="8"/>
                  </a:lnTo>
                  <a:lnTo>
                    <a:pt x="0" y="8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69360" y="3965400"/>
              <a:ext cx="36360" cy="748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22" y="4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22" y="4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72600" y="398160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22"/>
                  </a:moveTo>
                  <a:lnTo>
                    <a:pt x="9" y="0"/>
                  </a:lnTo>
                  <a:lnTo>
                    <a:pt x="18" y="22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81960" y="4002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6"/>
                  </a:move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43800" y="3657600"/>
              <a:ext cx="1019160" cy="210960"/>
            </a:xfrm>
            <a:custGeom>
              <a:avLst/>
              <a:gdLst/>
              <a:ahLst/>
              <a:rect l="l" t="t" r="r" b="b"/>
              <a:pathLst>
                <a:path w="642" h="133">
                  <a:moveTo>
                    <a:pt x="640" y="129"/>
                  </a:moveTo>
                  <a:lnTo>
                    <a:pt x="640" y="130"/>
                  </a:lnTo>
                  <a:lnTo>
                    <a:pt x="641" y="130"/>
                  </a:lnTo>
                  <a:lnTo>
                    <a:pt x="641" y="131"/>
                  </a:lnTo>
                  <a:lnTo>
                    <a:pt x="641" y="132"/>
                  </a:lnTo>
                  <a:lnTo>
                    <a:pt x="640" y="132"/>
                  </a:lnTo>
                  <a:lnTo>
                    <a:pt x="639" y="132"/>
                  </a:lnTo>
                  <a:lnTo>
                    <a:pt x="160" y="132"/>
                  </a:lnTo>
                  <a:lnTo>
                    <a:pt x="159" y="132"/>
                  </a:lnTo>
                  <a:lnTo>
                    <a:pt x="158" y="132"/>
                  </a:lnTo>
                  <a:lnTo>
                    <a:pt x="157" y="132"/>
                  </a:lnTo>
                  <a:lnTo>
                    <a:pt x="156" y="132"/>
                  </a:lnTo>
                  <a:lnTo>
                    <a:pt x="155" y="132"/>
                  </a:lnTo>
                  <a:lnTo>
                    <a:pt x="155" y="131"/>
                  </a:lnTo>
                  <a:lnTo>
                    <a:pt x="154" y="131"/>
                  </a:lnTo>
                  <a:lnTo>
                    <a:pt x="153" y="130"/>
                  </a:lnTo>
                  <a:lnTo>
                    <a:pt x="152" y="130"/>
                  </a:lnTo>
                  <a:lnTo>
                    <a:pt x="152" y="129"/>
                  </a:lnTo>
                  <a:lnTo>
                    <a:pt x="151" y="128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6" y="1"/>
                  </a:lnTo>
                  <a:lnTo>
                    <a:pt x="467" y="1"/>
                  </a:lnTo>
                  <a:lnTo>
                    <a:pt x="468" y="1"/>
                  </a:lnTo>
                  <a:lnTo>
                    <a:pt x="469" y="1"/>
                  </a:lnTo>
                  <a:lnTo>
                    <a:pt x="469" y="2"/>
                  </a:lnTo>
                  <a:lnTo>
                    <a:pt x="470" y="2"/>
                  </a:lnTo>
                  <a:lnTo>
                    <a:pt x="471" y="2"/>
                  </a:lnTo>
                  <a:lnTo>
                    <a:pt x="472" y="2"/>
                  </a:lnTo>
                  <a:lnTo>
                    <a:pt x="472" y="3"/>
                  </a:lnTo>
                  <a:lnTo>
                    <a:pt x="473" y="3"/>
                  </a:lnTo>
                  <a:lnTo>
                    <a:pt x="474" y="3"/>
                  </a:lnTo>
                  <a:lnTo>
                    <a:pt x="640" y="129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92920" y="3905280"/>
              <a:ext cx="11160" cy="169920"/>
            </a:xfrm>
            <a:custGeom>
              <a:avLst/>
              <a:gdLst/>
              <a:ahLst/>
              <a:rect l="l" t="t" r="r" b="b"/>
              <a:pathLst>
                <a:path w="7" h="107">
                  <a:moveTo>
                    <a:pt x="4" y="18"/>
                  </a:move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2" y="99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4" y="87"/>
                  </a:lnTo>
                  <a:lnTo>
                    <a:pt x="5" y="83"/>
                  </a:lnTo>
                  <a:lnTo>
                    <a:pt x="5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6" y="55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4" y="18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3762360"/>
              <a:ext cx="260280" cy="23976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63" y="144"/>
                  </a:moveTo>
                  <a:lnTo>
                    <a:pt x="163" y="143"/>
                  </a:lnTo>
                  <a:lnTo>
                    <a:pt x="163" y="142"/>
                  </a:lnTo>
                  <a:lnTo>
                    <a:pt x="163" y="141"/>
                  </a:lnTo>
                  <a:lnTo>
                    <a:pt x="163" y="140"/>
                  </a:lnTo>
                  <a:lnTo>
                    <a:pt x="163" y="139"/>
                  </a:lnTo>
                  <a:lnTo>
                    <a:pt x="163" y="13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3" y="150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7"/>
                  </a:lnTo>
                  <a:lnTo>
                    <a:pt x="163" y="146"/>
                  </a:lnTo>
                  <a:lnTo>
                    <a:pt x="163" y="145"/>
                  </a:lnTo>
                  <a:lnTo>
                    <a:pt x="163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7040" y="3863880"/>
              <a:ext cx="249120" cy="217440"/>
            </a:xfrm>
            <a:custGeom>
              <a:avLst/>
              <a:gdLst/>
              <a:ahLst/>
              <a:rect l="l" t="t" r="r" b="b"/>
              <a:pathLst>
                <a:path w="157" h="137">
                  <a:moveTo>
                    <a:pt x="156" y="132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55" y="136"/>
                  </a:lnTo>
                  <a:lnTo>
                    <a:pt x="156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8480" y="3703680"/>
              <a:ext cx="249480" cy="218880"/>
            </a:xfrm>
            <a:custGeom>
              <a:avLst/>
              <a:gdLst/>
              <a:ahLst/>
              <a:rect l="l" t="t" r="r" b="b"/>
              <a:pathLst>
                <a:path w="157" h="138">
                  <a:moveTo>
                    <a:pt x="155" y="132"/>
                  </a:moveTo>
                  <a:lnTo>
                    <a:pt x="154" y="131"/>
                  </a:lnTo>
                  <a:lnTo>
                    <a:pt x="154" y="130"/>
                  </a:lnTo>
                  <a:lnTo>
                    <a:pt x="153" y="130"/>
                  </a:lnTo>
                  <a:lnTo>
                    <a:pt x="153" y="129"/>
                  </a:lnTo>
                  <a:lnTo>
                    <a:pt x="152" y="129"/>
                  </a:lnTo>
                  <a:lnTo>
                    <a:pt x="0" y="0"/>
                  </a:lnTo>
                  <a:lnTo>
                    <a:pt x="0" y="4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6" y="135"/>
                  </a:lnTo>
                  <a:lnTo>
                    <a:pt x="156" y="134"/>
                  </a:lnTo>
                  <a:lnTo>
                    <a:pt x="155" y="134"/>
                  </a:lnTo>
                  <a:lnTo>
                    <a:pt x="155" y="133"/>
                  </a:lnTo>
                  <a:lnTo>
                    <a:pt x="155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543800" y="3352680"/>
            <a:ext cx="1033560" cy="457200"/>
            <a:chOff x="7543800" y="3352680"/>
            <a:chExt cx="1033560" cy="457200"/>
          </a:xfrm>
        </p:grpSpPr>
        <p:sp>
          <p:nvSpPr>
            <p:cNvPr id="441" name=""/>
            <p:cNvSpPr/>
            <p:nvPr/>
          </p:nvSpPr>
          <p:spPr>
            <a:xfrm>
              <a:off x="7791480" y="3767040"/>
              <a:ext cx="776160" cy="12960"/>
            </a:xfrm>
            <a:custGeom>
              <a:avLst/>
              <a:gdLst/>
              <a:ahLst/>
              <a:rect l="l" t="t" r="r" b="b"/>
              <a:pathLst>
                <a:path w="489" h="8">
                  <a:moveTo>
                    <a:pt x="0" y="7"/>
                  </a:moveTo>
                  <a:lnTo>
                    <a:pt x="0" y="0"/>
                  </a:lnTo>
                  <a:lnTo>
                    <a:pt x="488" y="1"/>
                  </a:lnTo>
                  <a:lnTo>
                    <a:pt x="486" y="3"/>
                  </a:lnTo>
                  <a:lnTo>
                    <a:pt x="486" y="7"/>
                  </a:lnTo>
                  <a:lnTo>
                    <a:pt x="0" y="7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92920" y="3773520"/>
              <a:ext cx="771480" cy="36360"/>
            </a:xfrm>
            <a:custGeom>
              <a:avLst/>
              <a:gdLst/>
              <a:ahLst/>
              <a:rect l="l" t="t" r="r" b="b"/>
              <a:pathLst>
                <a:path w="486" h="23">
                  <a:moveTo>
                    <a:pt x="483" y="22"/>
                  </a:moveTo>
                  <a:lnTo>
                    <a:pt x="484" y="22"/>
                  </a:lnTo>
                  <a:lnTo>
                    <a:pt x="485" y="22"/>
                  </a:lnTo>
                  <a:lnTo>
                    <a:pt x="485" y="21"/>
                  </a:lnTo>
                  <a:lnTo>
                    <a:pt x="485" y="20"/>
                  </a:lnTo>
                  <a:lnTo>
                    <a:pt x="485" y="0"/>
                  </a:lnTo>
                  <a:lnTo>
                    <a:pt x="479" y="0"/>
                  </a:lnTo>
                  <a:lnTo>
                    <a:pt x="464" y="0"/>
                  </a:lnTo>
                  <a:lnTo>
                    <a:pt x="440" y="0"/>
                  </a:lnTo>
                  <a:lnTo>
                    <a:pt x="410" y="0"/>
                  </a:lnTo>
                  <a:lnTo>
                    <a:pt x="374" y="0"/>
                  </a:lnTo>
                  <a:lnTo>
                    <a:pt x="334" y="0"/>
                  </a:lnTo>
                  <a:lnTo>
                    <a:pt x="291" y="0"/>
                  </a:lnTo>
                  <a:lnTo>
                    <a:pt x="246" y="0"/>
                  </a:lnTo>
                  <a:lnTo>
                    <a:pt x="201" y="0"/>
                  </a:lnTo>
                  <a:lnTo>
                    <a:pt x="158" y="0"/>
                  </a:lnTo>
                  <a:lnTo>
                    <a:pt x="117" y="0"/>
                  </a:lnTo>
                  <a:lnTo>
                    <a:pt x="81" y="0"/>
                  </a:lnTo>
                  <a:lnTo>
                    <a:pt x="49" y="0"/>
                  </a:lnTo>
                  <a:lnTo>
                    <a:pt x="2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8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92920" y="3570120"/>
              <a:ext cx="784440" cy="198720"/>
            </a:xfrm>
            <a:custGeom>
              <a:avLst/>
              <a:gdLst/>
              <a:ahLst/>
              <a:rect l="l" t="t" r="r" b="b"/>
              <a:pathLst>
                <a:path w="494" h="125">
                  <a:moveTo>
                    <a:pt x="486" y="124"/>
                  </a:moveTo>
                  <a:lnTo>
                    <a:pt x="486" y="123"/>
                  </a:lnTo>
                  <a:lnTo>
                    <a:pt x="487" y="122"/>
                  </a:lnTo>
                  <a:lnTo>
                    <a:pt x="488" y="120"/>
                  </a:lnTo>
                  <a:lnTo>
                    <a:pt x="489" y="118"/>
                  </a:lnTo>
                  <a:lnTo>
                    <a:pt x="489" y="116"/>
                  </a:lnTo>
                  <a:lnTo>
                    <a:pt x="490" y="112"/>
                  </a:lnTo>
                  <a:lnTo>
                    <a:pt x="490" y="109"/>
                  </a:lnTo>
                  <a:lnTo>
                    <a:pt x="491" y="106"/>
                  </a:lnTo>
                  <a:lnTo>
                    <a:pt x="491" y="102"/>
                  </a:lnTo>
                  <a:lnTo>
                    <a:pt x="492" y="99"/>
                  </a:lnTo>
                  <a:lnTo>
                    <a:pt x="492" y="95"/>
                  </a:lnTo>
                  <a:lnTo>
                    <a:pt x="493" y="92"/>
                  </a:lnTo>
                  <a:lnTo>
                    <a:pt x="493" y="88"/>
                  </a:lnTo>
                  <a:lnTo>
                    <a:pt x="493" y="85"/>
                  </a:lnTo>
                  <a:lnTo>
                    <a:pt x="493" y="82"/>
                  </a:lnTo>
                  <a:lnTo>
                    <a:pt x="493" y="80"/>
                  </a:lnTo>
                  <a:lnTo>
                    <a:pt x="490" y="80"/>
                  </a:lnTo>
                  <a:lnTo>
                    <a:pt x="490" y="69"/>
                  </a:lnTo>
                  <a:lnTo>
                    <a:pt x="493" y="69"/>
                  </a:lnTo>
                  <a:lnTo>
                    <a:pt x="493" y="66"/>
                  </a:lnTo>
                  <a:lnTo>
                    <a:pt x="493" y="63"/>
                  </a:lnTo>
                  <a:lnTo>
                    <a:pt x="493" y="60"/>
                  </a:lnTo>
                  <a:lnTo>
                    <a:pt x="492" y="56"/>
                  </a:lnTo>
                  <a:lnTo>
                    <a:pt x="492" y="53"/>
                  </a:lnTo>
                  <a:lnTo>
                    <a:pt x="492" y="48"/>
                  </a:lnTo>
                  <a:lnTo>
                    <a:pt x="491" y="45"/>
                  </a:lnTo>
                  <a:lnTo>
                    <a:pt x="491" y="40"/>
                  </a:lnTo>
                  <a:lnTo>
                    <a:pt x="490" y="37"/>
                  </a:lnTo>
                  <a:lnTo>
                    <a:pt x="490" y="33"/>
                  </a:lnTo>
                  <a:lnTo>
                    <a:pt x="489" y="30"/>
                  </a:lnTo>
                  <a:lnTo>
                    <a:pt x="489" y="28"/>
                  </a:lnTo>
                  <a:lnTo>
                    <a:pt x="488" y="25"/>
                  </a:lnTo>
                  <a:lnTo>
                    <a:pt x="487" y="23"/>
                  </a:lnTo>
                  <a:lnTo>
                    <a:pt x="486" y="21"/>
                  </a:lnTo>
                  <a:lnTo>
                    <a:pt x="486" y="20"/>
                  </a:lnTo>
                  <a:lnTo>
                    <a:pt x="48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8" y="49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9" y="61"/>
                  </a:lnTo>
                  <a:lnTo>
                    <a:pt x="9" y="65"/>
                  </a:lnTo>
                  <a:lnTo>
                    <a:pt x="9" y="69"/>
                  </a:lnTo>
                  <a:lnTo>
                    <a:pt x="9" y="80"/>
                  </a:lnTo>
                  <a:lnTo>
                    <a:pt x="9" y="82"/>
                  </a:lnTo>
                  <a:lnTo>
                    <a:pt x="9" y="85"/>
                  </a:lnTo>
                  <a:lnTo>
                    <a:pt x="9" y="87"/>
                  </a:lnTo>
                  <a:lnTo>
                    <a:pt x="8" y="90"/>
                  </a:lnTo>
                  <a:lnTo>
                    <a:pt x="8" y="92"/>
                  </a:lnTo>
                  <a:lnTo>
                    <a:pt x="8" y="95"/>
                  </a:lnTo>
                  <a:lnTo>
                    <a:pt x="8" y="98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6" y="106"/>
                  </a:lnTo>
                  <a:lnTo>
                    <a:pt x="5" y="109"/>
                  </a:lnTo>
                  <a:lnTo>
                    <a:pt x="5" y="112"/>
                  </a:lnTo>
                  <a:lnTo>
                    <a:pt x="4" y="115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0" y="124"/>
                  </a:lnTo>
                  <a:lnTo>
                    <a:pt x="486" y="1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43800" y="3357720"/>
              <a:ext cx="244440" cy="449280"/>
            </a:xfrm>
            <a:custGeom>
              <a:avLst/>
              <a:gdLst/>
              <a:ahLst/>
              <a:rect l="l" t="t" r="r" b="b"/>
              <a:pathLst>
                <a:path w="154" h="283">
                  <a:moveTo>
                    <a:pt x="153" y="131"/>
                  </a:moveTo>
                  <a:lnTo>
                    <a:pt x="0" y="0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1" y="149"/>
                  </a:lnTo>
                  <a:lnTo>
                    <a:pt x="1" y="150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5" y="156"/>
                  </a:lnTo>
                  <a:lnTo>
                    <a:pt x="9" y="159"/>
                  </a:lnTo>
                  <a:lnTo>
                    <a:pt x="17" y="165"/>
                  </a:lnTo>
                  <a:lnTo>
                    <a:pt x="25" y="173"/>
                  </a:lnTo>
                  <a:lnTo>
                    <a:pt x="37" y="183"/>
                  </a:lnTo>
                  <a:lnTo>
                    <a:pt x="49" y="194"/>
                  </a:lnTo>
                  <a:lnTo>
                    <a:pt x="63" y="205"/>
                  </a:lnTo>
                  <a:lnTo>
                    <a:pt x="76" y="217"/>
                  </a:lnTo>
                  <a:lnTo>
                    <a:pt x="90" y="228"/>
                  </a:lnTo>
                  <a:lnTo>
                    <a:pt x="103" y="240"/>
                  </a:lnTo>
                  <a:lnTo>
                    <a:pt x="116" y="251"/>
                  </a:lnTo>
                  <a:lnTo>
                    <a:pt x="128" y="261"/>
                  </a:lnTo>
                  <a:lnTo>
                    <a:pt x="137" y="269"/>
                  </a:lnTo>
                  <a:lnTo>
                    <a:pt x="146" y="276"/>
                  </a:lnTo>
                  <a:lnTo>
                    <a:pt x="151" y="281"/>
                  </a:lnTo>
                  <a:lnTo>
                    <a:pt x="153" y="282"/>
                  </a:lnTo>
                  <a:lnTo>
                    <a:pt x="153" y="13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70760" y="365436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3" y="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3" y="3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24680" y="365292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80400" y="365292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35760" y="3652920"/>
              <a:ext cx="2412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07320" y="3681360"/>
              <a:ext cx="768240" cy="14400"/>
            </a:xfrm>
            <a:custGeom>
              <a:avLst/>
              <a:gdLst/>
              <a:ahLst/>
              <a:rect l="l" t="t" r="r" b="b"/>
              <a:pathLst>
                <a:path w="484" h="9">
                  <a:moveTo>
                    <a:pt x="0" y="8"/>
                  </a:moveTo>
                  <a:lnTo>
                    <a:pt x="0" y="1"/>
                  </a:lnTo>
                  <a:lnTo>
                    <a:pt x="483" y="0"/>
                  </a:lnTo>
                  <a:lnTo>
                    <a:pt x="483" y="8"/>
                  </a:lnTo>
                  <a:lnTo>
                    <a:pt x="0" y="8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69360" y="3660840"/>
              <a:ext cx="36360" cy="745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22" y="4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22" y="4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72600" y="367668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22"/>
                  </a:moveTo>
                  <a:lnTo>
                    <a:pt x="9" y="0"/>
                  </a:lnTo>
                  <a:lnTo>
                    <a:pt x="18" y="22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81960" y="3697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6"/>
                  </a:move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43800" y="3352680"/>
              <a:ext cx="1019160" cy="211320"/>
            </a:xfrm>
            <a:custGeom>
              <a:avLst/>
              <a:gdLst/>
              <a:ahLst/>
              <a:rect l="l" t="t" r="r" b="b"/>
              <a:pathLst>
                <a:path w="642" h="133">
                  <a:moveTo>
                    <a:pt x="640" y="129"/>
                  </a:moveTo>
                  <a:lnTo>
                    <a:pt x="640" y="130"/>
                  </a:lnTo>
                  <a:lnTo>
                    <a:pt x="641" y="130"/>
                  </a:lnTo>
                  <a:lnTo>
                    <a:pt x="641" y="131"/>
                  </a:lnTo>
                  <a:lnTo>
                    <a:pt x="641" y="132"/>
                  </a:lnTo>
                  <a:lnTo>
                    <a:pt x="640" y="132"/>
                  </a:lnTo>
                  <a:lnTo>
                    <a:pt x="639" y="132"/>
                  </a:lnTo>
                  <a:lnTo>
                    <a:pt x="160" y="132"/>
                  </a:lnTo>
                  <a:lnTo>
                    <a:pt x="159" y="132"/>
                  </a:lnTo>
                  <a:lnTo>
                    <a:pt x="158" y="132"/>
                  </a:lnTo>
                  <a:lnTo>
                    <a:pt x="157" y="132"/>
                  </a:lnTo>
                  <a:lnTo>
                    <a:pt x="156" y="132"/>
                  </a:lnTo>
                  <a:lnTo>
                    <a:pt x="155" y="132"/>
                  </a:lnTo>
                  <a:lnTo>
                    <a:pt x="155" y="131"/>
                  </a:lnTo>
                  <a:lnTo>
                    <a:pt x="154" y="131"/>
                  </a:lnTo>
                  <a:lnTo>
                    <a:pt x="153" y="130"/>
                  </a:lnTo>
                  <a:lnTo>
                    <a:pt x="152" y="130"/>
                  </a:lnTo>
                  <a:lnTo>
                    <a:pt x="152" y="129"/>
                  </a:lnTo>
                  <a:lnTo>
                    <a:pt x="151" y="128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6" y="1"/>
                  </a:lnTo>
                  <a:lnTo>
                    <a:pt x="467" y="1"/>
                  </a:lnTo>
                  <a:lnTo>
                    <a:pt x="468" y="1"/>
                  </a:lnTo>
                  <a:lnTo>
                    <a:pt x="469" y="1"/>
                  </a:lnTo>
                  <a:lnTo>
                    <a:pt x="469" y="2"/>
                  </a:lnTo>
                  <a:lnTo>
                    <a:pt x="470" y="2"/>
                  </a:lnTo>
                  <a:lnTo>
                    <a:pt x="471" y="2"/>
                  </a:lnTo>
                  <a:lnTo>
                    <a:pt x="472" y="2"/>
                  </a:lnTo>
                  <a:lnTo>
                    <a:pt x="472" y="3"/>
                  </a:lnTo>
                  <a:lnTo>
                    <a:pt x="473" y="3"/>
                  </a:lnTo>
                  <a:lnTo>
                    <a:pt x="474" y="3"/>
                  </a:lnTo>
                  <a:lnTo>
                    <a:pt x="640" y="129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92920" y="3600360"/>
              <a:ext cx="11160" cy="169920"/>
            </a:xfrm>
            <a:custGeom>
              <a:avLst/>
              <a:gdLst/>
              <a:ahLst/>
              <a:rect l="l" t="t" r="r" b="b"/>
              <a:pathLst>
                <a:path w="7" h="107">
                  <a:moveTo>
                    <a:pt x="4" y="18"/>
                  </a:move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2" y="99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4" y="87"/>
                  </a:lnTo>
                  <a:lnTo>
                    <a:pt x="5" y="83"/>
                  </a:lnTo>
                  <a:lnTo>
                    <a:pt x="5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6" y="55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4" y="18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43800" y="3457440"/>
              <a:ext cx="260280" cy="23976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63" y="144"/>
                  </a:moveTo>
                  <a:lnTo>
                    <a:pt x="163" y="143"/>
                  </a:lnTo>
                  <a:lnTo>
                    <a:pt x="163" y="142"/>
                  </a:lnTo>
                  <a:lnTo>
                    <a:pt x="163" y="141"/>
                  </a:lnTo>
                  <a:lnTo>
                    <a:pt x="163" y="140"/>
                  </a:lnTo>
                  <a:lnTo>
                    <a:pt x="163" y="139"/>
                  </a:lnTo>
                  <a:lnTo>
                    <a:pt x="163" y="13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3" y="150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7"/>
                  </a:lnTo>
                  <a:lnTo>
                    <a:pt x="163" y="146"/>
                  </a:lnTo>
                  <a:lnTo>
                    <a:pt x="163" y="145"/>
                  </a:lnTo>
                  <a:lnTo>
                    <a:pt x="163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47040" y="3559320"/>
              <a:ext cx="249120" cy="217440"/>
            </a:xfrm>
            <a:custGeom>
              <a:avLst/>
              <a:gdLst/>
              <a:ahLst/>
              <a:rect l="l" t="t" r="r" b="b"/>
              <a:pathLst>
                <a:path w="157" h="137">
                  <a:moveTo>
                    <a:pt x="156" y="132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55" y="136"/>
                  </a:lnTo>
                  <a:lnTo>
                    <a:pt x="156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3398760"/>
              <a:ext cx="249480" cy="219240"/>
            </a:xfrm>
            <a:custGeom>
              <a:avLst/>
              <a:gdLst/>
              <a:ahLst/>
              <a:rect l="l" t="t" r="r" b="b"/>
              <a:pathLst>
                <a:path w="157" h="138">
                  <a:moveTo>
                    <a:pt x="155" y="132"/>
                  </a:moveTo>
                  <a:lnTo>
                    <a:pt x="154" y="131"/>
                  </a:lnTo>
                  <a:lnTo>
                    <a:pt x="154" y="130"/>
                  </a:lnTo>
                  <a:lnTo>
                    <a:pt x="153" y="130"/>
                  </a:lnTo>
                  <a:lnTo>
                    <a:pt x="153" y="129"/>
                  </a:lnTo>
                  <a:lnTo>
                    <a:pt x="152" y="129"/>
                  </a:lnTo>
                  <a:lnTo>
                    <a:pt x="0" y="0"/>
                  </a:lnTo>
                  <a:lnTo>
                    <a:pt x="0" y="4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6" y="135"/>
                  </a:lnTo>
                  <a:lnTo>
                    <a:pt x="156" y="134"/>
                  </a:lnTo>
                  <a:lnTo>
                    <a:pt x="155" y="134"/>
                  </a:lnTo>
                  <a:lnTo>
                    <a:pt x="155" y="133"/>
                  </a:lnTo>
                  <a:lnTo>
                    <a:pt x="155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543800" y="3048120"/>
            <a:ext cx="1033560" cy="457200"/>
            <a:chOff x="7543800" y="3048120"/>
            <a:chExt cx="1033560" cy="457200"/>
          </a:xfrm>
        </p:grpSpPr>
        <p:sp>
          <p:nvSpPr>
            <p:cNvPr id="459" name=""/>
            <p:cNvSpPr/>
            <p:nvPr/>
          </p:nvSpPr>
          <p:spPr>
            <a:xfrm>
              <a:off x="7791480" y="3462480"/>
              <a:ext cx="776160" cy="12600"/>
            </a:xfrm>
            <a:custGeom>
              <a:avLst/>
              <a:gdLst/>
              <a:ahLst/>
              <a:rect l="l" t="t" r="r" b="b"/>
              <a:pathLst>
                <a:path w="489" h="8">
                  <a:moveTo>
                    <a:pt x="0" y="7"/>
                  </a:moveTo>
                  <a:lnTo>
                    <a:pt x="0" y="0"/>
                  </a:lnTo>
                  <a:lnTo>
                    <a:pt x="488" y="1"/>
                  </a:lnTo>
                  <a:lnTo>
                    <a:pt x="486" y="3"/>
                  </a:lnTo>
                  <a:lnTo>
                    <a:pt x="486" y="7"/>
                  </a:lnTo>
                  <a:lnTo>
                    <a:pt x="0" y="7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92920" y="3468600"/>
              <a:ext cx="771480" cy="36720"/>
            </a:xfrm>
            <a:custGeom>
              <a:avLst/>
              <a:gdLst/>
              <a:ahLst/>
              <a:rect l="l" t="t" r="r" b="b"/>
              <a:pathLst>
                <a:path w="486" h="23">
                  <a:moveTo>
                    <a:pt x="483" y="22"/>
                  </a:moveTo>
                  <a:lnTo>
                    <a:pt x="484" y="22"/>
                  </a:lnTo>
                  <a:lnTo>
                    <a:pt x="485" y="22"/>
                  </a:lnTo>
                  <a:lnTo>
                    <a:pt x="485" y="21"/>
                  </a:lnTo>
                  <a:lnTo>
                    <a:pt x="485" y="20"/>
                  </a:lnTo>
                  <a:lnTo>
                    <a:pt x="485" y="0"/>
                  </a:lnTo>
                  <a:lnTo>
                    <a:pt x="479" y="0"/>
                  </a:lnTo>
                  <a:lnTo>
                    <a:pt x="464" y="0"/>
                  </a:lnTo>
                  <a:lnTo>
                    <a:pt x="440" y="0"/>
                  </a:lnTo>
                  <a:lnTo>
                    <a:pt x="410" y="0"/>
                  </a:lnTo>
                  <a:lnTo>
                    <a:pt x="374" y="0"/>
                  </a:lnTo>
                  <a:lnTo>
                    <a:pt x="334" y="0"/>
                  </a:lnTo>
                  <a:lnTo>
                    <a:pt x="291" y="0"/>
                  </a:lnTo>
                  <a:lnTo>
                    <a:pt x="246" y="0"/>
                  </a:lnTo>
                  <a:lnTo>
                    <a:pt x="201" y="0"/>
                  </a:lnTo>
                  <a:lnTo>
                    <a:pt x="158" y="0"/>
                  </a:lnTo>
                  <a:lnTo>
                    <a:pt x="117" y="0"/>
                  </a:lnTo>
                  <a:lnTo>
                    <a:pt x="81" y="0"/>
                  </a:lnTo>
                  <a:lnTo>
                    <a:pt x="49" y="0"/>
                  </a:lnTo>
                  <a:lnTo>
                    <a:pt x="2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8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92920" y="3265560"/>
              <a:ext cx="784440" cy="198360"/>
            </a:xfrm>
            <a:custGeom>
              <a:avLst/>
              <a:gdLst/>
              <a:ahLst/>
              <a:rect l="l" t="t" r="r" b="b"/>
              <a:pathLst>
                <a:path w="494" h="125">
                  <a:moveTo>
                    <a:pt x="486" y="124"/>
                  </a:moveTo>
                  <a:lnTo>
                    <a:pt x="486" y="123"/>
                  </a:lnTo>
                  <a:lnTo>
                    <a:pt x="487" y="122"/>
                  </a:lnTo>
                  <a:lnTo>
                    <a:pt x="488" y="120"/>
                  </a:lnTo>
                  <a:lnTo>
                    <a:pt x="489" y="118"/>
                  </a:lnTo>
                  <a:lnTo>
                    <a:pt x="489" y="116"/>
                  </a:lnTo>
                  <a:lnTo>
                    <a:pt x="490" y="112"/>
                  </a:lnTo>
                  <a:lnTo>
                    <a:pt x="490" y="109"/>
                  </a:lnTo>
                  <a:lnTo>
                    <a:pt x="491" y="106"/>
                  </a:lnTo>
                  <a:lnTo>
                    <a:pt x="491" y="102"/>
                  </a:lnTo>
                  <a:lnTo>
                    <a:pt x="492" y="99"/>
                  </a:lnTo>
                  <a:lnTo>
                    <a:pt x="492" y="95"/>
                  </a:lnTo>
                  <a:lnTo>
                    <a:pt x="493" y="92"/>
                  </a:lnTo>
                  <a:lnTo>
                    <a:pt x="493" y="88"/>
                  </a:lnTo>
                  <a:lnTo>
                    <a:pt x="493" y="85"/>
                  </a:lnTo>
                  <a:lnTo>
                    <a:pt x="493" y="82"/>
                  </a:lnTo>
                  <a:lnTo>
                    <a:pt x="493" y="80"/>
                  </a:lnTo>
                  <a:lnTo>
                    <a:pt x="490" y="80"/>
                  </a:lnTo>
                  <a:lnTo>
                    <a:pt x="490" y="69"/>
                  </a:lnTo>
                  <a:lnTo>
                    <a:pt x="493" y="69"/>
                  </a:lnTo>
                  <a:lnTo>
                    <a:pt x="493" y="66"/>
                  </a:lnTo>
                  <a:lnTo>
                    <a:pt x="493" y="63"/>
                  </a:lnTo>
                  <a:lnTo>
                    <a:pt x="493" y="60"/>
                  </a:lnTo>
                  <a:lnTo>
                    <a:pt x="492" y="56"/>
                  </a:lnTo>
                  <a:lnTo>
                    <a:pt x="492" y="53"/>
                  </a:lnTo>
                  <a:lnTo>
                    <a:pt x="492" y="48"/>
                  </a:lnTo>
                  <a:lnTo>
                    <a:pt x="491" y="45"/>
                  </a:lnTo>
                  <a:lnTo>
                    <a:pt x="491" y="40"/>
                  </a:lnTo>
                  <a:lnTo>
                    <a:pt x="490" y="37"/>
                  </a:lnTo>
                  <a:lnTo>
                    <a:pt x="490" y="33"/>
                  </a:lnTo>
                  <a:lnTo>
                    <a:pt x="489" y="30"/>
                  </a:lnTo>
                  <a:lnTo>
                    <a:pt x="489" y="28"/>
                  </a:lnTo>
                  <a:lnTo>
                    <a:pt x="488" y="25"/>
                  </a:lnTo>
                  <a:lnTo>
                    <a:pt x="487" y="23"/>
                  </a:lnTo>
                  <a:lnTo>
                    <a:pt x="486" y="21"/>
                  </a:lnTo>
                  <a:lnTo>
                    <a:pt x="486" y="20"/>
                  </a:lnTo>
                  <a:lnTo>
                    <a:pt x="48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8" y="49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9" y="61"/>
                  </a:lnTo>
                  <a:lnTo>
                    <a:pt x="9" y="65"/>
                  </a:lnTo>
                  <a:lnTo>
                    <a:pt x="9" y="69"/>
                  </a:lnTo>
                  <a:lnTo>
                    <a:pt x="9" y="80"/>
                  </a:lnTo>
                  <a:lnTo>
                    <a:pt x="9" y="82"/>
                  </a:lnTo>
                  <a:lnTo>
                    <a:pt x="9" y="85"/>
                  </a:lnTo>
                  <a:lnTo>
                    <a:pt x="9" y="87"/>
                  </a:lnTo>
                  <a:lnTo>
                    <a:pt x="8" y="90"/>
                  </a:lnTo>
                  <a:lnTo>
                    <a:pt x="8" y="92"/>
                  </a:lnTo>
                  <a:lnTo>
                    <a:pt x="8" y="95"/>
                  </a:lnTo>
                  <a:lnTo>
                    <a:pt x="8" y="98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6" y="106"/>
                  </a:lnTo>
                  <a:lnTo>
                    <a:pt x="5" y="109"/>
                  </a:lnTo>
                  <a:lnTo>
                    <a:pt x="5" y="112"/>
                  </a:lnTo>
                  <a:lnTo>
                    <a:pt x="4" y="115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0" y="124"/>
                  </a:lnTo>
                  <a:lnTo>
                    <a:pt x="486" y="1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43800" y="3052800"/>
              <a:ext cx="244440" cy="449280"/>
            </a:xfrm>
            <a:custGeom>
              <a:avLst/>
              <a:gdLst/>
              <a:ahLst/>
              <a:rect l="l" t="t" r="r" b="b"/>
              <a:pathLst>
                <a:path w="154" h="283">
                  <a:moveTo>
                    <a:pt x="153" y="131"/>
                  </a:moveTo>
                  <a:lnTo>
                    <a:pt x="0" y="0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1" y="149"/>
                  </a:lnTo>
                  <a:lnTo>
                    <a:pt x="1" y="150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5" y="156"/>
                  </a:lnTo>
                  <a:lnTo>
                    <a:pt x="9" y="159"/>
                  </a:lnTo>
                  <a:lnTo>
                    <a:pt x="17" y="165"/>
                  </a:lnTo>
                  <a:lnTo>
                    <a:pt x="25" y="173"/>
                  </a:lnTo>
                  <a:lnTo>
                    <a:pt x="37" y="183"/>
                  </a:lnTo>
                  <a:lnTo>
                    <a:pt x="49" y="194"/>
                  </a:lnTo>
                  <a:lnTo>
                    <a:pt x="63" y="205"/>
                  </a:lnTo>
                  <a:lnTo>
                    <a:pt x="76" y="217"/>
                  </a:lnTo>
                  <a:lnTo>
                    <a:pt x="90" y="228"/>
                  </a:lnTo>
                  <a:lnTo>
                    <a:pt x="103" y="240"/>
                  </a:lnTo>
                  <a:lnTo>
                    <a:pt x="116" y="251"/>
                  </a:lnTo>
                  <a:lnTo>
                    <a:pt x="128" y="261"/>
                  </a:lnTo>
                  <a:lnTo>
                    <a:pt x="137" y="269"/>
                  </a:lnTo>
                  <a:lnTo>
                    <a:pt x="146" y="276"/>
                  </a:lnTo>
                  <a:lnTo>
                    <a:pt x="151" y="281"/>
                  </a:lnTo>
                  <a:lnTo>
                    <a:pt x="153" y="282"/>
                  </a:lnTo>
                  <a:lnTo>
                    <a:pt x="153" y="13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70760" y="3349800"/>
              <a:ext cx="223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3" y="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3" y="3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24680" y="334800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880400" y="334800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35760" y="3348000"/>
              <a:ext cx="2412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07320" y="3376440"/>
              <a:ext cx="768240" cy="14400"/>
            </a:xfrm>
            <a:custGeom>
              <a:avLst/>
              <a:gdLst/>
              <a:ahLst/>
              <a:rect l="l" t="t" r="r" b="b"/>
              <a:pathLst>
                <a:path w="484" h="9">
                  <a:moveTo>
                    <a:pt x="0" y="8"/>
                  </a:moveTo>
                  <a:lnTo>
                    <a:pt x="0" y="1"/>
                  </a:lnTo>
                  <a:lnTo>
                    <a:pt x="483" y="0"/>
                  </a:lnTo>
                  <a:lnTo>
                    <a:pt x="483" y="8"/>
                  </a:lnTo>
                  <a:lnTo>
                    <a:pt x="0" y="8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69360" y="3355920"/>
              <a:ext cx="36360" cy="745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22" y="4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22" y="4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72600" y="3371760"/>
              <a:ext cx="2988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22"/>
                  </a:moveTo>
                  <a:lnTo>
                    <a:pt x="9" y="0"/>
                  </a:lnTo>
                  <a:lnTo>
                    <a:pt x="18" y="22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481960" y="339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6"/>
                  </a:move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43800" y="3048120"/>
              <a:ext cx="1019160" cy="210960"/>
            </a:xfrm>
            <a:custGeom>
              <a:avLst/>
              <a:gdLst/>
              <a:ahLst/>
              <a:rect l="l" t="t" r="r" b="b"/>
              <a:pathLst>
                <a:path w="642" h="133">
                  <a:moveTo>
                    <a:pt x="640" y="129"/>
                  </a:moveTo>
                  <a:lnTo>
                    <a:pt x="640" y="130"/>
                  </a:lnTo>
                  <a:lnTo>
                    <a:pt x="641" y="130"/>
                  </a:lnTo>
                  <a:lnTo>
                    <a:pt x="641" y="131"/>
                  </a:lnTo>
                  <a:lnTo>
                    <a:pt x="641" y="132"/>
                  </a:lnTo>
                  <a:lnTo>
                    <a:pt x="640" y="132"/>
                  </a:lnTo>
                  <a:lnTo>
                    <a:pt x="639" y="132"/>
                  </a:lnTo>
                  <a:lnTo>
                    <a:pt x="160" y="132"/>
                  </a:lnTo>
                  <a:lnTo>
                    <a:pt x="159" y="132"/>
                  </a:lnTo>
                  <a:lnTo>
                    <a:pt x="158" y="132"/>
                  </a:lnTo>
                  <a:lnTo>
                    <a:pt x="157" y="132"/>
                  </a:lnTo>
                  <a:lnTo>
                    <a:pt x="156" y="132"/>
                  </a:lnTo>
                  <a:lnTo>
                    <a:pt x="155" y="132"/>
                  </a:lnTo>
                  <a:lnTo>
                    <a:pt x="155" y="131"/>
                  </a:lnTo>
                  <a:lnTo>
                    <a:pt x="154" y="131"/>
                  </a:lnTo>
                  <a:lnTo>
                    <a:pt x="153" y="130"/>
                  </a:lnTo>
                  <a:lnTo>
                    <a:pt x="152" y="130"/>
                  </a:lnTo>
                  <a:lnTo>
                    <a:pt x="152" y="129"/>
                  </a:lnTo>
                  <a:lnTo>
                    <a:pt x="151" y="128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6" y="1"/>
                  </a:lnTo>
                  <a:lnTo>
                    <a:pt x="467" y="1"/>
                  </a:lnTo>
                  <a:lnTo>
                    <a:pt x="468" y="1"/>
                  </a:lnTo>
                  <a:lnTo>
                    <a:pt x="469" y="1"/>
                  </a:lnTo>
                  <a:lnTo>
                    <a:pt x="469" y="2"/>
                  </a:lnTo>
                  <a:lnTo>
                    <a:pt x="470" y="2"/>
                  </a:lnTo>
                  <a:lnTo>
                    <a:pt x="471" y="2"/>
                  </a:lnTo>
                  <a:lnTo>
                    <a:pt x="472" y="2"/>
                  </a:lnTo>
                  <a:lnTo>
                    <a:pt x="472" y="3"/>
                  </a:lnTo>
                  <a:lnTo>
                    <a:pt x="473" y="3"/>
                  </a:lnTo>
                  <a:lnTo>
                    <a:pt x="474" y="3"/>
                  </a:lnTo>
                  <a:lnTo>
                    <a:pt x="640" y="129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92920" y="3295800"/>
              <a:ext cx="11160" cy="169560"/>
            </a:xfrm>
            <a:custGeom>
              <a:avLst/>
              <a:gdLst/>
              <a:ahLst/>
              <a:rect l="l" t="t" r="r" b="b"/>
              <a:pathLst>
                <a:path w="7" h="107">
                  <a:moveTo>
                    <a:pt x="4" y="18"/>
                  </a:move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2" y="99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4" y="87"/>
                  </a:lnTo>
                  <a:lnTo>
                    <a:pt x="5" y="83"/>
                  </a:lnTo>
                  <a:lnTo>
                    <a:pt x="5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6" y="55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4" y="18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43800" y="3152880"/>
              <a:ext cx="260280" cy="23976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63" y="144"/>
                  </a:moveTo>
                  <a:lnTo>
                    <a:pt x="163" y="143"/>
                  </a:lnTo>
                  <a:lnTo>
                    <a:pt x="163" y="142"/>
                  </a:lnTo>
                  <a:lnTo>
                    <a:pt x="163" y="141"/>
                  </a:lnTo>
                  <a:lnTo>
                    <a:pt x="163" y="140"/>
                  </a:lnTo>
                  <a:lnTo>
                    <a:pt x="163" y="139"/>
                  </a:lnTo>
                  <a:lnTo>
                    <a:pt x="163" y="13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3" y="150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7"/>
                  </a:lnTo>
                  <a:lnTo>
                    <a:pt x="163" y="146"/>
                  </a:lnTo>
                  <a:lnTo>
                    <a:pt x="163" y="145"/>
                  </a:lnTo>
                  <a:lnTo>
                    <a:pt x="163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47040" y="3254400"/>
              <a:ext cx="249120" cy="217440"/>
            </a:xfrm>
            <a:custGeom>
              <a:avLst/>
              <a:gdLst/>
              <a:ahLst/>
              <a:rect l="l" t="t" r="r" b="b"/>
              <a:pathLst>
                <a:path w="157" h="137">
                  <a:moveTo>
                    <a:pt x="156" y="132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55" y="136"/>
                  </a:lnTo>
                  <a:lnTo>
                    <a:pt x="156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48480" y="3094200"/>
              <a:ext cx="249480" cy="218880"/>
            </a:xfrm>
            <a:custGeom>
              <a:avLst/>
              <a:gdLst/>
              <a:ahLst/>
              <a:rect l="l" t="t" r="r" b="b"/>
              <a:pathLst>
                <a:path w="157" h="138">
                  <a:moveTo>
                    <a:pt x="155" y="132"/>
                  </a:moveTo>
                  <a:lnTo>
                    <a:pt x="154" y="131"/>
                  </a:lnTo>
                  <a:lnTo>
                    <a:pt x="154" y="130"/>
                  </a:lnTo>
                  <a:lnTo>
                    <a:pt x="153" y="130"/>
                  </a:lnTo>
                  <a:lnTo>
                    <a:pt x="153" y="129"/>
                  </a:lnTo>
                  <a:lnTo>
                    <a:pt x="152" y="129"/>
                  </a:lnTo>
                  <a:lnTo>
                    <a:pt x="0" y="0"/>
                  </a:lnTo>
                  <a:lnTo>
                    <a:pt x="0" y="4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6" y="135"/>
                  </a:lnTo>
                  <a:lnTo>
                    <a:pt x="156" y="134"/>
                  </a:lnTo>
                  <a:lnTo>
                    <a:pt x="155" y="134"/>
                  </a:lnTo>
                  <a:lnTo>
                    <a:pt x="155" y="133"/>
                  </a:lnTo>
                  <a:lnTo>
                    <a:pt x="155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7625520" y="2679840"/>
            <a:ext cx="75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567240"/>
            <a:ext cx="842760" cy="15840"/>
          </a:xfrm>
          <a:custGeom>
            <a:avLst/>
            <a:gdLst/>
            <a:ahLst/>
            <a:rect l="l" t="t" r="r" b="b"/>
            <a:pathLst>
              <a:path w="531" h="10">
                <a:moveTo>
                  <a:pt x="0" y="9"/>
                </a:moveTo>
                <a:lnTo>
                  <a:pt x="53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4320" y="192888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94560" y="2351160"/>
            <a:ext cx="54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CP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18240" y="5246640"/>
            <a:ext cx="61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34320" y="474804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46120" y="3798720"/>
            <a:ext cx="48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2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86600" y="337644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54120" y="426708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92520" y="4102200"/>
            <a:ext cx="516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29080" y="2666880"/>
            <a:ext cx="1440" cy="37008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2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33640" y="2438280"/>
            <a:ext cx="1487520" cy="1106640"/>
          </a:xfrm>
          <a:custGeom>
            <a:avLst/>
            <a:gdLst/>
            <a:ahLst/>
            <a:rect l="l" t="t" r="r" b="b"/>
            <a:pathLst>
              <a:path w="937" h="697">
                <a:moveTo>
                  <a:pt x="936" y="696"/>
                </a:moveTo>
                <a:lnTo>
                  <a:pt x="759" y="696"/>
                </a:ln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65640" y="3543480"/>
            <a:ext cx="1055520" cy="1440"/>
          </a:xfrm>
          <a:custGeom>
            <a:avLst/>
            <a:gdLst/>
            <a:ahLst/>
            <a:rect l="l" t="t" r="r" b="b"/>
            <a:pathLst>
              <a:path w="665" h="1">
                <a:moveTo>
                  <a:pt x="664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3880" y="2133720"/>
            <a:ext cx="381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00200" y="220968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2438280"/>
            <a:ext cx="344520" cy="1800"/>
          </a:xfrm>
          <a:custGeom>
            <a:avLst/>
            <a:gdLst/>
            <a:ahLst/>
            <a:rect l="l" t="t" r="r" b="b"/>
            <a:pathLst>
              <a:path w="217" h="1">
                <a:moveTo>
                  <a:pt x="0" y="0"/>
                </a:moveTo>
                <a:lnTo>
                  <a:pt x="216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3352680"/>
            <a:ext cx="6858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nounce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543480"/>
            <a:ext cx="29376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523520" y="28954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81360" y="2819520"/>
            <a:ext cx="1440" cy="36972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2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38080" y="2743200"/>
            <a:ext cx="371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2895480"/>
            <a:ext cx="609840" cy="228600"/>
          </a:xfrm>
          <a:prstGeom prst="line">
            <a:avLst/>
          </a:prstGeom>
          <a:ln w="12600">
            <a:solidFill>
              <a:srgbClr val="c896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Server" descr=""/>
          <p:cNvPicPr/>
          <p:nvPr/>
        </p:nvPicPr>
        <p:blipFill>
          <a:blip r:embed="rId3"/>
          <a:stretch/>
        </p:blipFill>
        <p:spPr>
          <a:xfrm>
            <a:off x="7775640" y="4572000"/>
            <a:ext cx="530280" cy="8380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7732080" y="1393920"/>
            <a:ext cx="65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6E3-0917-4708-94FE-3C5BEFAB42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Trends in the Indus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Voice-over-IP Product Offering for the M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for MAX Release 1.0 Specif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CBA-232F-467B-A937-E967B842E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 MultiVoice for MAX with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-STDX and Frame Relay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 Voice Access shelf for B-STDX 6K, 8K, 9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orms to RFC1490 for switching by IP Navigator or generic Frame Re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for Type-of-Service (ToS) bits for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Relay SVC Suppo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49960" y="3435480"/>
            <a:ext cx="8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olTal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68520" y="2894040"/>
            <a:ext cx="990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68680" y="273528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35720" y="308304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64360" y="2867040"/>
            <a:ext cx="649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1120" y="2971800"/>
            <a:ext cx="24386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21560" y="3429000"/>
            <a:ext cx="898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-STDX 9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B-STDX%209000a" descr=""/>
          <p:cNvPicPr/>
          <p:nvPr/>
        </p:nvPicPr>
        <p:blipFill>
          <a:blip r:embed="rId1"/>
          <a:stretch/>
        </p:blipFill>
        <p:spPr>
          <a:xfrm>
            <a:off x="5861160" y="2286000"/>
            <a:ext cx="903240" cy="12160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651840" y="248904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9040" y="1905120"/>
            <a:ext cx="1473120" cy="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06360" y="2990880"/>
            <a:ext cx="419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57600" y="2095560"/>
            <a:ext cx="0" cy="7239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hone" descr=""/>
          <p:cNvPicPr/>
          <p:nvPr/>
        </p:nvPicPr>
        <p:blipFill>
          <a:blip r:embed="rId2"/>
          <a:stretch/>
        </p:blipFill>
        <p:spPr>
          <a:xfrm>
            <a:off x="1467000" y="1676520"/>
            <a:ext cx="544320" cy="3585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514600" y="2819520"/>
            <a:ext cx="990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BX" descr=""/>
          <p:cNvPicPr/>
          <p:nvPr/>
        </p:nvPicPr>
        <p:blipFill>
          <a:blip r:embed="rId3"/>
          <a:stretch/>
        </p:blipFill>
        <p:spPr>
          <a:xfrm>
            <a:off x="2087640" y="2525760"/>
            <a:ext cx="534960" cy="5205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2994120" y="1479600"/>
            <a:ext cx="1352520" cy="8348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332160" y="1752480"/>
            <a:ext cx="789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83000" y="2444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p to 4 T1/E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face(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35440" y="327168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60760" y="3473280"/>
            <a:ext cx="10033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657600" y="2990880"/>
            <a:ext cx="0" cy="4824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496960" y="3311640"/>
            <a:ext cx="514440" cy="311040"/>
            <a:chOff x="2496960" y="3311640"/>
            <a:chExt cx="514440" cy="311040"/>
          </a:xfrm>
        </p:grpSpPr>
        <p:sp>
          <p:nvSpPr>
            <p:cNvPr id="527" name=""/>
            <p:cNvSpPr/>
            <p:nvPr/>
          </p:nvSpPr>
          <p:spPr>
            <a:xfrm>
              <a:off x="2531880" y="3355920"/>
              <a:ext cx="479520" cy="214560"/>
            </a:xfrm>
            <a:custGeom>
              <a:avLst/>
              <a:gdLst/>
              <a:ahLst/>
              <a:rect l="l" t="t" r="r" b="b"/>
              <a:pathLst>
                <a:path w="302" h="135">
                  <a:moveTo>
                    <a:pt x="0" y="1"/>
                  </a:moveTo>
                  <a:lnTo>
                    <a:pt x="136" y="0"/>
                  </a:lnTo>
                  <a:lnTo>
                    <a:pt x="301" y="134"/>
                  </a:lnTo>
                  <a:lnTo>
                    <a:pt x="189" y="134"/>
                  </a:lnTo>
                </a:path>
              </a:pathLst>
            </a:custGeom>
            <a:noFill/>
            <a:ln cap="rnd"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96960" y="3311640"/>
              <a:ext cx="1018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24040" y="3414600"/>
              <a:ext cx="101520" cy="9864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57600" y="3524400"/>
              <a:ext cx="10152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1" name="GRF%20400" descr=""/>
          <p:cNvPicPr/>
          <p:nvPr/>
        </p:nvPicPr>
        <p:blipFill>
          <a:blip r:embed="rId5"/>
          <a:stretch/>
        </p:blipFill>
        <p:spPr>
          <a:xfrm>
            <a:off x="3346560" y="266688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603440" y="3487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F23-3756-4048-BB9F-46DB41A4AB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ISP Voice Bandwidth Provider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4214520"/>
            <a:ext cx="8458200" cy="195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SPs existing IP Network to transport v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voice access for B-STDX core swi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Navigator QoS guarantees delivery and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ers new ISP Revenue opportun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44680" y="142092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9760" y="228276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0280" y="312120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66680" y="2778120"/>
            <a:ext cx="990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BX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534960" cy="5205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819520" y="2262240"/>
            <a:ext cx="133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7240" y="22129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49640" y="2855880"/>
            <a:ext cx="15490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00200" y="2122560"/>
            <a:ext cx="610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-STD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14840" y="3695760"/>
            <a:ext cx="438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44840" y="1274760"/>
            <a:ext cx="610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-STD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32440" y="2079720"/>
            <a:ext cx="438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981760" y="3494160"/>
            <a:ext cx="231120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25040" y="29685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16160" y="3038400"/>
            <a:ext cx="438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84040" y="125748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64720" y="287028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025120" y="142092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990200" y="228276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10720" y="312120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27400" y="3340080"/>
            <a:ext cx="35686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96080" y="2730600"/>
            <a:ext cx="0" cy="6220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89960" y="2730600"/>
            <a:ext cx="666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038480" y="2870280"/>
            <a:ext cx="520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4559400" y="1828440"/>
            <a:ext cx="0" cy="1041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59400" y="1828800"/>
            <a:ext cx="37846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GRF%20400" descr=""/>
          <p:cNvPicPr/>
          <p:nvPr/>
        </p:nvPicPr>
        <p:blipFill>
          <a:blip r:embed="rId2"/>
          <a:stretch/>
        </p:blipFill>
        <p:spPr>
          <a:xfrm>
            <a:off x="6527880" y="161280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564" name="B-STDX%209000a" descr=""/>
          <p:cNvPicPr/>
          <p:nvPr/>
        </p:nvPicPr>
        <p:blipFill>
          <a:blip r:embed="rId3"/>
          <a:stretch/>
        </p:blipFill>
        <p:spPr>
          <a:xfrm>
            <a:off x="3289320" y="2322360"/>
            <a:ext cx="903240" cy="12160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168560" y="3619440"/>
            <a:ext cx="5968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765440" y="2908080"/>
            <a:ext cx="0" cy="7110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65440" y="2908440"/>
            <a:ext cx="4572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752120" y="2654280"/>
            <a:ext cx="2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752480" y="2006280"/>
            <a:ext cx="0" cy="6476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079280" y="2006640"/>
            <a:ext cx="685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GRF%20400" descr=""/>
          <p:cNvPicPr/>
          <p:nvPr/>
        </p:nvPicPr>
        <p:blipFill>
          <a:blip r:embed="rId4"/>
          <a:stretch/>
        </p:blipFill>
        <p:spPr>
          <a:xfrm>
            <a:off x="1944720" y="255096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572" name="GRF%20400" descr=""/>
          <p:cNvPicPr/>
          <p:nvPr/>
        </p:nvPicPr>
        <p:blipFill>
          <a:blip r:embed="rId5"/>
          <a:stretch/>
        </p:blipFill>
        <p:spPr>
          <a:xfrm>
            <a:off x="5295960" y="3211560"/>
            <a:ext cx="914400" cy="455400"/>
          </a:xfrm>
          <a:prstGeom prst="rect">
            <a:avLst/>
          </a:prstGeom>
          <a:ln w="0">
            <a:noFill/>
          </a:ln>
        </p:spPr>
      </p:pic>
      <p:pic>
        <p:nvPicPr>
          <p:cNvPr id="573" name="B-STDX%209000a" descr=""/>
          <p:cNvPicPr/>
          <p:nvPr/>
        </p:nvPicPr>
        <p:blipFill>
          <a:blip r:embed="rId6"/>
          <a:stretch/>
        </p:blipFill>
        <p:spPr>
          <a:xfrm>
            <a:off x="5143680" y="1433520"/>
            <a:ext cx="903240" cy="1216080"/>
          </a:xfrm>
          <a:prstGeom prst="rect">
            <a:avLst/>
          </a:prstGeom>
          <a:ln w="0">
            <a:noFill/>
          </a:ln>
        </p:spPr>
      </p:pic>
      <p:pic>
        <p:nvPicPr>
          <p:cNvPr id="574" name="PBX" descr=""/>
          <p:cNvPicPr/>
          <p:nvPr/>
        </p:nvPicPr>
        <p:blipFill>
          <a:blip r:embed="rId7"/>
          <a:stretch/>
        </p:blipFill>
        <p:spPr>
          <a:xfrm>
            <a:off x="8166240" y="2498760"/>
            <a:ext cx="534960" cy="520560"/>
          </a:xfrm>
          <a:prstGeom prst="rect">
            <a:avLst/>
          </a:prstGeom>
          <a:ln w="0">
            <a:noFill/>
          </a:ln>
        </p:spPr>
      </p:pic>
      <p:pic>
        <p:nvPicPr>
          <p:cNvPr id="575" name="PBX" descr=""/>
          <p:cNvPicPr/>
          <p:nvPr/>
        </p:nvPicPr>
        <p:blipFill>
          <a:blip r:embed="rId8"/>
          <a:stretch/>
        </p:blipFill>
        <p:spPr>
          <a:xfrm>
            <a:off x="8166240" y="1674720"/>
            <a:ext cx="534960" cy="520920"/>
          </a:xfrm>
          <a:prstGeom prst="rect">
            <a:avLst/>
          </a:prstGeom>
          <a:ln w="0">
            <a:noFill/>
          </a:ln>
        </p:spPr>
      </p:pic>
      <p:pic>
        <p:nvPicPr>
          <p:cNvPr id="576" name="PBX" descr=""/>
          <p:cNvPicPr/>
          <p:nvPr/>
        </p:nvPicPr>
        <p:blipFill>
          <a:blip r:embed="rId9"/>
          <a:stretch/>
        </p:blipFill>
        <p:spPr>
          <a:xfrm>
            <a:off x="8166240" y="3376440"/>
            <a:ext cx="534960" cy="520920"/>
          </a:xfrm>
          <a:prstGeom prst="rect">
            <a:avLst/>
          </a:prstGeom>
          <a:ln w="0">
            <a:noFill/>
          </a:ln>
        </p:spPr>
      </p:pic>
      <p:pic>
        <p:nvPicPr>
          <p:cNvPr id="577" name="PBX" descr=""/>
          <p:cNvPicPr/>
          <p:nvPr/>
        </p:nvPicPr>
        <p:blipFill>
          <a:blip r:embed="rId10"/>
          <a:stretch/>
        </p:blipFill>
        <p:spPr>
          <a:xfrm>
            <a:off x="685800" y="3376440"/>
            <a:ext cx="534960" cy="520920"/>
          </a:xfrm>
          <a:prstGeom prst="rect">
            <a:avLst/>
          </a:prstGeom>
          <a:ln w="0">
            <a:noFill/>
          </a:ln>
        </p:spPr>
      </p:pic>
      <p:pic>
        <p:nvPicPr>
          <p:cNvPr id="578" name="PBX" descr=""/>
          <p:cNvPicPr/>
          <p:nvPr/>
        </p:nvPicPr>
        <p:blipFill>
          <a:blip r:embed="rId11"/>
          <a:stretch/>
        </p:blipFill>
        <p:spPr>
          <a:xfrm>
            <a:off x="685800" y="1674720"/>
            <a:ext cx="534960" cy="5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BB0-B4BA-4064-917F-D66BAB603C9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Absolute QoS</a:t>
            </a: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 : Toll-Quality Voice over IP</a:t>
            </a:r>
            <a:endParaRPr b="1" lang="en-US" sz="2800" spc="-1" strike="noStrike">
              <a:solidFill>
                <a:srgbClr val="002aaa"/>
              </a:solidFill>
              <a:latin typeface="Arial"/>
            </a:endParaRPr>
          </a:p>
        </p:txBody>
      </p:sp>
      <p:pic>
        <p:nvPicPr>
          <p:cNvPr id="580" name="cloudbig" descr=""/>
          <p:cNvPicPr/>
          <p:nvPr/>
        </p:nvPicPr>
        <p:blipFill>
          <a:blip r:embed="rId1"/>
          <a:stretch/>
        </p:blipFill>
        <p:spPr>
          <a:xfrm>
            <a:off x="2933640" y="1111320"/>
            <a:ext cx="3732120" cy="28303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3929040" y="2181240"/>
            <a:ext cx="1440" cy="4348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840120" y="3141720"/>
            <a:ext cx="160020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59560" y="10350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3930480"/>
            <a:ext cx="556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P Navigator Network Set-up Circuit Guaranteeing Toll-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90040" y="1339920"/>
            <a:ext cx="649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BX 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05840" y="2444760"/>
            <a:ext cx="86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STDX 9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927000" y="1591920"/>
            <a:ext cx="141948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840120" y="2018880"/>
            <a:ext cx="1600200" cy="1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92880" y="2019240"/>
            <a:ext cx="1440" cy="117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831840" y="2162160"/>
            <a:ext cx="3240" cy="10317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43120" y="1952640"/>
            <a:ext cx="1143000" cy="12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927000" y="3524040"/>
            <a:ext cx="141948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hone" descr=""/>
          <p:cNvPicPr/>
          <p:nvPr/>
        </p:nvPicPr>
        <p:blipFill>
          <a:blip r:embed="rId2"/>
          <a:stretch/>
        </p:blipFill>
        <p:spPr>
          <a:xfrm>
            <a:off x="762120" y="3397320"/>
            <a:ext cx="380880" cy="2509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 flipV="1">
            <a:off x="2652840" y="3193560"/>
            <a:ext cx="1187280" cy="1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826320" y="3565080"/>
            <a:ext cx="135252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826320" y="1641240"/>
            <a:ext cx="133020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5492520" y="1965240"/>
            <a:ext cx="12524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5439960" y="3193920"/>
            <a:ext cx="1065240" cy="7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4571640"/>
            <a:ext cx="73677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WAN QoS Capabilities via IP Navig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effo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type of service (ToS) in IP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QoS using “on demand” guaranteed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983240" y="29401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55240" y="10350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78920" y="29401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hone" descr=""/>
          <p:cNvPicPr/>
          <p:nvPr/>
        </p:nvPicPr>
        <p:blipFill>
          <a:blip r:embed="rId3"/>
          <a:stretch/>
        </p:blipFill>
        <p:spPr>
          <a:xfrm>
            <a:off x="8077320" y="3422520"/>
            <a:ext cx="380880" cy="2509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384920" y="147636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28520" y="345744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52200" y="155268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hone" descr=""/>
          <p:cNvPicPr/>
          <p:nvPr/>
        </p:nvPicPr>
        <p:blipFill>
          <a:blip r:embed="rId4"/>
          <a:stretch/>
        </p:blipFill>
        <p:spPr>
          <a:xfrm>
            <a:off x="711360" y="1457280"/>
            <a:ext cx="380880" cy="250920"/>
          </a:xfrm>
          <a:prstGeom prst="rect">
            <a:avLst/>
          </a:prstGeom>
          <a:ln w="0">
            <a:noFill/>
          </a:ln>
        </p:spPr>
      </p:pic>
      <p:pic>
        <p:nvPicPr>
          <p:cNvPr id="608" name="Phone" descr=""/>
          <p:cNvPicPr/>
          <p:nvPr/>
        </p:nvPicPr>
        <p:blipFill>
          <a:blip r:embed="rId5"/>
          <a:stretch/>
        </p:blipFill>
        <p:spPr>
          <a:xfrm>
            <a:off x="8001000" y="1468440"/>
            <a:ext cx="380880" cy="252360"/>
          </a:xfrm>
          <a:prstGeom prst="rect">
            <a:avLst/>
          </a:prstGeom>
          <a:ln w="0">
            <a:noFill/>
          </a:ln>
        </p:spPr>
      </p:pic>
      <p:grpSp>
        <p:nvGrpSpPr>
          <p:cNvPr id="609" name=""/>
          <p:cNvGrpSpPr/>
          <p:nvPr/>
        </p:nvGrpSpPr>
        <p:grpSpPr>
          <a:xfrm>
            <a:off x="1314360" y="1440000"/>
            <a:ext cx="654120" cy="404640"/>
            <a:chOff x="1314360" y="1440000"/>
            <a:chExt cx="654120" cy="404640"/>
          </a:xfrm>
        </p:grpSpPr>
        <p:pic>
          <p:nvPicPr>
            <p:cNvPr id="610" name="" descr=""/>
            <p:cNvPicPr/>
            <p:nvPr/>
          </p:nvPicPr>
          <p:blipFill>
            <a:blip r:embed="rId6"/>
            <a:stretch/>
          </p:blipFill>
          <p:spPr>
            <a:xfrm>
              <a:off x="1314360" y="1440000"/>
              <a:ext cx="65412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1366920" y="1519200"/>
              <a:ext cx="48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1324080" y="3363840"/>
            <a:ext cx="654120" cy="404640"/>
            <a:chOff x="1324080" y="3363840"/>
            <a:chExt cx="654120" cy="404640"/>
          </a:xfrm>
        </p:grpSpPr>
        <p:pic>
          <p:nvPicPr>
            <p:cNvPr id="613" name="" descr=""/>
            <p:cNvPicPr/>
            <p:nvPr/>
          </p:nvPicPr>
          <p:blipFill>
            <a:blip r:embed="rId7"/>
            <a:stretch/>
          </p:blipFill>
          <p:spPr>
            <a:xfrm>
              <a:off x="1324080" y="3363840"/>
              <a:ext cx="65412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1376640" y="3443040"/>
              <a:ext cx="48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296120" y="3363840"/>
            <a:ext cx="654120" cy="404640"/>
            <a:chOff x="7296120" y="3363840"/>
            <a:chExt cx="654120" cy="404640"/>
          </a:xfrm>
        </p:grpSpPr>
        <p:pic>
          <p:nvPicPr>
            <p:cNvPr id="616" name="" descr=""/>
            <p:cNvPicPr/>
            <p:nvPr/>
          </p:nvPicPr>
          <p:blipFill>
            <a:blip r:embed="rId8"/>
            <a:stretch/>
          </p:blipFill>
          <p:spPr>
            <a:xfrm>
              <a:off x="7296120" y="3363840"/>
              <a:ext cx="65412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7348680" y="3443040"/>
              <a:ext cx="48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70920" y="1477800"/>
            <a:ext cx="653760" cy="404640"/>
            <a:chOff x="7270920" y="1477800"/>
            <a:chExt cx="653760" cy="404640"/>
          </a:xfrm>
        </p:grpSpPr>
        <p:pic>
          <p:nvPicPr>
            <p:cNvPr id="619" name="" descr=""/>
            <p:cNvPicPr/>
            <p:nvPr/>
          </p:nvPicPr>
          <p:blipFill>
            <a:blip r:embed="rId9"/>
            <a:stretch/>
          </p:blipFill>
          <p:spPr>
            <a:xfrm>
              <a:off x="7270920" y="1477800"/>
              <a:ext cx="65376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7322760" y="1557000"/>
              <a:ext cx="48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403640" y="2147760"/>
            <a:ext cx="12567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MultiVoice 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voice to IP 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448000" y="18093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641680" y="1707840"/>
            <a:ext cx="0" cy="253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54280" y="3193920"/>
            <a:ext cx="0" cy="3175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08800" y="3193920"/>
            <a:ext cx="0" cy="2732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743880" y="1701360"/>
            <a:ext cx="0" cy="2732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GRF%20400" descr=""/>
          <p:cNvPicPr/>
          <p:nvPr/>
        </p:nvPicPr>
        <p:blipFill>
          <a:blip r:embed="rId10"/>
          <a:stretch/>
        </p:blipFill>
        <p:spPr>
          <a:xfrm>
            <a:off x="2079720" y="1450800"/>
            <a:ext cx="693720" cy="346320"/>
          </a:xfrm>
          <a:prstGeom prst="rect">
            <a:avLst/>
          </a:prstGeom>
          <a:ln w="0">
            <a:noFill/>
          </a:ln>
        </p:spPr>
      </p:pic>
      <p:pic>
        <p:nvPicPr>
          <p:cNvPr id="628" name="GRF%20400" descr=""/>
          <p:cNvPicPr/>
          <p:nvPr/>
        </p:nvPicPr>
        <p:blipFill>
          <a:blip r:embed="rId11"/>
          <a:stretch/>
        </p:blipFill>
        <p:spPr>
          <a:xfrm>
            <a:off x="2079720" y="3382920"/>
            <a:ext cx="693720" cy="345960"/>
          </a:xfrm>
          <a:prstGeom prst="rect">
            <a:avLst/>
          </a:prstGeom>
          <a:ln w="0">
            <a:noFill/>
          </a:ln>
        </p:spPr>
      </p:pic>
      <p:pic>
        <p:nvPicPr>
          <p:cNvPr id="629" name="GRF%20400" descr=""/>
          <p:cNvPicPr/>
          <p:nvPr/>
        </p:nvPicPr>
        <p:blipFill>
          <a:blip r:embed="rId12"/>
          <a:stretch/>
        </p:blipFill>
        <p:spPr>
          <a:xfrm>
            <a:off x="6399360" y="3382920"/>
            <a:ext cx="693720" cy="345960"/>
          </a:xfrm>
          <a:prstGeom prst="rect">
            <a:avLst/>
          </a:prstGeom>
          <a:ln w="0">
            <a:noFill/>
          </a:ln>
        </p:spPr>
      </p:pic>
      <p:pic>
        <p:nvPicPr>
          <p:cNvPr id="630" name="GRF%20400" descr=""/>
          <p:cNvPicPr/>
          <p:nvPr/>
        </p:nvPicPr>
        <p:blipFill>
          <a:blip r:embed="rId13"/>
          <a:stretch/>
        </p:blipFill>
        <p:spPr>
          <a:xfrm>
            <a:off x="6399360" y="1460520"/>
            <a:ext cx="693720" cy="34452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922560" y="2616120"/>
            <a:ext cx="6811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03680" y="2611440"/>
            <a:ext cx="0" cy="3031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75040" y="2292480"/>
            <a:ext cx="0" cy="2523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75040" y="2546280"/>
            <a:ext cx="6066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72280" y="2552760"/>
            <a:ext cx="0" cy="4125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625920" y="1644480"/>
            <a:ext cx="2039760" cy="1870200"/>
            <a:chOff x="3625920" y="1644480"/>
            <a:chExt cx="2039760" cy="1870200"/>
          </a:xfrm>
        </p:grpSpPr>
        <p:pic>
          <p:nvPicPr>
            <p:cNvPr id="637" name="CBX%20550" descr=""/>
            <p:cNvPicPr/>
            <p:nvPr/>
          </p:nvPicPr>
          <p:blipFill>
            <a:blip r:embed="rId14"/>
            <a:stretch/>
          </p:blipFill>
          <p:spPr>
            <a:xfrm>
              <a:off x="4425480" y="1644480"/>
              <a:ext cx="49536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CBX%20550" descr=""/>
            <p:cNvPicPr/>
            <p:nvPr/>
          </p:nvPicPr>
          <p:blipFill>
            <a:blip r:embed="rId15"/>
            <a:stretch/>
          </p:blipFill>
          <p:spPr>
            <a:xfrm>
              <a:off x="4423680" y="2795400"/>
              <a:ext cx="49428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B-STDX%209000a" descr=""/>
            <p:cNvPicPr/>
            <p:nvPr/>
          </p:nvPicPr>
          <p:blipFill>
            <a:blip r:embed="rId16"/>
            <a:stretch/>
          </p:blipFill>
          <p:spPr>
            <a:xfrm>
              <a:off x="5279040" y="1751040"/>
              <a:ext cx="38664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B-STDX%209000a" descr=""/>
            <p:cNvPicPr/>
            <p:nvPr/>
          </p:nvPicPr>
          <p:blipFill>
            <a:blip r:embed="rId17"/>
            <a:stretch/>
          </p:blipFill>
          <p:spPr>
            <a:xfrm>
              <a:off x="5279040" y="2886840"/>
              <a:ext cx="38664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B-STDX%209000a" descr=""/>
            <p:cNvPicPr/>
            <p:nvPr/>
          </p:nvPicPr>
          <p:blipFill>
            <a:blip r:embed="rId18"/>
            <a:stretch/>
          </p:blipFill>
          <p:spPr>
            <a:xfrm>
              <a:off x="3625920" y="2873160"/>
              <a:ext cx="38664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B-STDX%209000a" descr=""/>
            <p:cNvPicPr/>
            <p:nvPr/>
          </p:nvPicPr>
          <p:blipFill>
            <a:blip r:embed="rId19"/>
            <a:stretch/>
          </p:blipFill>
          <p:spPr>
            <a:xfrm>
              <a:off x="3625920" y="1764360"/>
              <a:ext cx="386640" cy="5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"/>
          <p:cNvSpPr/>
          <p:nvPr/>
        </p:nvSpPr>
        <p:spPr>
          <a:xfrm>
            <a:off x="2519280" y="1569960"/>
            <a:ext cx="4094280" cy="355680"/>
          </a:xfrm>
          <a:custGeom>
            <a:avLst/>
            <a:gdLst/>
            <a:ahLst/>
            <a:rect l="l" t="t" r="r" b="b"/>
            <a:pathLst>
              <a:path w="3684" h="319">
                <a:moveTo>
                  <a:pt x="0" y="43"/>
                </a:moveTo>
                <a:cubicBezTo>
                  <a:pt x="216" y="0"/>
                  <a:pt x="518" y="25"/>
                  <a:pt x="732" y="91"/>
                </a:cubicBezTo>
                <a:cubicBezTo>
                  <a:pt x="901" y="143"/>
                  <a:pt x="1062" y="208"/>
                  <a:pt x="1236" y="247"/>
                </a:cubicBezTo>
                <a:cubicBezTo>
                  <a:pt x="1509" y="308"/>
                  <a:pt x="1799" y="307"/>
                  <a:pt x="2076" y="319"/>
                </a:cubicBezTo>
                <a:cubicBezTo>
                  <a:pt x="2437" y="307"/>
                  <a:pt x="2801" y="302"/>
                  <a:pt x="3156" y="223"/>
                </a:cubicBezTo>
                <a:cubicBezTo>
                  <a:pt x="3275" y="197"/>
                  <a:pt x="3389" y="165"/>
                  <a:pt x="3504" y="127"/>
                </a:cubicBezTo>
                <a:cubicBezTo>
                  <a:pt x="3540" y="115"/>
                  <a:pt x="3576" y="103"/>
                  <a:pt x="3612" y="91"/>
                </a:cubicBezTo>
                <a:cubicBezTo>
                  <a:pt x="3637" y="83"/>
                  <a:pt x="3684" y="55"/>
                  <a:pt x="3684" y="55"/>
                </a:cubicBezTo>
              </a:path>
            </a:pathLst>
          </a:cu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39880" y="3224160"/>
            <a:ext cx="3998880" cy="460440"/>
          </a:xfrm>
          <a:custGeom>
            <a:avLst/>
            <a:gdLst/>
            <a:ahLst/>
            <a:rect l="l" t="t" r="r" b="b"/>
            <a:pathLst>
              <a:path w="3600" h="413">
                <a:moveTo>
                  <a:pt x="0" y="369"/>
                </a:moveTo>
                <a:cubicBezTo>
                  <a:pt x="131" y="413"/>
                  <a:pt x="210" y="388"/>
                  <a:pt x="372" y="381"/>
                </a:cubicBezTo>
                <a:cubicBezTo>
                  <a:pt x="518" y="357"/>
                  <a:pt x="576" y="317"/>
                  <a:pt x="696" y="237"/>
                </a:cubicBezTo>
                <a:cubicBezTo>
                  <a:pt x="707" y="230"/>
                  <a:pt x="721" y="231"/>
                  <a:pt x="732" y="225"/>
                </a:cubicBezTo>
                <a:cubicBezTo>
                  <a:pt x="757" y="211"/>
                  <a:pt x="780" y="193"/>
                  <a:pt x="804" y="177"/>
                </a:cubicBezTo>
                <a:cubicBezTo>
                  <a:pt x="815" y="170"/>
                  <a:pt x="829" y="171"/>
                  <a:pt x="840" y="165"/>
                </a:cubicBezTo>
                <a:cubicBezTo>
                  <a:pt x="865" y="151"/>
                  <a:pt x="885" y="126"/>
                  <a:pt x="912" y="117"/>
                </a:cubicBezTo>
                <a:cubicBezTo>
                  <a:pt x="988" y="92"/>
                  <a:pt x="1053" y="58"/>
                  <a:pt x="1128" y="33"/>
                </a:cubicBezTo>
                <a:cubicBezTo>
                  <a:pt x="1182" y="15"/>
                  <a:pt x="1240" y="18"/>
                  <a:pt x="1296" y="9"/>
                </a:cubicBezTo>
                <a:cubicBezTo>
                  <a:pt x="1558" y="24"/>
                  <a:pt x="1750" y="29"/>
                  <a:pt x="2028" y="21"/>
                </a:cubicBezTo>
                <a:cubicBezTo>
                  <a:pt x="2177" y="0"/>
                  <a:pt x="2292" y="1"/>
                  <a:pt x="2448" y="9"/>
                </a:cubicBezTo>
                <a:cubicBezTo>
                  <a:pt x="2593" y="45"/>
                  <a:pt x="2738" y="94"/>
                  <a:pt x="2880" y="141"/>
                </a:cubicBezTo>
                <a:cubicBezTo>
                  <a:pt x="2923" y="155"/>
                  <a:pt x="2955" y="178"/>
                  <a:pt x="3000" y="189"/>
                </a:cubicBezTo>
                <a:cubicBezTo>
                  <a:pt x="3055" y="226"/>
                  <a:pt x="3118" y="240"/>
                  <a:pt x="3180" y="261"/>
                </a:cubicBezTo>
                <a:cubicBezTo>
                  <a:pt x="3327" y="310"/>
                  <a:pt x="3438" y="345"/>
                  <a:pt x="3600" y="345"/>
                </a:cubicBezTo>
              </a:path>
            </a:pathLst>
          </a:cu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839-5138-4132-8DFF-355F5D0F1A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371600" y="22096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99"/>
                </a:solidFill>
                <a:latin typeface="Arial"/>
              </a:rPr>
              <a:t>MultiVoice for MA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99"/>
                </a:solidFill>
                <a:latin typeface="Arial"/>
              </a:rPr>
              <a:t>Release 1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99"/>
                </a:solidFill>
                <a:latin typeface="Arial"/>
              </a:rPr>
              <a:t>Product Specif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D4B-7DB6-432A-BA78-F2D2865544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Key Featur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Voice Gateway for the MAX - Release 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-to-Phone H.323 operations – standard gatewa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hony WAN interfaces – support for T1, T1/PRI, E1, E1/PRI, 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 network interfaces – Ethernet and Frame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codec support – support for G.711 and G.729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VPN support – for enterprise deployment that do not required user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-line echo cancellation – remove echo created by 4/2-pair network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MF detection and generation – emulation of PSTN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9ED-9122-419D-ABB3-A59EDC84DC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Key Featur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Voice Access Manager Release 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U-T H.323-compliant Gatekeeper implementation – support for RA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-to-IP address translation – call routing within the 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-based administration interface – remote administration via a standard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-based user authentication – user authentication for network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VPN support – for enterprise deployment that do not required user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hone number aliases – support for private numbering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1DB-74CB-4481-8D09-E8492813F7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Key Featur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37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Voice Access Manager Release 1.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ccounting Records (CDR) – detailed call record for billing system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teway and user database support – flat file or ODBC databas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-party billing system support – interfaces for supporting third-party billing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Windows NT v4.0 support – Access Manager runs as a NT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5EA-3AB3-4074-9C79-4481688C68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819600" y="4267080"/>
            <a:ext cx="20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19600" y="4734000"/>
            <a:ext cx="20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19600" y="5210280"/>
            <a:ext cx="20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755800" y="3556080"/>
            <a:ext cx="1143000" cy="2260440"/>
          </a:xfrm>
          <a:custGeom>
            <a:avLst/>
            <a:gdLst>
              <a:gd name="textAreaLeft" fmla="*/ 32400 w 1143000"/>
              <a:gd name="textAreaRight" fmla="*/ 1110600 w 1143000"/>
              <a:gd name="textAreaTop" fmla="*/ 32400 h 2260440"/>
              <a:gd name="textAreaBottom" fmla="*/ 2228040 h 2260440"/>
            </a:gdLst>
            <a:ahLst/>
            <a:rect l="textAreaLeft" t="textAreaTop" r="textAreaRight" b="textAreaBottom"/>
            <a:pathLst>
              <a:path w="21600" h="42710">
                <a:moveTo>
                  <a:pt x="2093" y="0"/>
                </a:moveTo>
                <a:arcTo wR="2093" hR="2093" stAng="16200000" swAng="-5400000"/>
                <a:lnTo>
                  <a:pt x="0" y="40617"/>
                </a:lnTo>
                <a:arcTo wR="2093" hR="2093" stAng="10800000" swAng="-5400000"/>
                <a:lnTo>
                  <a:pt x="19507" y="42710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295360" y="2292480"/>
            <a:ext cx="3686400" cy="12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70280" y="1803240"/>
            <a:ext cx="901800" cy="1079640"/>
          </a:xfrm>
          <a:custGeom>
            <a:avLst/>
            <a:gdLst>
              <a:gd name="textAreaLeft" fmla="*/ 25560 w 901800"/>
              <a:gd name="textAreaRight" fmla="*/ 876240 w 901800"/>
              <a:gd name="textAreaTop" fmla="*/ 25560 h 1079640"/>
              <a:gd name="textAreaBottom" fmla="*/ 1054080 h 1079640"/>
            </a:gdLst>
            <a:ahLst/>
            <a:rect l="textAreaLeft" t="textAreaTop" r="textAreaRight" b="textAreaBottom"/>
            <a:pathLst>
              <a:path w="21600" h="25858">
                <a:moveTo>
                  <a:pt x="2093" y="0"/>
                </a:moveTo>
                <a:arcTo wR="2093" hR="2093" stAng="16200000" swAng="-5400000"/>
                <a:lnTo>
                  <a:pt x="0" y="23765"/>
                </a:lnTo>
                <a:arcTo wR="2093" hR="2093" stAng="10800000" swAng="-5400000"/>
                <a:lnTo>
                  <a:pt x="19507" y="25858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46440" y="1816200"/>
            <a:ext cx="901800" cy="1079280"/>
          </a:xfrm>
          <a:custGeom>
            <a:avLst/>
            <a:gdLst>
              <a:gd name="textAreaLeft" fmla="*/ 25560 w 901800"/>
              <a:gd name="textAreaRight" fmla="*/ 876240 w 901800"/>
              <a:gd name="textAreaTop" fmla="*/ 25560 h 1079280"/>
              <a:gd name="textAreaBottom" fmla="*/ 1053720 h 1079280"/>
            </a:gdLst>
            <a:ahLst/>
            <a:rect l="textAreaLeft" t="textAreaTop" r="textAreaRight" b="textAreaBottom"/>
            <a:pathLst>
              <a:path w="21600" h="25849">
                <a:moveTo>
                  <a:pt x="2093" y="0"/>
                </a:moveTo>
                <a:arcTo wR="2093" hR="2093" stAng="16200000" swAng="-5400000"/>
                <a:lnTo>
                  <a:pt x="0" y="23756"/>
                </a:lnTo>
                <a:arcTo wR="2093" hR="2093" stAng="10800000" swAng="-5400000"/>
                <a:lnTo>
                  <a:pt x="19507" y="25849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 Gateway H.323 Implementat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41560" y="2013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dio 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.711, G.729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96200" y="217332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22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RT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21400" y="365112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82880" y="412416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45440" y="41893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245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90920" y="1600200"/>
            <a:ext cx="3038400" cy="4340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44720" y="4524480"/>
            <a:ext cx="968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19840" y="541512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22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82880" y="458136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82880" y="506736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75320" y="503064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S Acces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ger I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10240" y="45356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.931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hone" descr=""/>
          <p:cNvPicPr/>
          <p:nvPr/>
        </p:nvPicPr>
        <p:blipFill>
          <a:blip r:embed="rId1"/>
          <a:stretch/>
        </p:blipFill>
        <p:spPr>
          <a:xfrm>
            <a:off x="1879560" y="2120760"/>
            <a:ext cx="533520" cy="3510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5842080" y="1879560"/>
            <a:ext cx="901800" cy="3759120"/>
          </a:xfrm>
          <a:custGeom>
            <a:avLst/>
            <a:gdLst>
              <a:gd name="textAreaLeft" fmla="*/ 25560 w 901800"/>
              <a:gd name="textAreaRight" fmla="*/ 876240 w 901800"/>
              <a:gd name="textAreaTop" fmla="*/ 25560 h 3759120"/>
              <a:gd name="textAreaBottom" fmla="*/ 3733560 h 3759120"/>
            </a:gdLst>
            <a:ahLst/>
            <a:rect l="textAreaLeft" t="textAreaTop" r="textAreaRight" b="textAreaBottom"/>
            <a:pathLst>
              <a:path w="21600" h="90011">
                <a:moveTo>
                  <a:pt x="2093" y="0"/>
                </a:moveTo>
                <a:arcTo wR="2093" hR="2093" stAng="16200000" swAng="-5400000"/>
                <a:lnTo>
                  <a:pt x="0" y="87918"/>
                </a:lnTo>
                <a:arcTo wR="2093" hR="2093" stAng="10800000" swAng="-5400000"/>
                <a:lnTo>
                  <a:pt x="19507" y="90011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69800" y="2610000"/>
            <a:ext cx="8391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ic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LAN/F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3B8-CA43-4147-AA43-5AC47DD0D7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 Configuration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6000-based Bund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8-port T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6-port T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0-port E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0-port E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6000-based QuickStart Bund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-port T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-port E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-port E1/BRI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400x-based Up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X 400x T1 SW Upgr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X 400x E1 SW Upgr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Voice DSP Slot C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SP1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SP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SP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Voice Access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 GW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2 GW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8 GW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46120" y="1587600"/>
            <a:ext cx="3848040" cy="4584600"/>
          </a:xfrm>
          <a:custGeom>
            <a:avLst/>
            <a:gdLst>
              <a:gd name="textAreaLeft" fmla="*/ 109080 w 3848040"/>
              <a:gd name="textAreaRight" fmla="*/ 3738960 w 3848040"/>
              <a:gd name="textAreaTop" fmla="*/ 109080 h 4584600"/>
              <a:gd name="textAreaBottom" fmla="*/ 4475520 h 4584600"/>
            </a:gdLst>
            <a:ahLst/>
            <a:rect l="textAreaLeft" t="textAreaTop" r="textAreaRight" b="textAreaBottom"/>
            <a:pathLst>
              <a:path w="21600" h="25734">
                <a:moveTo>
                  <a:pt x="2093" y="0"/>
                </a:moveTo>
                <a:arcTo wR="2093" hR="2093" stAng="16200000" swAng="-5400000"/>
                <a:lnTo>
                  <a:pt x="0" y="23641"/>
                </a:lnTo>
                <a:arcTo wR="2093" hR="2093" stAng="10800000" swAng="-5400000"/>
                <a:lnTo>
                  <a:pt x="19507" y="25734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46440" y="1587600"/>
            <a:ext cx="3848400" cy="4584600"/>
          </a:xfrm>
          <a:custGeom>
            <a:avLst/>
            <a:gdLst>
              <a:gd name="textAreaLeft" fmla="*/ 109080 w 3848400"/>
              <a:gd name="textAreaRight" fmla="*/ 3739320 w 3848400"/>
              <a:gd name="textAreaTop" fmla="*/ 109080 h 4584600"/>
              <a:gd name="textAreaBottom" fmla="*/ 4475520 h 4584600"/>
            </a:gdLst>
            <a:ahLst/>
            <a:rect l="textAreaLeft" t="textAreaTop" r="textAreaRight" b="textAreaBottom"/>
            <a:pathLst>
              <a:path w="21600" h="25732">
                <a:moveTo>
                  <a:pt x="2093" y="0"/>
                </a:moveTo>
                <a:arcTo wR="2093" hR="2093" stAng="16200000" swAng="-5400000"/>
                <a:lnTo>
                  <a:pt x="0" y="23639"/>
                </a:lnTo>
                <a:arcTo wR="2093" hR="2093" stAng="10800000" swAng="-5400000"/>
                <a:lnTo>
                  <a:pt x="19507" y="25732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C2A-CC43-44BF-993E-73E38359EB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5245200" y="2527200"/>
            <a:ext cx="3708360" cy="156204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360" y="2540160"/>
            <a:ext cx="3479760" cy="154908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41480" y="1308240"/>
            <a:ext cx="4152960" cy="105408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7644960" y="3289320"/>
            <a:ext cx="8002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067200" y="1784520"/>
            <a:ext cx="6602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3067200" y="1835280"/>
            <a:ext cx="6602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067200" y="1879560"/>
            <a:ext cx="6602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067200" y="1924200"/>
            <a:ext cx="6602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84400" y="3251160"/>
            <a:ext cx="3682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asic Voice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040" y="463500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Network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93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 of a single data network to provide both data and voice based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ling that scales with network us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93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 minute billing (e.g. ¢/min) for long distance voice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network service revenues for non-traditional servic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543360" y="3316320"/>
            <a:ext cx="506520" cy="71280"/>
            <a:chOff x="6543360" y="3316320"/>
            <a:chExt cx="506520" cy="71280"/>
          </a:xfrm>
        </p:grpSpPr>
        <p:sp>
          <p:nvSpPr>
            <p:cNvPr id="692" name=""/>
            <p:cNvSpPr/>
            <p:nvPr/>
          </p:nvSpPr>
          <p:spPr>
            <a:xfrm flipH="1">
              <a:off x="6543360" y="338760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6543360" y="331632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3138480" y="3024360"/>
            <a:ext cx="1494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5160" y="2509920"/>
            <a:ext cx="1136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Hong K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158680" y="2489040"/>
            <a:ext cx="70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87640" y="1289160"/>
            <a:ext cx="99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803920" y="3297240"/>
            <a:ext cx="2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16400" y="1890720"/>
            <a:ext cx="230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73160" y="3671280"/>
            <a:ext cx="118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739880" y="1816200"/>
            <a:ext cx="6508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09560" y="4218120"/>
            <a:ext cx="5875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02880" y="42242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Network Service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78880" y="25210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71400" y="3429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Remo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6120" y="13240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945760" y="28065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938920" y="3303720"/>
            <a:ext cx="342720" cy="515880"/>
          </a:xfrm>
          <a:custGeom>
            <a:avLst/>
            <a:gdLst/>
            <a:ahLst/>
            <a:rect l="l" t="t" r="r" b="b"/>
            <a:pathLst>
              <a:path w="222" h="246">
                <a:moveTo>
                  <a:pt x="0" y="0"/>
                </a:moveTo>
                <a:lnTo>
                  <a:pt x="0" y="246"/>
                </a:lnTo>
                <a:lnTo>
                  <a:pt x="222" y="246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63600" y="2835360"/>
            <a:ext cx="129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-over-Frame Re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GRF%20400" descr=""/>
          <p:cNvPicPr/>
          <p:nvPr/>
        </p:nvPicPr>
        <p:blipFill>
          <a:blip r:embed="rId1"/>
          <a:stretch/>
        </p:blipFill>
        <p:spPr>
          <a:xfrm>
            <a:off x="3683160" y="1719360"/>
            <a:ext cx="685800" cy="342720"/>
          </a:xfrm>
          <a:prstGeom prst="rect">
            <a:avLst/>
          </a:prstGeom>
          <a:ln w="0">
            <a:noFill/>
          </a:ln>
        </p:spPr>
      </p:pic>
      <p:pic>
        <p:nvPicPr>
          <p:cNvPr id="711" name="GRF%20400" descr=""/>
          <p:cNvPicPr/>
          <p:nvPr/>
        </p:nvPicPr>
        <p:blipFill>
          <a:blip r:embed="rId2"/>
          <a:stretch/>
        </p:blipFill>
        <p:spPr>
          <a:xfrm>
            <a:off x="6002280" y="3171960"/>
            <a:ext cx="685800" cy="341280"/>
          </a:xfrm>
          <a:prstGeom prst="rect">
            <a:avLst/>
          </a:prstGeom>
          <a:ln w="0">
            <a:noFill/>
          </a:ln>
        </p:spPr>
      </p:pic>
      <p:pic>
        <p:nvPicPr>
          <p:cNvPr id="712" name="Phone" descr=""/>
          <p:cNvPicPr/>
          <p:nvPr/>
        </p:nvPicPr>
        <p:blipFill>
          <a:blip r:embed="rId3"/>
          <a:stretch/>
        </p:blipFill>
        <p:spPr>
          <a:xfrm>
            <a:off x="1366920" y="1600200"/>
            <a:ext cx="517320" cy="339840"/>
          </a:xfrm>
          <a:prstGeom prst="rect">
            <a:avLst/>
          </a:prstGeom>
          <a:ln w="0">
            <a:noFill/>
          </a:ln>
        </p:spPr>
      </p:pic>
      <p:pic>
        <p:nvPicPr>
          <p:cNvPr id="713" name="Server" descr=""/>
          <p:cNvPicPr/>
          <p:nvPr/>
        </p:nvPicPr>
        <p:blipFill>
          <a:blip r:embed="rId4"/>
          <a:stretch/>
        </p:blipFill>
        <p:spPr>
          <a:xfrm>
            <a:off x="6226200" y="3624120"/>
            <a:ext cx="239760" cy="378000"/>
          </a:xfrm>
          <a:prstGeom prst="rect">
            <a:avLst/>
          </a:prstGeom>
          <a:ln w="0">
            <a:noFill/>
          </a:ln>
        </p:spPr>
      </p:pic>
      <p:pic>
        <p:nvPicPr>
          <p:cNvPr id="714" name="Phone" descr=""/>
          <p:cNvPicPr/>
          <p:nvPr/>
        </p:nvPicPr>
        <p:blipFill>
          <a:blip r:embed="rId5"/>
          <a:stretch/>
        </p:blipFill>
        <p:spPr>
          <a:xfrm>
            <a:off x="8271000" y="3133800"/>
            <a:ext cx="517320" cy="339480"/>
          </a:xfrm>
          <a:prstGeom prst="rect">
            <a:avLst/>
          </a:prstGeom>
          <a:ln w="0">
            <a:noFill/>
          </a:ln>
        </p:spPr>
      </p:pic>
      <p:grpSp>
        <p:nvGrpSpPr>
          <p:cNvPr id="715" name=""/>
          <p:cNvGrpSpPr/>
          <p:nvPr/>
        </p:nvGrpSpPr>
        <p:grpSpPr>
          <a:xfrm>
            <a:off x="2128320" y="3208320"/>
            <a:ext cx="506520" cy="73080"/>
            <a:chOff x="2128320" y="3208320"/>
            <a:chExt cx="506520" cy="73080"/>
          </a:xfrm>
        </p:grpSpPr>
        <p:sp>
          <p:nvSpPr>
            <p:cNvPr id="716" name=""/>
            <p:cNvSpPr/>
            <p:nvPr/>
          </p:nvSpPr>
          <p:spPr>
            <a:xfrm flipH="1">
              <a:off x="2128320" y="328140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128320" y="320832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2128320" y="2919240"/>
            <a:ext cx="506520" cy="73080"/>
            <a:chOff x="2128320" y="2919240"/>
            <a:chExt cx="506520" cy="73080"/>
          </a:xfrm>
        </p:grpSpPr>
        <p:sp>
          <p:nvSpPr>
            <p:cNvPr id="719" name=""/>
            <p:cNvSpPr/>
            <p:nvPr/>
          </p:nvSpPr>
          <p:spPr>
            <a:xfrm flipH="1">
              <a:off x="2128320" y="299232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2128320" y="291924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1" name="GRF%20400" descr=""/>
          <p:cNvPicPr/>
          <p:nvPr/>
        </p:nvPicPr>
        <p:blipFill>
          <a:blip r:embed="rId6"/>
          <a:stretch/>
        </p:blipFill>
        <p:spPr>
          <a:xfrm>
            <a:off x="2490840" y="2847960"/>
            <a:ext cx="685800" cy="341280"/>
          </a:xfrm>
          <a:prstGeom prst="rect">
            <a:avLst/>
          </a:prstGeom>
          <a:ln w="0">
            <a:noFill/>
          </a:ln>
        </p:spPr>
      </p:pic>
      <p:pic>
        <p:nvPicPr>
          <p:cNvPr id="722" name="GRF%20400" descr=""/>
          <p:cNvPicPr/>
          <p:nvPr/>
        </p:nvPicPr>
        <p:blipFill>
          <a:blip r:embed="rId7"/>
          <a:stretch/>
        </p:blipFill>
        <p:spPr>
          <a:xfrm>
            <a:off x="2455920" y="3137040"/>
            <a:ext cx="685800" cy="34128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1868400" y="3274920"/>
            <a:ext cx="0" cy="550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C" descr=""/>
          <p:cNvPicPr/>
          <p:nvPr/>
        </p:nvPicPr>
        <p:blipFill>
          <a:blip r:embed="rId8"/>
          <a:stretch/>
        </p:blipFill>
        <p:spPr>
          <a:xfrm>
            <a:off x="1550880" y="3525840"/>
            <a:ext cx="577800" cy="446040"/>
          </a:xfrm>
          <a:prstGeom prst="rect">
            <a:avLst/>
          </a:prstGeom>
          <a:ln w="0">
            <a:noFill/>
          </a:ln>
        </p:spPr>
      </p:pic>
      <p:grpSp>
        <p:nvGrpSpPr>
          <p:cNvPr id="725" name=""/>
          <p:cNvGrpSpPr/>
          <p:nvPr/>
        </p:nvGrpSpPr>
        <p:grpSpPr>
          <a:xfrm>
            <a:off x="2236680" y="1562040"/>
            <a:ext cx="1068480" cy="662040"/>
            <a:chOff x="2236680" y="1562040"/>
            <a:chExt cx="1068480" cy="662040"/>
          </a:xfrm>
        </p:grpSpPr>
        <p:pic>
          <p:nvPicPr>
            <p:cNvPr id="726" name="" descr=""/>
            <p:cNvPicPr/>
            <p:nvPr/>
          </p:nvPicPr>
          <p:blipFill>
            <a:blip r:embed="rId9"/>
            <a:stretch/>
          </p:blipFill>
          <p:spPr>
            <a:xfrm>
              <a:off x="2236680" y="1562040"/>
              <a:ext cx="106848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490840" y="17096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15160" y="2916360"/>
            <a:ext cx="1068480" cy="662040"/>
            <a:chOff x="6815160" y="2916360"/>
            <a:chExt cx="1068480" cy="662040"/>
          </a:xfrm>
        </p:grpSpPr>
        <p:pic>
          <p:nvPicPr>
            <p:cNvPr id="729" name="" descr=""/>
            <p:cNvPicPr/>
            <p:nvPr/>
          </p:nvPicPr>
          <p:blipFill>
            <a:blip r:embed="rId10"/>
            <a:stretch/>
          </p:blipFill>
          <p:spPr>
            <a:xfrm>
              <a:off x="6815160" y="2916360"/>
              <a:ext cx="106848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7069320" y="3062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901800" y="3048120"/>
            <a:ext cx="5205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Phone" descr=""/>
          <p:cNvPicPr/>
          <p:nvPr/>
        </p:nvPicPr>
        <p:blipFill>
          <a:blip r:embed="rId11"/>
          <a:stretch/>
        </p:blipFill>
        <p:spPr>
          <a:xfrm>
            <a:off x="577800" y="2870280"/>
            <a:ext cx="517680" cy="339480"/>
          </a:xfrm>
          <a:prstGeom prst="rect">
            <a:avLst/>
          </a:prstGeom>
          <a:ln w="0">
            <a:noFill/>
          </a:ln>
        </p:spPr>
      </p:pic>
      <p:grpSp>
        <p:nvGrpSpPr>
          <p:cNvPr id="733" name=""/>
          <p:cNvGrpSpPr/>
          <p:nvPr/>
        </p:nvGrpSpPr>
        <p:grpSpPr>
          <a:xfrm>
            <a:off x="1276200" y="2749680"/>
            <a:ext cx="1068480" cy="661680"/>
            <a:chOff x="1276200" y="2749680"/>
            <a:chExt cx="1068480" cy="661680"/>
          </a:xfrm>
        </p:grpSpPr>
        <p:pic>
          <p:nvPicPr>
            <p:cNvPr id="734" name="" descr=""/>
            <p:cNvPicPr/>
            <p:nvPr/>
          </p:nvPicPr>
          <p:blipFill>
            <a:blip r:embed="rId12"/>
            <a:stretch/>
          </p:blipFill>
          <p:spPr>
            <a:xfrm>
              <a:off x="1276200" y="2749680"/>
              <a:ext cx="106848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530360" y="28958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3695760" y="3073320"/>
            <a:ext cx="17906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3606840" y="2196720"/>
            <a:ext cx="1079640" cy="609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4787640" y="2247480"/>
            <a:ext cx="685800" cy="584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B-STDX%209000a" descr=""/>
          <p:cNvPicPr/>
          <p:nvPr/>
        </p:nvPicPr>
        <p:blipFill>
          <a:blip r:embed="rId13"/>
          <a:stretch/>
        </p:blipFill>
        <p:spPr>
          <a:xfrm>
            <a:off x="3214800" y="2630520"/>
            <a:ext cx="560160" cy="755640"/>
          </a:xfrm>
          <a:prstGeom prst="rect">
            <a:avLst/>
          </a:prstGeom>
          <a:ln w="0">
            <a:noFill/>
          </a:ln>
        </p:spPr>
      </p:pic>
      <p:pic>
        <p:nvPicPr>
          <p:cNvPr id="740" name="B-STDX%209000a" descr=""/>
          <p:cNvPicPr/>
          <p:nvPr/>
        </p:nvPicPr>
        <p:blipFill>
          <a:blip r:embed="rId14"/>
          <a:stretch/>
        </p:blipFill>
        <p:spPr>
          <a:xfrm>
            <a:off x="5313240" y="2671920"/>
            <a:ext cx="560520" cy="753840"/>
          </a:xfrm>
          <a:prstGeom prst="rect">
            <a:avLst/>
          </a:prstGeom>
          <a:ln w="0">
            <a:noFill/>
          </a:ln>
        </p:spPr>
      </p:pic>
      <p:pic>
        <p:nvPicPr>
          <p:cNvPr id="741" name="B-STDX%209000a" descr=""/>
          <p:cNvPicPr/>
          <p:nvPr/>
        </p:nvPicPr>
        <p:blipFill>
          <a:blip r:embed="rId15"/>
          <a:stretch/>
        </p:blipFill>
        <p:spPr>
          <a:xfrm>
            <a:off x="4406760" y="1574640"/>
            <a:ext cx="560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D5E-46C5-41A3-9252-B2050AE8FF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105520" y="3295800"/>
            <a:ext cx="609480" cy="6858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1270440" y="360720"/>
            <a:ext cx="7596360" cy="412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350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35069"/>
              </a:path>
            </a:pathLst>
          </a:custGeom>
          <a:noFill/>
          <a:ln cap="rnd" w="127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03000" y="2332080"/>
            <a:ext cx="3179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w Public Data Networ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7080" y="2590920"/>
            <a:ext cx="674640" cy="152280"/>
          </a:xfrm>
          <a:prstGeom prst="line">
            <a:avLst/>
          </a:prstGeom>
          <a:ln w="12600">
            <a:solidFill>
              <a:srgbClr val="00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438280" y="3489120"/>
            <a:ext cx="4064040" cy="39996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3480" y="3997440"/>
            <a:ext cx="17816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DM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c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37880" y="4707000"/>
            <a:ext cx="8002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7520" y="3441600"/>
            <a:ext cx="12117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43200" y="2395080"/>
            <a:ext cx="0" cy="93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3320" y="4923000"/>
            <a:ext cx="1596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3600" y="2266920"/>
            <a:ext cx="4653000" cy="238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248520" y="3625920"/>
            <a:ext cx="206280" cy="412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527688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now drives the network rather than 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sion a network that is packet/cell-focused leverag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speed switching with fiber in the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Data Now Drives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etworking Architectur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Architectures are Voice Cent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66E-FBD5-4D3B-B8AE-28FCB6BE1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Local 800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2120" y="4343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 operational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existing ISP Point-of-Presence (POP) to provide a voice network for customer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-user dials a local number for access to customer support ag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s are routed to ACD via the existing data network in order to reduce long distance 800 service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067280" y="1698480"/>
            <a:ext cx="2666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MultiVoice Access Manager (MVA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120760" y="2571840"/>
            <a:ext cx="53974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77160" y="2232000"/>
            <a:ext cx="98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 G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10800" y="2222640"/>
            <a:ext cx="98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 G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543800" y="2635200"/>
            <a:ext cx="0" cy="406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255160" y="2647800"/>
            <a:ext cx="0" cy="330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48400" y="3052800"/>
            <a:ext cx="762120" cy="19080"/>
          </a:xfrm>
          <a:prstGeom prst="line">
            <a:avLst/>
          </a:prstGeom>
          <a:ln w="12600">
            <a:solidFill>
              <a:srgbClr val="c896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497360" y="3278160"/>
            <a:ext cx="84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D Ag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41440" y="1679400"/>
            <a:ext cx="126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Local “800 Servic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21920" y="3870360"/>
            <a:ext cx="15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Traditional “800 Servic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7080" y="300348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s Ange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37640" y="20509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05640" y="2800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GRF%20400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722160" cy="360360"/>
          </a:xfrm>
          <a:prstGeom prst="rect">
            <a:avLst/>
          </a:prstGeom>
          <a:ln w="0">
            <a:noFill/>
          </a:ln>
        </p:spPr>
      </p:pic>
      <p:pic>
        <p:nvPicPr>
          <p:cNvPr id="758" name="Phone" descr=""/>
          <p:cNvPicPr/>
          <p:nvPr/>
        </p:nvPicPr>
        <p:blipFill>
          <a:blip r:embed="rId2"/>
          <a:stretch/>
        </p:blipFill>
        <p:spPr>
          <a:xfrm>
            <a:off x="8077320" y="2908440"/>
            <a:ext cx="544320" cy="358560"/>
          </a:xfrm>
          <a:prstGeom prst="rect">
            <a:avLst/>
          </a:prstGeom>
          <a:ln w="0">
            <a:noFill/>
          </a:ln>
        </p:spPr>
      </p:pic>
      <p:pic>
        <p:nvPicPr>
          <p:cNvPr id="759" name="Phone" descr=""/>
          <p:cNvPicPr/>
          <p:nvPr/>
        </p:nvPicPr>
        <p:blipFill>
          <a:blip r:embed="rId3"/>
          <a:stretch/>
        </p:blipFill>
        <p:spPr>
          <a:xfrm>
            <a:off x="7162920" y="2908440"/>
            <a:ext cx="544320" cy="35856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3722400" y="3244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X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968120" y="3454560"/>
            <a:ext cx="15750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1968480" y="2717280"/>
            <a:ext cx="0" cy="736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94160" y="3505320"/>
            <a:ext cx="1447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842080" y="2704680"/>
            <a:ext cx="0" cy="800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800280" y="2565360"/>
            <a:ext cx="558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03720" y="2286000"/>
            <a:ext cx="7113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GRF%20400" descr=""/>
          <p:cNvPicPr/>
          <p:nvPr/>
        </p:nvPicPr>
        <p:blipFill>
          <a:blip r:embed="rId4"/>
          <a:stretch/>
        </p:blipFill>
        <p:spPr>
          <a:xfrm>
            <a:off x="5486400" y="2459160"/>
            <a:ext cx="722160" cy="360360"/>
          </a:xfrm>
          <a:prstGeom prst="rect">
            <a:avLst/>
          </a:prstGeom>
          <a:ln w="0">
            <a:noFill/>
          </a:ln>
        </p:spPr>
      </p:pic>
      <p:pic>
        <p:nvPicPr>
          <p:cNvPr id="768" name="Server" descr=""/>
          <p:cNvPicPr/>
          <p:nvPr/>
        </p:nvPicPr>
        <p:blipFill>
          <a:blip r:embed="rId5"/>
          <a:stretch/>
        </p:blipFill>
        <p:spPr>
          <a:xfrm>
            <a:off x="4838760" y="2006640"/>
            <a:ext cx="252360" cy="398520"/>
          </a:xfrm>
          <a:prstGeom prst="rect">
            <a:avLst/>
          </a:prstGeom>
          <a:ln w="0">
            <a:noFill/>
          </a:ln>
        </p:spPr>
      </p:pic>
      <p:pic>
        <p:nvPicPr>
          <p:cNvPr id="769" name="Phone" descr=""/>
          <p:cNvPicPr/>
          <p:nvPr/>
        </p:nvPicPr>
        <p:blipFill>
          <a:blip r:embed="rId6"/>
          <a:stretch/>
        </p:blipFill>
        <p:spPr>
          <a:xfrm>
            <a:off x="419040" y="2336760"/>
            <a:ext cx="544680" cy="358920"/>
          </a:xfrm>
          <a:prstGeom prst="rect">
            <a:avLst/>
          </a:prstGeom>
          <a:ln w="0">
            <a:noFill/>
          </a:ln>
        </p:spPr>
      </p:pic>
      <p:grpSp>
        <p:nvGrpSpPr>
          <p:cNvPr id="770" name=""/>
          <p:cNvGrpSpPr/>
          <p:nvPr/>
        </p:nvGrpSpPr>
        <p:grpSpPr>
          <a:xfrm>
            <a:off x="1287360" y="2230560"/>
            <a:ext cx="1068480" cy="662040"/>
            <a:chOff x="1287360" y="2230560"/>
            <a:chExt cx="1068480" cy="662040"/>
          </a:xfrm>
        </p:grpSpPr>
        <p:pic>
          <p:nvPicPr>
            <p:cNvPr id="771" name="" descr=""/>
            <p:cNvPicPr/>
            <p:nvPr/>
          </p:nvPicPr>
          <p:blipFill>
            <a:blip r:embed="rId7"/>
            <a:stretch/>
          </p:blipFill>
          <p:spPr>
            <a:xfrm>
              <a:off x="1287360" y="2230560"/>
              <a:ext cx="106848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1541520" y="23767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3" name="" descr=""/>
          <p:cNvPicPr/>
          <p:nvPr/>
        </p:nvPicPr>
        <p:blipFill>
          <a:blip r:embed="rId8"/>
          <a:stretch/>
        </p:blipFill>
        <p:spPr>
          <a:xfrm>
            <a:off x="3460680" y="3106800"/>
            <a:ext cx="1068480" cy="66204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3772080" y="3352680"/>
            <a:ext cx="37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X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9"/>
          <a:stretch/>
        </p:blipFill>
        <p:spPr>
          <a:xfrm>
            <a:off x="3708360" y="2249640"/>
            <a:ext cx="1068480" cy="6616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884760" y="2444760"/>
            <a:ext cx="73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 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BX" descr=""/>
          <p:cNvPicPr/>
          <p:nvPr/>
        </p:nvPicPr>
        <p:blipFill>
          <a:blip r:embed="rId10"/>
          <a:stretch/>
        </p:blipFill>
        <p:spPr>
          <a:xfrm>
            <a:off x="6502320" y="2309760"/>
            <a:ext cx="534960" cy="5209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7315200" y="2432160"/>
            <a:ext cx="9907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3D3-7689-45E4-B303-808C995836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4870440" y="1822320"/>
            <a:ext cx="3381480" cy="174960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17440" y="1822320"/>
            <a:ext cx="3381480" cy="174960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BX Trunk Extens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040" y="41144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private networ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-to-Point PBX trunk re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QoS capabilities to insure toll quality voic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333440" y="2841480"/>
            <a:ext cx="38160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676520" y="2557440"/>
            <a:ext cx="685080" cy="156960"/>
            <a:chOff x="1676520" y="2557440"/>
            <a:chExt cx="685080" cy="156960"/>
          </a:xfrm>
        </p:grpSpPr>
        <p:sp>
          <p:nvSpPr>
            <p:cNvPr id="785" name=""/>
            <p:cNvSpPr/>
            <p:nvPr/>
          </p:nvSpPr>
          <p:spPr>
            <a:xfrm>
              <a:off x="1676520" y="255744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95240" y="260856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676520" y="266292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76520" y="271440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 flipV="1">
            <a:off x="2009880" y="2763720"/>
            <a:ext cx="0" cy="292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13240" y="3124080"/>
            <a:ext cx="583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 T1/E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66880" y="2611440"/>
            <a:ext cx="403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56120" y="2001960"/>
            <a:ext cx="38160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59640" y="1825560"/>
            <a:ext cx="1136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Hong K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38920" y="1832040"/>
            <a:ext cx="99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94560" y="2087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401520" y="1936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B-STDX%209000a" descr=""/>
          <p:cNvPicPr/>
          <p:nvPr/>
        </p:nvPicPr>
        <p:blipFill>
          <a:blip r:embed="rId1"/>
          <a:stretch/>
        </p:blipFill>
        <p:spPr>
          <a:xfrm>
            <a:off x="3252960" y="2154240"/>
            <a:ext cx="703080" cy="947880"/>
          </a:xfrm>
          <a:prstGeom prst="rect">
            <a:avLst/>
          </a:prstGeom>
          <a:ln w="0">
            <a:noFill/>
          </a:ln>
        </p:spPr>
      </p:pic>
      <p:pic>
        <p:nvPicPr>
          <p:cNvPr id="798" name="B-STDX%209000a" descr=""/>
          <p:cNvPicPr/>
          <p:nvPr/>
        </p:nvPicPr>
        <p:blipFill>
          <a:blip r:embed="rId2"/>
          <a:stretch/>
        </p:blipFill>
        <p:spPr>
          <a:xfrm>
            <a:off x="5310360" y="2154240"/>
            <a:ext cx="703080" cy="94788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1379520" y="2300400"/>
            <a:ext cx="453960" cy="495360"/>
            <a:chOff x="1379520" y="2300400"/>
            <a:chExt cx="453960" cy="495360"/>
          </a:xfrm>
        </p:grpSpPr>
        <p:sp>
          <p:nvSpPr>
            <p:cNvPr id="800" name=""/>
            <p:cNvSpPr/>
            <p:nvPr/>
          </p:nvSpPr>
          <p:spPr>
            <a:xfrm>
              <a:off x="1388880" y="2303640"/>
              <a:ext cx="225720" cy="49212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86000" y="2300400"/>
              <a:ext cx="447480" cy="18108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11360" y="2479680"/>
              <a:ext cx="22068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1379520" y="2370240"/>
              <a:ext cx="61920" cy="230040"/>
              <a:chOff x="1379520" y="2370240"/>
              <a:chExt cx="61920" cy="230040"/>
            </a:xfrm>
          </p:grpSpPr>
          <p:sp>
            <p:nvSpPr>
              <p:cNvPr id="804" name=""/>
              <p:cNvSpPr/>
              <p:nvPr/>
            </p:nvSpPr>
            <p:spPr>
              <a:xfrm>
                <a:off x="1406520" y="2532240"/>
                <a:ext cx="34920" cy="6804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1878">
                    <a:moveTo>
                      <a:pt x="10798" y="0"/>
                    </a:moveTo>
                    <a:arcTo wR="10798" hR="10798" stAng="16200000" swAng="-5400000"/>
                    <a:lnTo>
                      <a:pt x="0" y="31080"/>
                    </a:lnTo>
                    <a:arcTo wR="10798" hR="10798" stAng="10800000" swAng="-5400000"/>
                    <a:lnTo>
                      <a:pt x="10802" y="4187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403280" y="2370240"/>
                <a:ext cx="33480" cy="68400"/>
              </a:xfrm>
              <a:custGeom>
                <a:avLst/>
                <a:gdLst>
                  <a:gd name="textAreaLeft" fmla="*/ 4680 w 33480"/>
                  <a:gd name="textAreaRight" fmla="*/ 28800 w 33480"/>
                  <a:gd name="textAreaTop" fmla="*/ 4680 h 68400"/>
                  <a:gd name="textAreaBottom" fmla="*/ 63720 h 68400"/>
                </a:gdLst>
                <a:ahLst/>
                <a:rect l="textAreaLeft" t="textAreaTop" r="textAreaRight" b="textAreaBottom"/>
                <a:pathLst>
                  <a:path w="21600" h="43889">
                    <a:moveTo>
                      <a:pt x="10798" y="0"/>
                    </a:moveTo>
                    <a:arcTo wR="10798" hR="10798" stAng="16200000" swAng="-5400000"/>
                    <a:lnTo>
                      <a:pt x="0" y="33091"/>
                    </a:lnTo>
                    <a:arcTo wR="10798" hR="10798" stAng="10800000" swAng="-5400000"/>
                    <a:lnTo>
                      <a:pt x="10802" y="4388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1379520" y="2408400"/>
                <a:ext cx="41400" cy="160200"/>
                <a:chOff x="1379520" y="2408400"/>
                <a:chExt cx="41400" cy="1602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379520" y="2408400"/>
                  <a:ext cx="41400" cy="745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379520" y="2492640"/>
                  <a:ext cx="4140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9" name=""/>
            <p:cNvGrpSpPr/>
            <p:nvPr/>
          </p:nvGrpSpPr>
          <p:grpSpPr>
            <a:xfrm>
              <a:off x="1431720" y="2409840"/>
              <a:ext cx="60480" cy="228600"/>
              <a:chOff x="1431720" y="2409840"/>
              <a:chExt cx="60480" cy="228600"/>
            </a:xfrm>
          </p:grpSpPr>
          <p:sp>
            <p:nvSpPr>
              <p:cNvPr id="810" name=""/>
              <p:cNvSpPr/>
              <p:nvPr/>
            </p:nvSpPr>
            <p:spPr>
              <a:xfrm>
                <a:off x="1457280" y="2573640"/>
                <a:ext cx="34920" cy="6480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4800"/>
                  <a:gd name="textAreaBottom" fmla="*/ 59760 h 64800"/>
                </a:gdLst>
                <a:ahLst/>
                <a:rect l="textAreaLeft" t="textAreaTop" r="textAreaRight" b="textAreaBottom"/>
                <a:pathLst>
                  <a:path w="21600" h="39894">
                    <a:moveTo>
                      <a:pt x="10798" y="0"/>
                    </a:moveTo>
                    <a:arcTo wR="10798" hR="10798" stAng="16200000" swAng="-5400000"/>
                    <a:lnTo>
                      <a:pt x="0" y="29096"/>
                    </a:lnTo>
                    <a:arcTo wR="10798" hR="10798" stAng="10800000" swAng="-5400000"/>
                    <a:lnTo>
                      <a:pt x="10802" y="39894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54040" y="2409840"/>
                <a:ext cx="34920" cy="6516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160"/>
                  <a:gd name="textAreaBottom" fmla="*/ 60120 h 65160"/>
                </a:gdLst>
                <a:ahLst/>
                <a:rect l="textAreaLeft" t="textAreaTop" r="textAreaRight" b="textAreaBottom"/>
                <a:pathLst>
                  <a:path w="21600" h="40114">
                    <a:moveTo>
                      <a:pt x="10798" y="0"/>
                    </a:moveTo>
                    <a:arcTo wR="10798" hR="10798" stAng="16200000" swAng="-5400000"/>
                    <a:lnTo>
                      <a:pt x="0" y="29316"/>
                    </a:lnTo>
                    <a:arcTo wR="10798" hR="10798" stAng="10800000" swAng="-5400000"/>
                    <a:lnTo>
                      <a:pt x="10802" y="40114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1431720" y="2446560"/>
                <a:ext cx="39960" cy="160200"/>
                <a:chOff x="1431720" y="2446560"/>
                <a:chExt cx="39960" cy="16020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1431720" y="2446560"/>
                  <a:ext cx="3996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431720" y="2530440"/>
                  <a:ext cx="39960" cy="7632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1479600" y="2451240"/>
              <a:ext cx="61920" cy="230040"/>
              <a:chOff x="1479600" y="2451240"/>
              <a:chExt cx="61920" cy="230040"/>
            </a:xfrm>
          </p:grpSpPr>
          <p:sp>
            <p:nvSpPr>
              <p:cNvPr id="816" name=""/>
              <p:cNvSpPr/>
              <p:nvPr/>
            </p:nvSpPr>
            <p:spPr>
              <a:xfrm>
                <a:off x="1508040" y="2613240"/>
                <a:ext cx="33480" cy="68040"/>
              </a:xfrm>
              <a:custGeom>
                <a:avLst/>
                <a:gdLst>
                  <a:gd name="textAreaLeft" fmla="*/ 4680 w 33480"/>
                  <a:gd name="textAreaRight" fmla="*/ 28800 w 33480"/>
                  <a:gd name="textAreaTop" fmla="*/ 4680 h 68040"/>
                  <a:gd name="textAreaBottom" fmla="*/ 63360 h 68040"/>
                </a:gdLst>
                <a:ahLst/>
                <a:rect l="textAreaLeft" t="textAreaTop" r="textAreaRight" b="textAreaBottom"/>
                <a:pathLst>
                  <a:path w="21600" h="43660">
                    <a:moveTo>
                      <a:pt x="10798" y="0"/>
                    </a:moveTo>
                    <a:arcTo wR="10798" hR="10798" stAng="16200000" swAng="-5400000"/>
                    <a:lnTo>
                      <a:pt x="0" y="32862"/>
                    </a:lnTo>
                    <a:arcTo wR="10798" hR="10798" stAng="10800000" swAng="-5400000"/>
                    <a:lnTo>
                      <a:pt x="10802" y="4366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503360" y="2451240"/>
                <a:ext cx="34920" cy="6840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8400"/>
                  <a:gd name="textAreaBottom" fmla="*/ 63360 h 68400"/>
                </a:gdLst>
                <a:ahLst/>
                <a:rect l="textAreaLeft" t="textAreaTop" r="textAreaRight" b="textAreaBottom"/>
                <a:pathLst>
                  <a:path w="21600" h="42098">
                    <a:moveTo>
                      <a:pt x="10798" y="0"/>
                    </a:moveTo>
                    <a:arcTo wR="10798" hR="10798" stAng="16200000" swAng="-5400000"/>
                    <a:lnTo>
                      <a:pt x="0" y="31300"/>
                    </a:lnTo>
                    <a:arcTo wR="10798" hR="10798" stAng="10800000" swAng="-5400000"/>
                    <a:lnTo>
                      <a:pt x="10802" y="4209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1479600" y="2489400"/>
                <a:ext cx="41040" cy="160200"/>
                <a:chOff x="1479600" y="2489400"/>
                <a:chExt cx="41040" cy="16020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1479600" y="2489400"/>
                  <a:ext cx="41040" cy="745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479600" y="257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1" name=""/>
            <p:cNvGrpSpPr/>
            <p:nvPr/>
          </p:nvGrpSpPr>
          <p:grpSpPr>
            <a:xfrm>
              <a:off x="1530360" y="2497320"/>
              <a:ext cx="61920" cy="230040"/>
              <a:chOff x="1530360" y="2497320"/>
              <a:chExt cx="61920" cy="230040"/>
            </a:xfrm>
          </p:grpSpPr>
          <p:sp>
            <p:nvSpPr>
              <p:cNvPr id="822" name=""/>
              <p:cNvSpPr/>
              <p:nvPr/>
            </p:nvSpPr>
            <p:spPr>
              <a:xfrm>
                <a:off x="1558800" y="2659320"/>
                <a:ext cx="33480" cy="68040"/>
              </a:xfrm>
              <a:custGeom>
                <a:avLst/>
                <a:gdLst>
                  <a:gd name="textAreaLeft" fmla="*/ 4680 w 33480"/>
                  <a:gd name="textAreaRight" fmla="*/ 28800 w 33480"/>
                  <a:gd name="textAreaTop" fmla="*/ 4680 h 68040"/>
                  <a:gd name="textAreaBottom" fmla="*/ 63360 h 68040"/>
                </a:gdLst>
                <a:ahLst/>
                <a:rect l="textAreaLeft" t="textAreaTop" r="textAreaRight" b="textAreaBottom"/>
                <a:pathLst>
                  <a:path w="21600" h="43660">
                    <a:moveTo>
                      <a:pt x="10798" y="0"/>
                    </a:moveTo>
                    <a:arcTo wR="10798" hR="10798" stAng="16200000" swAng="-5400000"/>
                    <a:lnTo>
                      <a:pt x="0" y="32862"/>
                    </a:lnTo>
                    <a:arcTo wR="10798" hR="10798" stAng="10800000" swAng="-5400000"/>
                    <a:lnTo>
                      <a:pt x="10802" y="4366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54120" y="2497320"/>
                <a:ext cx="34920" cy="6804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1878">
                    <a:moveTo>
                      <a:pt x="10798" y="0"/>
                    </a:moveTo>
                    <a:arcTo wR="10798" hR="10798" stAng="16200000" swAng="-5400000"/>
                    <a:lnTo>
                      <a:pt x="0" y="31080"/>
                    </a:lnTo>
                    <a:arcTo wR="10798" hR="10798" stAng="10800000" swAng="-5400000"/>
                    <a:lnTo>
                      <a:pt x="10802" y="4187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1530360" y="2535480"/>
                <a:ext cx="42840" cy="160200"/>
                <a:chOff x="1530360" y="2535480"/>
                <a:chExt cx="42840" cy="1602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530360" y="2535480"/>
                  <a:ext cx="42840" cy="745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530360" y="2619360"/>
                  <a:ext cx="42840" cy="7632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27" name="GRF%20400" descr=""/>
          <p:cNvPicPr/>
          <p:nvPr/>
        </p:nvPicPr>
        <p:blipFill>
          <a:blip r:embed="rId3"/>
          <a:stretch/>
        </p:blipFill>
        <p:spPr>
          <a:xfrm>
            <a:off x="2209680" y="2479680"/>
            <a:ext cx="722520" cy="360360"/>
          </a:xfrm>
          <a:prstGeom prst="rect">
            <a:avLst/>
          </a:prstGeom>
          <a:ln w="0">
            <a:noFill/>
          </a:ln>
        </p:spPr>
      </p:pic>
      <p:grpSp>
        <p:nvGrpSpPr>
          <p:cNvPr id="828" name=""/>
          <p:cNvGrpSpPr/>
          <p:nvPr/>
        </p:nvGrpSpPr>
        <p:grpSpPr>
          <a:xfrm>
            <a:off x="6937200" y="2538360"/>
            <a:ext cx="685080" cy="169560"/>
            <a:chOff x="6937200" y="2538360"/>
            <a:chExt cx="685080" cy="169560"/>
          </a:xfrm>
        </p:grpSpPr>
        <p:sp>
          <p:nvSpPr>
            <p:cNvPr id="829" name=""/>
            <p:cNvSpPr/>
            <p:nvPr/>
          </p:nvSpPr>
          <p:spPr>
            <a:xfrm>
              <a:off x="6937200" y="253836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955920" y="259344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7200" y="265248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37200" y="270792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7547040" y="2251080"/>
            <a:ext cx="453600" cy="495360"/>
            <a:chOff x="7547040" y="2251080"/>
            <a:chExt cx="453600" cy="495360"/>
          </a:xfrm>
        </p:grpSpPr>
        <p:sp>
          <p:nvSpPr>
            <p:cNvPr id="834" name=""/>
            <p:cNvSpPr/>
            <p:nvPr/>
          </p:nvSpPr>
          <p:spPr>
            <a:xfrm flipH="1">
              <a:off x="7765920" y="2254320"/>
              <a:ext cx="225000" cy="49212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546680" y="2251080"/>
              <a:ext cx="447480" cy="18072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548840" y="2430360"/>
              <a:ext cx="220320" cy="31104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7939440" y="2320920"/>
              <a:ext cx="61200" cy="230040"/>
              <a:chOff x="7939440" y="2320920"/>
              <a:chExt cx="61200" cy="230040"/>
            </a:xfrm>
          </p:grpSpPr>
          <p:sp>
            <p:nvSpPr>
              <p:cNvPr id="838" name=""/>
              <p:cNvSpPr/>
              <p:nvPr/>
            </p:nvSpPr>
            <p:spPr>
              <a:xfrm flipH="1">
                <a:off x="7939440" y="2482920"/>
                <a:ext cx="34560" cy="6804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2309">
                    <a:moveTo>
                      <a:pt x="10798" y="0"/>
                    </a:moveTo>
                    <a:arcTo wR="10798" hR="10798" stAng="16200000" swAng="-5400000"/>
                    <a:lnTo>
                      <a:pt x="0" y="31511"/>
                    </a:lnTo>
                    <a:arcTo wR="10798" hR="10798" stAng="10800000" swAng="-5400000"/>
                    <a:lnTo>
                      <a:pt x="10802" y="4230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944120" y="2320920"/>
                <a:ext cx="33120" cy="6804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8040"/>
                  <a:gd name="textAreaBottom" fmla="*/ 63360 h 68040"/>
                </a:gdLst>
                <a:ahLst/>
                <a:rect l="textAreaLeft" t="textAreaTop" r="textAreaRight" b="textAreaBottom"/>
                <a:pathLst>
                  <a:path w="21600" h="44129">
                    <a:moveTo>
                      <a:pt x="10798" y="0"/>
                    </a:moveTo>
                    <a:arcTo wR="10798" hR="10798" stAng="16200000" swAng="-5400000"/>
                    <a:lnTo>
                      <a:pt x="0" y="33331"/>
                    </a:lnTo>
                    <a:arcTo wR="10798" hR="10798" stAng="10800000" swAng="-5400000"/>
                    <a:lnTo>
                      <a:pt x="10802" y="4412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7959600" y="2359080"/>
                <a:ext cx="41040" cy="160200"/>
                <a:chOff x="7959600" y="2359080"/>
                <a:chExt cx="41040" cy="160200"/>
              </a:xfrm>
            </p:grpSpPr>
            <p:sp>
              <p:nvSpPr>
                <p:cNvPr id="841" name=""/>
                <p:cNvSpPr/>
                <p:nvPr/>
              </p:nvSpPr>
              <p:spPr>
                <a:xfrm flipH="1">
                  <a:off x="7959600" y="2359080"/>
                  <a:ext cx="41040" cy="745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7959600" y="2442960"/>
                  <a:ext cx="41040" cy="7632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"/>
            <p:cNvGrpSpPr/>
            <p:nvPr/>
          </p:nvGrpSpPr>
          <p:grpSpPr>
            <a:xfrm>
              <a:off x="7889040" y="2360520"/>
              <a:ext cx="59400" cy="228600"/>
              <a:chOff x="7889040" y="2360520"/>
              <a:chExt cx="59400" cy="228600"/>
            </a:xfrm>
          </p:grpSpPr>
          <p:sp>
            <p:nvSpPr>
              <p:cNvPr id="844" name=""/>
              <p:cNvSpPr/>
              <p:nvPr/>
            </p:nvSpPr>
            <p:spPr>
              <a:xfrm flipH="1">
                <a:off x="7889040" y="2523960"/>
                <a:ext cx="34560" cy="6516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5160"/>
                  <a:gd name="textAreaBottom" fmla="*/ 60120 h 65160"/>
                </a:gdLst>
                <a:ahLst/>
                <a:rect l="textAreaLeft" t="textAreaTop" r="textAreaRight" b="textAreaBottom"/>
                <a:pathLst>
                  <a:path w="21600" h="40528">
                    <a:moveTo>
                      <a:pt x="10798" y="0"/>
                    </a:moveTo>
                    <a:arcTo wR="10798" hR="10798" stAng="16200000" swAng="-5400000"/>
                    <a:lnTo>
                      <a:pt x="0" y="29730"/>
                    </a:lnTo>
                    <a:arcTo wR="10798" hR="10798" stAng="10800000" swAng="-5400000"/>
                    <a:lnTo>
                      <a:pt x="10802" y="4052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891920" y="2360520"/>
                <a:ext cx="34560" cy="6516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5160"/>
                  <a:gd name="textAreaBottom" fmla="*/ 60120 h 65160"/>
                </a:gdLst>
                <a:ahLst/>
                <a:rect l="textAreaLeft" t="textAreaTop" r="textAreaRight" b="textAreaBottom"/>
                <a:pathLst>
                  <a:path w="21600" h="40528">
                    <a:moveTo>
                      <a:pt x="10798" y="0"/>
                    </a:moveTo>
                    <a:arcTo wR="10798" hR="10798" stAng="16200000" swAng="-5400000"/>
                    <a:lnTo>
                      <a:pt x="0" y="29730"/>
                    </a:lnTo>
                    <a:arcTo wR="10798" hR="10798" stAng="10800000" swAng="-5400000"/>
                    <a:lnTo>
                      <a:pt x="10802" y="4052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7909200" y="2396880"/>
                <a:ext cx="39240" cy="160560"/>
                <a:chOff x="7909200" y="2396880"/>
                <a:chExt cx="39240" cy="160560"/>
              </a:xfrm>
            </p:grpSpPr>
            <p:sp>
              <p:nvSpPr>
                <p:cNvPr id="847" name=""/>
                <p:cNvSpPr/>
                <p:nvPr/>
              </p:nvSpPr>
              <p:spPr>
                <a:xfrm flipH="1">
                  <a:off x="7908840" y="2396880"/>
                  <a:ext cx="39240" cy="7632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7908840" y="2481120"/>
                  <a:ext cx="39240" cy="7632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9" name=""/>
            <p:cNvGrpSpPr/>
            <p:nvPr/>
          </p:nvGrpSpPr>
          <p:grpSpPr>
            <a:xfrm>
              <a:off x="7839720" y="2401920"/>
              <a:ext cx="61200" cy="230040"/>
              <a:chOff x="7839720" y="2401920"/>
              <a:chExt cx="61200" cy="230040"/>
            </a:xfrm>
          </p:grpSpPr>
          <p:sp>
            <p:nvSpPr>
              <p:cNvPr id="850" name=""/>
              <p:cNvSpPr/>
              <p:nvPr/>
            </p:nvSpPr>
            <p:spPr>
              <a:xfrm flipH="1">
                <a:off x="7839360" y="2563560"/>
                <a:ext cx="32760" cy="68400"/>
              </a:xfrm>
              <a:custGeom>
                <a:avLst/>
                <a:gdLst>
                  <a:gd name="textAreaLeft" fmla="*/ 4680 w 32760"/>
                  <a:gd name="textAreaRight" fmla="*/ 28080 w 32760"/>
                  <a:gd name="textAreaTop" fmla="*/ 4680 h 68400"/>
                  <a:gd name="textAreaBottom" fmla="*/ 63720 h 68400"/>
                </a:gdLst>
                <a:ahLst/>
                <a:rect l="textAreaLeft" t="textAreaTop" r="textAreaRight" b="textAreaBottom"/>
                <a:pathLst>
                  <a:path w="21600" h="44843">
                    <a:moveTo>
                      <a:pt x="10798" y="0"/>
                    </a:moveTo>
                    <a:arcTo wR="10798" hR="10798" stAng="16200000" swAng="-5400000"/>
                    <a:lnTo>
                      <a:pt x="0" y="34045"/>
                    </a:lnTo>
                    <a:arcTo wR="10798" hR="10798" stAng="10800000" swAng="-5400000"/>
                    <a:lnTo>
                      <a:pt x="10802" y="44843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42960" y="2401920"/>
                <a:ext cx="34560" cy="6804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2309">
                    <a:moveTo>
                      <a:pt x="10798" y="0"/>
                    </a:moveTo>
                    <a:arcTo wR="10798" hR="10798" stAng="16200000" swAng="-5400000"/>
                    <a:lnTo>
                      <a:pt x="0" y="31511"/>
                    </a:lnTo>
                    <a:arcTo wR="10798" hR="10798" stAng="10800000" swAng="-5400000"/>
                    <a:lnTo>
                      <a:pt x="10802" y="4230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7859880" y="2440080"/>
                <a:ext cx="41040" cy="160200"/>
                <a:chOff x="7859880" y="2440080"/>
                <a:chExt cx="41040" cy="160200"/>
              </a:xfrm>
            </p:grpSpPr>
            <p:sp>
              <p:nvSpPr>
                <p:cNvPr id="853" name=""/>
                <p:cNvSpPr/>
                <p:nvPr/>
              </p:nvSpPr>
              <p:spPr>
                <a:xfrm flipH="1">
                  <a:off x="7859880" y="2440080"/>
                  <a:ext cx="41040" cy="745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7859880" y="2523960"/>
                  <a:ext cx="41040" cy="7632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5" name=""/>
            <p:cNvGrpSpPr/>
            <p:nvPr/>
          </p:nvGrpSpPr>
          <p:grpSpPr>
            <a:xfrm>
              <a:off x="7788960" y="2448000"/>
              <a:ext cx="61200" cy="230040"/>
              <a:chOff x="7788960" y="2448000"/>
              <a:chExt cx="61200" cy="230040"/>
            </a:xfrm>
          </p:grpSpPr>
          <p:sp>
            <p:nvSpPr>
              <p:cNvPr id="856" name=""/>
              <p:cNvSpPr/>
              <p:nvPr/>
            </p:nvSpPr>
            <p:spPr>
              <a:xfrm flipH="1">
                <a:off x="7788600" y="2609640"/>
                <a:ext cx="32760" cy="68400"/>
              </a:xfrm>
              <a:custGeom>
                <a:avLst/>
                <a:gdLst>
                  <a:gd name="textAreaLeft" fmla="*/ 4680 w 32760"/>
                  <a:gd name="textAreaRight" fmla="*/ 28080 w 32760"/>
                  <a:gd name="textAreaTop" fmla="*/ 4680 h 68400"/>
                  <a:gd name="textAreaBottom" fmla="*/ 63720 h 68400"/>
                </a:gdLst>
                <a:ahLst/>
                <a:rect l="textAreaLeft" t="textAreaTop" r="textAreaRight" b="textAreaBottom"/>
                <a:pathLst>
                  <a:path w="21600" h="44843">
                    <a:moveTo>
                      <a:pt x="10798" y="0"/>
                    </a:moveTo>
                    <a:arcTo wR="10798" hR="10798" stAng="16200000" swAng="-5400000"/>
                    <a:lnTo>
                      <a:pt x="0" y="34045"/>
                    </a:lnTo>
                    <a:arcTo wR="10798" hR="10798" stAng="10800000" swAng="-5400000"/>
                    <a:lnTo>
                      <a:pt x="10802" y="44843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792200" y="2448000"/>
                <a:ext cx="34560" cy="6804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2309">
                    <a:moveTo>
                      <a:pt x="10798" y="0"/>
                    </a:moveTo>
                    <a:arcTo wR="10798" hR="10798" stAng="16200000" swAng="-5400000"/>
                    <a:lnTo>
                      <a:pt x="0" y="31511"/>
                    </a:lnTo>
                    <a:arcTo wR="10798" hR="10798" stAng="10800000" swAng="-5400000"/>
                    <a:lnTo>
                      <a:pt x="10802" y="4230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7807680" y="2485800"/>
                <a:ext cx="42480" cy="160560"/>
                <a:chOff x="7807680" y="2485800"/>
                <a:chExt cx="42480" cy="160560"/>
              </a:xfrm>
            </p:grpSpPr>
            <p:sp>
              <p:nvSpPr>
                <p:cNvPr id="859" name=""/>
                <p:cNvSpPr/>
                <p:nvPr/>
              </p:nvSpPr>
              <p:spPr>
                <a:xfrm flipH="1">
                  <a:off x="7807680" y="2485800"/>
                  <a:ext cx="4248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>
                  <a:off x="7807680" y="2570040"/>
                  <a:ext cx="42480" cy="7632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61" name="GRF%20400" descr=""/>
          <p:cNvPicPr/>
          <p:nvPr/>
        </p:nvPicPr>
        <p:blipFill>
          <a:blip r:embed="rId4"/>
          <a:stretch/>
        </p:blipFill>
        <p:spPr>
          <a:xfrm>
            <a:off x="6424560" y="2403360"/>
            <a:ext cx="722520" cy="3603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 flipV="1">
            <a:off x="7267680" y="2763720"/>
            <a:ext cx="0" cy="292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971040" y="3124080"/>
            <a:ext cx="583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 T1/E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B85-8530-4287-B2FF-712DE8C7ED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7035840" y="2768760"/>
            <a:ext cx="7491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1587600" y="2857680"/>
            <a:ext cx="0" cy="1536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959520" y="2857320"/>
            <a:ext cx="0" cy="15490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87600" y="4394160"/>
            <a:ext cx="5371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BX Trunk Intraflow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route for voice calls across packet data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intraflow for PSTN (Dial 9 acce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cost sav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19480" y="194940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219480" y="189864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27400" y="192420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19480" y="197316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85880" y="2666880"/>
            <a:ext cx="8366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719360" y="2692440"/>
            <a:ext cx="8110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41600" y="2717640"/>
            <a:ext cx="880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04960" y="2741760"/>
            <a:ext cx="8175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2798640" y="2698560"/>
            <a:ext cx="489240" cy="12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681360" y="2946240"/>
            <a:ext cx="14191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3679920" y="2145960"/>
            <a:ext cx="509400" cy="4395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91080" y="2138400"/>
            <a:ext cx="509400" cy="4269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18160" y="268128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526080" y="270684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18160" y="273204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18160" y="275580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04560" y="3111480"/>
            <a:ext cx="1136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Hong K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13720" y="3044880"/>
            <a:ext cx="70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257720" y="1488960"/>
            <a:ext cx="99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02320" y="2649600"/>
            <a:ext cx="280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75200" y="200988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6210360" y="2730240"/>
            <a:ext cx="0" cy="1825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770080" y="3223800"/>
            <a:ext cx="108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172240" y="2076120"/>
            <a:ext cx="48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Dial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49880" y="4103280"/>
            <a:ext cx="48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Dial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17600" y="232884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982800" y="2678040"/>
            <a:ext cx="473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347280" y="1450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839560" y="20937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55040" y="2911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16040" y="1690560"/>
            <a:ext cx="374760" cy="1605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B-STDX%209000a" descr=""/>
          <p:cNvPicPr/>
          <p:nvPr/>
        </p:nvPicPr>
        <p:blipFill>
          <a:blip r:embed="rId1"/>
          <a:stretch/>
        </p:blipFill>
        <p:spPr>
          <a:xfrm>
            <a:off x="3135240" y="2386080"/>
            <a:ext cx="590760" cy="795240"/>
          </a:xfrm>
          <a:prstGeom prst="rect">
            <a:avLst/>
          </a:prstGeom>
          <a:ln w="0">
            <a:noFill/>
          </a:ln>
        </p:spPr>
      </p:pic>
      <p:pic>
        <p:nvPicPr>
          <p:cNvPr id="902" name="B-STDX%209000a" descr=""/>
          <p:cNvPicPr/>
          <p:nvPr/>
        </p:nvPicPr>
        <p:blipFill>
          <a:blip r:embed="rId2"/>
          <a:stretch/>
        </p:blipFill>
        <p:spPr>
          <a:xfrm>
            <a:off x="4125960" y="1733400"/>
            <a:ext cx="590400" cy="795600"/>
          </a:xfrm>
          <a:prstGeom prst="rect">
            <a:avLst/>
          </a:prstGeom>
          <a:ln w="0">
            <a:noFill/>
          </a:ln>
        </p:spPr>
      </p:pic>
      <p:pic>
        <p:nvPicPr>
          <p:cNvPr id="903" name="B-STDX%209000a" descr=""/>
          <p:cNvPicPr/>
          <p:nvPr/>
        </p:nvPicPr>
        <p:blipFill>
          <a:blip r:embed="rId3"/>
          <a:stretch/>
        </p:blipFill>
        <p:spPr>
          <a:xfrm>
            <a:off x="5040360" y="2343240"/>
            <a:ext cx="590400" cy="795240"/>
          </a:xfrm>
          <a:prstGeom prst="rect">
            <a:avLst/>
          </a:prstGeom>
          <a:ln w="0">
            <a:noFill/>
          </a:ln>
        </p:spPr>
      </p:pic>
      <p:pic>
        <p:nvPicPr>
          <p:cNvPr id="904" name="GRF%20400" descr=""/>
          <p:cNvPicPr/>
          <p:nvPr/>
        </p:nvPicPr>
        <p:blipFill>
          <a:blip r:embed="rId4"/>
          <a:stretch/>
        </p:blipFill>
        <p:spPr>
          <a:xfrm>
            <a:off x="2209680" y="2552760"/>
            <a:ext cx="722520" cy="360360"/>
          </a:xfrm>
          <a:prstGeom prst="rect">
            <a:avLst/>
          </a:prstGeom>
          <a:ln w="0">
            <a:noFill/>
          </a:ln>
        </p:spPr>
      </p:pic>
      <p:pic>
        <p:nvPicPr>
          <p:cNvPr id="905" name="GRF%20400" descr=""/>
          <p:cNvPicPr/>
          <p:nvPr/>
        </p:nvPicPr>
        <p:blipFill>
          <a:blip r:embed="rId5"/>
          <a:stretch/>
        </p:blipFill>
        <p:spPr>
          <a:xfrm>
            <a:off x="3403440" y="1809720"/>
            <a:ext cx="722520" cy="360360"/>
          </a:xfrm>
          <a:prstGeom prst="rect">
            <a:avLst/>
          </a:prstGeom>
          <a:ln w="0">
            <a:noFill/>
          </a:ln>
        </p:spPr>
      </p:pic>
      <p:pic>
        <p:nvPicPr>
          <p:cNvPr id="906" name="GRF%20400" descr=""/>
          <p:cNvPicPr/>
          <p:nvPr/>
        </p:nvPicPr>
        <p:blipFill>
          <a:blip r:embed="rId6"/>
          <a:stretch/>
        </p:blipFill>
        <p:spPr>
          <a:xfrm>
            <a:off x="5842080" y="2516040"/>
            <a:ext cx="722160" cy="360360"/>
          </a:xfrm>
          <a:prstGeom prst="rect">
            <a:avLst/>
          </a:prstGeom>
          <a:ln w="0">
            <a:noFill/>
          </a:ln>
        </p:spPr>
      </p:pic>
      <p:pic>
        <p:nvPicPr>
          <p:cNvPr id="907" name="Phone" descr=""/>
          <p:cNvPicPr/>
          <p:nvPr/>
        </p:nvPicPr>
        <p:blipFill>
          <a:blip r:embed="rId7"/>
          <a:stretch/>
        </p:blipFill>
        <p:spPr>
          <a:xfrm>
            <a:off x="554040" y="2495520"/>
            <a:ext cx="544680" cy="358920"/>
          </a:xfrm>
          <a:prstGeom prst="rect">
            <a:avLst/>
          </a:prstGeom>
          <a:ln w="0">
            <a:noFill/>
          </a:ln>
        </p:spPr>
      </p:pic>
      <p:pic>
        <p:nvPicPr>
          <p:cNvPr id="908" name="Phone" descr=""/>
          <p:cNvPicPr/>
          <p:nvPr/>
        </p:nvPicPr>
        <p:blipFill>
          <a:blip r:embed="rId8"/>
          <a:stretch/>
        </p:blipFill>
        <p:spPr>
          <a:xfrm>
            <a:off x="7516800" y="2558880"/>
            <a:ext cx="544680" cy="358920"/>
          </a:xfrm>
          <a:prstGeom prst="rect">
            <a:avLst/>
          </a:prstGeom>
          <a:ln w="0">
            <a:noFill/>
          </a:ln>
        </p:spPr>
      </p:pic>
      <p:pic>
        <p:nvPicPr>
          <p:cNvPr id="909" name="Phone" descr=""/>
          <p:cNvPicPr/>
          <p:nvPr/>
        </p:nvPicPr>
        <p:blipFill>
          <a:blip r:embed="rId9"/>
          <a:stretch/>
        </p:blipFill>
        <p:spPr>
          <a:xfrm>
            <a:off x="2144880" y="1504800"/>
            <a:ext cx="544320" cy="358920"/>
          </a:xfrm>
          <a:prstGeom prst="rect">
            <a:avLst/>
          </a:prstGeom>
          <a:ln w="0">
            <a:noFill/>
          </a:ln>
        </p:spPr>
      </p:pic>
      <p:grpSp>
        <p:nvGrpSpPr>
          <p:cNvPr id="910" name=""/>
          <p:cNvGrpSpPr/>
          <p:nvPr/>
        </p:nvGrpSpPr>
        <p:grpSpPr>
          <a:xfrm>
            <a:off x="1339920" y="2471760"/>
            <a:ext cx="420120" cy="423360"/>
            <a:chOff x="1339920" y="2471760"/>
            <a:chExt cx="420120" cy="423360"/>
          </a:xfrm>
        </p:grpSpPr>
        <p:sp>
          <p:nvSpPr>
            <p:cNvPr id="911" name=""/>
            <p:cNvSpPr/>
            <p:nvPr/>
          </p:nvSpPr>
          <p:spPr>
            <a:xfrm>
              <a:off x="1348560" y="2474280"/>
              <a:ext cx="208800" cy="42084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45680" y="2471760"/>
              <a:ext cx="414360" cy="15480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54480" y="2625120"/>
              <a:ext cx="204120" cy="26604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339920" y="2531160"/>
              <a:ext cx="56880" cy="196200"/>
              <a:chOff x="1339920" y="2531160"/>
              <a:chExt cx="56880" cy="196200"/>
            </a:xfrm>
          </p:grpSpPr>
          <p:sp>
            <p:nvSpPr>
              <p:cNvPr id="915" name=""/>
              <p:cNvSpPr/>
              <p:nvPr/>
            </p:nvSpPr>
            <p:spPr>
              <a:xfrm>
                <a:off x="1364760" y="266940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361880" y="2531160"/>
                <a:ext cx="30960" cy="5832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58320"/>
                  <a:gd name="textAreaBottom" fmla="*/ 54000 h 58320"/>
                </a:gdLst>
                <a:ahLst/>
                <a:rect l="textAreaLeft" t="textAreaTop" r="textAreaRight" b="textAreaBottom"/>
                <a:pathLst>
                  <a:path w="21600" h="40469">
                    <a:moveTo>
                      <a:pt x="10798" y="0"/>
                    </a:moveTo>
                    <a:arcTo wR="10798" hR="10798" stAng="16200000" swAng="-5400000"/>
                    <a:lnTo>
                      <a:pt x="0" y="29671"/>
                    </a:lnTo>
                    <a:arcTo wR="10798" hR="10798" stAng="10800000" swAng="-5400000"/>
                    <a:lnTo>
                      <a:pt x="10802" y="4046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1339920" y="2563560"/>
                <a:ext cx="38160" cy="136440"/>
                <a:chOff x="1339920" y="2563560"/>
                <a:chExt cx="38160" cy="13644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1339920" y="2563560"/>
                  <a:ext cx="38160" cy="6336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339920" y="263520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1388160" y="2565360"/>
              <a:ext cx="55440" cy="195120"/>
              <a:chOff x="1388160" y="2565360"/>
              <a:chExt cx="55440" cy="195120"/>
            </a:xfrm>
          </p:grpSpPr>
          <p:sp>
            <p:nvSpPr>
              <p:cNvPr id="921" name=""/>
              <p:cNvSpPr/>
              <p:nvPr/>
            </p:nvSpPr>
            <p:spPr>
              <a:xfrm>
                <a:off x="1411560" y="270504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408680" y="256536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1388160" y="2596680"/>
                <a:ext cx="36720" cy="136800"/>
                <a:chOff x="1388160" y="2596680"/>
                <a:chExt cx="36720" cy="13680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1388160" y="2596680"/>
                  <a:ext cx="36720" cy="64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388160" y="2668320"/>
                  <a:ext cx="36720" cy="65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6" name=""/>
            <p:cNvGrpSpPr/>
            <p:nvPr/>
          </p:nvGrpSpPr>
          <p:grpSpPr>
            <a:xfrm>
              <a:off x="1432440" y="2600640"/>
              <a:ext cx="57240" cy="196200"/>
              <a:chOff x="1432440" y="2600640"/>
              <a:chExt cx="57240" cy="196200"/>
            </a:xfrm>
          </p:grpSpPr>
          <p:sp>
            <p:nvSpPr>
              <p:cNvPr id="927" name=""/>
              <p:cNvSpPr/>
              <p:nvPr/>
            </p:nvSpPr>
            <p:spPr>
              <a:xfrm>
                <a:off x="1458720" y="2738880"/>
                <a:ext cx="30960" cy="5796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221">
                    <a:moveTo>
                      <a:pt x="10798" y="0"/>
                    </a:moveTo>
                    <a:arcTo wR="10798" hR="10798" stAng="16200000" swAng="-5400000"/>
                    <a:lnTo>
                      <a:pt x="0" y="29423"/>
                    </a:lnTo>
                    <a:arcTo wR="10798" hR="10798" stAng="10800000" swAng="-5400000"/>
                    <a:lnTo>
                      <a:pt x="10802" y="40221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454400" y="2600640"/>
                <a:ext cx="32040" cy="5832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8320"/>
                  <a:gd name="textAreaBottom" fmla="*/ 53640 h 58320"/>
                </a:gdLst>
                <a:ahLst/>
                <a:rect l="textAreaLeft" t="textAreaTop" r="textAreaRight" b="textAreaBottom"/>
                <a:pathLst>
                  <a:path w="21600" h="39120">
                    <a:moveTo>
                      <a:pt x="10798" y="0"/>
                    </a:moveTo>
                    <a:arcTo wR="10798" hR="10798" stAng="16200000" swAng="-5400000"/>
                    <a:lnTo>
                      <a:pt x="0" y="28322"/>
                    </a:lnTo>
                    <a:arcTo wR="10798" hR="10798" stAng="10800000" swAng="-5400000"/>
                    <a:lnTo>
                      <a:pt x="10802" y="3912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9" name=""/>
              <p:cNvGrpSpPr/>
              <p:nvPr/>
            </p:nvGrpSpPr>
            <p:grpSpPr>
              <a:xfrm>
                <a:off x="1432440" y="2633040"/>
                <a:ext cx="37800" cy="136800"/>
                <a:chOff x="1432440" y="2633040"/>
                <a:chExt cx="37800" cy="13680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1432440" y="2633040"/>
                  <a:ext cx="37800" cy="6336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432440" y="2704680"/>
                  <a:ext cx="37800" cy="651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2" name=""/>
            <p:cNvGrpSpPr/>
            <p:nvPr/>
          </p:nvGrpSpPr>
          <p:grpSpPr>
            <a:xfrm>
              <a:off x="1479600" y="2639880"/>
              <a:ext cx="57240" cy="196200"/>
              <a:chOff x="1479600" y="2639880"/>
              <a:chExt cx="57240" cy="196200"/>
            </a:xfrm>
          </p:grpSpPr>
          <p:sp>
            <p:nvSpPr>
              <p:cNvPr id="933" name=""/>
              <p:cNvSpPr/>
              <p:nvPr/>
            </p:nvSpPr>
            <p:spPr>
              <a:xfrm>
                <a:off x="1505880" y="2778120"/>
                <a:ext cx="30960" cy="5796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221">
                    <a:moveTo>
                      <a:pt x="10798" y="0"/>
                    </a:moveTo>
                    <a:arcTo wR="10798" hR="10798" stAng="16200000" swAng="-5400000"/>
                    <a:lnTo>
                      <a:pt x="0" y="29423"/>
                    </a:lnTo>
                    <a:arcTo wR="10798" hR="10798" stAng="10800000" swAng="-5400000"/>
                    <a:lnTo>
                      <a:pt x="10802" y="40221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501560" y="263988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1479600" y="2672280"/>
                <a:ext cx="39600" cy="136800"/>
                <a:chOff x="1479600" y="2672280"/>
                <a:chExt cx="39600" cy="1368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479600" y="2672280"/>
                  <a:ext cx="39600" cy="63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479600" y="2743920"/>
                  <a:ext cx="39600" cy="6516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38" name="" descr=""/>
          <p:cNvPicPr/>
          <p:nvPr/>
        </p:nvPicPr>
        <p:blipFill>
          <a:blip r:embed="rId10"/>
          <a:stretch/>
        </p:blipFill>
        <p:spPr>
          <a:xfrm>
            <a:off x="3606840" y="4078440"/>
            <a:ext cx="1231920" cy="7635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942360" y="4255920"/>
            <a:ext cx="51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841480" y="1684440"/>
            <a:ext cx="420480" cy="421920"/>
            <a:chOff x="2841480" y="1684440"/>
            <a:chExt cx="420480" cy="421920"/>
          </a:xfrm>
        </p:grpSpPr>
        <p:sp>
          <p:nvSpPr>
            <p:cNvPr id="941" name=""/>
            <p:cNvSpPr/>
            <p:nvPr/>
          </p:nvSpPr>
          <p:spPr>
            <a:xfrm>
              <a:off x="2850480" y="1686960"/>
              <a:ext cx="208440" cy="41940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47240" y="1684440"/>
              <a:ext cx="414720" cy="15408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56040" y="1837440"/>
              <a:ext cx="204120" cy="26496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2841480" y="1743840"/>
              <a:ext cx="56880" cy="195840"/>
              <a:chOff x="2841480" y="1743840"/>
              <a:chExt cx="56880" cy="195840"/>
            </a:xfrm>
          </p:grpSpPr>
          <p:sp>
            <p:nvSpPr>
              <p:cNvPr id="945" name=""/>
              <p:cNvSpPr/>
              <p:nvPr/>
            </p:nvSpPr>
            <p:spPr>
              <a:xfrm>
                <a:off x="2866320" y="188172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63440" y="1743840"/>
                <a:ext cx="30600" cy="5796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688">
                    <a:moveTo>
                      <a:pt x="10798" y="0"/>
                    </a:moveTo>
                    <a:arcTo wR="10798" hR="10798" stAng="16200000" swAng="-5400000"/>
                    <a:lnTo>
                      <a:pt x="0" y="29890"/>
                    </a:lnTo>
                    <a:arcTo wR="10798" hR="10798" stAng="10800000" swAng="-5400000"/>
                    <a:lnTo>
                      <a:pt x="10802" y="4068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2841480" y="1776240"/>
                <a:ext cx="38160" cy="136080"/>
                <a:chOff x="2841480" y="1776240"/>
                <a:chExt cx="38160" cy="13608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2841480" y="1776240"/>
                  <a:ext cx="38160" cy="6336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2841480" y="184752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0" name=""/>
            <p:cNvGrpSpPr/>
            <p:nvPr/>
          </p:nvGrpSpPr>
          <p:grpSpPr>
            <a:xfrm>
              <a:off x="2890080" y="1778040"/>
              <a:ext cx="55440" cy="194400"/>
              <a:chOff x="2890080" y="1778040"/>
              <a:chExt cx="55440" cy="194400"/>
            </a:xfrm>
          </p:grpSpPr>
          <p:sp>
            <p:nvSpPr>
              <p:cNvPr id="951" name=""/>
              <p:cNvSpPr/>
              <p:nvPr/>
            </p:nvSpPr>
            <p:spPr>
              <a:xfrm>
                <a:off x="2913480" y="191700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10600" y="1778040"/>
                <a:ext cx="32040" cy="5508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080"/>
                  <a:gd name="textAreaBottom" fmla="*/ 50400 h 55080"/>
                </a:gdLst>
                <a:ahLst/>
                <a:rect l="textAreaLeft" t="textAreaTop" r="textAreaRight" b="textAreaBottom"/>
                <a:pathLst>
                  <a:path w="21600" h="36960">
                    <a:moveTo>
                      <a:pt x="10798" y="0"/>
                    </a:moveTo>
                    <a:arcTo wR="10798" hR="10798" stAng="16200000" swAng="-5400000"/>
                    <a:lnTo>
                      <a:pt x="0" y="26162"/>
                    </a:lnTo>
                    <a:arcTo wR="10798" hR="10798" stAng="10800000" swAng="-5400000"/>
                    <a:lnTo>
                      <a:pt x="10802" y="3696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3" name=""/>
              <p:cNvGrpSpPr/>
              <p:nvPr/>
            </p:nvGrpSpPr>
            <p:grpSpPr>
              <a:xfrm>
                <a:off x="2890080" y="1809000"/>
                <a:ext cx="36360" cy="136440"/>
                <a:chOff x="2890080" y="1809000"/>
                <a:chExt cx="36360" cy="13644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2890080" y="1809000"/>
                  <a:ext cx="36360" cy="64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890080" y="1880640"/>
                  <a:ext cx="36360" cy="64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6" name=""/>
            <p:cNvGrpSpPr/>
            <p:nvPr/>
          </p:nvGrpSpPr>
          <p:grpSpPr>
            <a:xfrm>
              <a:off x="2934000" y="1812960"/>
              <a:ext cx="56880" cy="195840"/>
              <a:chOff x="2934000" y="1812960"/>
              <a:chExt cx="56880" cy="195840"/>
            </a:xfrm>
          </p:grpSpPr>
          <p:sp>
            <p:nvSpPr>
              <p:cNvPr id="957" name=""/>
              <p:cNvSpPr/>
              <p:nvPr/>
            </p:nvSpPr>
            <p:spPr>
              <a:xfrm>
                <a:off x="2960280" y="1950840"/>
                <a:ext cx="30600" cy="5796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688">
                    <a:moveTo>
                      <a:pt x="10798" y="0"/>
                    </a:moveTo>
                    <a:arcTo wR="10798" hR="10798" stAng="16200000" swAng="-5400000"/>
                    <a:lnTo>
                      <a:pt x="0" y="29890"/>
                    </a:lnTo>
                    <a:arcTo wR="10798" hR="10798" stAng="10800000" swAng="-5400000"/>
                    <a:lnTo>
                      <a:pt x="10802" y="4068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955960" y="181296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9" name=""/>
              <p:cNvGrpSpPr/>
              <p:nvPr/>
            </p:nvGrpSpPr>
            <p:grpSpPr>
              <a:xfrm>
                <a:off x="2934000" y="1845360"/>
                <a:ext cx="38160" cy="136080"/>
                <a:chOff x="2934000" y="1845360"/>
                <a:chExt cx="38160" cy="13608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2934000" y="1845360"/>
                  <a:ext cx="38160" cy="6300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934000" y="191664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2" name=""/>
            <p:cNvGrpSpPr/>
            <p:nvPr/>
          </p:nvGrpSpPr>
          <p:grpSpPr>
            <a:xfrm>
              <a:off x="2981160" y="1852200"/>
              <a:ext cx="56880" cy="195840"/>
              <a:chOff x="2981160" y="1852200"/>
              <a:chExt cx="56880" cy="195840"/>
            </a:xfrm>
          </p:grpSpPr>
          <p:sp>
            <p:nvSpPr>
              <p:cNvPr id="963" name=""/>
              <p:cNvSpPr/>
              <p:nvPr/>
            </p:nvSpPr>
            <p:spPr>
              <a:xfrm>
                <a:off x="3007440" y="1990080"/>
                <a:ext cx="30600" cy="5796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688">
                    <a:moveTo>
                      <a:pt x="10798" y="0"/>
                    </a:moveTo>
                    <a:arcTo wR="10798" hR="10798" stAng="16200000" swAng="-5400000"/>
                    <a:lnTo>
                      <a:pt x="0" y="29890"/>
                    </a:lnTo>
                    <a:arcTo wR="10798" hR="10798" stAng="10800000" swAng="-5400000"/>
                    <a:lnTo>
                      <a:pt x="10802" y="4068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03120" y="185220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2981160" y="1884600"/>
                <a:ext cx="39600" cy="136080"/>
                <a:chOff x="2981160" y="1884600"/>
                <a:chExt cx="39600" cy="1360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2981160" y="1884600"/>
                  <a:ext cx="39600" cy="63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981160" y="1956240"/>
                  <a:ext cx="39600" cy="6444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8" name=""/>
          <p:cNvGrpSpPr/>
          <p:nvPr/>
        </p:nvGrpSpPr>
        <p:grpSpPr>
          <a:xfrm>
            <a:off x="6738840" y="2554200"/>
            <a:ext cx="420480" cy="423720"/>
            <a:chOff x="6738840" y="2554200"/>
            <a:chExt cx="420480" cy="423720"/>
          </a:xfrm>
        </p:grpSpPr>
        <p:sp>
          <p:nvSpPr>
            <p:cNvPr id="969" name=""/>
            <p:cNvSpPr/>
            <p:nvPr/>
          </p:nvSpPr>
          <p:spPr>
            <a:xfrm>
              <a:off x="6747840" y="2556720"/>
              <a:ext cx="208440" cy="42120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44600" y="2554200"/>
              <a:ext cx="414720" cy="15444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953400" y="2707560"/>
              <a:ext cx="204120" cy="26604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6738840" y="2613960"/>
              <a:ext cx="56880" cy="196560"/>
              <a:chOff x="6738840" y="2613960"/>
              <a:chExt cx="56880" cy="196560"/>
            </a:xfrm>
          </p:grpSpPr>
          <p:sp>
            <p:nvSpPr>
              <p:cNvPr id="973" name=""/>
              <p:cNvSpPr/>
              <p:nvPr/>
            </p:nvSpPr>
            <p:spPr>
              <a:xfrm>
                <a:off x="6763680" y="275256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760800" y="2613960"/>
                <a:ext cx="30960" cy="5796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221">
                    <a:moveTo>
                      <a:pt x="10798" y="0"/>
                    </a:moveTo>
                    <a:arcTo wR="10798" hR="10798" stAng="16200000" swAng="-5400000"/>
                    <a:lnTo>
                      <a:pt x="0" y="29423"/>
                    </a:lnTo>
                    <a:arcTo wR="10798" hR="10798" stAng="10800000" swAng="-5400000"/>
                    <a:lnTo>
                      <a:pt x="10802" y="40221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5" name=""/>
              <p:cNvGrpSpPr/>
              <p:nvPr/>
            </p:nvGrpSpPr>
            <p:grpSpPr>
              <a:xfrm>
                <a:off x="6738840" y="2646360"/>
                <a:ext cx="38160" cy="136800"/>
                <a:chOff x="6738840" y="2646360"/>
                <a:chExt cx="38160" cy="1368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6738840" y="2646360"/>
                  <a:ext cx="38160" cy="637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738840" y="2718000"/>
                  <a:ext cx="38160" cy="651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8" name=""/>
            <p:cNvGrpSpPr/>
            <p:nvPr/>
          </p:nvGrpSpPr>
          <p:grpSpPr>
            <a:xfrm>
              <a:off x="6787440" y="2647800"/>
              <a:ext cx="55080" cy="195120"/>
              <a:chOff x="6787440" y="2647800"/>
              <a:chExt cx="55080" cy="195120"/>
            </a:xfrm>
          </p:grpSpPr>
          <p:sp>
            <p:nvSpPr>
              <p:cNvPr id="979" name=""/>
              <p:cNvSpPr/>
              <p:nvPr/>
            </p:nvSpPr>
            <p:spPr>
              <a:xfrm>
                <a:off x="6810480" y="278748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07960" y="264780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1" name=""/>
              <p:cNvGrpSpPr/>
              <p:nvPr/>
            </p:nvGrpSpPr>
            <p:grpSpPr>
              <a:xfrm>
                <a:off x="6787440" y="2678760"/>
                <a:ext cx="36360" cy="136800"/>
                <a:chOff x="6787440" y="2678760"/>
                <a:chExt cx="36360" cy="1368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6787440" y="2678760"/>
                  <a:ext cx="36360" cy="65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787440" y="2750400"/>
                  <a:ext cx="36360" cy="65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4" name=""/>
            <p:cNvGrpSpPr/>
            <p:nvPr/>
          </p:nvGrpSpPr>
          <p:grpSpPr>
            <a:xfrm>
              <a:off x="6831360" y="2683080"/>
              <a:ext cx="56880" cy="196560"/>
              <a:chOff x="6831360" y="2683080"/>
              <a:chExt cx="56880" cy="196560"/>
            </a:xfrm>
          </p:grpSpPr>
          <p:sp>
            <p:nvSpPr>
              <p:cNvPr id="985" name=""/>
              <p:cNvSpPr/>
              <p:nvPr/>
            </p:nvSpPr>
            <p:spPr>
              <a:xfrm>
                <a:off x="6857640" y="2821320"/>
                <a:ext cx="30600" cy="5832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8320"/>
                  <a:gd name="textAreaBottom" fmla="*/ 54000 h 58320"/>
                </a:gdLst>
                <a:ahLst/>
                <a:rect l="textAreaLeft" t="textAreaTop" r="textAreaRight" b="textAreaBottom"/>
                <a:pathLst>
                  <a:path w="21600" h="40940">
                    <a:moveTo>
                      <a:pt x="10798" y="0"/>
                    </a:moveTo>
                    <a:arcTo wR="10798" hR="10798" stAng="16200000" swAng="-5400000"/>
                    <a:lnTo>
                      <a:pt x="0" y="30142"/>
                    </a:lnTo>
                    <a:arcTo wR="10798" hR="10798" stAng="10800000" swAng="-5400000"/>
                    <a:lnTo>
                      <a:pt x="10802" y="4094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853320" y="268308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6831360" y="2715120"/>
                <a:ext cx="38160" cy="136800"/>
                <a:chOff x="6831360" y="2715120"/>
                <a:chExt cx="38160" cy="1368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6831360" y="2715120"/>
                  <a:ext cx="38160" cy="637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831360" y="2786760"/>
                  <a:ext cx="38160" cy="651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0" name=""/>
            <p:cNvGrpSpPr/>
            <p:nvPr/>
          </p:nvGrpSpPr>
          <p:grpSpPr>
            <a:xfrm>
              <a:off x="6878520" y="2722680"/>
              <a:ext cx="56880" cy="196560"/>
              <a:chOff x="6878520" y="2722680"/>
              <a:chExt cx="56880" cy="196560"/>
            </a:xfrm>
          </p:grpSpPr>
          <p:sp>
            <p:nvSpPr>
              <p:cNvPr id="991" name=""/>
              <p:cNvSpPr/>
              <p:nvPr/>
            </p:nvSpPr>
            <p:spPr>
              <a:xfrm>
                <a:off x="6904800" y="2860920"/>
                <a:ext cx="30600" cy="5832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8320"/>
                  <a:gd name="textAreaBottom" fmla="*/ 54000 h 58320"/>
                </a:gdLst>
                <a:ahLst/>
                <a:rect l="textAreaLeft" t="textAreaTop" r="textAreaRight" b="textAreaBottom"/>
                <a:pathLst>
                  <a:path w="21600" h="40940">
                    <a:moveTo>
                      <a:pt x="10798" y="0"/>
                    </a:moveTo>
                    <a:arcTo wR="10798" hR="10798" stAng="16200000" swAng="-5400000"/>
                    <a:lnTo>
                      <a:pt x="0" y="30142"/>
                    </a:lnTo>
                    <a:arcTo wR="10798" hR="10798" stAng="10800000" swAng="-5400000"/>
                    <a:lnTo>
                      <a:pt x="10802" y="4094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900480" y="272268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3" name=""/>
              <p:cNvGrpSpPr/>
              <p:nvPr/>
            </p:nvGrpSpPr>
            <p:grpSpPr>
              <a:xfrm>
                <a:off x="6878520" y="2754720"/>
                <a:ext cx="39600" cy="136800"/>
                <a:chOff x="6878520" y="2754720"/>
                <a:chExt cx="39600" cy="1368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6878520" y="2754720"/>
                  <a:ext cx="39600" cy="63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878520" y="2826360"/>
                  <a:ext cx="39600" cy="6516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6" name=""/>
          <p:cNvGraphicFramePr/>
          <p:nvPr/>
        </p:nvGraphicFramePr>
        <p:xfrm>
          <a:off x="6062760" y="2890800"/>
          <a:ext cx="266760" cy="33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62760" y="2890800"/>
                    <a:ext cx="2667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65B-543A-4542-AA1F-9D1FB16C3C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the MAX – Advantages for Different Market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 to I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w service offering and revenue from existing customer 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btain a higher return on existing network by using existing infra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st justify increased internet access capacity (higher speed Pipeline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for SOHO locatio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action-based billing which scales with network u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 to Tel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ackbone provider reven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venues from leased li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venues from local calls (call completion – phone doubler-applicati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wo-tier pricing system (circuit-switched services / packet-switched servic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9E2-0BCB-4196-9106-247B6C1568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the MAX – Advantages for Different Market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spare capacity in internal packet network (Intranet) to carry voice between PBXs in private networks (Intraflow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ackup for existing voice truck (Tie-lin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 small or branch office locations over a single packet net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 deploy MAX on the premise (Local gatewa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E8D-D653-4C5F-AB70-34491D4BE3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14440" y="1295280"/>
          <a:ext cx="83376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295280"/>
                    <a:ext cx="8337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951600" y="5867280"/>
            <a:ext cx="181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The N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Technology Changes Pose a Threat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to Incumbents, Moreover...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AC8-2859-4087-9C89-6188DA669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7320" y="5375160"/>
            <a:ext cx="264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 1 &amp; 2:  I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 3:  InfroTEST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 4:  Probe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It Presents a Considerable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Opportunity for Growth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 million PC users will be making voice calls over the Internet by 1999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telephony will account for 12.5 billion minutes of use by 200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% of all the world’s phone calls will travel on the Internet within 12 year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2002, 18.5% of all domestic phone traffic will be carried over data lin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A0A-F08F-4DEF-B02E-55E28D1FC7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urrent Market Initiativ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55600" y="137160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Telephony eXchange Carrier (ITX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fers wholesale access to and settlement of IP-based telephone ca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s iPass settlement technolo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nded by AT&amp;T and VocalT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west Communications International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nounced a 7-by-24, 7.5¢/minute telephone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s a brand-new, high-capacity, fiber-optic network using VoIP technolo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 WorldNet Services (AT&amp;T Je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&amp;T @phone service for internet telephone calling within Japan and to international lo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nounced a 7¢/minute IP-based telephone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606-C622-40A4-B7DC-E711D99AD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Three Components for the </a:t>
            </a:r>
            <a:br>
              <a:rPr sz="2800"/>
            </a:b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IP Voice / Fax Product Offering</a:t>
            </a:r>
            <a:endParaRPr b="1" lang="en-US" sz="28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82960" y="2849400"/>
            <a:ext cx="6841800" cy="228600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9360" y="4689360"/>
            <a:ext cx="34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Multimedia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4520" y="1701720"/>
            <a:ext cx="259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&amp;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 Server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508040"/>
            <a:ext cx="35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Network Re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, Phone and FAX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301920" y="2544480"/>
            <a:ext cx="0" cy="609480"/>
          </a:xfrm>
          <a:prstGeom prst="line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02160" y="2544480"/>
            <a:ext cx="493920" cy="609480"/>
          </a:xfrm>
          <a:prstGeom prst="line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076880" y="2544480"/>
            <a:ext cx="492120" cy="609480"/>
          </a:xfrm>
          <a:prstGeom prst="line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5120" y="3289320"/>
            <a:ext cx="1332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99"/>
                </a:solidFill>
                <a:latin typeface="Arial"/>
              </a:rPr>
              <a:t>Product &amp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99"/>
                </a:solidFill>
                <a:latin typeface="Arial"/>
              </a:rPr>
              <a:t>Softw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99"/>
                </a:solidFill>
                <a:latin typeface="Arial"/>
              </a:rPr>
              <a:t>Feat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4320" y="186696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99"/>
                </a:solidFill>
                <a:latin typeface="Arial"/>
              </a:rPr>
              <a:t>Applic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82960" y="5364000"/>
            <a:ext cx="6908760" cy="609840"/>
          </a:xfrm>
          <a:prstGeom prst="rect">
            <a:avLst/>
          </a:prstGeom>
          <a:noFill/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040" y="545148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Infrastructure for Data, Voice 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21000" y="3154320"/>
            <a:ext cx="1830240" cy="1371600"/>
          </a:xfrm>
          <a:prstGeom prst="rect">
            <a:avLst/>
          </a:prstGeom>
          <a:solidFill>
            <a:srgbClr val="99cc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9640" y="3154320"/>
            <a:ext cx="1828800" cy="1371600"/>
          </a:xfrm>
          <a:prstGeom prst="rect">
            <a:avLst/>
          </a:prstGeom>
          <a:solidFill>
            <a:srgbClr val="99cc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81960" y="3154320"/>
            <a:ext cx="1830240" cy="1371600"/>
          </a:xfrm>
          <a:prstGeom prst="rect">
            <a:avLst/>
          </a:prstGeom>
          <a:solidFill>
            <a:srgbClr val="99cc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98320" y="3336840"/>
            <a:ext cx="187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/MAXT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61800" y="33019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78440" y="350532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F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85A-515A-40C2-ADA8-0A64275EE5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0840" y="3657600"/>
            <a:ext cx="274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oice and Fax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57320" y="3886200"/>
            <a:ext cx="1896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24680" y="3867120"/>
            <a:ext cx="2106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67400" y="2425680"/>
            <a:ext cx="12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4960" y="29718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4040" y="273852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267080"/>
            <a:ext cx="79246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ITU-T H.323 to encode Voice into IP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utput IP voice onto Ethernet or 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RFC1490 IP over 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on the industry-proven and market-leading MAX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99400" y="3121200"/>
            <a:ext cx="8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olTal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163600"/>
            <a:ext cx="419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70880" y="232092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58920" y="2668680"/>
            <a:ext cx="394668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942160" y="1714680"/>
            <a:ext cx="3087720" cy="1896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87520" y="202572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/AT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8200" y="2527200"/>
            <a:ext cx="682920" cy="682560"/>
          </a:xfrm>
          <a:prstGeom prst="rect">
            <a:avLst/>
          </a:prstGeom>
          <a:noFill/>
          <a:ln w="1908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017840" y="2527200"/>
            <a:ext cx="682920" cy="682560"/>
          </a:xfrm>
          <a:prstGeom prst="line">
            <a:avLst/>
          </a:prstGeom>
          <a:ln w="1908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18200" y="2527200"/>
            <a:ext cx="682920" cy="682560"/>
          </a:xfrm>
          <a:prstGeom prst="line">
            <a:avLst/>
          </a:prstGeom>
          <a:ln w="1908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69240" y="2478240"/>
            <a:ext cx="145800" cy="14580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a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04280" y="2478240"/>
            <a:ext cx="145800" cy="14580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a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69240" y="3112920"/>
            <a:ext cx="145800" cy="14616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a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04280" y="3112920"/>
            <a:ext cx="145800" cy="14616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a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81400" y="222264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1/E1 PSTN Interf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What is the MultiVoice Gateway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for the MAX?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1714680"/>
            <a:ext cx="1901880" cy="882360"/>
          </a:xfrm>
          <a:custGeom>
            <a:avLst/>
            <a:gdLst/>
            <a:ahLst/>
            <a:rect l="l" t="t" r="r" b="b"/>
            <a:pathLst>
              <a:path w="1066" h="490">
                <a:moveTo>
                  <a:pt x="0" y="1"/>
                </a:moveTo>
                <a:lnTo>
                  <a:pt x="1066" y="0"/>
                </a:lnTo>
                <a:lnTo>
                  <a:pt x="1066" y="490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hone" descr=""/>
          <p:cNvPicPr/>
          <p:nvPr/>
        </p:nvPicPr>
        <p:blipFill>
          <a:blip r:embed="rId2"/>
          <a:stretch/>
        </p:blipFill>
        <p:spPr>
          <a:xfrm>
            <a:off x="1600200" y="1511280"/>
            <a:ext cx="544680" cy="35892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417760" y="1422360"/>
            <a:ext cx="958320" cy="587160"/>
            <a:chOff x="2417760" y="1422360"/>
            <a:chExt cx="958320" cy="587160"/>
          </a:xfrm>
        </p:grpSpPr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2425320" y="1422360"/>
              <a:ext cx="95076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417760" y="1639800"/>
              <a:ext cx="915840" cy="1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spcBef>
                  <a:spcPts val="337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946240" y="2712960"/>
            <a:ext cx="1133640" cy="258840"/>
          </a:xfrm>
          <a:custGeom>
            <a:avLst/>
            <a:gdLst/>
            <a:ahLst/>
            <a:rect l="l" t="t" r="r" b="b"/>
            <a:pathLst>
              <a:path w="714" h="163">
                <a:moveTo>
                  <a:pt x="0" y="162"/>
                </a:moveTo>
                <a:lnTo>
                  <a:pt x="599" y="163"/>
                </a:lnTo>
                <a:lnTo>
                  <a:pt x="599" y="0"/>
                </a:lnTo>
                <a:lnTo>
                  <a:pt x="714" y="0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732040" y="2816280"/>
            <a:ext cx="514440" cy="311040"/>
            <a:chOff x="2732040" y="2816280"/>
            <a:chExt cx="514440" cy="311040"/>
          </a:xfrm>
        </p:grpSpPr>
        <p:sp>
          <p:nvSpPr>
            <p:cNvPr id="189" name=""/>
            <p:cNvSpPr/>
            <p:nvPr/>
          </p:nvSpPr>
          <p:spPr>
            <a:xfrm>
              <a:off x="2766960" y="2860560"/>
              <a:ext cx="479520" cy="214560"/>
            </a:xfrm>
            <a:custGeom>
              <a:avLst/>
              <a:gdLst/>
              <a:ahLst/>
              <a:rect l="l" t="t" r="r" b="b"/>
              <a:pathLst>
                <a:path w="302" h="135">
                  <a:moveTo>
                    <a:pt x="0" y="1"/>
                  </a:moveTo>
                  <a:lnTo>
                    <a:pt x="136" y="0"/>
                  </a:lnTo>
                  <a:lnTo>
                    <a:pt x="301" y="134"/>
                  </a:lnTo>
                  <a:lnTo>
                    <a:pt x="189" y="134"/>
                  </a:lnTo>
                </a:path>
              </a:pathLst>
            </a:custGeom>
            <a:noFill/>
            <a:ln cap="rnd"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32040" y="2816280"/>
              <a:ext cx="1018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59120" y="2919240"/>
              <a:ext cx="101520" cy="9864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92680" y="3029040"/>
              <a:ext cx="10152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GRF%20400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15920" y="2541600"/>
            <a:ext cx="103824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hone" descr=""/>
          <p:cNvPicPr/>
          <p:nvPr/>
        </p:nvPicPr>
        <p:blipFill>
          <a:blip r:embed="rId5"/>
          <a:stretch/>
        </p:blipFill>
        <p:spPr>
          <a:xfrm>
            <a:off x="762120" y="2349360"/>
            <a:ext cx="544320" cy="358920"/>
          </a:xfrm>
          <a:prstGeom prst="rect">
            <a:avLst/>
          </a:prstGeom>
          <a:ln w="0">
            <a:noFill/>
          </a:ln>
        </p:spPr>
      </p:pic>
      <p:pic>
        <p:nvPicPr>
          <p:cNvPr id="196" name="PBX" descr=""/>
          <p:cNvPicPr/>
          <p:nvPr/>
        </p:nvPicPr>
        <p:blipFill>
          <a:blip r:embed="rId6"/>
          <a:stretch/>
        </p:blipFill>
        <p:spPr>
          <a:xfrm>
            <a:off x="1789200" y="2374920"/>
            <a:ext cx="534960" cy="52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74E-A83B-44EF-9EFE-0C7C75F835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H="1">
            <a:off x="11937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8520" y="3743280"/>
            <a:ext cx="2048040" cy="193680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12600">
            <a:solidFill>
              <a:srgbClr val="002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373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8240" y="218124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hone" descr=""/>
          <p:cNvPicPr/>
          <p:nvPr/>
        </p:nvPicPr>
        <p:blipFill>
          <a:blip r:embed="rId1"/>
          <a:stretch/>
        </p:blipFill>
        <p:spPr>
          <a:xfrm>
            <a:off x="7581960" y="1841400"/>
            <a:ext cx="544320" cy="358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878160" y="310824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FAX" descr=""/>
          <p:cNvPicPr/>
          <p:nvPr/>
        </p:nvPicPr>
        <p:blipFill>
          <a:blip r:embed="rId2"/>
          <a:stretch/>
        </p:blipFill>
        <p:spPr>
          <a:xfrm>
            <a:off x="6781680" y="2666880"/>
            <a:ext cx="582840" cy="433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7137360" y="2196720"/>
            <a:ext cx="0" cy="660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17720" y="5257800"/>
            <a:ext cx="11304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03440" y="2298240"/>
            <a:ext cx="0" cy="18162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549760" y="2323800"/>
            <a:ext cx="0" cy="13460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03440" y="3797280"/>
            <a:ext cx="180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.323 Gatekeep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4876920"/>
            <a:ext cx="1346040" cy="0"/>
          </a:xfrm>
          <a:prstGeom prst="line">
            <a:avLst/>
          </a:prstGeom>
          <a:ln w="5724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the MAX - Configurat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7804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21240" y="640080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65920" y="5562720"/>
            <a:ext cx="82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olT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67760" y="1981080"/>
            <a:ext cx="985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T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50160" y="472284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323 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9840" y="2489040"/>
            <a:ext cx="52056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543120" y="2451240"/>
            <a:ext cx="5079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1360" y="218124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8732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8308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8440" y="59943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VoIP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RF%20400" descr=""/>
          <p:cNvPicPr/>
          <p:nvPr/>
        </p:nvPicPr>
        <p:blipFill>
          <a:blip r:embed="rId3"/>
          <a:stretch/>
        </p:blipFill>
        <p:spPr>
          <a:xfrm>
            <a:off x="3137040" y="274320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223" name="GRF%20400" descr=""/>
          <p:cNvPicPr/>
          <p:nvPr/>
        </p:nvPicPr>
        <p:blipFill>
          <a:blip r:embed="rId4"/>
          <a:stretch/>
        </p:blipFill>
        <p:spPr>
          <a:xfrm>
            <a:off x="4902120" y="274320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048560" y="224784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504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4040" y="310824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C" descr=""/>
          <p:cNvPicPr/>
          <p:nvPr/>
        </p:nvPicPr>
        <p:blipFill>
          <a:blip r:embed="rId5"/>
          <a:stretch/>
        </p:blipFill>
        <p:spPr>
          <a:xfrm>
            <a:off x="1562040" y="5105520"/>
            <a:ext cx="609840" cy="4712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2505240" y="3397320"/>
            <a:ext cx="4525920" cy="2600280"/>
            <a:chOff x="2505240" y="3397320"/>
            <a:chExt cx="4525920" cy="2600280"/>
          </a:xfrm>
        </p:grpSpPr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2505240" y="3397320"/>
              <a:ext cx="4525920" cy="26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"/>
            <p:cNvGrpSpPr/>
            <p:nvPr/>
          </p:nvGrpSpPr>
          <p:grpSpPr>
            <a:xfrm>
              <a:off x="3230640" y="3740040"/>
              <a:ext cx="3087360" cy="1896840"/>
              <a:chOff x="3230640" y="3740040"/>
              <a:chExt cx="3087360" cy="1896840"/>
            </a:xfrm>
          </p:grpSpPr>
          <p:pic>
            <p:nvPicPr>
              <p:cNvPr id="23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30640" y="3740040"/>
                <a:ext cx="3087360" cy="189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4175280" y="3987360"/>
                <a:ext cx="928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rame/AT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ore 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06320" y="4552560"/>
                <a:ext cx="682560" cy="682560"/>
              </a:xfrm>
              <a:prstGeom prst="rect">
                <a:avLst/>
              </a:prstGeom>
              <a:noFill/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4306320" y="4552560"/>
                <a:ext cx="682560" cy="682560"/>
              </a:xfrm>
              <a:prstGeom prst="line">
                <a:avLst/>
              </a:prstGeom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06320" y="4552560"/>
                <a:ext cx="682560" cy="682560"/>
              </a:xfrm>
              <a:prstGeom prst="line">
                <a:avLst/>
              </a:prstGeom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57360" y="4503600"/>
                <a:ext cx="145440" cy="1458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92400" y="4503600"/>
                <a:ext cx="145440" cy="1458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57360" y="5138280"/>
                <a:ext cx="145440" cy="14616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92400" y="5138280"/>
                <a:ext cx="145440" cy="14616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540720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41008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376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hone" descr=""/>
          <p:cNvPicPr/>
          <p:nvPr/>
        </p:nvPicPr>
        <p:blipFill>
          <a:blip r:embed="rId9"/>
          <a:stretch/>
        </p:blipFill>
        <p:spPr>
          <a:xfrm>
            <a:off x="762120" y="1841400"/>
            <a:ext cx="544320" cy="358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V="1">
            <a:off x="1803240" y="2196720"/>
            <a:ext cx="0" cy="660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0"/>
          <a:stretch/>
        </p:blipFill>
        <p:spPr>
          <a:xfrm>
            <a:off x="170496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70820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FAX" descr=""/>
          <p:cNvPicPr/>
          <p:nvPr/>
        </p:nvPicPr>
        <p:blipFill>
          <a:blip r:embed="rId11"/>
          <a:stretch/>
        </p:blipFill>
        <p:spPr>
          <a:xfrm>
            <a:off x="1447920" y="2666880"/>
            <a:ext cx="582480" cy="433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392520" y="44388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23480" y="44388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Server" descr=""/>
          <p:cNvPicPr/>
          <p:nvPr/>
        </p:nvPicPr>
        <p:blipFill>
          <a:blip r:embed="rId12"/>
          <a:stretch/>
        </p:blipFill>
        <p:spPr>
          <a:xfrm>
            <a:off x="7626240" y="4495680"/>
            <a:ext cx="554040" cy="8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2A0-49FD-4B96-9610-1B2106320B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1T20:38:52Z</dcterms:created>
  <dc:creator>Scott Gleason</dc:creator>
  <dc:description/>
  <dc:language>en-US</dc:language>
  <cp:lastModifiedBy>Ascend Authorized User</cp:lastModifiedBy>
  <cp:lastPrinted>1998-03-25T04:58:11Z</cp:lastPrinted>
  <dcterms:modified xsi:type="dcterms:W3CDTF">1998-03-25T05:04:40Z</dcterms:modified>
  <cp:revision>46</cp:revision>
  <dc:subject/>
  <dc:title>No Slide Title</dc:title>
</cp:coreProperties>
</file>